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6289-4EC5-40CF-9660-FEE4D28149F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B349-3CFB-47D1-B276-9158AF127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8CA8-094C-4162-982F-00E771F7A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1F6B-47A8-47E6-A69A-4603F8879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E9DD-80B0-4F70-8A62-334C9E08A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9635-46EC-40BD-8258-08D9ED60C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7BEB-57BA-4BE6-B38F-513643681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82FE-3663-43E1-BFB9-882F17294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5F45-14BF-4D59-82B5-5E23EBFF7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3962520"/>
            <a:ext cx="73152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évrier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65120" y="1596960"/>
            <a:ext cx="5803920" cy="4353120"/>
          </a:xfrm>
          <a:prstGeom prst="rect">
            <a:avLst/>
          </a:prstGeom>
          <a:ln w="0">
            <a:noFill/>
          </a:ln>
        </p:spPr>
      </p:pic>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599840"/>
            <a:ext cx="5105520" cy="426708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endant FEM 5, 15 M USD seront consacrés à des activités pilotes de réduction du mercur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e FEM a contribué à tous les travaux du CIN sur le mercur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es projets devraient porter sur l’un ou plusieurs des enjeux suivants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 l’utilisation du mercure dans la fabrication de produits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 l’utilisation du mercure dans les procédés industriels ;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 l’utilisation du mercure et de l’exposition à ce polluant dans l’orpaillag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enforcement des capacités d’entreposage du mercur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s émissions de mercure dans l’atmosphère ;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amélioration de la collecte des données et de l’information scientifique au niveau national ;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enforcement des capacités de gestion des déchets et sites contaminé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27640" y="1127160"/>
            <a:ext cx="3822840" cy="53100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1600" y="-6480"/>
            <a:ext cx="2828880" cy="2127240"/>
          </a:xfrm>
          <a:prstGeom prst="rect">
            <a:avLst/>
          </a:prstGeom>
          <a:ln w="0">
            <a:noFill/>
          </a:ln>
        </p:spPr>
      </p:pic>
      <p:pic>
        <p:nvPicPr>
          <p:cNvPr id="113" name="Picture 11" descr="Drums containing DDT_Panama.JPG"/>
          <p:cNvPicPr/>
          <p:nvPr/>
        </p:nvPicPr>
        <p:blipFill>
          <a:blip r:embed="rId2"/>
          <a:stretch/>
        </p:blipFill>
        <p:spPr>
          <a:xfrm>
            <a:off x="2889360" y="-6480"/>
            <a:ext cx="3444840" cy="2298960"/>
          </a:xfrm>
          <a:prstGeom prst="rect">
            <a:avLst/>
          </a:prstGeom>
          <a:ln w="0">
            <a:noFill/>
          </a:ln>
        </p:spPr>
      </p:pic>
      <p:pic>
        <p:nvPicPr>
          <p:cNvPr id="114"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14T21:46:39Z</dcterms:modified>
  <cp:revision>342</cp:revision>
  <dc:subject/>
  <dc:title>Slide 1</dc:title>
</cp:coreProperties>
</file>