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C9AA-43B2-4F50-8AB9-07FA69B45C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CD95-D4E1-4B7E-844A-13C438CDC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D892-66BF-44FD-B1A8-730C7199C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5965-AFD5-41B8-87AF-6C37A1BCD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658F-5AD3-42A5-853E-C59B455AA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FB55-C1A6-4BBC-A50F-35E92B627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0436-CFFE-4B4C-BBB3-4D39AE950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044B-B752-49D6-804B-BAFF9EDDF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9777-D755-4202-90D8-39152710C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3962520"/>
            <a:ext cx="7315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évrier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65120" y="1596960"/>
            <a:ext cx="5803920" cy="4353120"/>
          </a:xfrm>
          <a:prstGeom prst="rect">
            <a:avLst/>
          </a:prstGeom>
          <a:ln w="0">
            <a:noFill/>
          </a:ln>
        </p:spPr>
      </p:pic>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599840"/>
            <a:ext cx="5105520" cy="4267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endant FEM 5, 15 M USD seront consacrés à des activités pilotes de réduction du mercur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e FEM a contribué à tous les travaux du CIN sur le mercur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es projets devraient porter sur l’un ou plusieurs des enjeux suivants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dans la fabrication de produits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dans les procédés industriels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 l’utilisation du mercure et de l’exposition à ce polluant dans l’orpaillag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enforcement des capacités d’entreposage du mercur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éduction des émissions de mercure dans l’atmosphère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amélioration de la collecte des données et de l’information scientifique au niveau national ;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renforcement des capacités de gestion des déchets et sites contaminé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27640" y="1127160"/>
            <a:ext cx="3822840" cy="53100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1600" y="-6480"/>
            <a:ext cx="2828880" cy="2127240"/>
          </a:xfrm>
          <a:prstGeom prst="rect">
            <a:avLst/>
          </a:prstGeom>
          <a:ln w="0">
            <a:noFill/>
          </a:ln>
        </p:spPr>
      </p:pic>
      <p:pic>
        <p:nvPicPr>
          <p:cNvPr id="113" name="Picture 11" descr="Drums containing DDT_Panama.JPG"/>
          <p:cNvPicPr/>
          <p:nvPr/>
        </p:nvPicPr>
        <p:blipFill>
          <a:blip r:embed="rId2"/>
          <a:stretch/>
        </p:blipFill>
        <p:spPr>
          <a:xfrm>
            <a:off x="2889360" y="-6480"/>
            <a:ext cx="3444840" cy="2298960"/>
          </a:xfrm>
          <a:prstGeom prst="rect">
            <a:avLst/>
          </a:prstGeom>
          <a:ln w="0">
            <a:noFill/>
          </a:ln>
        </p:spPr>
      </p:pic>
      <p:pic>
        <p:nvPicPr>
          <p:cNvPr id="114"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14T21:46:39Z</dcterms:modified>
  <cp:revision>342</cp:revision>
  <dc:subject/>
  <dc:title>Slide 1</dc:title>
</cp:coreProperties>
</file>