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2BA4-F538-43AC-8A8E-B3B7964112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0319-BEA7-41ED-9970-1B8A51AB8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2125-862A-4FC8-BE95-552D91C0E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76CD-F62E-428A-B194-6645E29AA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172E-4767-4242-A72A-27397C1BC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BF4B-C024-4822-8191-00A9F8490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8E91-4277-4E8D-A47F-1B5AD83AD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DAB2-8647-4EB0-9E71-59B77B4B8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D041-3922-4114-AE7C-400A49FA0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411480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Arial"/>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Arial"/>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Arial"/>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09:47Z</dcterms:modified>
  <cp:revision>348</cp:revision>
  <dc:subject/>
  <dc:title>Slide 1</dc:title>
</cp:coreProperties>
</file>