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0328-9D56-44D0-943D-65098AB1431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47A8-A757-4C7F-846C-BEE7DD61A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8582-125A-42AF-B93B-0618F5F8A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3A03-9EE3-4C91-ACE5-39BBCAA17D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7BFA-4D98-4D87-AB0D-B41FFD988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A525-7F60-4ABC-9B98-484F5612E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E749-46DB-4578-9221-2A8C9D6FD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FF20-7402-47C9-A665-881068647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64C4-1146-4ABB-9A6F-280F49410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411480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Arial"/>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Arial"/>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Arial"/>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09:47Z</dcterms:modified>
  <cp:revision>348</cp:revision>
  <dc:subject/>
  <dc:title>Slide 1</dc:title>
</cp:coreProperties>
</file>