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8554-214E-4D38-B2D5-7AA29850429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D979-B46B-4579-A9FA-6E4C1B9C0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4A6B-76A5-4E0E-900F-53718EE680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15D8-F2F3-490A-A9C8-ABDC515A1A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96E1-B067-46BF-BF1C-673363ECC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7979-9D44-4B5C-BFE4-AA521C3D8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7A61-D9A3-48AE-B7F9-1A19EA7789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AC96-B6F0-427C-97DD-C2D2F46B3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9344-EBC5-4A0E-8151-7A83D3E86D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7FB1-7CF6-4036-8307-FC4D27784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Chemicals Update</a:t>
            </a:r>
            <a:endParaRPr b="1" lang="en-US" sz="4000" spc="-1" strike="noStrike">
              <a:solidFill>
                <a:srgbClr val="1f497d"/>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ea typeface="ＭＳ Ｐゴシック"/>
              </a:rPr>
              <a:t>GEF Extended Constituency Workshop</a:t>
            </a:r>
            <a:endParaRPr b="0" lang="en-US" sz="2600" spc="-1" strike="noStrike">
              <a:solidFill>
                <a:srgbClr val="000000"/>
              </a:solidFill>
              <a:latin typeface="Calibri"/>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ea typeface="ＭＳ Ｐゴシック"/>
              </a:rPr>
              <a:t>27 – 29 March 2012</a:t>
            </a:r>
            <a:endParaRPr b="0" lang="en-US" sz="2600" spc="-1" strike="noStrike">
              <a:solidFill>
                <a:srgbClr val="000000"/>
              </a:solidFill>
              <a:latin typeface="Calibri"/>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ea typeface="ＭＳ Ｐゴシック"/>
              </a:rPr>
              <a:t>Tirana, Albani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1f497d"/>
                </a:solidFill>
                <a:latin typeface="Calibri"/>
              </a:rPr>
              <a:t>GEF Chemicals -Background</a:t>
            </a:r>
            <a:br>
              <a:rPr sz="4400"/>
            </a:br>
            <a:endParaRPr b="1" lang="en-US" sz="4400" spc="-1" strike="noStrike">
              <a:solidFill>
                <a:srgbClr val="1f497d"/>
              </a:solidFill>
              <a:latin typeface="Calibri"/>
            </a:endParaRPr>
          </a:p>
        </p:txBody>
      </p:sp>
      <p:sp>
        <p:nvSpPr>
          <p:cNvPr id="13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F </a:t>
            </a:r>
            <a:r>
              <a:rPr b="0" lang="en-US" sz="2500" spc="-1" strike="noStrike">
                <a:solidFill>
                  <a:srgbClr val="000000"/>
                </a:solidFill>
                <a:latin typeface="Calibri"/>
              </a:rPr>
              <a:t>provides resources to the following areas related to chemicals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Persistent Organic Pollutants – Stockholm Conven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Ozone Depleting Substances (ODS), specifically to countries with economies in transition – Montreal Protoco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mercury – to support and inform ongoing negotiations of an agreement on Mercu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chemicals (and chemical issues) of global concern – related to the objectives of the Strategic Approach to International Chemicals Management (SAICM)</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5 Highlights</a:t>
            </a:r>
            <a:endParaRPr b="1" lang="en-US" sz="4400" spc="-1" strike="noStrike">
              <a:solidFill>
                <a:srgbClr val="1f497d"/>
              </a:solidFill>
              <a:latin typeface="Calibri"/>
            </a:endParaRPr>
          </a:p>
        </p:txBody>
      </p:sp>
      <p:sp>
        <p:nvSpPr>
          <p:cNvPr id="133" name=""/>
          <p:cNvSpPr txBox="1"/>
          <p:nvPr/>
        </p:nvSpPr>
        <p:spPr>
          <a:xfrm>
            <a:off x="457200" y="1600200"/>
            <a:ext cx="5943600" cy="411480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8M in GEF investments plus an additional 489M in other resources to chemical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2 pilot projects on mercury reduction, one on  artisanal gold mining and the other in health care sector.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National Implementation Plan (NIP) updates both through agency access and direct access and we encourage all eligible Parties to continue to submit applications for NIP upda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the endorsement of the Russia chlorofluorocarbon (CFC) phase out in the metered dose inhaler secto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ersistent Organic Pollutants</a:t>
            </a:r>
            <a:endParaRPr b="1" lang="en-US" sz="4400" spc="-1" strike="noStrike">
              <a:solidFill>
                <a:srgbClr val="1f497d"/>
              </a:solidFill>
              <a:latin typeface="Calibri"/>
            </a:endParaRPr>
          </a:p>
        </p:txBody>
      </p:sp>
      <p:sp>
        <p:nvSpPr>
          <p:cNvPr id="138" name=""/>
          <p:cNvSpPr txBox="1"/>
          <p:nvPr/>
        </p:nvSpPr>
        <p:spPr>
          <a:xfrm>
            <a:off x="457200" y="1600200"/>
            <a:ext cx="8229600" cy="411480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majority of projects in GEF will be to implement the National Implementation Plans’ priorities,  including reduction Polychorobiphenyls (PCBs), POPs pesticides, DDT (dichlorodiphenyltrichloroethane) and unintentionally produced POPs (U-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GEF 5 Parties are encouraged to apply for funding (up to a maximum of 250K) to review and update their National Implementation Pla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re is an opportunity to submit demonstration/pilot activities addressing new 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ODS Cylinders_Cambodia.JPG"/>
          <p:cNvPicPr/>
          <p:nvPr/>
        </p:nvPicPr>
        <p:blipFill>
          <a:blip r:embed="rId1"/>
          <a:stretch/>
        </p:blipFill>
        <p:spPr>
          <a:xfrm>
            <a:off x="1371600" y="1603440"/>
            <a:ext cx="5791320" cy="434016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supports the Montreal Protocol</a:t>
            </a:r>
            <a:endParaRPr b="1" lang="en-US" sz="4400" spc="-1" strike="noStrike">
              <a:solidFill>
                <a:srgbClr val="1f497d"/>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F supports implementation of the Montreal Protocol (MP) in countries with economies in transition (CEITs). </a:t>
            </a:r>
            <a:r>
              <a:rPr b="0" lang="en-US" sz="2200" spc="-1" strike="noStrike">
                <a:solidFill>
                  <a:srgbClr val="000000"/>
                </a:solidFill>
                <a:latin typeface="Calibri"/>
              </a:rPr>
              <a:t>GEF5 has an allocation of 25M for the phase-out of Ozone Depleting Substances (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has invested 232M for ODS phase-out in CEITs countries. </a:t>
            </a:r>
            <a:r>
              <a:rPr b="0" lang="en-GB" sz="2200" spc="-1" strike="noStrike">
                <a:solidFill>
                  <a:srgbClr val="000000"/>
                </a:solidFill>
                <a:latin typeface="Calibri"/>
              </a:rPr>
              <a:t>GEF financed ODS phase out in Russia and CEITs, which is roughly equivalent to amounts phased out in all developing countri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ntinues to support eligible CEITs on achieving phase out of hydro chlorofluorocarbons (HCFC) and methyl bro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Mercury INC process</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5 has an allocation of 15M for activities related to pilot mercury reduc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F has contributed to all mercury INC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s should address one or more of the following issu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product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industrial processe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and exposures in artisanal and small-scale gold min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for mercury storage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atmospheric emissions of mercury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data and scientific information at the national level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to address waste and contaminated sit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GEF 5 mercury resources are intended to support assessment and pilot activities that will advance the development of the global mercury instrument and improve countries’ abilities to implement the its provisions when the (mercury) instrument enters into fo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GEF Strategy for Mercury Programm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Chemicals Management</a:t>
            </a:r>
            <a:endParaRPr b="1" lang="en-US" sz="44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TextBox 5"/>
          <p:cNvSpPr/>
          <p:nvPr/>
        </p:nvSpPr>
        <p:spPr>
          <a:xfrm>
            <a:off x="457200" y="15238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F5 has an allocation of 10M for sound chemicals management to cover the following iss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waste – properly designed e-waste projects should take into account mercury and POPs issues as releva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ts containing chemicals of global concern, consistent with Strategic Approach to International Chemicals Management (SAICM)</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d in 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7" descr="DSC01987.jpg"/>
          <p:cNvPicPr/>
          <p:nvPr/>
        </p:nvPicPr>
        <p:blipFill>
          <a:blip r:embed="rId1"/>
          <a:stretch/>
        </p:blipFill>
        <p:spPr>
          <a:xfrm>
            <a:off x="5791320" y="4419720"/>
            <a:ext cx="285264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34120" y="1133640"/>
            <a:ext cx="3809880" cy="572436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inding Synergy in the Chemicals Portfolio</a:t>
            </a:r>
            <a:endParaRPr b="1" lang="en-US" sz="4400" spc="-1" strike="noStrike">
              <a:solidFill>
                <a:srgbClr val="1f497d"/>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GEF 5 more synergy in projects is encouraged in order to achieve greater impa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regard, multi focal area, or multi-chemical projects that countries may wish to consider would inclu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aling with POPs, e-waste, mercury, lead and improving waste manage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lamps and other waste products in building/lighting efficiency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seek to improve energy efficiency in the heating/cooling/air-conditioning production and consumption sector and phase out of 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and POPS reduction in medical was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incorporate action on Basel, Rotterdam and Stockholm Conven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s and ODS co- de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229600" cy="34290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Ｐゴシック"/>
              </a:rPr>
              <a:t>Contact Informatio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Ibrahima Sow</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Chemicals Cluster Coordinator</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Anil Sookdeo</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asookdeo@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Evelyn Swain</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Jie Pan</a:t>
            </a:r>
            <a:r>
              <a:rPr b="1" i="1" lang="en-US" sz="1800" spc="-1" strike="noStrike">
                <a:solidFill>
                  <a:srgbClr val="000000"/>
                </a:solidFill>
                <a:latin typeface="Times New Roman"/>
                <a:ea typeface="ＭＳ Ｐゴシック"/>
              </a:rPr>
              <a:t>	</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Junior Professional Associate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jpa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Marie Boucher</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On Detail from USEPA</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mboucher@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1"/>
          <a:stretch/>
        </p:blipFill>
        <p:spPr>
          <a:xfrm>
            <a:off x="6327720" y="0"/>
            <a:ext cx="2816280" cy="2114640"/>
          </a:xfrm>
          <a:prstGeom prst="rect">
            <a:avLst/>
          </a:prstGeom>
          <a:ln w="0">
            <a:noFill/>
          </a:ln>
        </p:spPr>
      </p:pic>
      <p:pic>
        <p:nvPicPr>
          <p:cNvPr id="154" name="Picture 11" descr="Drums containing DDT_Panama.JPG"/>
          <p:cNvPicPr/>
          <p:nvPr/>
        </p:nvPicPr>
        <p:blipFill>
          <a:blip r:embed="rId2"/>
          <a:stretch/>
        </p:blipFill>
        <p:spPr>
          <a:xfrm>
            <a:off x="2895480" y="0"/>
            <a:ext cx="3432240" cy="2286000"/>
          </a:xfrm>
          <a:prstGeom prst="rect">
            <a:avLst/>
          </a:prstGeom>
          <a:ln w="0">
            <a:noFill/>
          </a:ln>
        </p:spPr>
      </p:pic>
      <p:pic>
        <p:nvPicPr>
          <p:cNvPr id="155" name="Picture 12" descr="PCB label.JPG"/>
          <p:cNvPicPr/>
          <p:nvPr/>
        </p:nvPicPr>
        <p:blipFill>
          <a:blip r:embed="rId3"/>
          <a:stretch/>
        </p:blipFill>
        <p:spPr>
          <a:xfrm>
            <a:off x="0" y="0"/>
            <a:ext cx="2895480" cy="19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Lisa</cp:lastModifiedBy>
  <dcterms:modified xsi:type="dcterms:W3CDTF">2012-04-23T01:30:14Z</dcterms:modified>
  <cp:revision>306</cp:revision>
  <dc:subject/>
  <dc:title>Slide 1</dc:title>
</cp:coreProperties>
</file>