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1355-6763-4418-907B-AEF3263ABEA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432C-2DE4-4118-A156-D1386B127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AEAD-FD32-45E7-B27C-CA4AFBC80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9D90-0B8E-4D00-9C95-5B45B3AA1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6DC7-A65D-4432-B4C5-9C7E14D4C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8932-4C50-40F2-A2CF-5C815BA4C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B27B-8EC8-4396-90FE-26847D4FA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5A7B-31FB-4509-AB90-780E509D4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CEFF-C7DA-4FDF-BB70-8454415EC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09FD-866D-4569-BFAB-59F98DA0C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GEF Extended Constituency Workshop</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ea typeface="ＭＳ Ｐゴシック"/>
              </a:rPr>
              <a:t>27 – 29 March 2012</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ea typeface="ＭＳ Ｐゴシック"/>
              </a:rPr>
              <a:t>Tirana, Albani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1:30:14Z</dcterms:modified>
  <cp:revision>306</cp:revision>
  <dc:subject/>
  <dc:title>Slide 1</dc:title>
</cp:coreProperties>
</file>