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BDDB-E680-45B1-969F-F8148F1C17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C29A-9D32-4DFF-8DF5-7B31165E0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4BC7-49AD-4E89-93CE-BD7A1F0A6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5E5E-634E-4B21-B89F-AFEBF0F7F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6166-7C53-4F4D-AFC9-0B302BFC4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6736-BEE3-4F90-9F2B-6456A1C78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FB20-757F-4BE8-A488-FC04B248C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D0E0-F5EA-4911-B3AA-90434DF8D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30E1-CF94-41CF-BBD0-2138FABF3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5FE9-CE09-4E48-AB8F-7BD797CC1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4:54:38Z</dcterms:modified>
  <cp:revision>309</cp:revision>
  <dc:subject/>
  <dc:title>Slide 1</dc:title>
</cp:coreProperties>
</file>