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F3BA-5E4C-4556-A75C-FF421AAD488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C967-F5E1-4236-925C-2EF807960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721B-AAB8-4E1B-8EAB-C3D5F61B0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5F6B-1AE9-4ED7-808A-5815CB741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F947-8A16-47F8-B90A-2245899F9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64A8-473B-45C3-8376-BB3FD934E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5340-B0E9-4935-A881-A32458114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FBBE-90F0-48EC-99EF-28341BFEF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FAAE-37F7-45D7-88AC-F50AE8B0B9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91FF-D125-4145-BD8B-A3F8C6996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17 to 19 April 2012</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Ouagadougou, Burkina Fas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71600" y="1603440"/>
            <a:ext cx="5791320" cy="434016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91320" y="4419720"/>
            <a:ext cx="285264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34120" y="1133640"/>
            <a:ext cx="3809880" cy="572436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7720" y="0"/>
            <a:ext cx="2816280" cy="2114640"/>
          </a:xfrm>
          <a:prstGeom prst="rect">
            <a:avLst/>
          </a:prstGeom>
          <a:ln w="0">
            <a:noFill/>
          </a:ln>
        </p:spPr>
      </p:pic>
      <p:pic>
        <p:nvPicPr>
          <p:cNvPr id="154" name="Picture 11" descr="Drums containing DDT_Panama.JPG"/>
          <p:cNvPicPr/>
          <p:nvPr/>
        </p:nvPicPr>
        <p:blipFill>
          <a:blip r:embed="rId2"/>
          <a:stretch/>
        </p:blipFill>
        <p:spPr>
          <a:xfrm>
            <a:off x="2895480" y="0"/>
            <a:ext cx="3432240" cy="2286000"/>
          </a:xfrm>
          <a:prstGeom prst="rect">
            <a:avLst/>
          </a:prstGeom>
          <a:ln w="0">
            <a:noFill/>
          </a:ln>
        </p:spPr>
      </p:pic>
      <p:pic>
        <p:nvPicPr>
          <p:cNvPr id="155" name="Picture 12" descr="PCB label.JPG"/>
          <p:cNvPicPr/>
          <p:nvPr/>
        </p:nvPicPr>
        <p:blipFill>
          <a:blip r:embed="rId3"/>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2:05:58Z</dcterms:modified>
  <cp:revision>308</cp:revision>
  <dc:subject/>
  <dc:title>Slide 1</dc:title>
</cp:coreProperties>
</file>