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E998-AF7D-47F0-AB30-BAF1696EBF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0D9-C365-4A30-A5DB-117F59D72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E74E-8018-480E-9EFB-0188FF6D2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BBD8-3682-439E-930B-CF8C7AE03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5D71-7E43-461B-8A4E-CE44A2EF5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FD81-C152-4622-9249-38BA6EF62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10B0-2AD3-4DBD-AF64-11E98B858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8AAF-5D06-4633-B61A-43E021C47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5A30-1AFE-4C5E-8F4F-4D1A12C91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BF8D-91EE-4C95-86FC-D4B30CED4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17 to 19 April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Ouagadougou, Burkina Fa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05:58Z</dcterms:modified>
  <cp:revision>308</cp:revision>
  <dc:subject/>
  <dc:title>Slide 1</dc:title>
</cp:coreProperties>
</file>