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E620-675C-4B0F-B9FB-8970854948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9C25-27A9-4164-A5D0-CA1881DEC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7C8D-C345-4AE5-B82E-704CC988C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BB9B-45A3-40A1-BB9D-91B5F1C6F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A6E1-6BE9-4F1E-9897-7B090CD24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194A-5F94-4A96-B183-1B329FC875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7EB5-BB32-41BC-B5EA-F9731D404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0659-02C5-4AE1-BAC5-78F1AB50A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AA6B-D63C-46AB-88DD-1DC3380E1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D266-DA99-40CE-B40D-748BACCADC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17 to 19 April 2012</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Ouagadougou, Burkina Fas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71600" y="1603440"/>
            <a:ext cx="5791320" cy="434016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34120" y="1133640"/>
            <a:ext cx="3809880" cy="572436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7720" y="0"/>
            <a:ext cx="2816280" cy="2114640"/>
          </a:xfrm>
          <a:prstGeom prst="rect">
            <a:avLst/>
          </a:prstGeom>
          <a:ln w="0">
            <a:noFill/>
          </a:ln>
        </p:spPr>
      </p:pic>
      <p:pic>
        <p:nvPicPr>
          <p:cNvPr id="154" name="Picture 11" descr="Drums containing DDT_Panama.JPG"/>
          <p:cNvPicPr/>
          <p:nvPr/>
        </p:nvPicPr>
        <p:blipFill>
          <a:blip r:embed="rId2"/>
          <a:stretch/>
        </p:blipFill>
        <p:spPr>
          <a:xfrm>
            <a:off x="2895480" y="0"/>
            <a:ext cx="3432240" cy="2286000"/>
          </a:xfrm>
          <a:prstGeom prst="rect">
            <a:avLst/>
          </a:prstGeom>
          <a:ln w="0">
            <a:noFill/>
          </a:ln>
        </p:spPr>
      </p:pic>
      <p:pic>
        <p:nvPicPr>
          <p:cNvPr id="155"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2:05:58Z</dcterms:modified>
  <cp:revision>308</cp:revision>
  <dc:subject/>
  <dc:title>Slide 1</dc:title>
</cp:coreProperties>
</file>