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1B23D-1977-4340-A83F-F242B1396F1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A61D-67E0-4550-B7A5-123C4095D7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MAM is the Interim Financial Mechanism of the Convenio de Estocolmo on Persistent Organic Chemicals.  Currently 22 Chemicals are controlled by the Convention.  The first action of Parties is to develop a National Implementation Plan (NIP) that describes the actions and priorities the Party will undertake to address POPs.  The FMAM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MAM is not a Financial Mechanism of the Protocolo de Montreal.  The majority of countries are funded by the Multilateral Fund for their ODS phase out, however when the Protocol was created, the USSR was a party and they were supposed to phase out their ODS by themselves.  When the USSR broke up, the resulting CEITS inherited the Protocolo de Montreal Classification of the USSR and so were not eligible for MLF funding.  The FMAM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FMAM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FMAM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productos químicos and waste management.  The SAICM has a voluntary funding mechanism called the Quick Start Program (QSP) which funds projects up to 250K for countries to do activities such as developing chemical profiles, reviewing or developing national legislation or policy etc.  The FMAM independently has included funding in FMAM 5 to explore issues such as e-waste, lead in paints and productos químico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DE04D-631D-420A-A559-01F43599E4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FMAM 4 investments in Chemicals is 450M plus 700M in co-financing.  FMAM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F1E7-EE6D-447C-B29E-C33DA34CA2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MAM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7274-8E2B-4035-B41D-5BCAF0042F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A4757-3BC4-47EA-83D8-052FF23B14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productos químico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6CD9-D868-4FF5-B485-2E8C3E553D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29243-1BB3-4DE7-8A24-6499D9D7E5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9"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600"/>
              <a:ext cx="4593240" cy="4284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Taller de Circunscripción Ampliado del FMAM</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6 a 8 de Marzo de 2012 </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San José, Costa Rica </a:t>
            </a:r>
            <a:endParaRPr b="0" lang="en-US" sz="2400" spc="-1" strike="noStrike">
              <a:solidFill>
                <a:srgbClr val="000000"/>
              </a:solidFill>
              <a:latin typeface="Calibri"/>
            </a:endParaRPr>
          </a:p>
        </p:txBody>
      </p:sp>
      <p:sp>
        <p:nvSpPr>
          <p:cNvPr id="90" name="PlaceHolder 2"/>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Información actualizada sobre productos químicos</a:t>
            </a:r>
            <a:endParaRPr b="1" lang="en-US" sz="4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f497d"/>
                </a:solidFill>
                <a:latin typeface="Calibri"/>
              </a:rPr>
              <a:t>Labor del FMAM sobre productos químicos - Antecedentes</a:t>
            </a:r>
            <a:endParaRPr b="1" lang="en-US" sz="3200" spc="-1" strike="noStrike">
              <a:solidFill>
                <a:srgbClr val="1f497d"/>
              </a:solidFill>
              <a:latin typeface="Calibri"/>
            </a:endParaRPr>
          </a:p>
        </p:txBody>
      </p:sp>
      <p:sp>
        <p:nvSpPr>
          <p:cNvPr id="92"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proporciona recursos para las siguientes áreas relacionadas con gestión de productos químicos:</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contaminantes orgánicos persistentes: Convenio de Estocolm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sustancias que agotan el ozono, específicamente para países con economías en transición: Protocolo de Montre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mercurio: para respaldar e informar negociaciones en curso de un acuerdo sobre ese element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productos químicos (y asuntos referentes a los mismos) que generan preocupación mundial, en relación con los objetivos del Enfoque Estratégico para la Gestión de los Productos Químicos a Nivel Internacional.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untos destacados de FMAM-5</a:t>
            </a:r>
            <a:endParaRPr b="1" lang="en-US" sz="4400" spc="-1" strike="noStrike">
              <a:solidFill>
                <a:srgbClr val="1f497d"/>
              </a:solidFill>
              <a:latin typeface="Calibri"/>
            </a:endParaRPr>
          </a:p>
        </p:txBody>
      </p:sp>
      <p:sp>
        <p:nvSpPr>
          <p:cNvPr id="94" name=""/>
          <p:cNvSpPr txBox="1"/>
          <p:nvPr/>
        </p:nvSpPr>
        <p:spPr>
          <a:xfrm>
            <a:off x="380880" y="1294920"/>
            <a:ext cx="601992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Ochenta y ocho millones en inversiones del FMAM, más 489 millones adicionales en otros recursos para productos químic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Dos proyectos piloto sobre reducción del mercurio aprobados: uno sobre minería artesanal del oro y el otro en el sector del cuidado de la salu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aprobaron versiones actualizadas de Planes Nacionales de Ejecución (PNE/NIPs) a través de acceso directo o a traves de Agencias GEF, (instamos a todas las Partes elegibles a seguir enviando solicitudes de actualizaciones de P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completó el proceso de respaldo de la eliminación de clorofluorocarbonos de Rusia en el sector de los inhaladores de dosis medidas.</a:t>
            </a:r>
            <a:endParaRPr b="0" lang="en-US" sz="1800" spc="-1" strike="noStrike">
              <a:solidFill>
                <a:srgbClr val="000000"/>
              </a:solidFill>
              <a:latin typeface="Calibri"/>
            </a:endParaRPr>
          </a:p>
        </p:txBody>
      </p:sp>
      <p:pic>
        <p:nvPicPr>
          <p:cNvPr id="95" name="Picture 2" descr="L:\Photos\COP5\Task FOrce 3.JPG"/>
          <p:cNvPicPr/>
          <p:nvPr/>
        </p:nvPicPr>
        <p:blipFill>
          <a:blip r:embed="rId1"/>
          <a:stretch/>
        </p:blipFill>
        <p:spPr>
          <a:xfrm>
            <a:off x="6629400" y="3200400"/>
            <a:ext cx="2400480" cy="1600200"/>
          </a:xfrm>
          <a:prstGeom prst="rect">
            <a:avLst/>
          </a:prstGeom>
          <a:ln w="0">
            <a:noFill/>
          </a:ln>
        </p:spPr>
      </p:pic>
      <p:pic>
        <p:nvPicPr>
          <p:cNvPr id="96"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7"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MAM apoya el Protocolo de Montreal</a:t>
            </a:r>
            <a:endParaRPr b="1" lang="en-US" sz="3600" spc="-1" strike="noStrike">
              <a:solidFill>
                <a:srgbClr val="1f497d"/>
              </a:solidFill>
              <a:latin typeface="Calibri"/>
            </a:endParaRPr>
          </a:p>
        </p:txBody>
      </p:sp>
      <p:sp>
        <p:nvSpPr>
          <p:cNvPr id="99"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respalda la implementación del Protocolo de Montreal en países con economías en transición. FMAM-5 dispone de una asignación de 25 millones para eliminación paulatina de sustancias que agotan el ozo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ha invertido 232 millones para la eliminación paulatina de sustancias que agotan el ozono en países con economías en transición. Financió dicha eliminación en Rusia y en países con economías en transición; el volumen es aproximadamente igual al de la eliminación paulatina en todos los países en desarrollo.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sigue  ofreciendo respaldo a países con economías en transición elegibles en la esfera de la eliminación paulatina de hidroclorofluorocarbonos y metilbromid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inanciamiento del FMAM para el proceso del CIN sobre el mercurio</a:t>
            </a:r>
            <a:endParaRPr b="1" lang="en-US" sz="3600" spc="-1" strike="noStrike">
              <a:solidFill>
                <a:srgbClr val="1f497d"/>
              </a:solidFill>
              <a:latin typeface="Calibri"/>
            </a:endParaRPr>
          </a:p>
        </p:txBody>
      </p:sp>
      <p:sp>
        <p:nvSpPr>
          <p:cNvPr id="101" name=""/>
          <p:cNvSpPr txBox="1"/>
          <p:nvPr/>
        </p:nvSpPr>
        <p:spPr>
          <a:xfrm>
            <a:off x="3657240" y="1219320"/>
            <a:ext cx="5334120" cy="4952880"/>
          </a:xfrm>
          <a:prstGeom prst="rect">
            <a:avLst/>
          </a:prstGeom>
          <a:noFill/>
          <a:ln w="0">
            <a:noFill/>
          </a:ln>
        </p:spPr>
        <p:txBody>
          <a:bodyPr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FMAM-5 dispone de una asignación de 15 millones para actividades  piloto relacionadas con reducción del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l FMAM ha efectuado contribuciones a todos los CIN sobre el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Los proyectos deben referirse a uno o más de los temas siguiente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mercurio en producto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en procesos industriale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y la exposición al mismo en minería artesanal y de pequeña escala del or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almacenaje de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 las emisiones atmosféricas de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ejoramiento de los datos y la información científica a nivel nacional;</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ocuparse de  los desechos y los sitios contaminados.</a:t>
            </a:r>
            <a:endParaRPr b="0" lang="en-US" sz="1800" spc="-1" strike="noStrike">
              <a:solidFill>
                <a:srgbClr val="000000"/>
              </a:solidFill>
              <a:latin typeface="Calibri"/>
            </a:endParaRPr>
          </a:p>
        </p:txBody>
      </p:sp>
      <p:sp>
        <p:nvSpPr>
          <p:cNvPr id="102" name="Rounded Rectangle 4"/>
          <p:cNvSpPr/>
          <p:nvPr/>
        </p:nvSpPr>
        <p:spPr>
          <a:xfrm>
            <a:off x="685800" y="13716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a:t>
            </a:r>
            <a:r>
              <a:rPr b="0" lang="es-CO" sz="1800" spc="-1" strike="noStrike">
                <a:solidFill>
                  <a:srgbClr val="ffffff"/>
                </a:solidFill>
                <a:latin typeface="Calibri"/>
              </a:rPr>
              <a:t>L</a:t>
            </a:r>
            <a:r>
              <a:rPr b="0" lang="es-CO" sz="1600" spc="-1" strike="noStrike">
                <a:solidFill>
                  <a:srgbClr val="ffffff"/>
                </a:solidFill>
                <a:latin typeface="Calibri"/>
              </a:rPr>
              <a:t>os recursos de FMAM-5 para el mercurio están destinados a respaldar evaluaciones y actividades piloto que promoverán el desarrollo del instrumento mundial del mercurio y aumentarán la capacidad de los países de aplicar sus disposiciones cuando dicho instrumento entre en vige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alibri"/>
              </a:rPr>
              <a:t>                   </a:t>
            </a:r>
            <a:r>
              <a:rPr b="0" i="1" lang="es-CO" sz="1800" spc="-1" strike="noStrike">
                <a:solidFill>
                  <a:srgbClr val="ffffff"/>
                </a:solidFill>
                <a:latin typeface="Calibri"/>
              </a:rPr>
              <a:t>FMAM Estrategia para programación del mercu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Financiamiento del FMAM para la gestión de productos químicos</a:t>
            </a:r>
            <a:endParaRPr b="1" lang="en-US" sz="4000" spc="-1" strike="noStrike">
              <a:solidFill>
                <a:srgbClr val="1f497d"/>
              </a:solidFill>
              <a:latin typeface="Calibri"/>
            </a:endParaRPr>
          </a:p>
        </p:txBody>
      </p:sp>
      <p:sp>
        <p:nvSpPr>
          <p:cNvPr id="104"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TextBox 5"/>
          <p:cNvSpPr/>
          <p:nvPr/>
        </p:nvSpPr>
        <p:spPr>
          <a:xfrm>
            <a:off x="457200" y="1523880"/>
            <a:ext cx="82296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Durante el FMAM-5 se dispone de una asignación de 10 millones para gestión racional de productos químicos para ocuparse de los temas siguient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Chatarra electrónica: en los proyectos adecuadamente diseñados en este ámbito deben tenerse en cuenta, como pertinentes, temas referentes al mercurio y a los COP.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Productos que contengan sustancias químicas que motiven preocupación mundial, en consonancia con el Enfoque Estratégico para la Gestión de los Productos Químicos a Nivel Internacional.</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Plomo en pintu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Picture 7" descr="DSC01987.jpg"/>
          <p:cNvPicPr/>
          <p:nvPr/>
        </p:nvPicPr>
        <p:blipFill>
          <a:blip r:embed="rId1"/>
          <a:stretch/>
        </p:blipFill>
        <p:spPr>
          <a:xfrm>
            <a:off x="6284880" y="495000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DSC01899.jpg"/>
          <p:cNvPicPr/>
          <p:nvPr/>
        </p:nvPicPr>
        <p:blipFill>
          <a:blip r:embed="rId1"/>
          <a:stretch/>
        </p:blipFill>
        <p:spPr>
          <a:xfrm>
            <a:off x="5327640" y="1127160"/>
            <a:ext cx="3822840" cy="5737320"/>
          </a:xfrm>
          <a:prstGeom prst="rect">
            <a:avLst/>
          </a:prstGeom>
          <a:ln w="0">
            <a:noFill/>
          </a:ln>
        </p:spPr>
      </p:pic>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Hallazgo de sinergias en la cartera de productos químicos</a:t>
            </a:r>
            <a:endParaRPr b="1" lang="en-US" sz="3600" spc="-1" strike="noStrike">
              <a:solidFill>
                <a:srgbClr val="1f497d"/>
              </a:solidFill>
              <a:latin typeface="Calibri"/>
            </a:endParaRPr>
          </a:p>
        </p:txBody>
      </p:sp>
      <p:sp>
        <p:nvSpPr>
          <p:cNvPr id="109"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En FMAM-5 se exhorta a promover más sinergias para lograr un mayor impac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A ese respecto,  puede ser conveniente que los países consideren la posibilidad de emprender actividades multisectoriales o proyectos sobre múltiples productos químicos como los siguient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Manejo de COP, chatarra electrónica, mercurio, plomo y mejor gestión de desech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Lámparas de mercurio y otros productos de desecho en proyectos de eficiencia en materia de construcción/iluminació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destinados a mejorar la eficiencia energética en el sector de producción y consumo de calefacción/refrigeración/aire acondicionado y eliminación paulatina de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Reducción de mercurio y COP en desechos médic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que incorporan medidas previstas en los convenios de Basilea, Rotterdam y Estocolm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Codestrucción de COP y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09480" y="2361960"/>
            <a:ext cx="8229600" cy="3429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ＭＳ Ｐゴシック"/>
              </a:rPr>
              <a:t>Información de contacto</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Ibrahima Sow</a:t>
            </a:r>
            <a:r>
              <a:rPr b="1" i="1" lang="en-US" sz="1800" spc="-1" strike="noStrike">
                <a:solidFill>
                  <a:srgbClr val="000000"/>
                </a:solidFill>
                <a:latin typeface="Calibri"/>
                <a:ea typeface="ＭＳ Ｐゴシック"/>
              </a:rPr>
              <a:t>	</a:t>
            </a:r>
            <a:r>
              <a:rPr b="0" i="1" lang="en-US" sz="1400" spc="-1" strike="noStrike">
                <a:solidFill>
                  <a:srgbClr val="000000"/>
                </a:solidFill>
                <a:latin typeface="Calibri"/>
                <a:ea typeface="ＭＳ Ｐゴシック"/>
              </a:rPr>
              <a:t>Coordinadora del Grupo de Productos Químicos</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isow@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Anil Sookdeo</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okdeo@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Evelyn Swain</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eswai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Jie Pan</a:t>
            </a:r>
            <a:r>
              <a:rPr b="1" i="1" lang="en-US" sz="1800" spc="-1" strike="noStrike">
                <a:solidFill>
                  <a:srgbClr val="000000"/>
                </a:solidFill>
                <a:latin typeface="Calibri"/>
                <a:ea typeface="ＭＳ Ｐゴシック"/>
              </a:rPr>
              <a:t>	</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ciado Profesional Junior</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jpa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rie Boucher</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ignada por USEPA</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mboucher@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 name="Picture 10" descr="Medical Waste_china.JPG"/>
          <p:cNvPicPr/>
          <p:nvPr/>
        </p:nvPicPr>
        <p:blipFill>
          <a:blip r:embed="rId1"/>
          <a:stretch/>
        </p:blipFill>
        <p:spPr>
          <a:xfrm>
            <a:off x="6321600" y="-6480"/>
            <a:ext cx="2828880" cy="2127240"/>
          </a:xfrm>
          <a:prstGeom prst="rect">
            <a:avLst/>
          </a:prstGeom>
          <a:ln w="0">
            <a:noFill/>
          </a:ln>
        </p:spPr>
      </p:pic>
      <p:pic>
        <p:nvPicPr>
          <p:cNvPr id="112" name="Picture 11" descr="Drums containing DDT_Panama.JPG"/>
          <p:cNvPicPr/>
          <p:nvPr/>
        </p:nvPicPr>
        <p:blipFill>
          <a:blip r:embed="rId2"/>
          <a:stretch/>
        </p:blipFill>
        <p:spPr>
          <a:xfrm>
            <a:off x="2889360" y="-6480"/>
            <a:ext cx="3444840" cy="2298960"/>
          </a:xfrm>
          <a:prstGeom prst="rect">
            <a:avLst/>
          </a:prstGeom>
          <a:ln w="0">
            <a:noFill/>
          </a:ln>
        </p:spPr>
      </p:pic>
      <p:pic>
        <p:nvPicPr>
          <p:cNvPr id="113"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3-02T16:25:22Z</dcterms:modified>
  <cp:revision>360</cp:revision>
  <dc:subject/>
  <dc:title>Slide 1</dc:title>
</cp:coreProperties>
</file>