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8FD2-F4B9-4BAB-8A62-DCECC532266D}" type="slidenum">
              <a:rPr b="0" lang="ar-S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B6C2-B0F6-4ECF-B021-1A84B4C65786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5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22D-C646-4914-9370-D56C1758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35E-607B-4059-B375-12D59EFC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90E-11C4-49C7-AB65-6A505585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F07-B77D-4ED2-8C1F-D677DAD4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7DAC-6CA5-4C54-8B46-7E969C95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1BE6-F8CC-4F69-982E-D12342C6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5418-DA47-441F-906D-4C77E96F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6506-0C21-4A7E-A6B1-6E758DEA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A667-7BFD-41E3-9E15-DA0E161D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33DD-294D-4D30-93B9-3EE83EBB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4572-8C3F-4AA8-A3F1-823F5B57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106D-1FD8-49DE-9BEE-920A902C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E64C-5CCD-4EEB-95F1-F65667A4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1065-0A90-4E96-AFB0-CE17DC4F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4873-744C-404C-A9B4-C5FAC821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B5E0-4E9D-4265-8AAA-D00D5A94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9788-827B-4522-A9D2-196C0BAB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62693-96EE-45AB-B98E-80BDEDAF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B1378-E0BE-47FF-A97B-AF3C5EF9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56FF6-2D52-4BB3-80C0-DCB4805B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10064-E0DF-45FB-B450-09EA4B47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3A54F-2AD6-4153-9039-D0CF5C58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906A-552B-4D06-8A35-A0E57CAF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B011C-DAC5-4260-AD61-9568A315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E7412-BCA1-4140-852B-AC216EEF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C0DA9-B1AE-414C-9603-13B5400A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34301-017A-4FD4-A9B0-1B062EBF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0C85A-30F0-4686-A2A2-93095900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0B2E8-3B86-4493-83CA-26BB5270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B4654-9FF1-486E-9D06-7A343D47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A96F5-0D17-4D77-A47D-02FE7BD6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47630-4297-473B-BAA3-CFA5824A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D8406-3748-4B3F-8A28-9BE1D7E9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5B3F-9E57-41C2-AD1E-8E480ACD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A15DD-49FE-4F8A-942A-9E5BA0CD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F2F79-99F7-46AF-ABE9-E87F7D93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A7DF2-72B1-4C05-9176-9C94BF38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9CFFC-5012-423C-9F1A-5BE74D3A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9605F-743A-4030-B5FB-FDE1EF45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DA1E1-F7F5-47DC-A6B6-373A9FCE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982C9-82BA-46C2-8AC7-AC87934E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9A416-0F26-43CA-9D31-14C48948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5B724-2D01-4D27-AF58-FB868689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BF0-7435-4102-A14D-BA82F4C7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8FAD-3CFB-406E-A9C6-7115D59A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716-57C3-4E77-8F89-369A12E8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120-5B01-4517-8AB5-A6518D93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B35-6520-48DD-AD93-B47031F1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997D-2698-4DDE-BC0C-80540D68C41A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9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3807-82FD-409F-8D9C-064DE1166A21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7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F273-AE36-4CE8-A8AA-2CEE06CC1594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C2F5-5CB8-45DB-AD9C-F5A89CBD3742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تعبئة الموارد من خلال نُهج برامج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– 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معايير النهج البرامجي ل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تم العمل بالنهج البرامجي للصندوق في حالة وجود مبررات ومسوغات قوية لذل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ــ </a:t>
            </a:r>
            <a:r>
              <a:rPr b="0" i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لى سبيل المثال،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غابات حوض الكونغو ــ جزر المحيط الهادئ ــ الطاقة في أفريقي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أن يستند البرنامج إلى أولويات قطر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زام سياسي واقتصادي رفيع المستو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زام بإبرام شراكات على المستوى الوطني عبر الوزارات التنفيذية والهيئ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إجراءات شفافة وواضحة تعمل على تشجيع انخراط مختلف أصحاب المصال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شكراً على اهتمامكم</a:t>
            </a: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موقع الويب الخاص بـصندوق البيئة العالمية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ww.thegef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ما طبيعة أي برنامج يتم في إطار صندوق البيئة العالمية</a:t>
            </a: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صندوق البيئة العالمية = هو إطار عمل لتسهيل تحقيق نتائج وفق أهداف وقواعد مشترك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عزيز الفرص لتحقيق تضافر الجهود عبر مجالات التركيز المختلفة للصندوق مع الشرك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أن يتوافق أي نهج برامجي مع إستراتيجيات مجالات التركيز للصندوق لتعظيم المنافع البيئية العالمية وزيادة نطاق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هناك برامج لدى الصندوق على مختلف المستويات ــ عالمية، وإقليمية، ووطنية، ونوعية، ومتعددة مجالات التركيز، وأحادية مجال التركي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ميز عن المشروع متعدد البلدان أو المشروع الإقليم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58ed5"/>
                </a:solidFill>
                <a:latin typeface="Calibri"/>
                <a:cs typeface="Arial"/>
              </a:rPr>
              <a:t>جميع مجالات تركيز الصندوق لها </a:t>
            </a:r>
            <a:r>
              <a:rPr b="1" lang="ar-EG" sz="2800" spc="-1" strike="noStrike">
                <a:solidFill>
                  <a:srgbClr val="558ed5"/>
                </a:solidFill>
                <a:latin typeface="Calibri"/>
                <a:cs typeface="Arial"/>
              </a:rPr>
              <a:t>تجارب</a:t>
            </a:r>
            <a:r>
              <a:rPr b="1" lang="ar-SA" sz="2800" spc="-1" strike="noStrike">
                <a:solidFill>
                  <a:srgbClr val="558ed5"/>
                </a:solidFill>
                <a:latin typeface="Calibri"/>
                <a:ea typeface="Arial"/>
              </a:rPr>
              <a:t> مع البرامج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مياه الدولية: شراكات إستراتيجية بشأن مصائد الأسماك في غرب أفريقي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اضي:  برنامج الشراكة القطري ،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و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شراكة الإستراتيجية للاستثما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غير المناخ: برنامج إستراتيجي بشأن الطاقة في غرب أفريقي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مجالات تركيز متعددة: مبادرة المثلث المرجاني (التنوع البيولوجي، والمياه الدولية، وتغير المناخ، والتكي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إدارة المستدامة للغابات: البرنامج الاستراتيجي لحوض الكونغ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1120" indent="-35964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م إطلاق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25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من بين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33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في إطار العملية الرابعة لتجديد موارد الصندوق (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1.6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؛ وتعبئة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7.9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1120" indent="-35964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:  الشراكة الإستراتيجية للاستثما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1120" indent="-35964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P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:   برنامج الشراكة القطر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1120" indent="-35964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G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:  برنامج المنح الصغير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القيمة المضافة للنهج البرامج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218960" y="10663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بالنسبة لصندوق البيئة العالمي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تعظيم المنافع البيئية العالمة من خلال زيادة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تضافر الجهود: عملية تتسم بكفاءة التكلف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تعزيز 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الدور التحفيزي للصندوق</a:t>
            </a:r>
            <a:r>
              <a:rPr b="0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لتعبئة تمويل إضاف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السهولة في الرصد والتقيي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بالنسبة للبلدان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مزيد من التفاعل</a:t>
            </a:r>
            <a:r>
              <a:rPr b="0" lang="ar-E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الإستراتيجي</a:t>
            </a:r>
            <a:r>
              <a:rPr b="0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مع الصندوق؛ نحو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عملية مدفوعة باعتبارات البلد المعن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فرص لتجميع الموارد من مجالات تركيز متنوعة للصندوق البيئة العالمي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فرص لتأمين تمويل وتعبئة جهود</a:t>
            </a:r>
            <a:r>
              <a:rPr b="0" lang="ar-E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الشركاء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بالنسبة للهيئات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تحسين إمكانات التنبؤ ــ خفض تكاليف المعاملات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مزيد من التفاعلات الإستراتيجية</a:t>
            </a:r>
            <a:r>
              <a:rPr b="0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مع البلدان بناءً على الميزة النسبية للهيئة المعني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بالنسبة للشركاء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شراكات ــ تمويل إضافي ــ تضافر الجهود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التعريف المؤس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يسير دورة المشروع وتعديل النهج البرامجي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EF/C.38/5/Rev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ن المشروعات إلى البرامج: توضيح النهج البرامجي في حافظة الصندوق،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EF/C.33/6</a:t>
            </a:r>
            <a:r>
              <a:rPr b="0" i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ــ </a:t>
            </a:r>
            <a:r>
              <a:rPr b="0" i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21</a:t>
            </a:r>
            <a:r>
              <a:rPr b="0" i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ارس/آذار </a:t>
            </a:r>
            <a:r>
              <a:rPr b="0" i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الهدف العام</a:t>
            </a: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 algn="r" rtl="1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إحداث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آثر مستدام وأوسع نطاقاً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على البيئة العالمية من خلال دمج الأهداف البيئية العالمية ضمن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إستراتيجيات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والخطط الوطنية أو الإقليمية باستخدام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شراكات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 algn="r" rtl="1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صرف مبالغ من موارد صندوق البيئة العالمية على نطاق واسع على نحو يتسم بالفعالية والكفاءة للبلدان والمناطق التي تتمتع بمستوى معزز من المساءلة والرقاب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58ed5"/>
                </a:solidFill>
                <a:latin typeface="Calibri"/>
                <a:cs typeface="Arial"/>
              </a:rPr>
              <a:t>تعديل النهج البرامج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Calibri"/>
                <a:cs typeface="Arial"/>
              </a:rPr>
              <a:t>الخيار 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  <a:ea typeface="Arial"/>
              </a:rPr>
              <a:t>1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  <a:ea typeface="Arial"/>
              </a:rPr>
              <a:t> ــ النهج البرامجي الحالي مع التعديل:  برنامج متعدد الهيئات مع هيئة تنسيق للبرنام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وافقة المجلس على وثيقة إطار البرنامج (بالإضافة إلى نماذج تحديد المشروعات إن كانت جاهزة):  تجنيب الموار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تم الموافقة على جميع نماذج تحديد المشروعات في موعد غايته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شهور بعد الموافقة على وثيقة إطار البرنام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دورة المشروع المعتادة (نموذج تحديد المشروع ــ منحة إعداد المشروع ــ تصديق رئيس الصندو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دة الزمنية بين الموافقة على نموذج تحديد المشروع وتصديق رئيس الصندوق:  لا تتجاوز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18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شه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أتعاب: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9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% لكل هيئة مشارك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أتعاب التنسيق: تُحدد حسب كل حالة على حدة (مبلغ استرشادي: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500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ألف دولا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70c0"/>
                </a:solidFill>
                <a:latin typeface="Calibri"/>
                <a:cs typeface="Arial"/>
              </a:rPr>
              <a:t>الخيار </a:t>
            </a:r>
            <a:r>
              <a:rPr b="1" lang="ar-SA" sz="2100" spc="-1" strike="noStrike">
                <a:solidFill>
                  <a:srgbClr val="0070c0"/>
                </a:solidFill>
                <a:latin typeface="Calibri"/>
                <a:ea typeface="Arial"/>
              </a:rPr>
              <a:t>2</a:t>
            </a:r>
            <a:r>
              <a:rPr b="1" lang="ar-SA" sz="2100" spc="-1" strike="noStrike">
                <a:solidFill>
                  <a:srgbClr val="0070c0"/>
                </a:solidFill>
                <a:latin typeface="Calibri"/>
                <a:ea typeface="Arial"/>
              </a:rPr>
              <a:t> ــ نهج جديد: برنامج لهيئة واحدة مع تأهيل الهيئ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 موافقة رئيس الصندوق على وثيقة إطار البرنامج (تجنيب الموارد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تتضمن وثيقة إطار البرنامج أفكار المشروع (صفحة واحدة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يتم إلغاء الخطوة الخاصة بنموذج تحديد البرنامج ــ تقوم كل هيئة مؤهلة بإتباع خطوات إعداد المشروع الخاصة ب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تُعرض وثائق المشروع على سكرتارية الصندوق للتصديق/الموافق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المدة الزمنية بين الموافقة على وثيقة إطار البرنامج وتصديق رئيس الصندوق:   </a:t>
            </a: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18</a:t>
            </a: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 شهرا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أتعاب الهيئة: </a:t>
            </a: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%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من الممكن أن يوافق رئيس الصندوق على منحة إعداد بعد الموافقة على وثيقة إطار البرنامج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الوثائق الرئيس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 algn="r" rtl="1">
              <a:spcBef>
                <a:spcPts val="601"/>
              </a:spcBef>
              <a:spcAft>
                <a:spcPts val="6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وثيقة إطار البرنامج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، وتتضمن إطار النتائج، وخط الأساس، وقائمة بالمشروعات التي تساهم في تحقيق أهداف ومقاصد البرنامج، وأعمال الرصد، والمؤشرات ذات الصلة (بالإضافة إلى موازنة مالية لأعمال الرص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 algn="r" rtl="1">
              <a:spcBef>
                <a:spcPts val="601"/>
              </a:spcBef>
              <a:spcAft>
                <a:spcPts val="6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تقرير التنفيذ السنو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للبرنام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6:29:31Z</dcterms:created>
  <dc:creator>mikec</dc:creator>
  <dc:description/>
  <dc:language>en-US</dc:language>
  <cp:lastModifiedBy>Lisa</cp:lastModifiedBy>
  <dcterms:modified xsi:type="dcterms:W3CDTF">2012-04-22T23:58:10Z</dcterms:modified>
  <cp:revision>131</cp:revision>
  <dc:subject/>
  <dc:title>Slide Title Here</dc:title>
</cp:coreProperties>
</file>