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527E-5BAB-472A-8172-8DA2CC8678CE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8F31-0E8F-4C7D-BD82-4F7531D1280B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C79-81B5-4167-A1F0-EF754F8E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972-724C-4D6E-9F45-C802D6A9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0CF-6492-401B-9CF2-A0736C75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0C3-0F47-4F7D-B2FC-31492B6C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6EEE-3EE5-423F-B75C-F3104C5F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77CE-1AFF-4E0C-9D63-AB49210B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E081-EF4F-482D-BB85-CAEC56CB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CB14-7B31-475E-B795-2F3D32CD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DB07-A795-4FEA-B38D-3DBCFF54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4932-CB63-489D-B0D2-9406FDEC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CE9A-CA56-4829-A737-3D0AE4A6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84F-90AB-424C-B043-3CB68E38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E35A-22D3-4816-A71E-72C79246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85E1-B4B1-4E71-A472-65F1C1E2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8EFE-4DCF-4F1B-ACFB-785823C1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3D96-EBFF-49A8-86B2-1BF4B5EE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C809-F014-4A40-A499-356B75CA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35236-16AE-417F-95BA-4E1EFBA9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2AF1E-C825-4B4B-AA04-3BAFBDAC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ED7A-2706-4BDE-AF5E-EE6DDF83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17B0-73F4-4303-B0D3-7872092B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B16D-11B7-448F-B622-446D0710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3CC-D83A-4B27-A5D1-2344DE6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C6A8-3610-4F08-AA6B-D0D43EAF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937D-73B4-4D54-B14F-7C6B620A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C82A-2556-43F8-A2D4-1962308D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C00C-CDDB-4ED0-91B7-0429925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1A3E-AEC1-4DEE-A950-A1150648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09B0-C3EC-44D2-8015-5CDA4724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8703-0D3B-440E-A7F9-E1DD840C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1C88-9A53-4C72-BE2E-2C53ACDC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910FC-AD82-4A57-B96F-55B0CAE5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4E43-091E-4406-A17D-0EE2DC6B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D16-89C3-4955-9D23-D608A948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807C-C9C3-4F2A-9723-7368701D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6FD04-4626-4E33-8068-63079FD4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59AF8-2732-4386-8422-06F8F6E2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FD29A-866D-4483-9498-13C1437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734CC-C5DB-4A3A-AC34-42AE371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E1F9-CE7D-4058-864E-A821CE4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997A8-EFE4-4131-AE9D-4CE2E2E0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D89F5-08A6-4374-BAD7-B44B2735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9888-5ACE-45AB-AA4F-82A8EBBB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495-1379-4C95-8AEE-C95173F0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4AC-6E8B-4BC7-BD7D-DAE5A4FD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277-A62F-488E-8103-A4CE55B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172-1BC3-4D72-B1EA-C8C324FB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8F5-24B2-4359-8CC9-6834A6C7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307E-7F08-440F-AD55-A67EAB59727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3C46-1808-4285-A366-58BBAD64F0B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8811-4340-4B64-ACBF-3A0B36CA8F87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CECA-BFAD-4EFE-8C89-E2893C563DB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تعبئة الموارد من خلال نُهج برامج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– 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معايير النهج البرامج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م العمل بالنهج البرامجي للصندوق في حالة وجود مبررات ومسوغات قوية لذل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ــ </a:t>
            </a:r>
            <a:r>
              <a:rPr b="0" i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سبيل المثال،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غابات حوض الكونغو ــ جزر المحيط الهادئ ــ الطاقة في أفريقي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ستند البرنامج إلى أولويات قط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زام سياسي واقتصادي رفيع المستو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زام بإبرام شراكات على المستوى الوطني عبر الوزارات التنفيذية والهيئ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جراءات شفافة وواضحة تعمل على تشجيع انخراط مختلف أصحاب المصال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شكراً على اهتمامكم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موقع الويب الخاص بـصندوق البيئة العالمي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ما طبيعة أي برنامج يتم في إطار صندوق البيئة العالمية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صندوق البيئة العالمية = هو إطار عمل لتسهيل تحقيق نتائج وفق أهداف وقواعد مشت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زيز الفرص لتحقيق تضافر الجهود عبر مجالات التركيز المختلفة للصندوق مع الشرك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توافق أي نهج برامجي مع إستراتيجيات مجالات التركيز للصندوق لتعظيم المنافع البيئية العالمية وزيادة نطاق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ناك برامج لدى الصندوق على مختلف المستويات ــ عالمية، وإقليمية، ووطنية، ونوعية، ومتعددة مجالات التركيز، وأحادية مجال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ميز عن المشروع متعدد البلدان أو المشروع الإقلي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58ed5"/>
                </a:solidFill>
                <a:latin typeface="Calibri"/>
                <a:cs typeface="Arial"/>
              </a:rPr>
              <a:t>جميع مجالات تركيز الصندوق لها </a:t>
            </a:r>
            <a:r>
              <a:rPr b="1" lang="ar-EG" sz="2800" spc="-1" strike="noStrike">
                <a:solidFill>
                  <a:srgbClr val="558ed5"/>
                </a:solidFill>
                <a:latin typeface="Calibri"/>
                <a:cs typeface="Arial"/>
              </a:rPr>
              <a:t>تجارب</a:t>
            </a:r>
            <a:r>
              <a:rPr b="1" lang="ar-SA" sz="2800" spc="-1" strike="noStrike">
                <a:solidFill>
                  <a:srgbClr val="558ed5"/>
                </a:solidFill>
                <a:latin typeface="Calibri"/>
                <a:ea typeface="Arial"/>
              </a:rPr>
              <a:t> مع البرامج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: شراكات إستراتيجية بشأن مصائد الأسماك في غرب أفريق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:  برنامج الشراكة القطري ،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شراكة الإستراتيجية للاستثم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: برنامج إستراتيجي بشأن الطاقة في غرب أفريق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 متعددة: مبادرة المثلث المرجاني (التنوع البيولوجي، والمياه الدولية، وتغير المناخ، والتكي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مستدامة للغابات: البرنامج الاستراتيجي لحوض الكونغ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م إطلاق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25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ن بين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3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في إطار العملية الرابعة لتجديد موارد الصندوق (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1.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؛ وتعبئ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7.9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الشراكة الإستراتيجية للاستثم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P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 برنامج الشراكة القط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G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برنامج المنح الصغير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قيمة المضافة للنهج البرامج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8960" y="10663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صندوق البيئة العالم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عظيم المنافع البيئية العالمة من خلال زيادة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تضافر الجهود: عملية تتسم بكفاءة التكلف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عزيز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دور التحفيزي للصندوق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لتعبئة تمويل إضا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سهولة في الرصد والتقي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بلدا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زيد من التفاعل</a:t>
            </a:r>
            <a:r>
              <a:rPr b="0" lang="ar-E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إستراتيجي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مع الصندوق؛ نحو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عملية مدفوعة باعتبارات البلد المع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فرص لتجميع الموارد من مجالات تركيز متنوعة للصندوق البيئة العالم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فرص لتأمين تمويل وتعبئة جهود</a:t>
            </a:r>
            <a:r>
              <a:rPr b="0" lang="ar-E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شركاء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هيئات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حسين إمكانات التنبؤ ــ خفض تكاليف المعاملات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زيد من التفاعلات الإستراتيجية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مع البلدان بناءً على الميزة النسبية للهيئة المعن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شركاء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شراكات ــ تمويل إضافي ــ تضافر الجهود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تعريف المؤس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يسير دورة المشروع وتعديل النهج البرامجي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ن المشروعات إلى البرامج: توضيح النهج البرامجي في حافظة الصندوق،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F/C.33/6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ــ 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21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ارس/آذار 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هدف العام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حداث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آثر مستدام وأوسع نطاقاً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على البيئة العالمية من خلال دمج الأهداف البيئية العالمية ض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إستراتيجيا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والخطط الوطنية أو الإقليمية باستخدام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شراكا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صرف مبالغ من موارد صندوق البيئة العالمية على نطاق واسع على نحو يتسم بالفعالية والكفاءة للبلدان والمناطق التي تتمتع بمستوى معزز من المساءلة والرقاب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58ed5"/>
                </a:solidFill>
                <a:latin typeface="Calibri"/>
                <a:cs typeface="Arial"/>
              </a:rPr>
              <a:t>تعديل النهج البرامج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الخيار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1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 ــ النهج البرامجي الحالي مع التعديل:  برنامج متعدد الهيئات مع هيئة تنسيق للبرنام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فقة المجلس على وثيقة إطار البرنامج (بالإضافة إلى نماذج تحديد المشروعات إن كانت جاهزة):  تجنيب الموا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تم الموافقة على جميع نماذج تحديد المشروعات في موعد غايته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شهور بعد الموافقة على وثيقة إطار البرنام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دورة المشروع المعتادة (نموذج تحديد المشروع ــ منحة إعداد المشروع ــ تصديق رئيس الصندو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دة الزمنية بين الموافقة على نموذج تحديد المشروع وتصديق رئيس الصندوق:  لا تتجاوز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شه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تعاب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% لكل هيئة مشارك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أتعاب التنسيق: تُحدد حسب كل حالة على حدة (مبلغ استرشادي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ألف دولا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70c0"/>
                </a:solidFill>
                <a:latin typeface="Calibri"/>
                <a:cs typeface="Arial"/>
              </a:rPr>
              <a:t>الخيار </a:t>
            </a:r>
            <a:r>
              <a:rPr b="1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r>
              <a:rPr b="1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 ــ نهج جديد: برنامج لهيئة واحدة مع تأهيل الهيئ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 موافقة رئيس الصندوق على وثيقة إطار البرنامج (تجنيب الموارد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تتضمن وثيقة إطار البرنامج أفكار المشروع (صفحة واحدة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يتم إلغاء الخطوة الخاصة بنموذج تحديد البرنامج ــ تقوم كل هيئة مؤهلة بإتباع خطوات إعداد المشروع الخاصة ب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تُعرض وثائق المشروع على سكرتارية الصندوق للتصديق/الموافق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المدة الزمنية بين الموافقة على وثيقة إطار البرنامج وتصديق رئيس الصندوق:   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 شهر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أتعاب الهيئة: 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من الممكن أن يوافق رئيس الصندوق على منحة إعداد بعد الموافقة على وثيقة إطار البرنامج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وثائق الرئيس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وثيقة إطار البرنام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، وتتضمن إطار النتائج، وخط الأساس، وقائمة بالمشروعات التي تساهم في تحقيق أهداف ومقاصد البرنامج، وأعمال الرصد، والمؤشرات ذات الصلة (بالإضافة إلى موازنة مالية لأعمال الرص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تقرير التنفيذ السنو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للبرنام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Lisa</cp:lastModifiedBy>
  <dcterms:modified xsi:type="dcterms:W3CDTF">2012-04-22T23:58:10Z</dcterms:modified>
  <cp:revision>131</cp:revision>
  <dc:subject/>
  <dc:title>Slide Title Here</dc:title>
</cp:coreProperties>
</file>