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A8F4-AF03-4A64-A749-7C4D0F4D31BD}" type="slidenum">
              <a:rPr b="0" lang="ar-S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DAC4-E70B-4BDA-A5D7-4B79B7F4CFFA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ooter Placeholder 5"/>
          <p:cNvSpPr/>
          <p:nvPr/>
        </p:nvSpPr>
        <p:spPr>
          <a:xfrm>
            <a:off x="0" y="911844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17D0-7FEE-48E7-B29B-F7D04BFE6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A7D6-37E5-4379-8D86-0BE1636E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01E0-E016-465E-9CC3-548279EF3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C91D-AF8E-4FF6-9263-841A4FD1B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6281-6C39-4874-9F07-9BC3AAB2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C232-2079-4DAD-82AD-D00EB277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C410-2BC0-4090-A30A-0C1B3531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73FC-5E9C-4286-AED7-ED941153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5374-3AFB-4FF1-9F61-0F90C1F6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EC6B-6D33-4F1E-ADF4-B2F9D7BB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0338-3515-4482-BF7E-6A94091B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E43A-C68D-412C-8ADC-5F14871F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F57E-2E16-47CD-80E4-E7AFF59F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10B4-1515-40F1-9DBD-B3283F31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3AAD-1462-444F-9273-8A382A24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6905-0B21-43B3-8DD4-1995805C5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CA27-26F8-4FC1-9FB9-1C387C65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46134-DA0D-472D-A317-5134952D9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65A31-DE41-4754-99EC-BEE98B2B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CAD66-D67E-44E9-B15A-64FB861B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A38DC-EB46-48BD-8F3A-025C3B2C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526DE-B15A-4C05-9C09-87D15B95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0683-72AC-44C4-AE3D-131EF26B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B6A0C-4257-42F9-A56B-3AD253A2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C30F5-780A-4B27-9A6D-EA400026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D46C3-FF6C-4CB6-9F4F-3759263B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8556B-2495-4AC1-8A9C-11BE6D8F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7DD80-3E2E-453A-A923-FEB8D2ED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BD4C7-7431-42A5-8223-2BCE86C85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7D4B7-8A77-42A9-9A99-8A8D3CAA6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94FEE-D2DE-44AA-9610-FF217D08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D5197-2CAC-44A9-9025-87F6961F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125E8-5A87-4EB9-ABC4-56ECEF89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79D5-FE5B-4358-B848-41E80072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96555-D1AC-4A01-A1DE-5BC0636E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46233-21B0-4B0B-BC73-84B52E31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AECF2-58BE-4592-BF6F-E2191D42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3222C-3C63-421C-9F1B-D77F70AB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53E33-F00A-40BF-AE16-7F016F8D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30E7E-CD06-42FC-9E78-BB58FCAE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29F16-5A40-4275-84CC-0779F968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2E228-48B2-4439-966E-F12F887D3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C0314-4806-4953-86D4-B62B3CA26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7703-2B91-435D-BE7C-24C2E18D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136C-BC65-4090-A5BC-FF345FE7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0709-AC0F-4378-BECD-DA734C5A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902F-6574-4961-B49E-988C07A9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1593-C981-42FE-8F65-C0FC7EB7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5 February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BEB4-2CDE-4D3B-9E76-0CFB6A9B0E48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9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5 February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A876-6F2B-46BA-8213-20F627D39D3A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7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5 February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B200-5ED2-413C-BAAA-5A1707462000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5 February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66BC-1F62-405F-B58B-AB3D3E9D9528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642d"/>
                </a:solidFill>
                <a:latin typeface="Calibri"/>
                <a:cs typeface="Arial"/>
              </a:rPr>
              <a:t>تعبئة الموارد من خلال نُهج برامجي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ubtitle 4"/>
          <p:cNvSpPr/>
          <p:nvPr/>
        </p:nvSpPr>
        <p:spPr>
          <a:xfrm>
            <a:off x="1219320" y="419112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42d"/>
                </a:solidFill>
                <a:latin typeface="Calibri"/>
                <a:cs typeface="Times New Roman"/>
              </a:rPr>
              <a:t>حلقة العمل الموسعة على مستوى البلدان الأعضاء ف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42d"/>
                </a:solidFill>
                <a:latin typeface="Calibri"/>
                <a:ea typeface="Times New Roman"/>
              </a:rPr>
              <a:t> صندوق البيئة العالمي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42d"/>
                </a:solidFill>
                <a:latin typeface="Calibri"/>
                <a:ea typeface="Times New Roman"/>
              </a:rPr>
              <a:t>15</a:t>
            </a:r>
            <a:r>
              <a:rPr b="1" lang="ar-SA" sz="2600" spc="-1" strike="noStrike">
                <a:solidFill>
                  <a:srgbClr val="00642d"/>
                </a:solidFill>
                <a:latin typeface="Calibri"/>
                <a:ea typeface="Times New Roman"/>
              </a:rPr>
              <a:t>– </a:t>
            </a:r>
            <a:r>
              <a:rPr b="1" lang="ar-SA" sz="2600" spc="-1" strike="noStrike">
                <a:solidFill>
                  <a:srgbClr val="00642d"/>
                </a:solidFill>
                <a:latin typeface="Calibri"/>
                <a:ea typeface="Times New Roman"/>
              </a:rPr>
              <a:t>17</a:t>
            </a:r>
            <a:r>
              <a:rPr b="1" lang="ar-SA" sz="2600" spc="-1" strike="noStrike">
                <a:solidFill>
                  <a:srgbClr val="00642d"/>
                </a:solidFill>
                <a:latin typeface="Calibri"/>
                <a:ea typeface="Times New Roman"/>
              </a:rPr>
              <a:t> فبراير/شباط </a:t>
            </a:r>
            <a:r>
              <a:rPr b="1" lang="ar-SA" sz="2600" spc="-1" strike="noStrike">
                <a:solidFill>
                  <a:srgbClr val="00642d"/>
                </a:solidFill>
                <a:latin typeface="Calibri"/>
                <a:ea typeface="Times New Roman"/>
              </a:rPr>
              <a:t>20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6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بحر الميت</a:t>
            </a:r>
            <a:r>
              <a:rPr b="1" lang="ar-SA" sz="2600" spc="-1" strike="noStrike">
                <a:solidFill>
                  <a:srgbClr val="00642d"/>
                </a:solidFill>
                <a:latin typeface="Calibri"/>
                <a:cs typeface="Times New Roman"/>
              </a:rPr>
              <a:t>، الأرد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58ed5"/>
                </a:solidFill>
                <a:latin typeface="Calibri"/>
                <a:cs typeface="Arial"/>
              </a:rPr>
              <a:t>معايير النهج البرامجي لصندوق البيئة العالم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تم العمل بالنهج البرامجي للصندوق في حالة وجود مبررات ومسوغات قوية لذل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EG" sz="2400" spc="-1" strike="noStrike">
                <a:solidFill>
                  <a:srgbClr val="000000"/>
                </a:solidFill>
                <a:latin typeface="Calibri"/>
                <a:cs typeface="Arial"/>
              </a:rPr>
              <a:t>ــ </a:t>
            </a:r>
            <a:r>
              <a:rPr b="0" i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على سبيل المثال،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غابات حوض الكونغو ــ جزر المحيط الهادئ ــ الطاقة في أفريقي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جب أن يستند البرنامج إلى أولويات قطر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تزام سياسي واقتصادي رفيع المستو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تزام بإبرام شراكات على المستوى الوطني عبر الوزارات التنفيذية والهيئ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إجراءات شفافة وواضحة تعمل على تشجيع انخراط مختلف أصحاب المصال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58ed5"/>
                </a:solidFill>
                <a:latin typeface="Calibri"/>
                <a:cs typeface="Arial"/>
              </a:rPr>
              <a:t>شكراً على اهتمامكم</a:t>
            </a:r>
            <a:r>
              <a:rPr b="0" lang="en-US" sz="4400" spc="-1" strike="noStrike">
                <a:solidFill>
                  <a:srgbClr val="558ed5"/>
                </a:solidFill>
                <a:latin typeface="Calibri"/>
                <a:ea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موقع الويب الخاص بـصندوق البيئة العالمية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www.thegef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58ed5"/>
                </a:solidFill>
                <a:latin typeface="Calibri"/>
                <a:cs typeface="Arial"/>
              </a:rPr>
              <a:t>ما طبيعة أي برنامج يتم في إطار صندوق البيئة العالمية</a:t>
            </a:r>
            <a:r>
              <a:rPr b="0" lang="en-US" sz="4400" spc="-1" strike="noStrike">
                <a:solidFill>
                  <a:srgbClr val="558ed5"/>
                </a:solidFill>
                <a:latin typeface="Calibri"/>
                <a:ea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2" marL="1062720" indent="-212400" algn="r" rtl="1"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برنامج صندوق البيئة العالمية = هو إطار عمل لتسهيل تحقيق نتائج وفق أهداف وقواعد مشترك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 algn="r" rtl="1"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عزيز الفرص لتحقيق تضافر الجهود عبر مجالات التركيز المختلفة للصندوق مع الشرك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 algn="r" rtl="1"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جب أن يتوافق أي نهج برامجي مع إستراتيجيات مجالات التركيز للصندوق لتعظيم المنافع البيئية العالمية وزيادة نطاق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 algn="r" rtl="1"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هناك برامج لدى الصندوق على مختلف المستويات ــ عالمية، وإقليمية، ووطنية، ونوعية، ومتعددة مجالات التركيز، وأحادية مجال التركي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 algn="r" rtl="1"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تميز عن المشروع متعدد البلدان أو المشروع الإقليم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58ed5"/>
                </a:solidFill>
                <a:latin typeface="Calibri"/>
                <a:cs typeface="Arial"/>
              </a:rPr>
              <a:t>جميع مجالات تركيز الصندوق لها </a:t>
            </a:r>
            <a:r>
              <a:rPr b="1" lang="ar-EG" sz="2800" spc="-1" strike="noStrike">
                <a:solidFill>
                  <a:srgbClr val="558ed5"/>
                </a:solidFill>
                <a:latin typeface="Calibri"/>
                <a:cs typeface="Arial"/>
              </a:rPr>
              <a:t>تجارب</a:t>
            </a:r>
            <a:r>
              <a:rPr b="1" lang="ar-SA" sz="2800" spc="-1" strike="noStrike">
                <a:solidFill>
                  <a:srgbClr val="558ed5"/>
                </a:solidFill>
                <a:latin typeface="Calibri"/>
                <a:ea typeface="Arial"/>
              </a:rPr>
              <a:t> مع البرامج</a:t>
            </a:r>
            <a:r>
              <a:rPr b="1" lang="en-US" sz="2800" spc="-1" strike="noStrike">
                <a:solidFill>
                  <a:srgbClr val="558ed5"/>
                </a:solidFill>
                <a:latin typeface="Calibri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5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2" marL="1028520" indent="-20556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مياه الدولية: شراكات إستراتيجية بشأن مصائد الأسماك في غرب أفريقي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دهور الأراضي:  برنامج الشراكة القطري ،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Arial"/>
              </a:rPr>
              <a:t>و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شراكة الإستراتيجية للاستثما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غير المناخ: برنامج إستراتيجي بشأن الطاقة في غرب أفريقي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مجالات تركيز متعددة: مبادرة المثلث المرجاني (التنوع البيولوجي، والمياه الدولية، وتغير المناخ، والتكي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إدارة المستدامة للغابات: البرنامج الاستراتيجي لحوض الكونغ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71120" indent="-35964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م إطلاق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25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من بين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33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في إطار العملية الرابعة لتجديد موارد الصندوق (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1.6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مليار دولار؛ وتعبئة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7.9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مليار دولار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71120" indent="-35964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I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:  الشراكة الإستراتيجية للاستثما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71120" indent="-35964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P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:   برنامج الشراكة القطر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71120" indent="-35964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G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:  برنامج المنح الصغير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58ed5"/>
                </a:solidFill>
                <a:latin typeface="Calibri"/>
                <a:cs typeface="Arial"/>
              </a:rPr>
              <a:t>القيمة المضافة للنهج البرامج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218960" y="106632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بالنسبة لصندوق البيئة العالمية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تعظيم المنافع البيئية العالمة من خلال زيادة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Arial"/>
              </a:rPr>
              <a:t> تضافر الجهود: عملية تتسم بكفاءة التكلفة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تعزيز 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الدور التحفيزي للصندوق</a:t>
            </a:r>
            <a:r>
              <a:rPr b="0" lang="ar-SA" sz="1700" spc="-1" strike="noStrike">
                <a:solidFill>
                  <a:srgbClr val="000000"/>
                </a:solidFill>
                <a:latin typeface="Calibri"/>
                <a:ea typeface="Arial"/>
              </a:rPr>
              <a:t> لتعبئة تمويل إضاف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السهولة في الرصد والتقيي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بالنسبة للبلدان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مزيد من التفاعل</a:t>
            </a:r>
            <a:r>
              <a:rPr b="0" lang="ar-E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الإستراتيجي</a:t>
            </a:r>
            <a:r>
              <a:rPr b="0" lang="ar-SA" sz="1700" spc="-1" strike="noStrike">
                <a:solidFill>
                  <a:srgbClr val="000000"/>
                </a:solidFill>
                <a:latin typeface="Calibri"/>
                <a:ea typeface="Arial"/>
              </a:rPr>
              <a:t> مع الصندوق؛ نحو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Arial"/>
              </a:rPr>
              <a:t> عملية مدفوعة باعتبارات البلد المعن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فرص لتجميع الموارد من مجالات تركيز متنوعة للصندوق البيئة العالمية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فرص لتأمين تمويل وتعبئة جهود</a:t>
            </a:r>
            <a:r>
              <a:rPr b="0" lang="ar-E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الشركاء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بالنسبة للهيئات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تحسين إمكانات التنبؤ ــ خفض تكاليف المعاملات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مزيد من التفاعلات الإستراتيجية</a:t>
            </a:r>
            <a:r>
              <a:rPr b="0" lang="ar-SA" sz="1700" spc="-1" strike="noStrike">
                <a:solidFill>
                  <a:srgbClr val="000000"/>
                </a:solidFill>
                <a:latin typeface="Calibri"/>
                <a:ea typeface="Arial"/>
              </a:rPr>
              <a:t> مع البلدان بناءً على الميزة النسبية للهيئة المعنية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بالنسبة للشركاء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شراكات ــ تمويل إضافي ــ تضافر الجهود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58ed5"/>
                </a:solidFill>
                <a:latin typeface="Calibri"/>
                <a:cs typeface="Arial"/>
              </a:rPr>
              <a:t>التعريف المؤس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تيسير دورة المشروع وتعديل النهج البرامجي،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GEF/C.38/5/Rev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ن المشروعات إلى البرامج: توضيح النهج البرامجي في حافظة الصندوق،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GEF/C.33/6</a:t>
            </a:r>
            <a:r>
              <a:rPr b="0" i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ــ </a:t>
            </a:r>
            <a:r>
              <a:rPr b="0" i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21</a:t>
            </a:r>
            <a:r>
              <a:rPr b="0" i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مارس/آذار </a:t>
            </a:r>
            <a:r>
              <a:rPr b="0" i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58ed5"/>
                </a:solidFill>
                <a:latin typeface="Calibri"/>
                <a:cs typeface="Arial"/>
              </a:rPr>
              <a:t>الهدف العام</a:t>
            </a:r>
            <a:r>
              <a:rPr b="0" lang="en-US" sz="4400" spc="-1" strike="noStrike">
                <a:solidFill>
                  <a:srgbClr val="558ed5"/>
                </a:solidFill>
                <a:latin typeface="Calibri"/>
                <a:ea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4880" algn="r" rtl="1">
              <a:spcBef>
                <a:spcPts val="601"/>
              </a:spcBef>
              <a:spcAft>
                <a:spcPts val="601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إحداث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آثر مستدام وأوسع نطاقاً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على البيئة العالمية من خلال دمج الأهداف البيئية العالمية ضمن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إستراتيجيات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والخطط الوطنية أو الإقليمية باستخدام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شراكات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 algn="r" rtl="1">
              <a:spcBef>
                <a:spcPts val="601"/>
              </a:spcBef>
              <a:spcAft>
                <a:spcPts val="60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صرف مبالغ من موارد صندوق البيئة العالمية على نطاق واسع على نحو يتسم بالفعالية والكفاءة للبلدان والمناطق التي تتمتع بمستوى معزز من المساءلة والرقاب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558ed5"/>
                </a:solidFill>
                <a:latin typeface="Calibri"/>
                <a:cs typeface="Arial"/>
              </a:rPr>
              <a:t>تعديل النهج البرامج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70c0"/>
                </a:solidFill>
                <a:latin typeface="Calibri"/>
                <a:cs typeface="Arial"/>
              </a:rPr>
              <a:t>الخيار </a:t>
            </a:r>
            <a:r>
              <a:rPr b="1" lang="ar-SA" sz="2000" spc="-1" strike="noStrike">
                <a:solidFill>
                  <a:srgbClr val="0070c0"/>
                </a:solidFill>
                <a:latin typeface="Calibri"/>
                <a:ea typeface="Arial"/>
              </a:rPr>
              <a:t>1</a:t>
            </a:r>
            <a:r>
              <a:rPr b="1" lang="ar-SA" sz="2000" spc="-1" strike="noStrike">
                <a:solidFill>
                  <a:srgbClr val="0070c0"/>
                </a:solidFill>
                <a:latin typeface="Calibri"/>
                <a:ea typeface="Arial"/>
              </a:rPr>
              <a:t> ــ النهج البرامجي الحالي مع التعديل:  برنامج متعدد الهيئات مع هيئة تنسيق للبرنام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وافقة المجلس على وثيقة إطار البرنامج (بالإضافة إلى نماذج تحديد المشروعات إن كانت جاهزة):  تجنيب الموار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تم الموافقة على جميع نماذج تحديد المشروعات في موعد غايته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شهور بعد الموافقة على وثيقة إطار البرنام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دورة المشروع المعتادة (نموذج تحديد المشروع ــ منحة إعداد المشروع ــ تصديق رئيس الصندو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دة الزمنية بين الموافقة على نموذج تحديد المشروع وتصديق رئيس الصندوق:  لا تتجاوز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18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شهر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أتعاب: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9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% لكل هيئة مشارك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أتعاب التنسيق: تُحدد حسب كل حالة على حدة (مبلغ استرشادي: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500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ألف دولار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70c0"/>
                </a:solidFill>
                <a:latin typeface="Calibri"/>
                <a:cs typeface="Arial"/>
              </a:rPr>
              <a:t>الخيار </a:t>
            </a:r>
            <a:r>
              <a:rPr b="1" lang="ar-SA" sz="2100" spc="-1" strike="noStrike">
                <a:solidFill>
                  <a:srgbClr val="0070c0"/>
                </a:solidFill>
                <a:latin typeface="Calibri"/>
                <a:ea typeface="Arial"/>
              </a:rPr>
              <a:t>2</a:t>
            </a:r>
            <a:r>
              <a:rPr b="1" lang="ar-SA" sz="2100" spc="-1" strike="noStrike">
                <a:solidFill>
                  <a:srgbClr val="0070c0"/>
                </a:solidFill>
                <a:latin typeface="Calibri"/>
                <a:ea typeface="Arial"/>
              </a:rPr>
              <a:t> ــ نهج جديد: برنامج لهيئة واحدة مع تأهيل الهيئ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alibri"/>
                <a:ea typeface="Arial"/>
              </a:rPr>
              <a:t> موافقة رئيس الصندوق على وثيقة إطار البرنامج (تجنيب الموارد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alibri"/>
                <a:cs typeface="Arial"/>
              </a:rPr>
              <a:t>تتضمن وثيقة إطار البرنامج أفكار المشروع (صفحة واحدة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alibri"/>
                <a:cs typeface="Arial"/>
              </a:rPr>
              <a:t>يتم إلغاء الخطوة الخاصة بنموذج تحديد البرنامج ــ تقوم كل هيئة مؤهلة بإتباع خطوات إعداد المشروع الخاصة ب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alibri"/>
                <a:cs typeface="Arial"/>
              </a:rPr>
              <a:t>تُعرض وثائق المشروع على سكرتارية الصندوق للتصديق/الموافق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alibri"/>
                <a:cs typeface="Arial"/>
              </a:rPr>
              <a:t>المدة الزمنية بين الموافقة على وثيقة إطار البرنامج وتصديق رئيس الصندوق:   </a:t>
            </a:r>
            <a:r>
              <a:rPr b="0" lang="ar-SA" sz="2100" spc="-1" strike="noStrike">
                <a:solidFill>
                  <a:srgbClr val="000000"/>
                </a:solidFill>
                <a:latin typeface="Calibri"/>
                <a:ea typeface="Arial"/>
              </a:rPr>
              <a:t>18</a:t>
            </a:r>
            <a:r>
              <a:rPr b="0" lang="ar-SA" sz="2100" spc="-1" strike="noStrike">
                <a:solidFill>
                  <a:srgbClr val="000000"/>
                </a:solidFill>
                <a:latin typeface="Calibri"/>
                <a:ea typeface="Arial"/>
              </a:rPr>
              <a:t> شهراً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alibri"/>
                <a:cs typeface="Arial"/>
              </a:rPr>
              <a:t>أتعاب الهيئة: </a:t>
            </a:r>
            <a:r>
              <a:rPr b="0" lang="ar-SA" sz="2100" spc="-1" strike="noStrike">
                <a:solidFill>
                  <a:srgbClr val="000000"/>
                </a:solidFill>
                <a:latin typeface="Calibri"/>
                <a:ea typeface="Arial"/>
              </a:rPr>
              <a:t>8</a:t>
            </a:r>
            <a:r>
              <a:rPr b="0" lang="ar-SA" sz="2100" spc="-1" strike="noStrike">
                <a:solidFill>
                  <a:srgbClr val="000000"/>
                </a:solidFill>
                <a:latin typeface="Calibri"/>
                <a:ea typeface="Arial"/>
              </a:rPr>
              <a:t>%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alibri"/>
                <a:cs typeface="Arial"/>
              </a:rPr>
              <a:t>من الممكن أن يوافق رئيس الصندوق على منحة إعداد بعد الموافقة على وثيقة إطار البرنامج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58ed5"/>
                </a:solidFill>
                <a:latin typeface="Calibri"/>
                <a:cs typeface="Arial"/>
              </a:rPr>
              <a:t>الوثائق الرئيس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4880" algn="r" rtl="1">
              <a:spcBef>
                <a:spcPts val="601"/>
              </a:spcBef>
              <a:spcAft>
                <a:spcPts val="601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58ed5"/>
                </a:solidFill>
                <a:latin typeface="Calibri"/>
                <a:cs typeface="Arial"/>
              </a:rPr>
              <a:t>وثيقة إطار البرنامج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، وتتضمن إطار النتائج، وخط الأساس، وقائمة بالمشروعات التي تساهم في تحقيق أهداف ومقاصد البرنامج، وأعمال الرصد، والمؤشرات ذات الصلة (بالإضافة إلى موازنة مالية لأعمال الرصد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 algn="r" rtl="1">
              <a:spcBef>
                <a:spcPts val="601"/>
              </a:spcBef>
              <a:spcAft>
                <a:spcPts val="601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200" spc="-1" strike="noStrike">
                <a:solidFill>
                  <a:srgbClr val="558ed5"/>
                </a:solidFill>
                <a:latin typeface="Calibri"/>
                <a:cs typeface="Arial"/>
              </a:rPr>
              <a:t>تقرير التنفيذ السنوي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للبرنام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6:29:31Z</dcterms:created>
  <dc:creator>mikec</dc:creator>
  <dc:description/>
  <dc:language>en-US</dc:language>
  <cp:lastModifiedBy>Lisa</cp:lastModifiedBy>
  <dcterms:modified xsi:type="dcterms:W3CDTF">2012-04-22T23:58:10Z</dcterms:modified>
  <cp:revision>131</cp:revision>
  <dc:subject/>
  <dc:title>Slide Title Here</dc:title>
</cp:coreProperties>
</file>