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2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 type="sldNum" idx="2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7212-BEE9-4807-A7D6-08671DE14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3C37-49D7-48F7-BFD9-162C0C50F3F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238-E82D-44D7-AF9E-DF425F279E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01BF9CF-4661-467B-AFA6-5D812C13E7D1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Header Placeholder 7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964-FA02-4C35-8865-EF44D9ED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12C-625B-4638-B627-8998F7F1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9EB-5C60-4A4E-90A0-096EFA0D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06F-8C77-4D65-8A3E-D1363036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7277-39E6-4DC4-B66F-D0CE6DAA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4E6A-1651-4E80-A4C8-E9D6E4AA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0B35-1328-4578-A357-12E47932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4C63-E86F-46C7-8CD0-2005E88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DD4D-55CF-485B-BCB8-288C3D0A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D5E7-CF69-419F-B5C0-E2F07E2F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2F94-59D0-4948-AF57-E362C91E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74A-A431-4BDA-9FF9-0E205513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183D-326A-4ADC-BC24-22708967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D45F-FD6A-437E-BC63-CEB2E699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8467-2FB1-4BE6-8500-E41B5D79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1047-3FF1-4CB7-AFDA-E5C9EF76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CD9F-F709-4CA3-AEAC-119240F5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5A76-C718-47D4-B266-5353341A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F30B-27A5-4AFE-9E69-D18C70D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4E85-4758-4611-B251-F7CE6D2F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AE0C-7CD7-496A-802A-5DD674C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13FF-81A1-4A2F-B7D7-925094AB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23A-AA23-45A1-8688-DFD82C35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A5B7-CE8A-4BDA-87F8-1616B58D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1BB9-C887-4513-BDC3-4EF79EE1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AB2B-D789-4BDC-9DD7-76069D7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31DE-D3D0-4730-AF12-530F8FD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48C6E-DBB8-4DE3-9095-DDD91C15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F332-8811-4685-889F-6F485133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E7D4-7110-4E65-ADC4-1D875BDA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95A1-424B-47DC-9CE1-3E36890B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9CDC-7BF4-41AD-B73E-1E4C10A8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1756-F8E5-4304-B815-E304AE44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8DB-3DFA-432C-8673-A07CBE36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5C2E-349B-4C95-984D-2A4B30B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918B-1269-49B4-B2B9-5F492451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E594-B278-442F-B8F5-1923D76A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F135-57EF-403A-AACA-4EB54802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A046-5DE3-4ABF-8F41-36C2C773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576F-9C3E-4AB0-9DD6-7B9CF64D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84F5-BBA6-4994-AB8F-FAD8AA3E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4808F-2B91-490E-8F7B-ED59D972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816E-CCFE-4E62-A902-FEC8E598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0ED03-FB7D-4E87-8621-0E8519DE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EF5-5E63-46D4-90CD-09663FF7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3B919-B7F5-4D73-A31E-BE5036E2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99256-0AF6-4B97-84CE-52651EB7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881B-A653-43FB-B052-0C5E5C5C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FF9E-B6AE-4A4F-BB33-6A011E44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D92D-FC95-4EF8-80C1-FAF33E79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2E2A-E09A-4003-B413-B568AF71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4D02-F706-4D20-AD33-460793D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7828-D3E1-485D-B56D-B51C7C3D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2352A-DA61-4202-B3A6-077E6FCC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47041-B99F-400F-8F2F-BC1E591D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FD8-BE4D-455C-B497-19DA1105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DE67-1EF9-4DAB-A8AE-192D86BE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DB266-A0E3-4425-97B9-1C6DEFDC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55157-7A7E-45CE-A6D7-5609C618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F5246-FEA5-4C99-911E-B253FE6D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3DB0-BF41-44D3-B364-FE2C1C90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4AC33-1558-497A-AF5D-8C256588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E70B3-F72F-431B-B56E-47963F4D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41868-2603-4C29-9228-EFEE7B43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58383-11F4-44E0-A3B6-18106019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D66C0-4AD2-4D4D-B0DF-12AB1173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6AC-1AFE-4CB2-BA85-81DDCC1F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00011-2942-4124-A52C-678E93FD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0397E-76DD-46B8-A4F6-BDA06A56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18117-63A4-420F-8366-5B0EDE51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F3820-684B-4B7E-988C-B04B004C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ED9A4-7243-4B79-B3B3-C0EA9448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4B01D-937D-4E15-A801-B5119C09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10346-2CFC-4515-85AA-138C40F1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DC2FF-C33B-4A14-A151-4CD6B25D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2887-2DFD-4DC3-9EDA-E44DB416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46A18-6007-4BA5-91D7-1FBE46E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725-0496-447C-A14E-8F53393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F5975-D7A6-4138-8ED5-A8390E11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83BB8-BFBE-4340-BAE3-C60E804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5C3A5-0127-4362-8763-C2DEB32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FD533-CFCF-49C5-8294-381B9CAD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EF8B6-A4DF-4CD4-9925-9FC85CE8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D9C74-EEC5-40C9-B7BD-D0D32C02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015C7-AAB3-4E95-A4A3-07334DC9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813DA-0B41-46F8-A257-8746108F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BEFDC-9B33-4DE5-835E-F25EF07B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80E25-2014-4311-AA69-475DBE5D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84E-5DF7-488E-A79D-1D814F6B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271F3-53E7-4763-BB1F-E2E5AAE2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E07AB-4B57-433A-A51D-1791390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656A0-2FC7-4138-ADA3-9D7135DE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71565-F12B-4715-95FD-1FACFDAB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4D9F2-ED34-43F4-9677-BC8A304D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1B6CD-5C13-4F66-840A-560EA7BC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DA8D8-97A0-46D3-9F81-D5550F77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DD3-6548-43BE-AF5B-C3FB877BE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2C5F-78AF-4C95-B279-C095B669A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D346-FDD2-4309-8621-A783E7BFDD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6F89-2169-475C-9E20-8D9E8E339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1540-5118-4B7D-B6DD-9DB8C25E6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CAED-B3B9-4A96-8714-5F9B8B0F0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5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D531-9800-4DF0-9EC0-59646E1F6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7CD9-E72B-4E75-B333-669656686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oki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isow@thegef.org" TargetMode="External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ubtitle 4"/>
          <p:cNvSpPr/>
          <p:nvPr/>
        </p:nvSpPr>
        <p:spPr>
          <a:xfrm>
            <a:off x="1295280" y="441972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2" name="Picture 3" descr="C:\Users\wb368377\AppData\Local\Microsoft\Windows\Temporary Internet Files\Content.IE5\3I5325V1\MC910216337[1].png"/>
            <p:cNvPicPr/>
            <p:nvPr/>
          </p:nvPicPr>
          <p:blipFill>
            <a:blip r:embed="rId1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/>
            <a:ahLst/>
            <a:rect l="l" t="t" r="r" b="b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lnTo>
                  <a:pt x="0" y="29106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666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040" y="12189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560" y="914400"/>
            <a:ext cx="5562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rcRect l="5789" t="9088" r="7412" b="0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3"/>
          <a:srcRect l="8828" t="0" r="0" b="0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838080"/>
            <a:ext cx="826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ounded Rectangle 6"/>
          <p:cNvSpPr/>
          <p:nvPr/>
        </p:nvSpPr>
        <p:spPr>
          <a:xfrm>
            <a:off x="457200" y="1676520"/>
            <a:ext cx="81532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ounded Rectangle 7"/>
          <p:cNvSpPr/>
          <p:nvPr/>
        </p:nvSpPr>
        <p:spPr>
          <a:xfrm>
            <a:off x="471600" y="480060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ounded Rectangle 8"/>
          <p:cNvSpPr/>
          <p:nvPr/>
        </p:nvSpPr>
        <p:spPr>
          <a:xfrm>
            <a:off x="471600" y="374184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ounded Rectangle 9"/>
          <p:cNvSpPr/>
          <p:nvPr/>
        </p:nvSpPr>
        <p:spPr>
          <a:xfrm>
            <a:off x="457200" y="2666880"/>
            <a:ext cx="815328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24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240" y="114300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2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6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2T23:36:47Z</dcterms:modified>
  <cp:revision>798</cp:revision>
  <dc:subject/>
  <dc:title>Slide 1</dc:title>
</cp:coreProperties>
</file>