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dt" idx="2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ftr" idx="2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 type="sldNum" idx="2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4A86-4A45-4823-999B-588FB2FF09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73B1-3DD3-4EFE-A992-C7F01EBCFC0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4C9C-A79B-466E-99D1-207EF9D55D3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9A5E553C-301C-40F0-8C70-D142C376B71A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Header Placeholder 7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2093-B84F-4235-8122-BCB01DDC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5A22-2F06-43D6-894E-10D1D257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5321-B715-4EDB-9DAF-1C21B037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C0AD-C3E0-417F-9C70-F01B62B2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59D7-0FF2-4ECE-BBC8-3BD6E393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FDF7-3D7B-46E0-9141-27B7CFEC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8DA4-7E27-4E99-AE0C-B4590730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869A-4832-4206-ABD4-F46D7050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8C31-17EB-41B0-A8E2-50B93B81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B5A8-297F-4FB4-A6FB-14C0E69A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0A2F-DC07-40C2-8F7F-797D3A69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738-4F3A-44A3-8A7E-C190DE0F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62D1-471C-467B-A135-2AA24C8D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9371-A95C-4AE0-B0DF-7806C5DB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421B-30D5-43D4-8520-ACD60471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3E57-2DE4-46DA-BA77-9EC18682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9EF7-B2AE-4EB0-B9EF-0C1A8A9B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6FE40-3568-472B-BB98-AA65A398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20782-BA65-4C3F-BD59-18E963B5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57BDB-024F-4050-9FEA-6A98AF44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87524-11F4-4D80-9BA7-10F0D5B2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97DE-7FBC-4EB0-8286-E3C0D972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B9F-1B1C-443D-8A67-F3777FA7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F140E-EA6F-4377-90E1-5034F0BE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CB67C-F9DA-4105-9472-72412F51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CAD9A-F44C-4B07-8BAB-F9FBA3E1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43ED2-8A7D-4C64-B9A4-5ACE31CA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1E6C3-2A7C-4CE5-A0AF-FB49AA2D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DDA6C-BC36-475B-B7EE-E4F9F365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22133-31CE-492B-B93B-9A7409CA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C730D-BA11-4E30-98AB-D6BB3479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70215-9EB2-4AB5-B476-FFD72552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CE2DF-D149-4B91-9725-12C14D61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BDD5-567D-4975-996F-C373D97F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2BEDA-4C4E-4671-A4DB-74561E03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8D1EF-F8C8-403C-AAEC-D9176B94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18878-E6D3-497F-9D1C-D5140E85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8FF96-4979-4F5B-9868-5C72DA2D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95ECB-C2C8-4A21-9A65-1C67CDA4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F1CF6-171B-457A-AB40-CF542115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6163F-4995-4208-AE0C-82EEE4C1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7BF35-7360-4DE4-AABC-95A49871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70BAC-9B25-4A3B-B283-B29F9927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B96B0-CD52-4524-91A7-9B87E280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AB2-7DF1-4E54-8DCB-2480427B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6D544-DB85-48DC-814D-E0F0377F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A4CFB-A70D-454E-8B05-EE9A3B14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F6DAD-440D-4447-AC50-026644E3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5CAF3-8C1E-4632-B7F3-A0BA18D7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8FE21-3078-4077-B950-D7833F1E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CFC5F-1C4D-41D5-9AE2-C449C7DC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439B1-9A8F-49EF-AC25-CE27240C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6D312-AFFB-45A0-A4AB-35F8261B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9C71E-2FF4-4679-BE61-48CE649B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3A447-795C-4A98-AA43-FEBA8001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F07-2602-4C22-AD76-67F5CA94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D6668-E35A-4BA4-9989-1680D5A2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6FE05-596B-43A2-998A-D00EF434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EB296-87C2-4009-84B1-53D484A0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A1CA5-D5BE-43F7-91A9-B8E7919F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F8149-90AC-4063-8A28-E0ECC125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19858-16EB-4EBF-9689-3C41CD2B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E08E2-2A61-4D90-B716-F2BA58A6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3AD80-68AF-4DA4-A4A5-2B6B51A5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7E66B-83D0-42E4-B0EA-3AAB92C5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802CC-7E61-4C36-892E-33B67FD4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69C-5FEB-4275-9F3C-C8D680BF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2FE15-AE52-4E18-A5DE-2786C3FC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38153-3E52-4E34-95A6-DB461AC6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68E60-451C-470A-9A57-26854317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DD72E-274E-4425-AFDF-293DA934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1640D-E01C-45CC-914A-CB89D00E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4D22E-3FD3-4F28-8B40-617D43CD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2039E-AD9B-437C-B820-ECF61EF5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CAAE0-F7E9-4342-8C07-54D92949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A8F6D-805E-4E9E-ACC9-EB7B17ED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DD29B-9D7C-4608-AFC9-00953935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A2F-72AC-4F6D-982C-84EB540D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9B393-8C12-45FE-A540-FA04AB7B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FBCF2-A839-445C-BBBA-D4B4EAFC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12BB2-2BF2-430D-BB17-0E98E976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2AA60-EB52-4335-B7CC-3800C237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BC37A-8BC3-474F-8954-B7627A41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A73DF-F134-4CDA-817A-DE2C7286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D8D4E-0DA9-4DA2-BE5E-3E471CEC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CDCE3-CDB2-4DD5-B902-AD0BA30E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170E3-A5A8-4E2D-9B67-4F9C8FAF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6887E-9F0E-42EE-96EC-585AEDA1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C83-693C-456B-9423-1B372DDF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B5A1F-AA74-40D6-A3AE-D9CED138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FBFC3-CE96-4949-BBFD-C9807028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0C118-4147-42E5-BD2D-7134F921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14CFF-962E-4447-9C83-5ACDAD2B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46CC7-4960-4441-B38D-650E3027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D55D8-ADED-482F-A338-AC6D3062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6EDF6-8D17-47C7-A500-F3708016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01E9-A0D3-4D05-8B8B-489C6E3707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58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3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9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8034-0ED2-4D8D-9C26-16C44711E8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7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7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9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4128-80DF-4550-B0C8-653C2EA24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FDB7-E201-4BF1-BB34-314B3497A3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462A-E997-4062-BD3C-E9E0DD935C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213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74FB-0B75-469B-9491-C4001B0FD4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257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F51F-EFF7-4AF8-9EE1-CA38B9277E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9AAD-E57A-4142-B042-240EBE6CE8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caoki@thegef.org" TargetMode="External"/><Relationship Id="rId2" Type="http://schemas.openxmlformats.org/officeDocument/2006/relationships/hyperlink" Target="mailto:bbiagini@thegef.org" TargetMode="External"/><Relationship Id="rId3" Type="http://schemas.openxmlformats.org/officeDocument/2006/relationships/hyperlink" Target="mailto:isow@thegef.org" TargetMode="External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GEF and Technology Transfer: </a:t>
            </a:r>
            <a:br>
              <a:rPr sz="4100"/>
            </a:b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An Overview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ubtitle 4"/>
          <p:cNvSpPr/>
          <p:nvPr/>
        </p:nvSpPr>
        <p:spPr>
          <a:xfrm>
            <a:off x="1295280" y="441972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44"/>
          <p:cNvGrpSpPr/>
          <p:nvPr/>
        </p:nvGrpSpPr>
        <p:grpSpPr>
          <a:xfrm>
            <a:off x="1752480" y="1219320"/>
            <a:ext cx="6267600" cy="3809880"/>
            <a:chOff x="1752480" y="1219320"/>
            <a:chExt cx="6267600" cy="3809880"/>
          </a:xfrm>
        </p:grpSpPr>
        <p:pic>
          <p:nvPicPr>
            <p:cNvPr id="382" name="Picture 3" descr="C:\Users\wb368377\AppData\Local\Microsoft\Windows\Temporary Internet Files\Content.IE5\3I5325V1\MC910216337[1].png"/>
            <p:cNvPicPr/>
            <p:nvPr/>
          </p:nvPicPr>
          <p:blipFill>
            <a:blip r:embed="rId1"/>
            <a:stretch/>
          </p:blipFill>
          <p:spPr>
            <a:xfrm>
              <a:off x="1752480" y="1219320"/>
              <a:ext cx="6267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Oval 6"/>
            <p:cNvSpPr/>
            <p:nvPr/>
          </p:nvSpPr>
          <p:spPr>
            <a:xfrm>
              <a:off x="3173040" y="3564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Oval 7"/>
            <p:cNvSpPr/>
            <p:nvPr/>
          </p:nvSpPr>
          <p:spPr>
            <a:xfrm>
              <a:off x="2773080" y="39333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Oval 9"/>
            <p:cNvSpPr/>
            <p:nvPr/>
          </p:nvSpPr>
          <p:spPr>
            <a:xfrm>
              <a:off x="2970000" y="29044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Oval 10"/>
            <p:cNvSpPr/>
            <p:nvPr/>
          </p:nvSpPr>
          <p:spPr>
            <a:xfrm>
              <a:off x="249660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Oval 11"/>
            <p:cNvSpPr/>
            <p:nvPr/>
          </p:nvSpPr>
          <p:spPr>
            <a:xfrm>
              <a:off x="1752480" y="3857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Oval 14"/>
            <p:cNvSpPr/>
            <p:nvPr/>
          </p:nvSpPr>
          <p:spPr>
            <a:xfrm>
              <a:off x="40968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val 15"/>
            <p:cNvSpPr/>
            <p:nvPr/>
          </p:nvSpPr>
          <p:spPr>
            <a:xfrm>
              <a:off x="3967200" y="31528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16"/>
            <p:cNvSpPr/>
            <p:nvPr/>
          </p:nvSpPr>
          <p:spPr>
            <a:xfrm>
              <a:off x="4932000" y="2831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7"/>
            <p:cNvSpPr/>
            <p:nvPr/>
          </p:nvSpPr>
          <p:spPr>
            <a:xfrm>
              <a:off x="479664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18"/>
            <p:cNvSpPr/>
            <p:nvPr/>
          </p:nvSpPr>
          <p:spPr>
            <a:xfrm>
              <a:off x="5879160" y="19519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19"/>
            <p:cNvSpPr/>
            <p:nvPr/>
          </p:nvSpPr>
          <p:spPr>
            <a:xfrm>
              <a:off x="6555600" y="2538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Oval 20"/>
            <p:cNvSpPr/>
            <p:nvPr/>
          </p:nvSpPr>
          <p:spPr>
            <a:xfrm>
              <a:off x="5820480" y="31658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Oval 21"/>
            <p:cNvSpPr/>
            <p:nvPr/>
          </p:nvSpPr>
          <p:spPr>
            <a:xfrm>
              <a:off x="60822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Oval 22"/>
            <p:cNvSpPr/>
            <p:nvPr/>
          </p:nvSpPr>
          <p:spPr>
            <a:xfrm>
              <a:off x="6014520" y="3344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5-Point Star 26"/>
            <p:cNvSpPr/>
            <p:nvPr/>
          </p:nvSpPr>
          <p:spPr>
            <a:xfrm>
              <a:off x="2902320" y="40035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5-Point Star 27"/>
            <p:cNvSpPr/>
            <p:nvPr/>
          </p:nvSpPr>
          <p:spPr>
            <a:xfrm>
              <a:off x="2808360" y="348120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5-Point Star 28"/>
            <p:cNvSpPr/>
            <p:nvPr/>
          </p:nvSpPr>
          <p:spPr>
            <a:xfrm>
              <a:off x="2699280" y="290448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5-Point Star 29"/>
            <p:cNvSpPr/>
            <p:nvPr/>
          </p:nvSpPr>
          <p:spPr>
            <a:xfrm>
              <a:off x="2766960" y="305100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5-Point Star 31"/>
            <p:cNvSpPr/>
            <p:nvPr/>
          </p:nvSpPr>
          <p:spPr>
            <a:xfrm>
              <a:off x="4796640" y="34905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5-Point Star 32"/>
            <p:cNvSpPr/>
            <p:nvPr/>
          </p:nvSpPr>
          <p:spPr>
            <a:xfrm>
              <a:off x="4120200" y="27579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5-Point Star 33"/>
            <p:cNvSpPr/>
            <p:nvPr/>
          </p:nvSpPr>
          <p:spPr>
            <a:xfrm>
              <a:off x="4120200" y="312408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5-Point Star 34"/>
            <p:cNvSpPr/>
            <p:nvPr/>
          </p:nvSpPr>
          <p:spPr>
            <a:xfrm>
              <a:off x="3917160" y="312408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5-Point Star 35"/>
            <p:cNvSpPr/>
            <p:nvPr/>
          </p:nvSpPr>
          <p:spPr>
            <a:xfrm>
              <a:off x="4052520" y="32709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5-Point Star 36"/>
            <p:cNvSpPr/>
            <p:nvPr/>
          </p:nvSpPr>
          <p:spPr>
            <a:xfrm>
              <a:off x="4999680" y="261144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5-Point Star 37"/>
            <p:cNvSpPr/>
            <p:nvPr/>
          </p:nvSpPr>
          <p:spPr>
            <a:xfrm>
              <a:off x="6082200" y="385704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5-Point Star 38"/>
            <p:cNvSpPr/>
            <p:nvPr/>
          </p:nvSpPr>
          <p:spPr>
            <a:xfrm>
              <a:off x="5946840" y="32709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5-Point Star 39"/>
            <p:cNvSpPr/>
            <p:nvPr/>
          </p:nvSpPr>
          <p:spPr>
            <a:xfrm>
              <a:off x="6149880" y="319752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5-Point Star 40"/>
            <p:cNvSpPr/>
            <p:nvPr/>
          </p:nvSpPr>
          <p:spPr>
            <a:xfrm>
              <a:off x="6082200" y="319752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5-Point Star 42"/>
            <p:cNvSpPr/>
            <p:nvPr/>
          </p:nvSpPr>
          <p:spPr>
            <a:xfrm>
              <a:off x="6014520" y="29775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Poznan Program country cove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5-Point Star 46"/>
          <p:cNvSpPr/>
          <p:nvPr/>
        </p:nvSpPr>
        <p:spPr>
          <a:xfrm>
            <a:off x="3809880" y="5791320"/>
            <a:ext cx="76320" cy="75960"/>
          </a:xfrm>
          <a:custGeom>
            <a:avLst/>
            <a:gdLst/>
            <a:ahLst/>
            <a:rect l="l" t="t" r="r" b="b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lnTo>
                  <a:pt x="0" y="29106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Oval 47"/>
          <p:cNvSpPr/>
          <p:nvPr/>
        </p:nvSpPr>
        <p:spPr>
          <a:xfrm>
            <a:off x="3809880" y="556272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48"/>
          <p:cNvSpPr/>
          <p:nvPr/>
        </p:nvSpPr>
        <p:spPr>
          <a:xfrm>
            <a:off x="3962520" y="54864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lot Proje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NA Project – First Round Countries (1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49"/>
          <p:cNvSpPr/>
          <p:nvPr/>
        </p:nvSpPr>
        <p:spPr>
          <a:xfrm>
            <a:off x="0" y="658800"/>
            <a:ext cx="1752480" cy="11595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key &amp; Cook Islands: Hydrogen energy installations for small islands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51"/>
          <p:cNvSpPr/>
          <p:nvPr/>
        </p:nvSpPr>
        <p:spPr>
          <a:xfrm>
            <a:off x="0" y="251460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xico: Local wind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52"/>
          <p:cNvSpPr/>
          <p:nvPr/>
        </p:nvSpPr>
        <p:spPr>
          <a:xfrm>
            <a:off x="0" y="3124080"/>
            <a:ext cx="16765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le: Local solar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3"/>
          <p:cNvSpPr/>
          <p:nvPr/>
        </p:nvSpPr>
        <p:spPr>
          <a:xfrm>
            <a:off x="0" y="4572000"/>
            <a:ext cx="1752480" cy="9756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azil: Renewabl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capture &amp; storage from sugar industry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54"/>
          <p:cNvSpPr/>
          <p:nvPr/>
        </p:nvSpPr>
        <p:spPr>
          <a:xfrm>
            <a:off x="0" y="3733920"/>
            <a:ext cx="175248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te d’Ivoire: Solid waste composting (Af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55"/>
          <p:cNvSpPr/>
          <p:nvPr/>
        </p:nvSpPr>
        <p:spPr>
          <a:xfrm>
            <a:off x="7086600" y="506556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egal: Typha-based thermal insulation produc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56"/>
          <p:cNvSpPr/>
          <p:nvPr/>
        </p:nvSpPr>
        <p:spPr>
          <a:xfrm>
            <a:off x="7086600" y="5698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ssian Federation: HCFC phase-out, HFC-free, energy efficient AC &amp; Refrigera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57"/>
          <p:cNvSpPr/>
          <p:nvPr/>
        </p:nvSpPr>
        <p:spPr>
          <a:xfrm>
            <a:off x="7086600" y="21430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iland: South-South technology transfer: ethanol from cassava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58"/>
          <p:cNvSpPr/>
          <p:nvPr/>
        </p:nvSpPr>
        <p:spPr>
          <a:xfrm>
            <a:off x="7086600" y="314784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mbodia: Agricultural residue biomass to energy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59"/>
          <p:cNvSpPr/>
          <p:nvPr/>
        </p:nvSpPr>
        <p:spPr>
          <a:xfrm>
            <a:off x="7086600" y="394164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ri Lanka: Bamboo processing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60"/>
          <p:cNvSpPr/>
          <p:nvPr/>
        </p:nvSpPr>
        <p:spPr>
          <a:xfrm>
            <a:off x="7086600" y="449568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rdan: Irrigation technology (IF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61"/>
          <p:cNvSpPr/>
          <p:nvPr/>
        </p:nvSpPr>
        <p:spPr>
          <a:xfrm>
            <a:off x="7086600" y="156996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na: Green truck demonstration (W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62"/>
          <p:cNvSpPr/>
          <p:nvPr/>
        </p:nvSpPr>
        <p:spPr>
          <a:xfrm>
            <a:off x="0" y="190512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amaica: Small scale wave power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64"/>
          <p:cNvSpPr/>
          <p:nvPr/>
        </p:nvSpPr>
        <p:spPr>
          <a:xfrm>
            <a:off x="1752480" y="1244520"/>
            <a:ext cx="3078360" cy="1440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66"/>
          <p:cNvSpPr/>
          <p:nvPr/>
        </p:nvSpPr>
        <p:spPr>
          <a:xfrm>
            <a:off x="1752480" y="2166840"/>
            <a:ext cx="1285920" cy="7747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69"/>
          <p:cNvSpPr/>
          <p:nvPr/>
        </p:nvSpPr>
        <p:spPr>
          <a:xfrm flipV="1">
            <a:off x="1752480" y="2720880"/>
            <a:ext cx="744480" cy="604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traight Connector 78"/>
          <p:cNvSpPr/>
          <p:nvPr/>
        </p:nvSpPr>
        <p:spPr>
          <a:xfrm>
            <a:off x="1676520" y="3390840"/>
            <a:ext cx="1106280" cy="604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81"/>
          <p:cNvSpPr/>
          <p:nvPr/>
        </p:nvSpPr>
        <p:spPr>
          <a:xfrm flipV="1">
            <a:off x="1752480" y="3333600"/>
            <a:ext cx="2401920" cy="7812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84"/>
          <p:cNvSpPr/>
          <p:nvPr/>
        </p:nvSpPr>
        <p:spPr>
          <a:xfrm flipV="1">
            <a:off x="1752480" y="3625560"/>
            <a:ext cx="1478160" cy="1423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traight Connector 87"/>
          <p:cNvSpPr/>
          <p:nvPr/>
        </p:nvSpPr>
        <p:spPr>
          <a:xfrm flipH="1">
            <a:off x="5913000" y="1045440"/>
            <a:ext cx="1173240" cy="9795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traight Connector 90"/>
          <p:cNvSpPr/>
          <p:nvPr/>
        </p:nvSpPr>
        <p:spPr>
          <a:xfrm flipH="1">
            <a:off x="6622920" y="1832040"/>
            <a:ext cx="463680" cy="7430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traight Connector 93"/>
          <p:cNvSpPr/>
          <p:nvPr/>
        </p:nvSpPr>
        <p:spPr>
          <a:xfrm flipH="1">
            <a:off x="6072120" y="2620080"/>
            <a:ext cx="1014480" cy="785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traight Connector 96"/>
          <p:cNvSpPr/>
          <p:nvPr/>
        </p:nvSpPr>
        <p:spPr>
          <a:xfrm flipH="1" flipV="1">
            <a:off x="6116760" y="3342960"/>
            <a:ext cx="969840" cy="173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traight Connector 99"/>
          <p:cNvSpPr/>
          <p:nvPr/>
        </p:nvSpPr>
        <p:spPr>
          <a:xfrm flipH="1" flipV="1">
            <a:off x="5830920" y="3227400"/>
            <a:ext cx="1255680" cy="9763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traight Connector 102"/>
          <p:cNvSpPr/>
          <p:nvPr/>
        </p:nvSpPr>
        <p:spPr>
          <a:xfrm flipH="1" flipV="1">
            <a:off x="4941720" y="2841120"/>
            <a:ext cx="2144880" cy="19162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traight Connector 105"/>
          <p:cNvSpPr/>
          <p:nvPr/>
        </p:nvSpPr>
        <p:spPr>
          <a:xfrm flipH="1" flipV="1">
            <a:off x="4025880" y="3214800"/>
            <a:ext cx="3060720" cy="2232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traight Connector 110"/>
          <p:cNvSpPr/>
          <p:nvPr/>
        </p:nvSpPr>
        <p:spPr>
          <a:xfrm>
            <a:off x="1752480" y="1244520"/>
            <a:ext cx="57240" cy="2675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21"/>
          <p:cNvSpPr/>
          <p:nvPr/>
        </p:nvSpPr>
        <p:spPr>
          <a:xfrm>
            <a:off x="5029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22"/>
          <p:cNvSpPr/>
          <p:nvPr/>
        </p:nvSpPr>
        <p:spPr>
          <a:xfrm>
            <a:off x="1828800" y="2819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24"/>
          <p:cNvSpPr/>
          <p:nvPr/>
        </p:nvSpPr>
        <p:spPr>
          <a:xfrm>
            <a:off x="2895480" y="4264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25"/>
          <p:cNvSpPr/>
          <p:nvPr/>
        </p:nvSpPr>
        <p:spPr>
          <a:xfrm>
            <a:off x="3505320" y="2738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oro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26"/>
          <p:cNvSpPr/>
          <p:nvPr/>
        </p:nvSpPr>
        <p:spPr>
          <a:xfrm>
            <a:off x="3581280" y="304812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te d’Ivo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27"/>
          <p:cNvSpPr/>
          <p:nvPr/>
        </p:nvSpPr>
        <p:spPr>
          <a:xfrm>
            <a:off x="4572000" y="326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128"/>
          <p:cNvSpPr/>
          <p:nvPr/>
        </p:nvSpPr>
        <p:spPr>
          <a:xfrm>
            <a:off x="56386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129"/>
          <p:cNvSpPr/>
          <p:nvPr/>
        </p:nvSpPr>
        <p:spPr>
          <a:xfrm>
            <a:off x="5867280" y="38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Indone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130"/>
          <p:cNvSpPr/>
          <p:nvPr/>
        </p:nvSpPr>
        <p:spPr>
          <a:xfrm>
            <a:off x="5211720" y="3097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ri Lan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hai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77"/>
          <p:cNvSpPr/>
          <p:nvPr/>
        </p:nvSpPr>
        <p:spPr>
          <a:xfrm>
            <a:off x="1828800" y="3581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ok I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79"/>
          <p:cNvSpPr/>
          <p:nvPr/>
        </p:nvSpPr>
        <p:spPr>
          <a:xfrm>
            <a:off x="2362320" y="24908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ama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80"/>
          <p:cNvSpPr/>
          <p:nvPr/>
        </p:nvSpPr>
        <p:spPr>
          <a:xfrm>
            <a:off x="51814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Russian Fed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82"/>
          <p:cNvSpPr/>
          <p:nvPr/>
        </p:nvSpPr>
        <p:spPr>
          <a:xfrm>
            <a:off x="61722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83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85"/>
          <p:cNvSpPr/>
          <p:nvPr/>
        </p:nvSpPr>
        <p:spPr>
          <a:xfrm>
            <a:off x="243828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88"/>
          <p:cNvSpPr/>
          <p:nvPr/>
        </p:nvSpPr>
        <p:spPr>
          <a:xfrm>
            <a:off x="457200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or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89"/>
          <p:cNvSpPr/>
          <p:nvPr/>
        </p:nvSpPr>
        <p:spPr>
          <a:xfrm>
            <a:off x="441972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94"/>
          <p:cNvSpPr/>
          <p:nvPr/>
        </p:nvSpPr>
        <p:spPr>
          <a:xfrm>
            <a:off x="6172200" y="3119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ambo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Viet 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Long-Term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Climate Technology Centres and a Climate Technology Network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t global, regional, national lev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y involve technical assistance, training, information sharing, knowledge management, reflecting UNFCCC discu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Conduct Pilot Technology Projects to Foster Innovation and Investm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demonstrate innovative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upport deployment and diffusion to catalyze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Develop a Public-Private Partnership for Technology Transf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facilitate private sector engagement to support innovative financial instruments or business models for technology deploy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Technology Needs Assessments (TNAs): 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target low- &amp; medium-income countries to conduct and/or update T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GEF as a Catalytic Supporting Institution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Key Features of Long-Term Progr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1430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1080" indent="-3427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is consistent with and support the Technology Mechanism agreed in Cancun at COP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was approved by the 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5 elements may be funded 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TAR (elements 1, 2,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obal and Regional Set-Aside (elements 1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PP fund (element 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dditional voluntary contributions (element 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3" descr=""/>
          <p:cNvPicPr/>
          <p:nvPr/>
        </p:nvPicPr>
        <p:blipFill>
          <a:blip r:embed="rId1"/>
          <a:stretch/>
        </p:blipFill>
        <p:spPr>
          <a:xfrm>
            <a:off x="6689880" y="1676520"/>
            <a:ext cx="2149200" cy="281916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5"/>
          <p:cNvSpPr/>
          <p:nvPr/>
        </p:nvSpPr>
        <p:spPr>
          <a:xfrm>
            <a:off x="6019920" y="48006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EST Transfer (GEF 2010) downloadable from: http://www.thegef.org/gef/pubs/tech-transfer-case-studies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3.  How do I know my country’s needs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for technology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666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alibri"/>
                <a:ea typeface="Arial"/>
              </a:rPr>
              <a:t>Key entry points for climate chang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s your country carried out a TNA recent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Communications (NC) and National Adaptation Programs of Action (NAPAs) identify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policies and strategies identify specific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es your Common Country Assessment-UN Development Assistance Framework (CCA-UNDAF) identify any technology needs?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y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your starting point could be to review the document to prioritize action for project develop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n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especially for the TNA), your starting point could be to assess the merit of conducting a TNA, or addressing technology needs more explicitly in your next N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7238880" y="3778200"/>
            <a:ext cx="1657440" cy="2147760"/>
          </a:xfrm>
          <a:prstGeom prst="rect">
            <a:avLst/>
          </a:prstGeom>
          <a:ln w="0">
            <a:noFill/>
          </a:ln>
        </p:spPr>
      </p:pic>
      <p:sp>
        <p:nvSpPr>
          <p:cNvPr id="470" name="TextBox 22"/>
          <p:cNvSpPr/>
          <p:nvPr/>
        </p:nvSpPr>
        <p:spPr>
          <a:xfrm>
            <a:off x="7772400" y="5943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DP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7086600" y="914400"/>
            <a:ext cx="1743120" cy="22892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7"/>
          <p:cNvSpPr/>
          <p:nvPr/>
        </p:nvSpPr>
        <p:spPr>
          <a:xfrm>
            <a:off x="6693840" y="3276720"/>
            <a:ext cx="24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09) downloadable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hegef.org/gef/node/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4.  Where to go from here for climate cha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69520" y="1228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Larg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propose a single country TNA utilizing STAR allocatio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mall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apply to be included multi-country TNA project from Global and Regional Set-aside, subject to competitive selection (contact GE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echnology transfer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tig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in one of the six objective areas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apt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to SCCF/LD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establish and/or take part in climate technology centre &amp; network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tional level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bmit a proposal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lobal and regional lev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contact the GEF about your interest, as regional pilot may be starting in 2011 in line with Cancun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837720" y="457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8000"/>
                </a:solidFill>
                <a:latin typeface="Calibri"/>
              </a:rPr>
              <a:t>Thank you very much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further information, please contac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ch Transfer and Mitigation: Chizuru Ao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nior Technology Transfer Offic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ok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mate Change Adaptation, SCCF/LDCF:  Bonizella Biagi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ead, Climate Change Adaptation Strategy and Oper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bbiagin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:  Ibrahima So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 Cluster Coordina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isow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F Tech Transfer Website (under development)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</a:rPr>
              <a:t>http://www.thegef.org/gef/T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Overview of this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040" y="12189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What is the GEF doing to facilitate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How do I know my country’s needs for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Where do I go from h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10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22096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560" y="914400"/>
            <a:ext cx="5562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Technology: at the core of global environmental challe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source of environmental degradation and emi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means to address negative impacts, reduce emissions, manage natural resources, and monitor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foundation for economic development, value creation, and em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Developing, demonstrating, deploying and diffusing environmentally sound technologies (ESTs) are activities in the critical path toward an effective responsible to global environmental challenges (Agenda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rcRect l="5789" t="9088" r="7412" b="0"/>
          <a:stretch/>
        </p:blipFill>
        <p:spPr>
          <a:xfrm>
            <a:off x="6248520" y="838080"/>
            <a:ext cx="2361960" cy="1576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361960" cy="177480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6"/>
          <p:cNvSpPr/>
          <p:nvPr/>
        </p:nvSpPr>
        <p:spPr>
          <a:xfrm>
            <a:off x="7626960" y="59436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IDO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7702200" y="4191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3"/>
          <a:srcRect l="8828" t="0" r="0" b="0"/>
          <a:stretch/>
        </p:blipFill>
        <p:spPr>
          <a:xfrm>
            <a:off x="6248520" y="4433760"/>
            <a:ext cx="2361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838080"/>
            <a:ext cx="826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Various Multilateral Environmental Agreements (MEAs) include provisions related to technology and facilitating access and transf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ounded Rectangle 6"/>
          <p:cNvSpPr/>
          <p:nvPr/>
        </p:nvSpPr>
        <p:spPr>
          <a:xfrm>
            <a:off x="457200" y="1676520"/>
            <a:ext cx="81532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UN Framework Convention for Climate Change (UNFCCC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greed on the Technology Mechanism in December 2010 to support action on technology development and transfer for mitigation and adap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ounded Rectangle 7"/>
          <p:cNvSpPr/>
          <p:nvPr/>
        </p:nvSpPr>
        <p:spPr>
          <a:xfrm>
            <a:off x="471600" y="480060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Convention on Biological Diversity (CBD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gnizes that access to and transfer of technologies among Parties is essential to achieving CBD objectiv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ounded Rectangle 8"/>
          <p:cNvSpPr/>
          <p:nvPr/>
        </p:nvSpPr>
        <p:spPr>
          <a:xfrm>
            <a:off x="471600" y="3741840"/>
            <a:ext cx="8153280" cy="94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Montreal Protocol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opted decision on environmentally sound destruction of ozone depleting substances (ODS) banks.  The Multilateral Fund is requested to continue its efforts on further cost-effective projects for the destruction of ODS banks, using appropriate technolog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ounded Rectangle 9"/>
          <p:cNvSpPr/>
          <p:nvPr/>
        </p:nvSpPr>
        <p:spPr>
          <a:xfrm>
            <a:off x="457200" y="2666880"/>
            <a:ext cx="8153280" cy="99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tockholm Convention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alls for promoting use of Best Available Techniques and Best Environmental Practices (BAT/BEP) to reduce persistent organic pollutant (POPs) releases from unintentional production (waste incinerators, aluminum production, open waste burning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24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18400" indent="-2584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Many definitions and interpretations of technology transfer ex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For climate change, GEF has adopted the technology transfer definition by International Panel on Climate Change (IPCC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a broad set of processes covering the flows of know-how, experience and equipment for mitigating and adapting to climate change amongst different stakeholders…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It goes beyond hardware, and encompasses capacity, know-how, policies and institution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 to facilitate tech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066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has financed demonstration, deployment, and diffusion of ESTs and enabling activit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focal area addresses technology transfer within its GEF-5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gramming depends on convention guidance and national prior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ticulation of a GEF-wide technology strategy under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Technology transfer is a priority for GEF climate change focal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ference of the Parties (COP) of UNFCCC has given a mandate on technology transfer to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the only multilateral institution that has financed technology transfer under COP gu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largest public sector financing mechanism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climate change and tech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240" y="1143000"/>
            <a:ext cx="6629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GEF has invested approx. $3 billion in climate change, leveraging more than $15 bill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GEF-5 funding (2010-14) for mitigation is approx. $1.4 bill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Special Climate Change Fund/Least Developed Countries Fund (CCF/LDCF) funding for adaptation and LDC support is approx. $530 million cumul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9" descr=""/>
          <p:cNvPicPr/>
          <p:nvPr/>
        </p:nvPicPr>
        <p:blipFill>
          <a:blip r:embed="rId1"/>
          <a:srcRect l="0" t="0" r="0" b="15786"/>
          <a:stretch/>
        </p:blipFill>
        <p:spPr>
          <a:xfrm>
            <a:off x="7143840" y="15238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"/>
          <p:cNvPicPr/>
          <p:nvPr/>
        </p:nvPicPr>
        <p:blipFill>
          <a:blip r:embed="rId2"/>
          <a:stretch/>
        </p:blipFill>
        <p:spPr>
          <a:xfrm>
            <a:off x="7148520" y="39625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2.  What is GEF doing: GEF-5 Mitigation Strategy &amp; Tech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686800" cy="4701960"/>
          </a:xfrm>
          <a:prstGeom prst="rect">
            <a:avLst/>
          </a:prstGeom>
          <a:ln w="0">
            <a:noFill/>
          </a:ln>
        </p:spPr>
      </p:pic>
      <p:sp>
        <p:nvSpPr>
          <p:cNvPr id="376" name="テキスト ボックス 3"/>
          <p:cNvSpPr/>
          <p:nvPr/>
        </p:nvSpPr>
        <p:spPr>
          <a:xfrm>
            <a:off x="228600" y="91440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6 GEF-5 Climate Change Mitigation Strategy objectives address different aspects of technology transfer, from R&amp;D to diffusion of technologies + 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ectors: energy efficiency, renewable energy, transport, urban systems, LULUC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Poznan Strategic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61760" y="11430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Funding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35 million from GEF Trust Fund in GEF-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15 million from SCC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echnology Transfer Pilot Proj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4 projects were selected for support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ir implementation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N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roject was approved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5 first round countries were selected in 2010,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ond round country selection is being finaliz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untry-level assessment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Long-Term Program on Technology Transf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lan with 5 elements submitted to UNFCCC CO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see slides 11 and 1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6272280" y="1600200"/>
            <a:ext cx="2643120" cy="3479760"/>
          </a:xfrm>
          <a:prstGeom prst="rect">
            <a:avLst/>
          </a:prstGeom>
          <a:ln w="0">
            <a:noFill/>
          </a:ln>
        </p:spPr>
      </p:pic>
      <p:sp>
        <p:nvSpPr>
          <p:cNvPr id="380" name="TextBox 6"/>
          <p:cNvSpPr/>
          <p:nvPr/>
        </p:nvSpPr>
        <p:spPr>
          <a:xfrm>
            <a:off x="6248520" y="518148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Poznan Program (GEF 2010) downloadable from: http://www.thegef.org/gef/node/38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Lisa</cp:lastModifiedBy>
  <dcterms:modified xsi:type="dcterms:W3CDTF">2012-04-22T23:36:47Z</dcterms:modified>
  <cp:revision>798</cp:revision>
  <dc:subject/>
  <dc:title>Slide 1</dc:title>
</cp:coreProperties>
</file>