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dt" idx="2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ftr" idx="2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 type="sldNum" idx="2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B71D-CF56-4311-9ED1-53B46EB569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427C-2B7E-432D-8EBE-F4306193951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F74F-612A-4412-8755-4143F27F97A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4192338B-4055-4D10-BFFC-88B73C66B9AC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Header Placeholder 7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D4C-C993-4CDE-BB52-8D7E1857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781-DFCA-4D26-9738-CC670FDA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751-E336-486F-AAC5-005F51BD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2C3-8999-4D93-94F4-3ACE7C66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C746-ED5F-4F9C-94C7-4668C4E5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F5BD-9888-4BA7-B0FB-ACF2F450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7E25-FAF8-4421-8B5A-64E4B727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455E-F151-49CD-8844-84290636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DA41-C5CD-407F-801D-35F1AA7E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305E-34CB-433F-83F7-856B8AA0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BDFE-DE12-4651-B7EE-3379BA63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8C1-70F1-4B0E-9FEF-429B4EFB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9963-A9FB-4E41-85B0-6203274F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CF99-239F-442A-8DD8-CC553F91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AA70-E77D-4C4E-8EA6-78E691C5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9DF8-992D-4198-9F14-F7A4AFBD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7B78-451C-4B04-A392-6E96E377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8A4FC-7F12-4C89-83F4-67F3570D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1C284-5B40-4916-8673-F7CBDE2B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4189F-C206-4386-9B36-56037122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05552-7539-41A4-971B-B4A10466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7295B-D743-4141-8AF9-D6555390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A6B-BF16-4010-AFA2-1D36734E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18DDE-88F3-4C51-B90B-B6EF1049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3335B-1472-430B-8ED3-C11F01DB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6CAA1-B586-497B-AB25-E4D65152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DC724-AC85-4661-B1AC-AB33875C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762EF-A2B9-4EEF-8325-62672236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8FB5B-DFB1-44BB-9010-06075AE2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7B06B-3262-4526-B2EF-9F4633D2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4BB05-C0FB-49FB-990D-CE262F4E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FE516-8FDC-4C4A-A03D-F8A17566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39711-35BA-4D5C-82F6-2C32CDB5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1B6-27A8-45B0-A8E1-BFC938A9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DA572-944C-4D86-A655-821E2133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58DD3-DD92-4B9E-AB2F-DD1845E6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ADD99-21F5-41B1-B89C-F275FD33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5856C-1D94-4194-952F-4FE4D1DA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034A5-0C6F-43BA-B3C8-3D3D417B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5592B-3ECE-4562-A855-F3259A43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B034C-F7F4-41E0-A725-B4CFFCA7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14877-ADDE-4F2A-9F21-C62A5FEE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1138C-799A-4744-92C7-D5224DD5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A58D5-13A8-417F-9645-DA900D61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0CD-77F4-41CD-9B84-57FBAF41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3BCF9-2AAC-4264-89D2-5285722D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09D9B-CE7F-485A-9745-A3D1FCE3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BD44E-271D-435F-AF33-9ED4A094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B0A33-2E37-4667-ADF9-E5A1B907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12879-E8FB-4737-8E21-31247CF8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CFA8A-0A7C-49FE-B2E9-A81E0178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2A112-A4C0-4038-BFFB-3C458692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17B36-C35B-4C68-978C-6678B0B8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AE232-8CC2-42DD-BDD9-1D081886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48A2E-40A9-4A6C-93BF-12314B4B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AFF9-D8AC-40F9-B964-57414E3D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18D57-57F5-4D59-82D4-21AAEFB2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00219-BAAE-480E-A73D-1D5DBF26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D2FC2-0A96-4A55-BD5E-88630212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23D9E-226B-4DB7-B258-2862B6F0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1E1A9-7DC6-42B6-8BE2-DCE38897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12E09-E171-42BF-9951-E4F14DF5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583D7-58BE-4057-B001-DFBCB643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90D59-B919-4BDD-BA0C-DAF44488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08808-3F5D-4210-B760-288AC66C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70402-1FA5-4057-9227-67E0403C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9B8B-8E94-419E-8ECA-63298032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B8D8A-F154-4B92-BAE2-3B030636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6F7E8-10CB-4987-BDBC-2C7A4CF9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7BE6D-54C4-4D7D-AE8E-4783AA22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C1019-0641-4663-A8A7-6C6851E2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5CB44-8E98-4DAD-93E8-B8F740DE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823BB-7B24-4B6F-8AC0-12DDC198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957E7-412C-4815-A39C-159CC686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FD08D-AAD3-479C-97F3-6EFB8D8F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C30DE-6625-4A79-8CE4-911A85E1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F6B0A-483D-4519-8D70-CCA3EDC2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611-C9FB-478F-8198-14803EE2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D43C4-4D33-49A4-BE84-5251095E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1B56E-541E-4F2E-A827-4C9FEE9E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BCBEB-DAC7-46A0-8F72-4ADB9390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68777-DD1E-4555-BED4-0EDE6001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DF7C9-EB8A-4A87-B65B-BFA87942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F3474-78F6-4274-A9A6-FA1888B6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8EC9F-E825-4411-943E-0ADCF21B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D1DC0-BF69-4ABF-AA21-34645911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FFB86-F175-49BC-A533-7309268A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39C91-EC9B-4B94-9C4F-09BA2ACC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EE7-07FC-46FA-99B5-1E7866F0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DBAA8-55A9-42C6-85FA-ACBBF6BE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64BBF-3D16-445F-9F36-AD2ECACA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3A271-7D7D-4440-AF5E-B004E5F6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3A9D3-E341-4D4C-8AF9-BE34659C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9B859-560D-46AD-BB8E-C68181A7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C45E9-9BD8-452B-B633-DE0EDD46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EF380-B04B-44E7-9011-BF168C73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96F1-51B9-46B4-814F-35C03AEDCC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58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3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9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5B7D-F67D-4CBA-8F10-EFB27553AF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7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7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9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5A21-9568-42CB-8053-31685FF747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6FF0-0ED0-4F06-851A-EBD9576AE1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F89E-DA65-4F78-86B0-C15AEC50CF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213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8FB7-145A-4980-BAB2-A71839D152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257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D5CD-8F93-4BBB-9E61-7F90052F7B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63A4-B229-4374-A55D-E4FFA0BAD7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caoki@thegef.org" TargetMode="External"/><Relationship Id="rId2" Type="http://schemas.openxmlformats.org/officeDocument/2006/relationships/hyperlink" Target="mailto:bbiagini@thegef.org" TargetMode="External"/><Relationship Id="rId3" Type="http://schemas.openxmlformats.org/officeDocument/2006/relationships/hyperlink" Target="mailto:isow@thegef.org" TargetMode="External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GEF and Technology Transfer: </a:t>
            </a:r>
            <a:br>
              <a:rPr sz="4100"/>
            </a:b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An Overview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ubtitle 4"/>
          <p:cNvSpPr/>
          <p:nvPr/>
        </p:nvSpPr>
        <p:spPr>
          <a:xfrm>
            <a:off x="1295280" y="441972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44"/>
          <p:cNvGrpSpPr/>
          <p:nvPr/>
        </p:nvGrpSpPr>
        <p:grpSpPr>
          <a:xfrm>
            <a:off x="1752480" y="1219320"/>
            <a:ext cx="6267600" cy="3809880"/>
            <a:chOff x="1752480" y="1219320"/>
            <a:chExt cx="6267600" cy="3809880"/>
          </a:xfrm>
        </p:grpSpPr>
        <p:pic>
          <p:nvPicPr>
            <p:cNvPr id="382" name="Picture 3" descr="C:\Users\wb368377\AppData\Local\Microsoft\Windows\Temporary Internet Files\Content.IE5\3I5325V1\MC910216337[1].png"/>
            <p:cNvPicPr/>
            <p:nvPr/>
          </p:nvPicPr>
          <p:blipFill>
            <a:blip r:embed="rId1"/>
            <a:stretch/>
          </p:blipFill>
          <p:spPr>
            <a:xfrm>
              <a:off x="1752480" y="1219320"/>
              <a:ext cx="6267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Oval 6"/>
            <p:cNvSpPr/>
            <p:nvPr/>
          </p:nvSpPr>
          <p:spPr>
            <a:xfrm>
              <a:off x="3173040" y="3564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Oval 7"/>
            <p:cNvSpPr/>
            <p:nvPr/>
          </p:nvSpPr>
          <p:spPr>
            <a:xfrm>
              <a:off x="2773080" y="39333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Oval 9"/>
            <p:cNvSpPr/>
            <p:nvPr/>
          </p:nvSpPr>
          <p:spPr>
            <a:xfrm>
              <a:off x="2970000" y="29044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Oval 10"/>
            <p:cNvSpPr/>
            <p:nvPr/>
          </p:nvSpPr>
          <p:spPr>
            <a:xfrm>
              <a:off x="249660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Oval 11"/>
            <p:cNvSpPr/>
            <p:nvPr/>
          </p:nvSpPr>
          <p:spPr>
            <a:xfrm>
              <a:off x="1752480" y="3857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Oval 14"/>
            <p:cNvSpPr/>
            <p:nvPr/>
          </p:nvSpPr>
          <p:spPr>
            <a:xfrm>
              <a:off x="40968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Oval 15"/>
            <p:cNvSpPr/>
            <p:nvPr/>
          </p:nvSpPr>
          <p:spPr>
            <a:xfrm>
              <a:off x="3967200" y="31528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val 16"/>
            <p:cNvSpPr/>
            <p:nvPr/>
          </p:nvSpPr>
          <p:spPr>
            <a:xfrm>
              <a:off x="4932000" y="2831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7"/>
            <p:cNvSpPr/>
            <p:nvPr/>
          </p:nvSpPr>
          <p:spPr>
            <a:xfrm>
              <a:off x="479664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18"/>
            <p:cNvSpPr/>
            <p:nvPr/>
          </p:nvSpPr>
          <p:spPr>
            <a:xfrm>
              <a:off x="5879160" y="19519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19"/>
            <p:cNvSpPr/>
            <p:nvPr/>
          </p:nvSpPr>
          <p:spPr>
            <a:xfrm>
              <a:off x="6555600" y="2538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Oval 20"/>
            <p:cNvSpPr/>
            <p:nvPr/>
          </p:nvSpPr>
          <p:spPr>
            <a:xfrm>
              <a:off x="5820480" y="31658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Oval 21"/>
            <p:cNvSpPr/>
            <p:nvPr/>
          </p:nvSpPr>
          <p:spPr>
            <a:xfrm>
              <a:off x="60822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Oval 22"/>
            <p:cNvSpPr/>
            <p:nvPr/>
          </p:nvSpPr>
          <p:spPr>
            <a:xfrm>
              <a:off x="6014520" y="3344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5-Point Star 26"/>
            <p:cNvSpPr/>
            <p:nvPr/>
          </p:nvSpPr>
          <p:spPr>
            <a:xfrm>
              <a:off x="2902320" y="40035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5-Point Star 27"/>
            <p:cNvSpPr/>
            <p:nvPr/>
          </p:nvSpPr>
          <p:spPr>
            <a:xfrm>
              <a:off x="2808360" y="348120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5-Point Star 28"/>
            <p:cNvSpPr/>
            <p:nvPr/>
          </p:nvSpPr>
          <p:spPr>
            <a:xfrm>
              <a:off x="2699280" y="290448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5-Point Star 29"/>
            <p:cNvSpPr/>
            <p:nvPr/>
          </p:nvSpPr>
          <p:spPr>
            <a:xfrm>
              <a:off x="2766960" y="305100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5-Point Star 31"/>
            <p:cNvSpPr/>
            <p:nvPr/>
          </p:nvSpPr>
          <p:spPr>
            <a:xfrm>
              <a:off x="4796640" y="34905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5-Point Star 32"/>
            <p:cNvSpPr/>
            <p:nvPr/>
          </p:nvSpPr>
          <p:spPr>
            <a:xfrm>
              <a:off x="4120200" y="27579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5-Point Star 33"/>
            <p:cNvSpPr/>
            <p:nvPr/>
          </p:nvSpPr>
          <p:spPr>
            <a:xfrm>
              <a:off x="4120200" y="312408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5-Point Star 34"/>
            <p:cNvSpPr/>
            <p:nvPr/>
          </p:nvSpPr>
          <p:spPr>
            <a:xfrm>
              <a:off x="3917160" y="312408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5-Point Star 35"/>
            <p:cNvSpPr/>
            <p:nvPr/>
          </p:nvSpPr>
          <p:spPr>
            <a:xfrm>
              <a:off x="4052520" y="32709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5-Point Star 36"/>
            <p:cNvSpPr/>
            <p:nvPr/>
          </p:nvSpPr>
          <p:spPr>
            <a:xfrm>
              <a:off x="4999680" y="261144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5-Point Star 37"/>
            <p:cNvSpPr/>
            <p:nvPr/>
          </p:nvSpPr>
          <p:spPr>
            <a:xfrm>
              <a:off x="6082200" y="385704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5-Point Star 38"/>
            <p:cNvSpPr/>
            <p:nvPr/>
          </p:nvSpPr>
          <p:spPr>
            <a:xfrm>
              <a:off x="5946840" y="32709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5-Point Star 39"/>
            <p:cNvSpPr/>
            <p:nvPr/>
          </p:nvSpPr>
          <p:spPr>
            <a:xfrm>
              <a:off x="6149880" y="319752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5-Point Star 40"/>
            <p:cNvSpPr/>
            <p:nvPr/>
          </p:nvSpPr>
          <p:spPr>
            <a:xfrm>
              <a:off x="6082200" y="319752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5-Point Star 42"/>
            <p:cNvSpPr/>
            <p:nvPr/>
          </p:nvSpPr>
          <p:spPr>
            <a:xfrm>
              <a:off x="6014520" y="29775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Poznan Program country cove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5-Point Star 46"/>
          <p:cNvSpPr/>
          <p:nvPr/>
        </p:nvSpPr>
        <p:spPr>
          <a:xfrm>
            <a:off x="3809880" y="5791320"/>
            <a:ext cx="76320" cy="75960"/>
          </a:xfrm>
          <a:custGeom>
            <a:avLst/>
            <a:gdLst/>
            <a:ahLst/>
            <a:rect l="l" t="t" r="r" b="b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lnTo>
                  <a:pt x="0" y="29106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Oval 47"/>
          <p:cNvSpPr/>
          <p:nvPr/>
        </p:nvSpPr>
        <p:spPr>
          <a:xfrm>
            <a:off x="3809880" y="5562720"/>
            <a:ext cx="76320" cy="75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48"/>
          <p:cNvSpPr/>
          <p:nvPr/>
        </p:nvSpPr>
        <p:spPr>
          <a:xfrm>
            <a:off x="3962520" y="54864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lot Proje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NA Project – First Round Countries (1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49"/>
          <p:cNvSpPr/>
          <p:nvPr/>
        </p:nvSpPr>
        <p:spPr>
          <a:xfrm>
            <a:off x="0" y="658800"/>
            <a:ext cx="1752480" cy="11595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rkey &amp; Cook Islands: Hydrogen energy installations for small islands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51"/>
          <p:cNvSpPr/>
          <p:nvPr/>
        </p:nvSpPr>
        <p:spPr>
          <a:xfrm>
            <a:off x="0" y="251460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xico: Local wind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52"/>
          <p:cNvSpPr/>
          <p:nvPr/>
        </p:nvSpPr>
        <p:spPr>
          <a:xfrm>
            <a:off x="0" y="3124080"/>
            <a:ext cx="16765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le: Local solar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3"/>
          <p:cNvSpPr/>
          <p:nvPr/>
        </p:nvSpPr>
        <p:spPr>
          <a:xfrm>
            <a:off x="0" y="4572000"/>
            <a:ext cx="1752480" cy="9756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azil: Renewabl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capture &amp; storage from sugar industry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54"/>
          <p:cNvSpPr/>
          <p:nvPr/>
        </p:nvSpPr>
        <p:spPr>
          <a:xfrm>
            <a:off x="0" y="3733920"/>
            <a:ext cx="175248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te d’Ivoire: Solid waste composting (Af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55"/>
          <p:cNvSpPr/>
          <p:nvPr/>
        </p:nvSpPr>
        <p:spPr>
          <a:xfrm>
            <a:off x="7086600" y="506556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egal: Typha-based thermal insulation produc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56"/>
          <p:cNvSpPr/>
          <p:nvPr/>
        </p:nvSpPr>
        <p:spPr>
          <a:xfrm>
            <a:off x="7086600" y="5698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ussian Federation: HCFC phase-out, HFC-free, energy efficient AC &amp; Refrigera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57"/>
          <p:cNvSpPr/>
          <p:nvPr/>
        </p:nvSpPr>
        <p:spPr>
          <a:xfrm>
            <a:off x="7086600" y="21430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iland: South-South technology transfer: ethanol from cassava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58"/>
          <p:cNvSpPr/>
          <p:nvPr/>
        </p:nvSpPr>
        <p:spPr>
          <a:xfrm>
            <a:off x="7086600" y="314784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mbodia: Agricultural residue biomass to energy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59"/>
          <p:cNvSpPr/>
          <p:nvPr/>
        </p:nvSpPr>
        <p:spPr>
          <a:xfrm>
            <a:off x="7086600" y="394164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ri Lanka: Bamboo processing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60"/>
          <p:cNvSpPr/>
          <p:nvPr/>
        </p:nvSpPr>
        <p:spPr>
          <a:xfrm>
            <a:off x="7086600" y="449568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rdan: Irrigation technology (IF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61"/>
          <p:cNvSpPr/>
          <p:nvPr/>
        </p:nvSpPr>
        <p:spPr>
          <a:xfrm>
            <a:off x="7086600" y="156996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na: Green truck demonstration (W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62"/>
          <p:cNvSpPr/>
          <p:nvPr/>
        </p:nvSpPr>
        <p:spPr>
          <a:xfrm>
            <a:off x="0" y="190512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amaica: Small scale wave power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64"/>
          <p:cNvSpPr/>
          <p:nvPr/>
        </p:nvSpPr>
        <p:spPr>
          <a:xfrm>
            <a:off x="1752480" y="1244520"/>
            <a:ext cx="3078360" cy="1440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66"/>
          <p:cNvSpPr/>
          <p:nvPr/>
        </p:nvSpPr>
        <p:spPr>
          <a:xfrm>
            <a:off x="1752480" y="2166840"/>
            <a:ext cx="1285920" cy="7747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69"/>
          <p:cNvSpPr/>
          <p:nvPr/>
        </p:nvSpPr>
        <p:spPr>
          <a:xfrm flipV="1">
            <a:off x="1752480" y="2720880"/>
            <a:ext cx="744480" cy="604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traight Connector 78"/>
          <p:cNvSpPr/>
          <p:nvPr/>
        </p:nvSpPr>
        <p:spPr>
          <a:xfrm>
            <a:off x="1676520" y="3390840"/>
            <a:ext cx="1106280" cy="604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81"/>
          <p:cNvSpPr/>
          <p:nvPr/>
        </p:nvSpPr>
        <p:spPr>
          <a:xfrm flipV="1">
            <a:off x="1752480" y="3333600"/>
            <a:ext cx="2401920" cy="7812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84"/>
          <p:cNvSpPr/>
          <p:nvPr/>
        </p:nvSpPr>
        <p:spPr>
          <a:xfrm flipV="1">
            <a:off x="1752480" y="3625560"/>
            <a:ext cx="1478160" cy="1423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traight Connector 87"/>
          <p:cNvSpPr/>
          <p:nvPr/>
        </p:nvSpPr>
        <p:spPr>
          <a:xfrm flipH="1">
            <a:off x="5913000" y="1045440"/>
            <a:ext cx="1173240" cy="9795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traight Connector 90"/>
          <p:cNvSpPr/>
          <p:nvPr/>
        </p:nvSpPr>
        <p:spPr>
          <a:xfrm flipH="1">
            <a:off x="6622920" y="1832040"/>
            <a:ext cx="463680" cy="7430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traight Connector 93"/>
          <p:cNvSpPr/>
          <p:nvPr/>
        </p:nvSpPr>
        <p:spPr>
          <a:xfrm flipH="1">
            <a:off x="6072120" y="2620080"/>
            <a:ext cx="1014480" cy="785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traight Connector 96"/>
          <p:cNvSpPr/>
          <p:nvPr/>
        </p:nvSpPr>
        <p:spPr>
          <a:xfrm flipH="1" flipV="1">
            <a:off x="6116760" y="3342960"/>
            <a:ext cx="969840" cy="173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traight Connector 99"/>
          <p:cNvSpPr/>
          <p:nvPr/>
        </p:nvSpPr>
        <p:spPr>
          <a:xfrm flipH="1" flipV="1">
            <a:off x="5830920" y="3227400"/>
            <a:ext cx="1255680" cy="9763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traight Connector 102"/>
          <p:cNvSpPr/>
          <p:nvPr/>
        </p:nvSpPr>
        <p:spPr>
          <a:xfrm flipH="1" flipV="1">
            <a:off x="4941720" y="2841120"/>
            <a:ext cx="2144880" cy="19162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traight Connector 105"/>
          <p:cNvSpPr/>
          <p:nvPr/>
        </p:nvSpPr>
        <p:spPr>
          <a:xfrm flipH="1" flipV="1">
            <a:off x="4025880" y="3214800"/>
            <a:ext cx="3060720" cy="2232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traight Connector 110"/>
          <p:cNvSpPr/>
          <p:nvPr/>
        </p:nvSpPr>
        <p:spPr>
          <a:xfrm>
            <a:off x="1752480" y="1244520"/>
            <a:ext cx="57240" cy="2675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21"/>
          <p:cNvSpPr/>
          <p:nvPr/>
        </p:nvSpPr>
        <p:spPr>
          <a:xfrm>
            <a:off x="50292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22"/>
          <p:cNvSpPr/>
          <p:nvPr/>
        </p:nvSpPr>
        <p:spPr>
          <a:xfrm>
            <a:off x="1828800" y="28195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124"/>
          <p:cNvSpPr/>
          <p:nvPr/>
        </p:nvSpPr>
        <p:spPr>
          <a:xfrm>
            <a:off x="2895480" y="4264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125"/>
          <p:cNvSpPr/>
          <p:nvPr/>
        </p:nvSpPr>
        <p:spPr>
          <a:xfrm>
            <a:off x="3505320" y="2738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oro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26"/>
          <p:cNvSpPr/>
          <p:nvPr/>
        </p:nvSpPr>
        <p:spPr>
          <a:xfrm>
            <a:off x="3581280" y="304812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te d’Ivo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27"/>
          <p:cNvSpPr/>
          <p:nvPr/>
        </p:nvSpPr>
        <p:spPr>
          <a:xfrm>
            <a:off x="4572000" y="326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128"/>
          <p:cNvSpPr/>
          <p:nvPr/>
        </p:nvSpPr>
        <p:spPr>
          <a:xfrm>
            <a:off x="56386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129"/>
          <p:cNvSpPr/>
          <p:nvPr/>
        </p:nvSpPr>
        <p:spPr>
          <a:xfrm>
            <a:off x="5867280" y="38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Indone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130"/>
          <p:cNvSpPr/>
          <p:nvPr/>
        </p:nvSpPr>
        <p:spPr>
          <a:xfrm>
            <a:off x="5211720" y="3097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ri Lan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hai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77"/>
          <p:cNvSpPr/>
          <p:nvPr/>
        </p:nvSpPr>
        <p:spPr>
          <a:xfrm>
            <a:off x="1828800" y="3581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ok I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79"/>
          <p:cNvSpPr/>
          <p:nvPr/>
        </p:nvSpPr>
        <p:spPr>
          <a:xfrm>
            <a:off x="2362320" y="24908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ama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80"/>
          <p:cNvSpPr/>
          <p:nvPr/>
        </p:nvSpPr>
        <p:spPr>
          <a:xfrm>
            <a:off x="51814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Russian Fed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82"/>
          <p:cNvSpPr/>
          <p:nvPr/>
        </p:nvSpPr>
        <p:spPr>
          <a:xfrm>
            <a:off x="61722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83"/>
          <p:cNvSpPr/>
          <p:nvPr/>
        </p:nvSpPr>
        <p:spPr>
          <a:xfrm>
            <a:off x="2971800" y="3352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85"/>
          <p:cNvSpPr/>
          <p:nvPr/>
        </p:nvSpPr>
        <p:spPr>
          <a:xfrm>
            <a:off x="243828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88"/>
          <p:cNvSpPr/>
          <p:nvPr/>
        </p:nvSpPr>
        <p:spPr>
          <a:xfrm>
            <a:off x="457200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ord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89"/>
          <p:cNvSpPr/>
          <p:nvPr/>
        </p:nvSpPr>
        <p:spPr>
          <a:xfrm>
            <a:off x="4419720" y="24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ur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94"/>
          <p:cNvSpPr/>
          <p:nvPr/>
        </p:nvSpPr>
        <p:spPr>
          <a:xfrm>
            <a:off x="6172200" y="3119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ambo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Viet 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Long-Term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Climate Technology Centres and a Climate Technology Network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t global, regional, national lev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y involve technical assistance, training, information sharing, knowledge management, reflecting UNFCCC discu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Conduct Pilot Technology Projects to Foster Innovation and Investm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demonstrate innovative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upport deployment and diffusion to catalyze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Develop a Public-Private Partnership for Technology Transf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facilitate private sector engagement to support innovative financial instruments or business models for technology deploy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Technology Needs Assessments (TNAs): 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target low- &amp; medium-income countries to conduct and/or update T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GEF as a Catalytic Supporting Institution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Key Features of Long-Term Progra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1430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1080" indent="-3427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is consistent with and support the Technology Mechanism agreed in Cancun at COP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was approved by the 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5 elements may be funded 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TAR (elements 1, 2,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obal and Regional Set-Aside (elements 1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PP fund (element 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dditional voluntary contributions (element 2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3" descr=""/>
          <p:cNvPicPr/>
          <p:nvPr/>
        </p:nvPicPr>
        <p:blipFill>
          <a:blip r:embed="rId1"/>
          <a:stretch/>
        </p:blipFill>
        <p:spPr>
          <a:xfrm>
            <a:off x="6689880" y="1676520"/>
            <a:ext cx="2149200" cy="281916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5"/>
          <p:cNvSpPr/>
          <p:nvPr/>
        </p:nvSpPr>
        <p:spPr>
          <a:xfrm>
            <a:off x="6019920" y="48006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EST Transfer (GEF 2010) downloadable from: http://www.thegef.org/gef/pubs/tech-transfer-case-studies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3.  How do I know my country’s needs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for technology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666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alibri"/>
                <a:ea typeface="Arial"/>
              </a:rPr>
              <a:t>Key entry points for climate chang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as your country carried out a TNA recent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Communications (NC) and National Adaptation Programs of Action (NAPAs) identify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policies and strategies identify specific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es your Common Country Assessment-UN Development Assistance Framework (CCA-UNDAF) identify any technology needs?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y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your starting point could be to review the document to prioritize action for project develop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n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especially for the TNA), your starting point could be to assess the merit of conducting a TNA, or addressing technology needs more explicitly in your next N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7238880" y="3778200"/>
            <a:ext cx="1657440" cy="2147760"/>
          </a:xfrm>
          <a:prstGeom prst="rect">
            <a:avLst/>
          </a:prstGeom>
          <a:ln w="0">
            <a:noFill/>
          </a:ln>
        </p:spPr>
      </p:pic>
      <p:sp>
        <p:nvSpPr>
          <p:cNvPr id="470" name="TextBox 22"/>
          <p:cNvSpPr/>
          <p:nvPr/>
        </p:nvSpPr>
        <p:spPr>
          <a:xfrm>
            <a:off x="7772400" y="5943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DP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>
            <a:off x="7086600" y="914400"/>
            <a:ext cx="1743120" cy="22892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7"/>
          <p:cNvSpPr/>
          <p:nvPr/>
        </p:nvSpPr>
        <p:spPr>
          <a:xfrm>
            <a:off x="6693840" y="3276720"/>
            <a:ext cx="24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09) downloadable f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hegef.org/gef/node/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4.  Where to go from here for climate chan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69520" y="1228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Larg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propose a single country TNA utilizing STAR allocation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mall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apply to be included multi-country TNA project from Global and Regional Set-aside, subject to competitive selection (contact GE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echnology transfer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tig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in one of the six objective areas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apt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to SCCF/LD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establish and/or take part in climate technology centre &amp; network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ational level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bmit a proposal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lobal and regional lev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contact the GEF about your interest, as regional pilot may be starting in 2011 in line with Cancun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837720" y="457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8000"/>
                </a:solidFill>
                <a:latin typeface="Calibri"/>
              </a:rPr>
              <a:t>Thank you very much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further information, please contac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ech Transfer and Mitigation: Chizuru Aok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nior Technology Transfer Offic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ok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mate Change Adaptation, SCCF/LDCF:  Bonizella Biagi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ead, Climate Change Adaptation Strategy and Oper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bbiagin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:  Ibrahima So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 Cluster Coordinat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isow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F Tech Transfer Website (under development)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</a:rPr>
              <a:t>http://www.thegef.org/gef/T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Overview of this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040" y="12189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What is the GEF doing to facilitate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How do I know my country’s needs for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Where do I go from h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Picture 10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22096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560" y="914400"/>
            <a:ext cx="5562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Technology: at the core of global environmental challe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source of environmental degradation and emi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means to address negative impacts, reduce emissions, manage natural resources, and monitor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foundation for economic development, value creation, and em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Developing, demonstrating, deploying and diffusing environmentally sound technologies (ESTs) are activities in the critical path toward an effective responsible to global environmental challenges (Agenda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rcRect l="5789" t="9088" r="7412" b="0"/>
          <a:stretch/>
        </p:blipFill>
        <p:spPr>
          <a:xfrm>
            <a:off x="6248520" y="838080"/>
            <a:ext cx="2361960" cy="1576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361960" cy="177480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6"/>
          <p:cNvSpPr/>
          <p:nvPr/>
        </p:nvSpPr>
        <p:spPr>
          <a:xfrm>
            <a:off x="7626960" y="594360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IDO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7702200" y="41911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3"/>
          <a:srcRect l="8828" t="0" r="0" b="0"/>
          <a:stretch/>
        </p:blipFill>
        <p:spPr>
          <a:xfrm>
            <a:off x="6248520" y="4433760"/>
            <a:ext cx="2361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838080"/>
            <a:ext cx="826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Various Multilateral Environmental Agreements (MEAs) include provisions related to technology and facilitating access and transf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ounded Rectangle 6"/>
          <p:cNvSpPr/>
          <p:nvPr/>
        </p:nvSpPr>
        <p:spPr>
          <a:xfrm>
            <a:off x="457200" y="1676520"/>
            <a:ext cx="815328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UN Framework Convention for Climate Change (UNFCCC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greed on the Technology Mechanism in December 2010 to support action on technology development and transfer for mitigation and adap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ounded Rectangle 7"/>
          <p:cNvSpPr/>
          <p:nvPr/>
        </p:nvSpPr>
        <p:spPr>
          <a:xfrm>
            <a:off x="471600" y="480060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Convention on Biological Diversity (CBD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gnizes that access to and transfer of technologies among Parties is essential to achieving CBD objectiv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ounded Rectangle 8"/>
          <p:cNvSpPr/>
          <p:nvPr/>
        </p:nvSpPr>
        <p:spPr>
          <a:xfrm>
            <a:off x="471600" y="3741840"/>
            <a:ext cx="8153280" cy="94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Montreal Protocol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opted decision on environmentally sound destruction of ozone depleting substances (ODS) banks.  The Multilateral Fund is requested to continue its efforts on further cost-effective projects for the destruction of ODS banks, using appropriate technolog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ounded Rectangle 9"/>
          <p:cNvSpPr/>
          <p:nvPr/>
        </p:nvSpPr>
        <p:spPr>
          <a:xfrm>
            <a:off x="457200" y="2666880"/>
            <a:ext cx="8153280" cy="99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tockholm Convention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alls for promoting use of Best Available Techniques and Best Environmental Practices (BAT/BEP) to reduce persistent organic pollutant (POPs) releases from unintentional production (waste incinerators, aluminum production, open waste burning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2824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18400" indent="-2584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Many definitions and interpretations of technology transfer ex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For climate change, GEF has adopted the technology transfer definition by International Panel on Climate Change (IPCC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a broad set of processes covering the flows of know-how, experience and equipment for mitigating and adapting to climate change amongst different stakeholders…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It goes beyond hardware, and encompasses capacity, know-how, policies and institution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 to facilitate tech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066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has financed demonstration, deployment, and diffusion of ESTs and enabling activit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focal area addresses technology transfer within its GEF-5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gramming depends on convention guidance and national prior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ticulation of a GEF-wide technology strategy under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Technology transfer is a priority for GEF climate change focal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ference of the Parties (COP) of UNFCCC has given a mandate on technology transfer to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the only multilateral institution that has financed technology transfer under COP gu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largest public sector financing mechanism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climate change and tech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240" y="1143000"/>
            <a:ext cx="6629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GEF has invested approx. $3 billion in climate change, leveraging more than $15 bill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GEF-5 funding (2010-14) for mitigation is approx. $1.4 bill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Special Climate Change Fund/Least Developed Countries Fund (CCF/LDCF) funding for adaptation and LDC support is approx. $530 million cumul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9" descr=""/>
          <p:cNvPicPr/>
          <p:nvPr/>
        </p:nvPicPr>
        <p:blipFill>
          <a:blip r:embed="rId1"/>
          <a:srcRect l="0" t="0" r="0" b="15786"/>
          <a:stretch/>
        </p:blipFill>
        <p:spPr>
          <a:xfrm>
            <a:off x="7143840" y="15238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"/>
          <p:cNvPicPr/>
          <p:nvPr/>
        </p:nvPicPr>
        <p:blipFill>
          <a:blip r:embed="rId2"/>
          <a:stretch/>
        </p:blipFill>
        <p:spPr>
          <a:xfrm>
            <a:off x="7148520" y="39625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2.  What is GEF doing: GEF-5 Mitigation Strategy &amp; Tech 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686800" cy="4701960"/>
          </a:xfrm>
          <a:prstGeom prst="rect">
            <a:avLst/>
          </a:prstGeom>
          <a:ln w="0">
            <a:noFill/>
          </a:ln>
        </p:spPr>
      </p:pic>
      <p:sp>
        <p:nvSpPr>
          <p:cNvPr id="376" name="テキスト ボックス 3"/>
          <p:cNvSpPr/>
          <p:nvPr/>
        </p:nvSpPr>
        <p:spPr>
          <a:xfrm>
            <a:off x="228600" y="91440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6 GEF-5 Climate Change Mitigation Strategy objectives address different aspects of technology transfer, from R&amp;D to diffusion of technologies + 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ectors: energy efficiency, renewable energy, transport, urban systems, LULUC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Poznan Strategic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61760" y="11430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Funding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35 million from GEF Trust Fund in GEF-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15 million from SCC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echnology Transfer Pilot Proj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4 projects were selected for support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ir implementation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N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roject was approved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5 first round countries were selected in 2010,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cond round country selection is being finaliz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untry-level assessment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Long-Term Program on Technology Transf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lan with 5 elements submitted to UNFCCC CO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see slides 11 and 1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6272280" y="1600200"/>
            <a:ext cx="2643120" cy="3479760"/>
          </a:xfrm>
          <a:prstGeom prst="rect">
            <a:avLst/>
          </a:prstGeom>
          <a:ln w="0">
            <a:noFill/>
          </a:ln>
        </p:spPr>
      </p:pic>
      <p:sp>
        <p:nvSpPr>
          <p:cNvPr id="380" name="TextBox 6"/>
          <p:cNvSpPr/>
          <p:nvPr/>
        </p:nvSpPr>
        <p:spPr>
          <a:xfrm>
            <a:off x="6248520" y="518148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Poznan Program (GEF 2010) downloadable from: http://www.thegef.org/gef/node/38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Lisa</cp:lastModifiedBy>
  <dcterms:modified xsi:type="dcterms:W3CDTF">2012-04-22T23:36:47Z</dcterms:modified>
  <cp:revision>798</cp:revision>
  <dc:subject/>
  <dc:title>Slide 1</dc:title>
</cp:coreProperties>
</file>