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FD5E-82CD-46AC-994C-1E4EBF9F47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D161-2C67-4444-BAAF-9D9EAAE01F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61C3-46F2-424F-9A92-92B4D3D7CB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AFA6-A142-43A0-985F-5A6E13B30E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7770-C844-4702-B25F-3352902CD2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73E5-915F-44D0-8A49-8CC3104872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AF94-8D21-4DB8-9521-B5038C1506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9660-41E1-4151-8416-A905F00038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38F8-1117-43D3-839A-942D70A669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050D-DB4D-45F4-89AD-097AF5F866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5936-347A-4A68-808F-7000E7BCD2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2724-5CEF-4DD4-9CCF-D9806BD027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9975-17B9-41B7-B697-B503AA9A53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1C1F-4662-4D88-A374-94CAA5E443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F4A9-2776-43A9-B943-81FDE5042D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03FE-BC1B-4CB2-BA00-82AB73D6F2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D9BB-A157-410D-B13D-2A5E965FDE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68DD-B53F-4057-9123-76C74B61A2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Board is composed of 16 members and their alternate members representing Parties, formally elected at a session of the CMP as follows:</a:t>
            </a:r>
            <a:endParaRPr b="0" lang="en-US" sz="2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representatives from each of the five UN regional group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small island developing stat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least developed country Parti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Annex I Parties; and</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non-Annex I parties.</a:t>
            </a:r>
            <a:endParaRPr b="0" lang="en-US" sz="2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years term, once renewable</a:t>
            </a:r>
            <a:endParaRPr b="0" lang="en-US" sz="26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F9C8-9F5A-4AA6-8C57-D0DAB9B493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8291-8A0E-425A-B0FC-D5724C8AA4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4D8D-BFB0-4050-8AF1-EA0C3FB5C6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45761-E6E3-4286-A865-DFCE99DDC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45B6C-69D0-499A-93C4-36A1BEFA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8321E-12BE-46E5-A78F-2F828898D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58CAD-2731-458C-B83A-F1C31243D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2BE36-E56D-4067-8FD1-240D94DF4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E6A95-EB75-4F45-AD20-BD86FEBB4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9F5D2-15C0-41EE-BEF7-FD67FA84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B44C2-ED89-465C-84F6-B5EAD5BC7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8894-3959-4DC2-BA88-5B9B462C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E36FC-382E-41B8-B352-E5348FFA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FA02-2CE8-44ED-9012-534D0561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6A0C-DD3E-45F2-81F8-773C24486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1934-E152-4CCB-BE02-06B39B1D28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ccessing Resources in the Adaptation Fund</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595959"/>
                </a:solidFill>
                <a:latin typeface="Calibri"/>
              </a:rPr>
              <a:t>Update to GEF Expanded Constituency Workshop in Dead Sea, Jordan</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February 201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rcRect l="3280" t="6149" r="27871" b="37500"/>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rcRect l="2917" t="17778" r="25417" b="1111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37:28Z</dcterms:modified>
  <cp:revision>109</cp:revision>
  <dc:subject/>
  <dc:title>Slide 1</dc:title>
</cp:coreProperties>
</file>