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9E5B-0690-4C53-878C-AC3A599EF7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2A79-AE8B-4155-916F-6703862EB5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E9CD-1D0B-49CD-88CD-5EF98C3B4B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C4A8-72F2-4DED-924E-C5CC88115E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522E-0AAA-455E-9326-440337DC2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3AE0-4859-40A3-91DD-693BEDF4ED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6CD9-147E-48DF-A72E-259CBAD1A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881E-1055-4FF0-845D-837855934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2DFF-C5F0-4185-93BE-2837F9B19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B61F-9CF3-4EE7-8AF1-E372B1E375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6DFB-E6E4-4CA8-87F0-AFED8C5AF2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F09B-FF5F-4B89-B315-6C158C1A6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5D3D-9C9C-4164-8E38-798D6F8D56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3892-36C0-435B-8E1E-58CC9D4BFB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CF65-17F7-4D4D-AE8B-232BF76669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D168-A880-4222-B1B0-463579B10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BB9C-6B37-4AFE-8293-C89213236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3E3B-2207-49AB-961B-AED5A5809B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oard is composed of 16 members and their alternate members representing Parties, formally elected at a session of the CMP as follows:</a:t>
            </a:r>
            <a:endParaRPr b="0" lang="en-US" sz="2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representatives from each of the five UN regional group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small island developing stat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least developed country Parti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Annex I Parties; and</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non-Annex I parties.</a:t>
            </a:r>
            <a:endParaRPr b="0" lang="en-US" sz="2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years term, once renewable</a:t>
            </a:r>
            <a:endParaRPr b="0" lang="en-US" sz="26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07A5-EBED-477B-96C7-36A9181661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8F09-56B8-46B6-9402-748A67F032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F554-E5FA-47EE-B662-AAC3EA963C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43F21-F536-4BBB-9273-C889FBAC6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DA581-D82E-468A-BCE5-2C14230EC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90344-5D3D-4CFA-B544-5E67E597F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90426-77C2-4801-8246-EEB0B5B21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A6DC-B5FC-4C7C-B8C5-1E2F2B370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B24E-FCFB-4B97-B713-C0CB1B37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C73F-2BE7-4794-BC88-E2384289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C8FE9-0725-41DA-BD06-FED81571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DB748-2678-4C47-BBAA-9B145EB7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91074-9D6C-45B4-B60E-179BBB50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FA34-3C69-49ED-B576-C0E3A179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2D5A-1C4E-4CF1-A600-B98D4D615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B440-A1E7-43F9-93E4-49A71D96A0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ccessing Resources in the Adaptation Fund</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595959"/>
                </a:solidFill>
                <a:latin typeface="Calibri"/>
              </a:rPr>
              <a:t>Update to GEF Expanded Constituency Workshop in Dead Sea, Jordan</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February 201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rcRect l="3280" t="6149" r="27871" b="37500"/>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2917" t="17778" r="25417" b="1111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37:28Z</dcterms:modified>
  <cp:revision>109</cp:revision>
  <dc:subject/>
  <dc:title>Slide 1</dc:title>
</cp:coreProperties>
</file>