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08AF-F16C-42A2-B776-E61FF4D3F0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2799-FD57-4920-8283-150689121D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3DDF-088D-4A0C-88A1-EC049A87CE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0BA4-E393-47A8-90EE-2F754C935E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CAFB-ED59-4A6D-8DAF-73A31255F9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FB4B-A6FB-4EF2-97D6-97F4B6DCB8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4E9F-4464-422F-8209-0E55B9E4C9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6E80-0FA2-43CD-8995-BEE151AF39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4374-F99A-43E3-B904-2EB395A560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A21E-FD51-45DD-BE89-D461EB1D82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42F3-F1B6-4A6D-9CF8-4E582EA615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3A9D-B39F-479D-A3BC-3C7E3A3DCB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DC55-D23E-4AE9-9FDF-6F9CE3590E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A2A4-CA6B-4291-8EE9-0D11CC6F67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2862-A143-4E7A-A0D8-877F117C96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7ED6-DDC9-4CB0-979D-F89FAA4257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70C2-EDB1-478E-8E64-33FFCADD65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D11F-310F-4F9D-9D20-04C45EEF86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oard is composed of 16 members and their alternate members representing Parties, formally elected at a session of the CMP as follows:</a:t>
            </a:r>
            <a:endParaRPr b="0" lang="en-US" sz="2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representatives from each of the five UN regional group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small island developing stat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least developed country Parti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Annex I Parties; and</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non-Annex I parties.</a:t>
            </a:r>
            <a:endParaRPr b="0" lang="en-US" sz="2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years term, once renewable</a:t>
            </a:r>
            <a:endParaRPr b="0" lang="en-US" sz="26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C3B6-2925-411E-8295-C7BE089942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A3B6-65B0-4822-80EF-5548BE296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96FC-99A8-4157-92F4-575DBE88F7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DD7A4-3C17-4FBF-9B27-566D60AD2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BC80-B7A1-452E-930D-59C6806F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69CF4-3842-4ADE-A086-5DC4A4029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DA4C-79E0-4F76-A358-17DAC803A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CFC8-7534-40F5-8755-429D7A908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06419-9FF7-4593-BF6B-1552A5B7F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750EC-C890-44DA-899D-89763F58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441D-338E-41D8-A9B1-C846C9E0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4E99-4109-42F7-976A-DA4D7202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41E49-A1AC-4A6F-9E7A-419BBC84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7CF1-0471-4177-B7B4-6712E47B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6B77-3095-42DC-BF00-B4B966583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D07F-7019-4640-A033-C3EA590E15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ccessing Resources in the Adaptation Fund</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595959"/>
                </a:solidFill>
                <a:latin typeface="Calibri"/>
              </a:rPr>
              <a:t>Update to GEF Expanded Constituency Workshop in Dead Sea, Jordan</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February 201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rcRect l="3280" t="6149" r="27871" b="37500"/>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2917" t="17778" r="25417" b="1111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37:28Z</dcterms:modified>
  <cp:revision>109</cp:revision>
  <dc:subject/>
  <dc:title>Slide 1</dc:title>
</cp:coreProperties>
</file>