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3D07-F897-4662-B2B3-4895EA7B615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830E-BF68-4D47-AED9-88FF2462E8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32ED-2490-4343-9E61-1ECCD73A4A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53B6-1BF8-4FCC-9359-A930A52827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3CC3-C4B7-4BE6-9F0D-B3AD104743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E1E-CFDE-4D1E-B488-7542CA5665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BE96-D073-4E02-996D-8536175ADF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6ABB-D907-4DD1-91D5-812F6CCD00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2ED3-ED8E-44E0-ADD5-70D3FA710A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DDF8-CB21-4884-9503-64BA05A2F4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688E-F515-43D6-AA8B-1C1BD3DC24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3F7F-A952-406B-BF28-DA71842A92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B981-C060-44A0-B748-C8C5103615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BF07-C210-42E2-8936-97B179B528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1534-CD72-44A9-9B38-368FADFA3C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37D2-81CB-4108-8F61-7AC019781F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83808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ＭＳ Ｐゴシック"/>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ＭＳ Ｐゴシック"/>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ＭＳ Ｐゴシック"/>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2760" y="1182600"/>
            <a:ext cx="8632800" cy="49989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2800" y="1292400"/>
            <a:ext cx="6205320" cy="615600"/>
          </a:xfrm>
          <a:prstGeom prst="rect">
            <a:avLst/>
          </a:prstGeom>
          <a:ln w="0">
            <a:noFill/>
          </a:ln>
        </p:spPr>
      </p:pic>
      <p:pic>
        <p:nvPicPr>
          <p:cNvPr id="145" name="Diagram 40" descr=""/>
          <p:cNvPicPr/>
          <p:nvPr/>
        </p:nvPicPr>
        <p:blipFill>
          <a:blip r:embed="rId2"/>
          <a:stretch/>
        </p:blipFill>
        <p:spPr>
          <a:xfrm>
            <a:off x="2000160" y="3273480"/>
            <a:ext cx="6205680" cy="615960"/>
          </a:xfrm>
          <a:prstGeom prst="rect">
            <a:avLst/>
          </a:prstGeom>
          <a:ln w="0">
            <a:noFill/>
          </a:ln>
        </p:spPr>
      </p:pic>
      <p:pic>
        <p:nvPicPr>
          <p:cNvPr id="146" name="Diagram 44" descr=""/>
          <p:cNvPicPr/>
          <p:nvPr/>
        </p:nvPicPr>
        <p:blipFill>
          <a:blip r:embed="rId3"/>
          <a:stretch/>
        </p:blipFill>
        <p:spPr>
          <a:xfrm>
            <a:off x="2305080" y="4950000"/>
            <a:ext cx="6205680" cy="61560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0:11Z</dcterms:modified>
  <cp:revision>177</cp:revision>
  <dc:subject/>
  <dc:title>Focal Area and Cross Cutting Strategies – Chemicals</dc:title>
</cp:coreProperties>
</file>