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4308-EAD8-4672-BFC0-5FB715BECEC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14B4-29F0-4F2D-AAEC-77AC688505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2F98-BC68-453E-A445-0084309B9C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F848-7E6E-4081-9A56-F1A44A10EB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E0FD-D90F-4E00-BA70-F9E3F44796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6471-4D02-4805-8515-A391B91D5E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62ED-06B6-410D-B9B2-E637DE3735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A8A1-EBD2-4040-91AB-ACFE1AC7C3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FA00-1498-4468-AD6F-AC89AC57E0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A74C-6CF6-43A9-A143-4D1F91D980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166F-A85C-47C9-A62E-1FCD59CD5B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DD4B-F933-45DE-B9A9-9902305D20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2D83-EFD9-4515-BFFE-CC92A90BE9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AE91-6AF7-47EB-A308-8F18F9CC8A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19B1-DB96-4291-9250-1093A172CF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8508-46E0-4E32-9E6D-DC02D60F1C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83808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ＭＳ Ｐゴシック"/>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ＭＳ Ｐゴシック"/>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ＭＳ Ｐゴシック"/>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2760" y="1182600"/>
            <a:ext cx="8632800" cy="49989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2800" y="1292400"/>
            <a:ext cx="6205320" cy="615600"/>
          </a:xfrm>
          <a:prstGeom prst="rect">
            <a:avLst/>
          </a:prstGeom>
          <a:ln w="0">
            <a:noFill/>
          </a:ln>
        </p:spPr>
      </p:pic>
      <p:pic>
        <p:nvPicPr>
          <p:cNvPr id="145" name="Diagram 40" descr=""/>
          <p:cNvPicPr/>
          <p:nvPr/>
        </p:nvPicPr>
        <p:blipFill>
          <a:blip r:embed="rId2"/>
          <a:stretch/>
        </p:blipFill>
        <p:spPr>
          <a:xfrm>
            <a:off x="2000160" y="3273480"/>
            <a:ext cx="6205680" cy="615960"/>
          </a:xfrm>
          <a:prstGeom prst="rect">
            <a:avLst/>
          </a:prstGeom>
          <a:ln w="0">
            <a:noFill/>
          </a:ln>
        </p:spPr>
      </p:pic>
      <p:pic>
        <p:nvPicPr>
          <p:cNvPr id="146" name="Diagram 44" descr=""/>
          <p:cNvPicPr/>
          <p:nvPr/>
        </p:nvPicPr>
        <p:blipFill>
          <a:blip r:embed="rId3"/>
          <a:stretch/>
        </p:blipFill>
        <p:spPr>
          <a:xfrm>
            <a:off x="2305080" y="4950000"/>
            <a:ext cx="6205680" cy="61560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0:11Z</dcterms:modified>
  <cp:revision>177</cp:revision>
  <dc:subject/>
  <dc:title>Focal Area and Cross Cutting Strategies – Chemicals</dc:title>
</cp:coreProperties>
</file>