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8A8B-32F5-4317-8BA5-4FAB0A0116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2ED-DCD7-4240-80D3-5600397F516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62F-17E4-4F96-B272-FB5F95A51E0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hegef.org/gef/node/3891" TargetMode="External"/><Relationship Id="rId2" Type="http://schemas.openxmlformats.org/officeDocument/2006/relationships/hyperlink" Target="http://www.thegef.org/gef/BD_direct_access_template" TargetMode="External"/><Relationship Id="rId3" Type="http://schemas.openxmlformats.org/officeDocument/2006/relationships/hyperlink" Target="https://www.thegef.org/gef/LD_direct_access_template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предоставляется на осуществление мер в связи с подготовкой Национальных сообщений для Рамочной конвенции ООН об изменении климата (РКООНИК) в соответствии с обязательствами Сторон согласно статьям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2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КООНИ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РКООНИК, могут быть покрыты за счет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месте с тем, существует возможность комбинировать средства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РТО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ля финансирования более масштабных проектов стимулирующих мероприятий. Обычно этой возможностью пользуются более крупные развивающиеся стран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Изменение клима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впервые предоставляет помощь на проведение вспомогательных мероприятий по КООН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, 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оведение стимулирующих мероприятий в период ГЭФ-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раны не обязаны использовать на проведение стимулирующих мероприятий средства, получаемые ими в рамках СТА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едоставляет средства на решение двух первоочередных задач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ение Национальных программ действ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е с 10-летней стратегией КООНБО (т.е., согласование НПД)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предоставления отчетности, предусмотренный обязательствами в рамках КООНБ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емыми непосредственными результатами станут подготовленные и скорректированные НПД и подготовленные национальные докл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1066680"/>
            <a:ext cx="86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Деградация зем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Стокгольмской конвенции, могут быть покрыты за сч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есмотр и обновление своих Национальных планов осуществления (НПО), включив в них, в соответствии со своими обязательствами по статье 7 Стокгольмской конвенции, 10 новых химических веществ, внесенных в конвенцию в ходе КС-4 и КС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щь предоставляется на проведение следующих мероприят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ординационный механиз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ставление кадастра новых СОЗ и оценка национальн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пределение приорит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зработка планов действий в отношении новых СО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добрение НПО и представление их на К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143000"/>
            <a:ext cx="866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отношении СО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Diagram 4" descr=""/>
          <p:cNvPicPr/>
          <p:nvPr/>
        </p:nvPicPr>
        <p:blipFill>
          <a:blip r:embed="rId1"/>
          <a:stretch/>
        </p:blipFill>
        <p:spPr>
          <a:xfrm>
            <a:off x="285840" y="1036800"/>
            <a:ext cx="8761320" cy="5065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544320" y="13399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ханизмы предоставл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GEF-logo-HP.gif"/>
          <p:cNvPicPr/>
          <p:nvPr/>
        </p:nvPicPr>
        <p:blipFill>
          <a:blip r:embed="rId2"/>
          <a:stretch/>
        </p:blipFill>
        <p:spPr>
          <a:xfrm>
            <a:off x="539640" y="4508640"/>
            <a:ext cx="804960" cy="631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5003640" y="2133720"/>
            <a:ext cx="3308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держка предложений, подготовленных самими стр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5181480" y="35053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диненные проекты ЮНЕ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цы документов, необходимых для получения доступа к этим средствам, размещены на веб-сайте ГЭ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предложения о проведении стимулирующего мероприятия, вносимого совместно с организацией-исполнител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ЮНЕ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L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thegef.org/gef/node/389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ямой доступ для учреждений-исполнителей, прошедших оценку соблюдения фидуциарных процедур Всемирного банка. Образ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tr-TR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thegef.org/gef/B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CC_direct_access_template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www.thegef.org/gef/L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POPs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04720" y="2315520"/>
            <a:ext cx="817092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БР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еративное взаимодействие с КБР в целях подготовки моделей процедуры пересмотра НСПДБ (с учетом всех обязательств, т.е. УУР, ОТП и т.п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9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48% от общего числа – получили помощь на данный моме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28% от общего числа – установили прямой контакт с одной из Организаций ГЭФ или Секретариатом ГЭФ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амках прямого доступ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целью подготовки предло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4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, имеющих право на получение помощи ГЭФ – окол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4%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общего числа, – пока не установили контакт с Организацией ГЭФ или Секретариатом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ИК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140 стран получили от ГЭФ средства на подготовку национальных сообщений. Страны находятся на разных этапах подготовки своих национальных сообщен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рамках ГЭФ-5 ГЭФ недавно утвердил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объемлющий проект ЮНЕП для НРС/МОРС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2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масштабный проект подготовки Третьего национального сообщения Колумб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Д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 в рамках КООНБО, используют все три механиз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концу январ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а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воспользовались вариантом прямого доступа для получения средств в максимальном объем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 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явка уже одобрена ИД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обратилась за помощью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и ГЭ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А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-2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 выбрали ускоренн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диненный про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, чтобы таких стран было 70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этом случае каждая получит п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СО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1920" y="1371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анный момент 4 страны – Кения, Уганда, Мали и Сенегал – заявили о своем желании воспользоваться прямым доступом для проведения СМ по пересмотру НПО. Предложение Кении о СМ было недавно утверждено, а три остальных находятся в процессе рассмотр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ерез Организацию ГЭ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сния и Герцеговина и  Македония подали заявки через ЮНИ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а проекта находятся в процессе рассмот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вязке с ПМ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вновь утвержденный ПМ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захстана предусматривает пересмотр НПО в качестве одного из компонентов проек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33336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401840"/>
            <a:ext cx="8170920" cy="424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3520" y="1413360"/>
            <a:ext cx="8170920" cy="301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228600" y="1219320"/>
            <a:ext cx="55656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ЭФ определяет стимулирующие мероприяти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ероприятия, создающие основу для разработки и эффективного осуществления ответных мер, направленных на достижение целей Конвен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ounded Rectangle 4"/>
          <p:cNvGrpSpPr/>
          <p:nvPr/>
        </p:nvGrpSpPr>
        <p:grpSpPr>
          <a:xfrm>
            <a:off x="5943600" y="1295280"/>
            <a:ext cx="2852640" cy="4591080"/>
            <a:chOff x="5943600" y="1295280"/>
            <a:chExt cx="2852640" cy="4591080"/>
          </a:xfrm>
        </p:grpSpPr>
        <p:pic>
          <p:nvPicPr>
            <p:cNvPr id="14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85264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"/>
            <p:cNvSpPr/>
            <p:nvPr/>
          </p:nvSpPr>
          <p:spPr>
            <a:xfrm>
              <a:off x="6181920" y="1508760"/>
              <a:ext cx="2468160" cy="42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Arial"/>
                </a:rPr>
                <a:t>Рекомендации Секретариата ГЭФ по ТО «биоразнообразие»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имулирующие мероприят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]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ризваны помочь странам-получателям помощи в разработке национальных стратегий, планов или программ, о которых говорится в Статье 6 Конвенции о биологическом разнообразии, а также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выделить компоненты биоразнообразия, процессы и категории деятельности, которые могут оказывать значительное вредное воздействие на сохранение и устойчивое использование биоразнообразия, в соответствии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 Статьей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венции о биологическом разнообразии»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Snip and Round Single Corner Rectangle 8"/>
          <p:cNvSpPr/>
          <p:nvPr/>
        </p:nvSpPr>
        <p:spPr>
          <a:xfrm>
            <a:off x="1219320" y="4267080"/>
            <a:ext cx="2209680" cy="457200"/>
          </a:xfrm>
          <a:custGeom>
            <a:avLst/>
            <a:gdLst/>
            <a:ahLst/>
            <a:rect l="l" t="t" r="r" b="b"/>
            <a:pathLst>
              <a:path w="2209800" h="457200">
                <a:moveTo>
                  <a:pt x="76202" y="0"/>
                </a:moveTo>
                <a:lnTo>
                  <a:pt x="2133598" y="0"/>
                </a:lnTo>
                <a:lnTo>
                  <a:pt x="2209800" y="76202"/>
                </a:lnTo>
                <a:lnTo>
                  <a:pt x="2209800" y="457200"/>
                </a:lnTo>
                <a:lnTo>
                  <a:pt x="0" y="457200"/>
                </a:lnTo>
                <a:lnTo>
                  <a:pt x="0" y="76202"/>
                </a:lnTo>
                <a:cubicBezTo>
                  <a:pt x="0" y="34117"/>
                  <a:pt x="34117" y="0"/>
                  <a:pt x="76202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762120" y="3505320"/>
            <a:ext cx="5029200" cy="2209680"/>
            <a:chOff x="762120" y="3505320"/>
            <a:chExt cx="5029200" cy="2209680"/>
          </a:xfrm>
        </p:grpSpPr>
        <p:sp>
          <p:nvSpPr>
            <p:cNvPr id="145" name="Round Single Corner Rectangle 9"/>
            <p:cNvSpPr/>
            <p:nvPr/>
          </p:nvSpPr>
          <p:spPr>
            <a:xfrm>
              <a:off x="762120" y="3505320"/>
              <a:ext cx="5029200" cy="2209680"/>
            </a:xfrm>
            <a:custGeom>
              <a:avLst/>
              <a:gdLst/>
              <a:ahLst/>
              <a:rect l="l" t="t" r="r" b="b"/>
              <a:pathLst>
                <a:path w="5029200" h="2209800">
                  <a:moveTo>
                    <a:pt x="0" y="0"/>
                  </a:moveTo>
                  <a:lnTo>
                    <a:pt x="4660893" y="0"/>
                  </a:lnTo>
                  <a:cubicBezTo>
                    <a:pt x="4864303" y="0"/>
                    <a:pt x="5029200" y="164897"/>
                    <a:pt x="5029200" y="368307"/>
                  </a:cubicBezTo>
                  <a:lnTo>
                    <a:pt x="5029200" y="2209800"/>
                  </a:lnTo>
                  <a:lnTo>
                    <a:pt x="0" y="2209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0"/>
            <p:cNvSpPr/>
            <p:nvPr/>
          </p:nvSpPr>
          <p:spPr>
            <a:xfrm>
              <a:off x="838080" y="3581280"/>
              <a:ext cx="495324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О «СОЗ»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окгольмская конвенция требует (Ст. 7) от стран в течение двух лет после вступления Конвенции в силу подготовить Национальные планы осуществления (НПО), определяющие приоритеты будущей деятельности по защите здоровья человека и окружающей среды от СОЗ. НПО являются для страны базой для систематической и основанной на принципах активного участия разработки и осуществления первоочередных реформ в политической и нормативной сферах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ер по наращиванию потенциала и инвестиционных программ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Финансирование за счет средств ГЭФ стимулирующих мероприятий в ТО «Биоразнообразие» и «СОЗ»</a:t>
            </a: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Diagram 3" descr=""/>
          <p:cNvPicPr/>
          <p:nvPr/>
        </p:nvPicPr>
        <p:blipFill>
          <a:blip r:embed="rId1"/>
          <a:stretch/>
        </p:blipFill>
        <p:spPr>
          <a:xfrm>
            <a:off x="2157480" y="1450800"/>
            <a:ext cx="6200640" cy="633600"/>
          </a:xfrm>
          <a:prstGeom prst="rect">
            <a:avLst/>
          </a:prstGeom>
          <a:ln w="0">
            <a:noFill/>
          </a:ln>
        </p:spPr>
      </p:pic>
      <p:sp>
        <p:nvSpPr>
          <p:cNvPr id="150" name="Right Brace 4"/>
          <p:cNvSpPr/>
          <p:nvPr/>
        </p:nvSpPr>
        <p:spPr>
          <a:xfrm rot="5400000">
            <a:off x="4402800" y="16560"/>
            <a:ext cx="304920" cy="4386240"/>
          </a:xfrm>
          <a:custGeom>
            <a:avLst/>
            <a:gdLst>
              <a:gd name="textAreaLeft" fmla="*/ 0 w 304920"/>
              <a:gd name="textAreaRight" fmla="*/ 110160 w 304920"/>
              <a:gd name="textAreaTop" fmla="*/ 76320 h 4386240"/>
              <a:gd name="textAreaBottom" fmla="*/ 4309920 h 43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1"/>
                  <a:pt x="10800" y="1201"/>
                </a:cubicBezTo>
                <a:lnTo>
                  <a:pt x="10800" y="9776"/>
                </a:lnTo>
                <a:cubicBezTo>
                  <a:pt x="10800" y="10377"/>
                  <a:pt x="16200" y="10977"/>
                  <a:pt x="21600" y="10977"/>
                </a:cubicBezTo>
                <a:cubicBezTo>
                  <a:pt x="16200" y="10977"/>
                  <a:pt x="10800" y="11578"/>
                  <a:pt x="10800" y="12178"/>
                </a:cubicBezTo>
                <a:lnTo>
                  <a:pt x="10800" y="20399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2666880" y="3048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95880" y="3048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Brace 7"/>
          <p:cNvSpPr/>
          <p:nvPr/>
        </p:nvSpPr>
        <p:spPr>
          <a:xfrm rot="5400000">
            <a:off x="7429320" y="156204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56880 h 1295280"/>
              <a:gd name="textAreaBottom" fmla="*/ 1238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6"/>
                  <a:pt x="10800" y="3031"/>
                </a:cubicBezTo>
                <a:lnTo>
                  <a:pt x="10800" y="7769"/>
                </a:lnTo>
                <a:cubicBezTo>
                  <a:pt x="10800" y="9285"/>
                  <a:pt x="16200" y="10800"/>
                  <a:pt x="21600" y="10800"/>
                </a:cubicBezTo>
                <a:cubicBezTo>
                  <a:pt x="16200" y="10800"/>
                  <a:pt x="10800" y="12316"/>
                  <a:pt x="10800" y="13831"/>
                </a:cubicBezTo>
                <a:lnTo>
                  <a:pt x="10800" y="18569"/>
                </a:lnTo>
                <a:cubicBezTo>
                  <a:pt x="10800" y="200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Oval 8"/>
          <p:cNvGrpSpPr/>
          <p:nvPr/>
        </p:nvGrpSpPr>
        <p:grpSpPr>
          <a:xfrm>
            <a:off x="5638680" y="4724280"/>
            <a:ext cx="1295640" cy="457200"/>
            <a:chOff x="5638680" y="4724280"/>
            <a:chExt cx="1295640" cy="457200"/>
          </a:xfrm>
        </p:grpSpPr>
        <p:pic>
          <p:nvPicPr>
            <p:cNvPr id="155" name="Oval 8" descr=""/>
            <p:cNvPicPr/>
            <p:nvPr/>
          </p:nvPicPr>
          <p:blipFill>
            <a:blip r:embed="rId2"/>
            <a:stretch/>
          </p:blipFill>
          <p:spPr>
            <a:xfrm>
              <a:off x="5638680" y="4724280"/>
              <a:ext cx="1295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1"/>
            <p:cNvSpPr/>
            <p:nvPr/>
          </p:nvSpPr>
          <p:spPr>
            <a:xfrm>
              <a:off x="5638680" y="4797720"/>
              <a:ext cx="1142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68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Oval 9"/>
          <p:cNvGrpSpPr/>
          <p:nvPr/>
        </p:nvGrpSpPr>
        <p:grpSpPr>
          <a:xfrm>
            <a:off x="6858000" y="2438280"/>
            <a:ext cx="1371600" cy="456840"/>
            <a:chOff x="6858000" y="2438280"/>
            <a:chExt cx="1371600" cy="456840"/>
          </a:xfrm>
        </p:grpSpPr>
        <p:pic>
          <p:nvPicPr>
            <p:cNvPr id="158" name="Oval 9" descr=""/>
            <p:cNvPicPr/>
            <p:nvPr/>
          </p:nvPicPr>
          <p:blipFill>
            <a:blip r:embed="rId3"/>
            <a:stretch/>
          </p:blipFill>
          <p:spPr>
            <a:xfrm>
              <a:off x="6858000" y="2438280"/>
              <a:ext cx="137160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4"/>
            <p:cNvSpPr/>
            <p:nvPr/>
          </p:nvSpPr>
          <p:spPr>
            <a:xfrm>
              <a:off x="6933960" y="2438280"/>
              <a:ext cx="1218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Snip and Round Single Corner Rectangle 15"/>
          <p:cNvSpPr/>
          <p:nvPr/>
        </p:nvSpPr>
        <p:spPr>
          <a:xfrm>
            <a:off x="0" y="1066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иоразно-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nip and Round Single Corner Rectangle 16"/>
          <p:cNvSpPr/>
          <p:nvPr/>
        </p:nvSpPr>
        <p:spPr>
          <a:xfrm>
            <a:off x="0" y="3352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Oval 8"/>
          <p:cNvGrpSpPr/>
          <p:nvPr/>
        </p:nvGrpSpPr>
        <p:grpSpPr>
          <a:xfrm>
            <a:off x="4038480" y="2514600"/>
            <a:ext cx="1295280" cy="609480"/>
            <a:chOff x="4038480" y="2514600"/>
            <a:chExt cx="1295280" cy="609480"/>
          </a:xfrm>
        </p:grpSpPr>
        <p:pic>
          <p:nvPicPr>
            <p:cNvPr id="163" name="Oval 8" descr=""/>
            <p:cNvPicPr/>
            <p:nvPr/>
          </p:nvPicPr>
          <p:blipFill>
            <a:blip r:embed="rId4"/>
            <a:stretch/>
          </p:blipFill>
          <p:spPr>
            <a:xfrm>
              <a:off x="4113720" y="2590560"/>
              <a:ext cx="12200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1"/>
            <p:cNvSpPr/>
            <p:nvPr/>
          </p:nvSpPr>
          <p:spPr>
            <a:xfrm>
              <a:off x="4038480" y="2514600"/>
              <a:ext cx="126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6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val 9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Right Brace 4"/>
          <p:cNvSpPr/>
          <p:nvPr/>
        </p:nvSpPr>
        <p:spPr>
          <a:xfrm rot="5400000">
            <a:off x="61718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1904760"/>
              <a:gd name="textAreaBottom" fmla="*/ 18475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7"/>
                  <a:pt x="10800" y="2074"/>
                </a:cubicBezTo>
                <a:lnTo>
                  <a:pt x="10800" y="8903"/>
                </a:lnTo>
                <a:cubicBezTo>
                  <a:pt x="10800" y="9940"/>
                  <a:pt x="16200" y="10977"/>
                  <a:pt x="21600" y="10977"/>
                </a:cubicBezTo>
                <a:cubicBezTo>
                  <a:pt x="16200" y="10977"/>
                  <a:pt x="10800" y="12014"/>
                  <a:pt x="10800" y="13051"/>
                </a:cubicBezTo>
                <a:lnTo>
                  <a:pt x="10800" y="19526"/>
                </a:lnTo>
                <a:cubicBezTo>
                  <a:pt x="10800" y="205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Brace 7"/>
          <p:cNvSpPr/>
          <p:nvPr/>
        </p:nvSpPr>
        <p:spPr>
          <a:xfrm rot="5400000">
            <a:off x="7848360" y="39625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42480 h 1143000"/>
              <a:gd name="textAreaBottom" fmla="*/ 1100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8"/>
                  <a:pt x="10800" y="2576"/>
                </a:cubicBezTo>
                <a:lnTo>
                  <a:pt x="10800" y="8224"/>
                </a:lnTo>
                <a:cubicBezTo>
                  <a:pt x="10800" y="9512"/>
                  <a:pt x="16200" y="10800"/>
                  <a:pt x="21600" y="10800"/>
                </a:cubicBezTo>
                <a:cubicBezTo>
                  <a:pt x="16200" y="10800"/>
                  <a:pt x="10800" y="12088"/>
                  <a:pt x="10800" y="13376"/>
                </a:cubicBezTo>
                <a:lnTo>
                  <a:pt x="10800" y="19024"/>
                </a:lnTo>
                <a:cubicBezTo>
                  <a:pt x="10800" y="20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0" y="502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8 млн. долл. США, предоставленные на финансирование СМ, позволили 138 странам подготовить их Н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о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50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000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олл. США из средств ГЭФ-5 ассигновано странам, имеющим право на получение помощи, на пересмотр и обновление их Н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7315200" y="4800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. прим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27" descr=""/>
          <p:cNvPicPr/>
          <p:nvPr/>
        </p:nvPicPr>
        <p:blipFill>
          <a:blip r:embed="rId6"/>
          <a:stretch/>
        </p:blipFill>
        <p:spPr>
          <a:xfrm>
            <a:off x="2309760" y="3809880"/>
            <a:ext cx="6201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4720" y="1767240"/>
            <a:ext cx="817092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1143000"/>
            <a:ext cx="866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1523880"/>
            <a:ext cx="877248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ходы, связанные с выполнением требований по предоставлению отчетности по КБР, могут быть покрыты за сч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резервированных ресурсов по тематической области (ЗРТО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чем страны-получатели помощи смогут получи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существует возможность комбинировать средств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РТ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финансирования более масштабных проектов стимулирующих мероприят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в Арген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04920" y="472428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обнее о поддержке, предоставляемой в рамках ГЭФ-5 на НСПДБ и проведение сопутствующих мероприятий, см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ttp://www.cbd.int/nbsap/guidance-tools/financ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1341360"/>
            <a:ext cx="8661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 </a:t>
            </a:r>
            <a:r>
              <a:rPr b="1" lang="tr-TR" sz="2000" spc="-1" strike="noStrike">
                <a:solidFill>
                  <a:srgbClr val="1f497d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риме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04920" y="2057400"/>
            <a:ext cx="85341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еле, спрос на средства ЗРТО велик, и ГЭФ принимает предложения по проектам стимулирующих мероприятий в ТО «Биоразнообразие» (СТ БР) на сумму пример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20 тыс. долл. США, исходя из результатов финансового анализа использования предоставленной ранее помощи и с учетом того, что для большинства стран речь идёт о пересмотре уже существующего 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оля средств ГЭФ в бюджете предлагаемого проекта превосходит эту сумму, такой проект требует убедительного обоснов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может предоставляться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веден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ых стратегий и планов действий в области биоразнообраз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СПД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е с новым стратегическим планом КБР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ение руководящих указаний в отношении Механизма посредничества (МП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и 2-го доклада о биобезопасности, а так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-го Национального доклада о биоразнообраз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НЕП предоставила ускоренный доступ к средствам на проведение стимулирующих мероприятий, предназначенным для подготовки 2-го Национального доклада по биобезопасности (должен быть представлен в сент. 2011 г.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6:32Z</dcterms:modified>
  <cp:revision>143</cp:revision>
  <dc:subject/>
  <dc:title>Focal Area and Cross Cutting Strategies – Chemicals</dc:title>
</cp:coreProperties>
</file>