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A83-BA2F-4B58-8724-031E871638B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4CAD-5255-4587-B06E-C1E40CE9C8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AEF7-D3E4-498E-8797-85A732B3AC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3C62-4413-4E1B-9CE2-8679D60224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F769-CB18-489E-A1C8-F269C6BB96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1CA8-49D5-403D-82A7-C6D8564C34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85840" y="1060560"/>
            <a:ext cx="872496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ahLst/>
            <a:rect l="l" t="t" r="r" b="b"/>
            <a:pathLst>
              <a:path w="2209800" h="457200">
                <a:moveTo>
                  <a:pt x="76202" y="0"/>
                </a:moveTo>
                <a:lnTo>
                  <a:pt x="2133598" y="0"/>
                </a:lnTo>
                <a:lnTo>
                  <a:pt x="2209800" y="76202"/>
                </a:lnTo>
                <a:lnTo>
                  <a:pt x="2209800" y="457200"/>
                </a:lnTo>
                <a:lnTo>
                  <a:pt x="0" y="457200"/>
                </a:lnTo>
                <a:lnTo>
                  <a:pt x="0" y="76202"/>
                </a:lnTo>
                <a:cubicBezTo>
                  <a:pt x="0" y="34117"/>
                  <a:pt x="34117" y="0"/>
                  <a:pt x="76202" y="0"/>
                </a:cubicBez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ahLst/>
              <a:rect l="l" t="t" r="r" b="b"/>
              <a:pathLst>
                <a:path w="5029200" h="2209800">
                  <a:moveTo>
                    <a:pt x="0" y="0"/>
                  </a:moveTo>
                  <a:lnTo>
                    <a:pt x="4660893" y="0"/>
                  </a:lnTo>
                  <a:cubicBezTo>
                    <a:pt x="4864303" y="0"/>
                    <a:pt x="5029200" y="164897"/>
                    <a:pt x="5029200" y="368307"/>
                  </a:cubicBezTo>
                  <a:lnTo>
                    <a:pt x="5029200" y="2209800"/>
                  </a:lnTo>
                  <a:lnTo>
                    <a:pt x="0" y="22098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ahLst/>
              <a:rect l="l" t="t" r="r" b="b"/>
              <a:pathLst>
                <a:path w="5105400" h="2057400">
                  <a:moveTo>
                    <a:pt x="0" y="0"/>
                  </a:moveTo>
                  <a:lnTo>
                    <a:pt x="4762493" y="0"/>
                  </a:lnTo>
                  <a:cubicBezTo>
                    <a:pt x="4951875" y="0"/>
                    <a:pt x="5105400" y="153525"/>
                    <a:pt x="5105400" y="342907"/>
                  </a:cubicBezTo>
                  <a:lnTo>
                    <a:pt x="5105400" y="2057400"/>
                  </a:lnTo>
                  <a:lnTo>
                    <a:pt x="0" y="20574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7480" y="1298520"/>
            <a:ext cx="6200640" cy="6588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4840" y="3279600"/>
            <a:ext cx="6201000" cy="6591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7480" y="4876920"/>
            <a:ext cx="6353280" cy="76176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0:43Z</dcterms:modified>
  <cp:revision>145</cp:revision>
  <dc:subject/>
  <dc:title>Focal Area and Cross Cutting Strategies – Chemicals</dc:title>
</cp:coreProperties>
</file>