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7.jpeg" ContentType="image/jpeg"/>
  <Override PartName="/ppt/media/image26.png" ContentType="image/png"/>
  <Override PartName="/ppt/media/image3.png" ContentType="image/png"/>
  <Override PartName="/ppt/media/image33.png" ContentType="image/png"/>
  <Override PartName="/ppt/media/image34.png" ContentType="image/png"/>
  <Override PartName="/ppt/media/image27.png" ContentType="image/png"/>
  <Override PartName="/ppt/media/image12.wmf" ContentType="image/x-wmf"/>
  <Override PartName="/ppt/media/image9.png" ContentType="image/png"/>
  <Override PartName="/ppt/media/image39.png" ContentType="image/png"/>
  <Override PartName="/ppt/media/image41.png" ContentType="image/png"/>
  <Override PartName="/ppt/media/image13.png" ContentType="image/png"/>
  <Override PartName="/ppt/media/image37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38.png" ContentType="image/png"/>
  <Override PartName="/ppt/media/image8.png" ContentType="image/png"/>
  <Override PartName="/ppt/media/image11.png" ContentType="image/png"/>
  <Override PartName="/ppt/media/image18.png" ContentType="image/png"/>
  <Override PartName="/ppt/media/image20.png" ContentType="image/png"/>
  <Override PartName="/ppt/media/image6.png" ContentType="image/png"/>
  <Override PartName="/ppt/media/image36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9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0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1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6A29-D1D3-4E2B-93FD-6377482BAE5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DHWA, Balji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0FD9-C4AA-452E-8473-4F40BF6DA41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8566-D613-4F50-ABD5-C263DAC90AC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5D7E-148E-4D1C-9F5B-40791C8A786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9499-90F4-497E-A08C-D5D5D7F1D1F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8220-3F62-43B9-9194-FB143B033B8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F990-E49F-4C88-A893-D95F9E0F376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5697-588B-4C00-9A5A-03DD486CE61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5544-AE52-4A48-8FD2-428F8966756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B7A3-D41F-47D3-B026-720FAB92C62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629B-533B-4AF1-92A6-E3078799693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5286-A108-4690-8F4F-55DA17910FE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E05C-54C8-4823-8735-9A29FE587F2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6183-EF9A-480E-B241-1FB18D8FA67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Date Placeholder 4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7D1B-D5CC-4566-8845-B21602E0E831}" type="datetime">
              <a:rPr b="0" lang="en-US" sz="13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ooter Placeholder 5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kar, Seneg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162C-6650-42DA-9405-3A1CDE35057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0E5D-29A5-494A-9D33-D9816958FE1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2B4E-507E-4A8E-BABD-E61792DC9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EB45-ECC6-469F-8A77-F6B9B039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7DBF-D452-46DC-81C5-2E0AAFED7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7D57-D125-46C9-A946-CAFD2BB2E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1028-7882-4ACD-9BB6-8BA50718C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BE2D-5B57-487E-A3F7-F95C61FE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CCF3-EBC1-4C17-B4EC-5AA606EF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63FF-E679-4EFE-B408-153E2255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C6AE-34AE-461F-8658-C1ECBA74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D6E9-8AAC-40E5-8EDE-90BF7864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ABE9-871B-498C-B098-A54C0068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AF94-4B74-4EF0-8C4B-7C11DCB7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18B0-B96D-4A8F-99FF-BD633D43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E1C1-D09D-4A49-B05B-04D04403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E466-A446-4A6F-A2B2-9DA441B5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68B1-5EA3-4D15-BBDB-ECCCE1A82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FCDB-3697-45C6-9550-D8F28C89C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372325-C3A0-42EF-BCFE-25FEE67399E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E273FB-663D-4978-A2C5-1E117675860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45D58D-132C-401B-8F0C-871366BA259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D5831A-987A-41CF-9195-720D526798C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00E79D-4F51-461F-998D-E7E66106E4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7151-7AD7-4E4B-9C44-B20D3DF7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8DEA0C-5584-4896-8627-32B437499C9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2160AE-BA2C-46AD-891E-49DFA09A7FD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195853-B258-40FE-B20D-AD6EE28D14C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8EFBFC-4DDA-4729-BB18-45D98FC6DD5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ED8BAA-56E0-4CE1-BA31-7AFF8655503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4787B2-59F8-41D5-8DDB-B549999A154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AF3C21-7667-480D-9900-1CF1666D1A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2ED0-9FA9-4524-820C-04F99E53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0BB7-DB77-44EF-B504-BE70E571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28E6-4A82-425B-9645-489CA393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1D72-8D1B-42B3-8343-623A3ED3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A6E2-027B-47ED-91A1-5500613F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3E38-D94B-41F5-9CE0-E86A9934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D318-D9A5-4820-ABF0-093D203B63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A2C6-EACC-4E75-B40D-8FA6A4F5EB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201F-C7B2-4087-B304-035E60D74E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C62A-A036-4686-935A-D2FB708E89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0" y="0"/>
            <a:ext cx="16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-6480" y="-6480"/>
            <a:ext cx="1231920" cy="6870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9"/>
          <p:cNvSpPr/>
          <p:nvPr/>
        </p:nvSpPr>
        <p:spPr>
          <a:xfrm>
            <a:off x="0" y="0"/>
            <a:ext cx="1219320" cy="152280"/>
          </a:xfrm>
          <a:prstGeom prst="rect">
            <a:avLst/>
          </a:prstGeom>
          <a:solidFill>
            <a:srgbClr val="50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10"/>
          <p:cNvSpPr/>
          <p:nvPr/>
        </p:nvSpPr>
        <p:spPr>
          <a:xfrm>
            <a:off x="0" y="228600"/>
            <a:ext cx="1219320" cy="1440"/>
          </a:xfrm>
          <a:prstGeom prst="line">
            <a:avLst/>
          </a:prstGeom>
          <a:ln w="3168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1219320" y="0"/>
            <a:ext cx="7924680" cy="152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12"/>
          <p:cNvSpPr/>
          <p:nvPr/>
        </p:nvSpPr>
        <p:spPr>
          <a:xfrm>
            <a:off x="990720" y="228600"/>
            <a:ext cx="8153280" cy="1440"/>
          </a:xfrm>
          <a:prstGeom prst="line">
            <a:avLst/>
          </a:prstGeom>
          <a:ln w="2844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5028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2E8C-93EB-4C04-9DCA-8537F640306D}" type="slidenum">
              <a:rPr b="1" lang="en-US" sz="24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gefeo.org/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80720" y="2133720"/>
            <a:ext cx="5410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5400" spc="-1" strike="noStrike">
                <a:solidFill>
                  <a:srgbClr val="31859c"/>
                </a:solidFill>
                <a:latin typeface="Calibri"/>
              </a:rPr>
              <a:t>M&amp;E in the GEF</a:t>
            </a:r>
            <a:r>
              <a:rPr b="1" lang="en-US" sz="4400" spc="-1" strike="noStrike">
                <a:solidFill>
                  <a:srgbClr val="31859c"/>
                </a:solidFill>
                <a:latin typeface="Calibri"/>
              </a:rPr>
              <a:t>	</a:t>
            </a: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Subtitle 2" descr=""/>
          <p:cNvPicPr/>
          <p:nvPr/>
        </p:nvPicPr>
        <p:blipFill>
          <a:blip r:embed="rId2"/>
          <a:stretch/>
        </p:blipFill>
        <p:spPr>
          <a:xfrm>
            <a:off x="1444680" y="2932200"/>
            <a:ext cx="6334200" cy="3249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3"/>
          <a:stretch/>
        </p:blipFill>
        <p:spPr>
          <a:xfrm>
            <a:off x="228600" y="0"/>
            <a:ext cx="1924200" cy="17161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4"/>
          <p:cNvSpPr/>
          <p:nvPr/>
        </p:nvSpPr>
        <p:spPr>
          <a:xfrm>
            <a:off x="7696080" y="0"/>
            <a:ext cx="2590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4"/>
          <a:stretch/>
        </p:blipFill>
        <p:spPr>
          <a:xfrm>
            <a:off x="5334120" y="233280"/>
            <a:ext cx="3581280" cy="110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1219320" y="1440000"/>
            <a:ext cx="6858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management response is required for all evaluation reports presented to the GEF Council by the GEF 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Council takes into account both the evaluation and the management response when taking a deci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EO reports on implementation of decisions annually (Management Action Recor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the case of Country Portfolio Evaluations countries have the opportunity to provide their perspective to Council as we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2F00-94C3-4C27-B26F-74CCD866CC3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59c"/>
                </a:solidFill>
                <a:latin typeface="Calibri"/>
              </a:rPr>
              <a:t>Evaluation Stre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C6D0-18D7-4B2D-AF00-D9552B4677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1371240" y="1440000"/>
            <a:ext cx="7620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erformance Evaluations asses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stitutional and procedural issues across the GEF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cal area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perience with GEF strategies and policie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nnual Performance Report assess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Outcom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stainability of Outcom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uality of Monitoring and Eval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uality of Implementation &amp; Execu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uality of Terminal Evalua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he APR also includes periodic reviews of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uality at Ent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uality of Supervi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-Financ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ther performance iss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6401-3BC0-45A7-B92A-9729BC62308E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1218960" y="1440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views recently completed and in progres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R  2010 and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arth Fu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ed review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Rs 2012 -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 Mid-Term Revi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rect Access Mid-Term Revi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2F90-DF72-468E-8BDB-2876721E0898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1294920" y="1294920"/>
            <a:ext cx="67820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-32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act evaluation assess the positive and negative, primary and secondary long-term effects produced by a development intervention, directly or indirectly, intended or unintend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mes addresse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contributions to progress towards impa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act pathways and factors affecting further progress towards impac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Contributions to changes in environmental stress, environmental status and socio-economic stat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8C6E-0E32-409A-9C02-0FC48E784B2F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67520" cy="8049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1294920" y="1294920"/>
            <a:ext cx="67820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Recently completed and in progres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act evaluation on biodiversity in Peru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national waters (South China Sea), and climate chang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Planne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iodiversity and one more focal area to be determin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tI analysis of closed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03FE-312E-4E9E-9E9E-CA8A1390E8FF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1219320" y="1440000"/>
            <a:ext cx="6858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untry Level Evaluations assess GEF support in a country across all GEF focal areas, Agencies, projects and progra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ountry is used as the unit of analys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PEs assess the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relevan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resul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efficiency</a:t>
            </a: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GEF projects at the country level, to se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these projects perform in producing result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these results are linked to national environmental and sustainable development agendas as well as to the GEF mandate of achieving global environmental benefi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02C3-6A23-4ED3-A1D3-96B02DD17A59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1219320" y="1439640"/>
            <a:ext cx="6858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wo Country Level Evaluations modaliti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lly-fledge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untry Portfolio Evaluations (CPEs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untry Portfolio Studies (CPSs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 reduced in scope, they provide additional evaluative coverage of country portfolios in each GEF geographic reg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PSs are conducted in parallel and in collaboration with a country evaluation of a GEF Agency, to reduce the evaluation burden to countr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ted, ongoing and planned country level evaluation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cently completed and in progr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Nicaragua, OECS, Jamaica, El Salvador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mplet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Brazil, Cuba, India, Timor Leste, Sri Lanka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ongo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lanned FY13-1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: Asia, Africa, MENA, E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B709-321B-4CFE-8CB2-E7885E72233C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1219320" y="1439640"/>
            <a:ext cx="6858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ions on topics of cross-cutting issues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grams, processes, focal area strategies, cross-sectoral and other thematic issues and special review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ently completed evaluation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300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ategic Priority for Adaptation (SP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300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tional Capacity Self-Assessments (NCS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300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al Climate Change Fund (SCCF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ed review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300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ing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300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al Area Strate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CC26-6DDC-4F7A-828E-84A33A601EDE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859c"/>
                </a:solidFill>
                <a:latin typeface="Calibri"/>
              </a:rPr>
              <a:t>Fifth Overall Performance Study</a:t>
            </a:r>
            <a:br>
              <a:rPr sz="4000"/>
            </a:br>
            <a:r>
              <a:rPr b="1" lang="en-US" sz="4000" spc="-1" strike="noStrike">
                <a:solidFill>
                  <a:srgbClr val="31859c"/>
                </a:solidFill>
                <a:latin typeface="Calibri"/>
              </a:rPr>
              <a:t> OPS 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2C58-A3FA-4179-9356-5D9EB87BC9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12193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1859c"/>
                </a:solidFill>
                <a:latin typeface="Calibri"/>
              </a:rPr>
              <a:t>RBM, Monitoring &amp; Evaluat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M&amp;E in the GEF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M&amp;E Levels and Responsible Agenci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1859c"/>
                </a:solidFill>
                <a:latin typeface="Calibri"/>
              </a:rPr>
              <a:t>M&amp;E Poli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Minimum Requiremen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ole of the Focal Poin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1859c"/>
                </a:solidFill>
                <a:latin typeface="Calibri"/>
              </a:rPr>
              <a:t>Evaluations Stream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mpac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ountry Level Evalua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matic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1859c"/>
                </a:solidFill>
                <a:latin typeface="Calibri"/>
              </a:rPr>
              <a:t>OPS5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1859c"/>
                </a:solidFill>
                <a:latin typeface="Calibri"/>
              </a:rPr>
              <a:t>Knowledge Shar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1859c"/>
                </a:solidFill>
                <a:latin typeface="Calibri"/>
              </a:rPr>
              <a:t>GEF Portfolio – Regiona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1859c"/>
                </a:solidFill>
                <a:latin typeface="Calibri"/>
              </a:rPr>
              <a:t>Q&amp;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6216-DE6B-466B-B73E-56C4F00A9C22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5"/>
          <p:cNvSpPr/>
          <p:nvPr/>
        </p:nvSpPr>
        <p:spPr>
          <a:xfrm>
            <a:off x="8001000" y="6230880"/>
            <a:ext cx="587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CB02-148A-4A51-9A9C-AAEC78BAAA19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Rectangle 2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295280" y="14396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olidation and strengthening of the four streams of evaluative evidenc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untry Portfolio Evalu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up to 15 during GEF-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act Evalu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International Waters, Climate Change and other focal ar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formance Evalu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APR continued and strengthened as well as independent process revie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matic Evalu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focal area strategies and adap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1219320" y="1440000"/>
            <a:ext cx="685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ification and ratings of outcome and progress toward impa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verage of the reform process: GEF project cycle and modalities, direct access, STAR, Paragraph 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d attention to the catalytic role of the G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nds in ownership and country driven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nds in global environmental problems and relevance of the GEF to the conven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re in-depth look at the focal area strategies, including sustainable forestry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tter understanding of the longer term impact of the G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723888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B9F8-CA56-404A-8AC3-9B26EC531CAD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1219320" y="1440000"/>
            <a:ext cx="6858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cycle issues: efficiency of decision making in the GEF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keholder consultations: are the ECW developing in a continuous consultation proces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more would be neede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e-survey sufficien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lobal and regional project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fic sub-regional issue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54B4-B9CB-470F-910C-BDF4A79CBDFB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1219320" y="1439640"/>
            <a:ext cx="6858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&amp;E contributes to knowledge building and organizational improvemen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Findings and lessons should be accessible to target audiences in a user-friendly wa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Evaluation reports should be subject to a dynamic dissemination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nowledge sharing enables partners to capitalize on lessons learned from experienc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rpose of KM in the GEF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Promotion of a culture of lear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Application of lessons lear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Feedback to new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D6C3-C051-48AB-BA2D-F83DC9332CC2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0" y="13712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59c"/>
                </a:solidFill>
                <a:latin typeface="Calibri"/>
              </a:rPr>
              <a:t>GEF Portfolio – Central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828800" y="2362320"/>
            <a:ext cx="5867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859c"/>
                </a:solidFill>
                <a:latin typeface="Calibri"/>
                <a:ea typeface="Times New Roman"/>
              </a:rPr>
              <a:t>Burundi, Cameroon, Central African Republic, Congo, Democratic Republic of Congo, Equatorial Guinea, Gabon, Sao Tome and Princi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Title 1" descr=""/>
          <p:cNvPicPr/>
          <p:nvPr/>
        </p:nvPicPr>
        <p:blipFill>
          <a:blip r:embed="rId1"/>
          <a:stretch/>
        </p:blipFill>
        <p:spPr>
          <a:xfrm>
            <a:off x="1219320" y="195120"/>
            <a:ext cx="7931160" cy="8780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3"/>
          <p:cNvSpPr/>
          <p:nvPr/>
        </p:nvSpPr>
        <p:spPr>
          <a:xfrm>
            <a:off x="76320" y="228600"/>
            <a:ext cx="990360" cy="36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rund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amero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entral African Republi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on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Democratic Republic of Con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Equatorial Guin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Gab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ao Tome and Princi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397160" y="1600200"/>
          <a:ext cx="4317840" cy="2286000"/>
        </p:xfrm>
        <a:graphic>
          <a:graphicData uri="http://schemas.openxmlformats.org/drawingml/2006/table">
            <a:tbl>
              <a:tblPr/>
              <a:tblGrid>
                <a:gridCol w="750600"/>
                <a:gridCol w="762120"/>
                <a:gridCol w="903240"/>
                <a:gridCol w="900000"/>
                <a:gridCol w="1001880"/>
              </a:tblGrid>
              <a:tr h="313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al Are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Project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t Amount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G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-Financing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D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,439,03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83,18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2,521,58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C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671,49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37,87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6,874,52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W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,618,78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81,68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5,816,31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159,76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75,0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3,019,5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591,69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,26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985,94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F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655,68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8,5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,231,75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4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4,136,46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226,49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07,449,61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3352680" y="1144440"/>
          <a:ext cx="3505320" cy="365400"/>
        </p:xfrm>
        <a:graphic>
          <a:graphicData uri="http://schemas.openxmlformats.org/drawingml/2006/table">
            <a:tbl>
              <a:tblPr/>
              <a:tblGrid>
                <a:gridCol w="3505320"/>
              </a:tblGrid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 Projects (7 Active, 102 Complet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xcluding dropped, canceled, reject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3" name="Chart 15" descr=""/>
          <p:cNvPicPr/>
          <p:nvPr/>
        </p:nvPicPr>
        <p:blipFill>
          <a:blip r:embed="rId2"/>
          <a:stretch/>
        </p:blipFill>
        <p:spPr>
          <a:xfrm>
            <a:off x="1365120" y="3803760"/>
            <a:ext cx="3975120" cy="3060720"/>
          </a:xfrm>
          <a:prstGeom prst="rect">
            <a:avLst/>
          </a:prstGeom>
          <a:ln w="0">
            <a:noFill/>
          </a:ln>
        </p:spPr>
      </p:pic>
      <p:pic>
        <p:nvPicPr>
          <p:cNvPr id="214" name="Chart 16" descr=""/>
          <p:cNvPicPr/>
          <p:nvPr/>
        </p:nvPicPr>
        <p:blipFill>
          <a:blip r:embed="rId3"/>
          <a:stretch/>
        </p:blipFill>
        <p:spPr>
          <a:xfrm>
            <a:off x="5407200" y="3882960"/>
            <a:ext cx="3504960" cy="2524320"/>
          </a:xfrm>
          <a:prstGeom prst="rect">
            <a:avLst/>
          </a:prstGeom>
          <a:ln w="0">
            <a:noFill/>
          </a:ln>
        </p:spPr>
      </p:pic>
      <p:pic>
        <p:nvPicPr>
          <p:cNvPr id="215" name="Chart 18" descr=""/>
          <p:cNvPicPr/>
          <p:nvPr/>
        </p:nvPicPr>
        <p:blipFill>
          <a:blip r:embed="rId4"/>
          <a:stretch/>
        </p:blipFill>
        <p:spPr>
          <a:xfrm>
            <a:off x="5864400" y="1974960"/>
            <a:ext cx="3047760" cy="1914480"/>
          </a:xfrm>
          <a:prstGeom prst="rect">
            <a:avLst/>
          </a:prstGeom>
          <a:ln w="0">
            <a:noFill/>
          </a:ln>
        </p:spPr>
      </p:pic>
      <p:sp>
        <p:nvSpPr>
          <p:cNvPr id="216" name="TextBox 19"/>
          <p:cNvSpPr/>
          <p:nvPr/>
        </p:nvSpPr>
        <p:spPr>
          <a:xfrm>
            <a:off x="5867280" y="1523880"/>
            <a:ext cx="3124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tal Portfolio (1.65 Billion US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tive (31 M) &amp; Completed (1.61 B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218" name="TextBox 4"/>
          <p:cNvSpPr/>
          <p:nvPr/>
        </p:nvSpPr>
        <p:spPr>
          <a:xfrm>
            <a:off x="3124080" y="914400"/>
            <a:ext cx="4191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ational Portfolio (606.5 Million US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68 Projects (6 Active, 62 Comp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733920" y="1828800"/>
          <a:ext cx="2819160" cy="396720"/>
        </p:xfrm>
        <a:graphic>
          <a:graphicData uri="http://schemas.openxmlformats.org/drawingml/2006/table">
            <a:tbl>
              <a:tblPr/>
              <a:tblGrid>
                <a:gridCol w="1162080"/>
                <a:gridCol w="1657080"/>
              </a:tblGrid>
              <a:tr h="19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F Gra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-Financ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,104,04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,423,33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Rectangle 9"/>
          <p:cNvSpPr/>
          <p:nvPr/>
        </p:nvSpPr>
        <p:spPr>
          <a:xfrm>
            <a:off x="1230120" y="2362320"/>
            <a:ext cx="203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ctive (6 Projects - 1.8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6400800" y="228600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mpleted (62 Projects - 604.6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Chart 12" descr=""/>
          <p:cNvPicPr/>
          <p:nvPr/>
        </p:nvPicPr>
        <p:blipFill>
          <a:blip r:embed="rId2"/>
          <a:stretch/>
        </p:blipFill>
        <p:spPr>
          <a:xfrm>
            <a:off x="5022720" y="2736720"/>
            <a:ext cx="4432320" cy="3743280"/>
          </a:xfrm>
          <a:prstGeom prst="rect">
            <a:avLst/>
          </a:prstGeom>
          <a:ln w="0">
            <a:noFill/>
          </a:ln>
        </p:spPr>
      </p:pic>
      <p:pic>
        <p:nvPicPr>
          <p:cNvPr id="223" name="Chart 13" descr=""/>
          <p:cNvPicPr/>
          <p:nvPr/>
        </p:nvPicPr>
        <p:blipFill>
          <a:blip r:embed="rId3"/>
          <a:stretch/>
        </p:blipFill>
        <p:spPr>
          <a:xfrm>
            <a:off x="1139760" y="2736720"/>
            <a:ext cx="3816360" cy="3743280"/>
          </a:xfrm>
          <a:prstGeom prst="rect">
            <a:avLst/>
          </a:prstGeom>
          <a:ln w="0">
            <a:noFill/>
          </a:ln>
        </p:spPr>
      </p:pic>
      <p:sp>
        <p:nvSpPr>
          <p:cNvPr id="224" name="TextBox 11"/>
          <p:cNvSpPr/>
          <p:nvPr/>
        </p:nvSpPr>
        <p:spPr>
          <a:xfrm>
            <a:off x="76320" y="228600"/>
            <a:ext cx="990360" cy="36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rund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amero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entral African Republi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on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Democratic Republic of Con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Equatorial Guin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Gab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ao Tome and Princi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"/>
          <p:cNvGraphicFramePr/>
          <p:nvPr/>
        </p:nvGraphicFramePr>
        <p:xfrm>
          <a:off x="2971800" y="1533600"/>
          <a:ext cx="4267080" cy="1666800"/>
        </p:xfrm>
        <a:graphic>
          <a:graphicData uri="http://schemas.openxmlformats.org/drawingml/2006/table">
            <a:tbl>
              <a:tblPr/>
              <a:tblGrid>
                <a:gridCol w="784080"/>
                <a:gridCol w="903600"/>
                <a:gridCol w="809280"/>
                <a:gridCol w="744840"/>
                <a:gridCol w="102528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al Are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Project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t Amount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G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-Financing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293,74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88,33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,336,05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284,96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37,87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,024,52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,800,60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81,68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5,816,31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159,76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75,0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019,5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419,47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,26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872,14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F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255,68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9,0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4,957,75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,214,24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332,14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7,026,28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7" name="Chart 8" descr=""/>
          <p:cNvPicPr/>
          <p:nvPr/>
        </p:nvPicPr>
        <p:blipFill>
          <a:blip r:embed="rId2"/>
          <a:stretch/>
        </p:blipFill>
        <p:spPr>
          <a:xfrm>
            <a:off x="5479920" y="3498840"/>
            <a:ext cx="4280040" cy="3133800"/>
          </a:xfrm>
          <a:prstGeom prst="rect">
            <a:avLst/>
          </a:prstGeom>
          <a:ln w="0">
            <a:noFill/>
          </a:ln>
        </p:spPr>
      </p:pic>
      <p:pic>
        <p:nvPicPr>
          <p:cNvPr id="228" name="Chart 9" descr=""/>
          <p:cNvPicPr/>
          <p:nvPr/>
        </p:nvPicPr>
        <p:blipFill>
          <a:blip r:embed="rId3"/>
          <a:stretch/>
        </p:blipFill>
        <p:spPr>
          <a:xfrm>
            <a:off x="1365120" y="3578400"/>
            <a:ext cx="4127760" cy="3054240"/>
          </a:xfrm>
          <a:prstGeom prst="rect">
            <a:avLst/>
          </a:prstGeom>
          <a:ln w="0">
            <a:noFill/>
          </a:ln>
        </p:spPr>
      </p:pic>
      <p:sp>
        <p:nvSpPr>
          <p:cNvPr id="229" name="TextBox 10"/>
          <p:cNvSpPr/>
          <p:nvPr/>
        </p:nvSpPr>
        <p:spPr>
          <a:xfrm>
            <a:off x="1676520" y="3533760"/>
            <a:ext cx="28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mber of Projects per Focal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1"/>
          <p:cNvSpPr/>
          <p:nvPr/>
        </p:nvSpPr>
        <p:spPr>
          <a:xfrm>
            <a:off x="5867280" y="35053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nding per Focal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200400" y="914400"/>
          <a:ext cx="3886200" cy="36504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 (1 Active, 40 Complet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xcluding dropped, canceled, reject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TextBox 13"/>
          <p:cNvSpPr/>
          <p:nvPr/>
        </p:nvSpPr>
        <p:spPr>
          <a:xfrm>
            <a:off x="76320" y="228600"/>
            <a:ext cx="990360" cy="36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rund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amero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entral African Republi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on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Democratic Republic of Con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Equatorial Guin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Gab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ao Tome and Princi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1212840" y="244440"/>
            <a:ext cx="7937640" cy="828720"/>
          </a:xfrm>
          <a:prstGeom prst="rect">
            <a:avLst/>
          </a:prstGeom>
          <a:ln w="0">
            <a:noFill/>
          </a:ln>
        </p:spPr>
      </p:pic>
      <p:pic>
        <p:nvPicPr>
          <p:cNvPr id="234" name="Chart 3" descr=""/>
          <p:cNvPicPr/>
          <p:nvPr/>
        </p:nvPicPr>
        <p:blipFill>
          <a:blip r:embed="rId2"/>
          <a:stretch/>
        </p:blipFill>
        <p:spPr>
          <a:xfrm>
            <a:off x="1212840" y="4260960"/>
            <a:ext cx="3517920" cy="2603520"/>
          </a:xfrm>
          <a:prstGeom prst="rect">
            <a:avLst/>
          </a:prstGeom>
          <a:ln w="0">
            <a:noFill/>
          </a:ln>
        </p:spPr>
      </p:pic>
      <p:pic>
        <p:nvPicPr>
          <p:cNvPr id="235" name="Chart 6" descr=""/>
          <p:cNvPicPr/>
          <p:nvPr/>
        </p:nvPicPr>
        <p:blipFill>
          <a:blip r:embed="rId3"/>
          <a:stretch/>
        </p:blipFill>
        <p:spPr>
          <a:xfrm>
            <a:off x="1139760" y="1444680"/>
            <a:ext cx="4273560" cy="2425680"/>
          </a:xfrm>
          <a:prstGeom prst="rect">
            <a:avLst/>
          </a:prstGeom>
          <a:ln w="0">
            <a:noFill/>
          </a:ln>
        </p:spPr>
      </p:pic>
      <p:sp>
        <p:nvSpPr>
          <p:cNvPr id="236" name="TextBox 7"/>
          <p:cNvSpPr/>
          <p:nvPr/>
        </p:nvSpPr>
        <p:spPr>
          <a:xfrm>
            <a:off x="1295280" y="121932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mber of Projects per Project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8"/>
          <p:cNvSpPr/>
          <p:nvPr/>
        </p:nvSpPr>
        <p:spPr>
          <a:xfrm>
            <a:off x="1371600" y="4114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mber of Projects per Focal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Chart 10" descr=""/>
          <p:cNvPicPr/>
          <p:nvPr/>
        </p:nvPicPr>
        <p:blipFill>
          <a:blip r:embed="rId4"/>
          <a:stretch/>
        </p:blipFill>
        <p:spPr>
          <a:xfrm>
            <a:off x="4950000" y="4260960"/>
            <a:ext cx="4047840" cy="2603520"/>
          </a:xfrm>
          <a:prstGeom prst="rect">
            <a:avLst/>
          </a:prstGeom>
          <a:ln w="0">
            <a:noFill/>
          </a:ln>
        </p:spPr>
      </p:pic>
      <p:pic>
        <p:nvPicPr>
          <p:cNvPr id="239" name="Chart 11" descr=""/>
          <p:cNvPicPr/>
          <p:nvPr/>
        </p:nvPicPr>
        <p:blipFill>
          <a:blip r:embed="rId5"/>
          <a:stretch/>
        </p:blipFill>
        <p:spPr>
          <a:xfrm>
            <a:off x="5102280" y="1517760"/>
            <a:ext cx="4048200" cy="2328840"/>
          </a:xfrm>
          <a:prstGeom prst="rect">
            <a:avLst/>
          </a:prstGeom>
          <a:ln w="0">
            <a:noFill/>
          </a:ln>
        </p:spPr>
      </p:pic>
      <p:sp>
        <p:nvSpPr>
          <p:cNvPr id="240" name="TextBox 12"/>
          <p:cNvSpPr/>
          <p:nvPr/>
        </p:nvSpPr>
        <p:spPr>
          <a:xfrm>
            <a:off x="5943600" y="12952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ount of Funding per Project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3"/>
          <p:cNvSpPr/>
          <p:nvPr/>
        </p:nvSpPr>
        <p:spPr>
          <a:xfrm>
            <a:off x="5943600" y="4114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ount of Funding per Focal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4"/>
          <p:cNvSpPr/>
          <p:nvPr/>
        </p:nvSpPr>
        <p:spPr>
          <a:xfrm>
            <a:off x="76320" y="228600"/>
            <a:ext cx="990360" cy="36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rund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amero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entral African Republi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on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Democratic Republic of Con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Equatorial Guin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Gab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ao Tome and Princi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Chart 3" descr=""/>
          <p:cNvPicPr/>
          <p:nvPr/>
        </p:nvPicPr>
        <p:blipFill>
          <a:blip r:embed="rId1"/>
          <a:stretch/>
        </p:blipFill>
        <p:spPr>
          <a:xfrm>
            <a:off x="1212840" y="1596960"/>
            <a:ext cx="7785000" cy="2139840"/>
          </a:xfrm>
          <a:prstGeom prst="rect">
            <a:avLst/>
          </a:prstGeom>
          <a:ln w="0">
            <a:noFill/>
          </a:ln>
        </p:spPr>
      </p:pic>
      <p:sp>
        <p:nvSpPr>
          <p:cNvPr id="244" name="TextBox 4"/>
          <p:cNvSpPr/>
          <p:nvPr/>
        </p:nvSpPr>
        <p:spPr>
          <a:xfrm>
            <a:off x="3429000" y="144792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mber of Projects per Implementing 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Chart 5" descr=""/>
          <p:cNvPicPr/>
          <p:nvPr/>
        </p:nvPicPr>
        <p:blipFill>
          <a:blip r:embed="rId2"/>
          <a:stretch/>
        </p:blipFill>
        <p:spPr>
          <a:xfrm>
            <a:off x="1139760" y="3956040"/>
            <a:ext cx="8163000" cy="2908440"/>
          </a:xfrm>
          <a:prstGeom prst="rect">
            <a:avLst/>
          </a:prstGeom>
          <a:ln w="0">
            <a:noFill/>
          </a:ln>
        </p:spPr>
      </p:pic>
      <p:sp>
        <p:nvSpPr>
          <p:cNvPr id="246" name="TextBox 6"/>
          <p:cNvSpPr/>
          <p:nvPr/>
        </p:nvSpPr>
        <p:spPr>
          <a:xfrm>
            <a:off x="3352680" y="380988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ount of Funding per Implementing 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8"/>
          <p:cNvSpPr/>
          <p:nvPr/>
        </p:nvSpPr>
        <p:spPr>
          <a:xfrm>
            <a:off x="76320" y="228600"/>
            <a:ext cx="990360" cy="36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rund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amero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entral African Republi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on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Democratic Republic of Con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Equatorial Guin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Gab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ao Tome and Princi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Title 1" descr=""/>
          <p:cNvPicPr/>
          <p:nvPr/>
        </p:nvPicPr>
        <p:blipFill>
          <a:blip r:embed="rId3"/>
          <a:stretch/>
        </p:blipFill>
        <p:spPr>
          <a:xfrm>
            <a:off x="1212840" y="244440"/>
            <a:ext cx="7937640" cy="82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33B5-BCCF-4D40-9CD0-134000CD6B5E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pic>
        <p:nvPicPr>
          <p:cNvPr id="147" name="Title 1" descr=""/>
          <p:cNvPicPr/>
          <p:nvPr/>
        </p:nvPicPr>
        <p:blipFill>
          <a:blip r:embed="rId2"/>
          <a:stretch/>
        </p:blipFill>
        <p:spPr>
          <a:xfrm>
            <a:off x="1219320" y="195120"/>
            <a:ext cx="7931160" cy="878040"/>
          </a:xfrm>
          <a:prstGeom prst="rect">
            <a:avLst/>
          </a:prstGeom>
          <a:ln w="0">
            <a:noFill/>
          </a:ln>
        </p:spPr>
      </p:pic>
      <p:sp>
        <p:nvSpPr>
          <p:cNvPr id="148" name="Content Placeholder 2"/>
          <p:cNvSpPr/>
          <p:nvPr/>
        </p:nvSpPr>
        <p:spPr>
          <a:xfrm>
            <a:off x="1219320" y="1440000"/>
            <a:ext cx="6858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Result based management - Setting goals and objectives, Monitoring, learning and decision ma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Evaluation is a “reality check” on R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RBM,  especially monitoring, tell whether the organization is </a:t>
            </a:r>
            <a:r>
              <a:rPr b="0" lang="en-US" sz="2000" spc="-1" strike="noStrike">
                <a:solidFill>
                  <a:srgbClr val="31859c"/>
                </a:solidFill>
                <a:latin typeface="Calibri"/>
                <a:ea typeface="Verdana"/>
              </a:rPr>
              <a:t>“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  <a:ea typeface="Verdana"/>
              </a:rPr>
              <a:t>on track</a:t>
            </a:r>
            <a:r>
              <a:rPr b="0" lang="en-US" sz="2000" spc="-1" strike="noStrike">
                <a:solidFill>
                  <a:srgbClr val="31859c"/>
                </a:solidFill>
                <a:latin typeface="Calibri"/>
                <a:ea typeface="Verdan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Evaluation could tell whether the organization is </a:t>
            </a:r>
            <a:r>
              <a:rPr b="0" lang="en-US" sz="2000" spc="-1" strike="noStrike">
                <a:solidFill>
                  <a:srgbClr val="31859c"/>
                </a:solidFill>
                <a:latin typeface="Calibri"/>
                <a:ea typeface="Verdana"/>
              </a:rPr>
              <a:t>“on the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  <a:ea typeface="Verdana"/>
              </a:rPr>
              <a:t>right</a:t>
            </a:r>
            <a:r>
              <a:rPr b="0" lang="en-US" sz="2000" spc="-1" strike="noStrike">
                <a:solidFill>
                  <a:srgbClr val="31859c"/>
                </a:solidFill>
                <a:latin typeface="Calibri"/>
                <a:ea typeface="Verdana"/>
              </a:rPr>
              <a:t> trac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0" y="13712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859c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gefeo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84240" y="6357960"/>
            <a:ext cx="587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F68B-8606-4CC2-83CC-8D59859C6151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1219320" y="1440000"/>
            <a:ext cx="6858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1859c"/>
                </a:solidFill>
                <a:latin typeface="Calibri"/>
              </a:rPr>
              <a:t>Two overarching objectives</a:t>
            </a:r>
            <a:r>
              <a:rPr b="0" lang="en-US" sz="2600" spc="-1" strike="noStrike">
                <a:solidFill>
                  <a:srgbClr val="31859c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mot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countabil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 the achievement of GEF objectives through the assessment of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resul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effectiven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process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performance</a:t>
            </a: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the partners involved in GEF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mot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arn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eedbac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nowledge sharing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results and lessons learned among the GEF and its partners as a basis for decision making on policies, strategies, program management, programs, and projects; and to impro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nowledg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9F6A-0055-4161-A864-92AFC9AB9CA4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5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3CA8-8F61-41A0-8739-F9CF69F46082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Content Placeholder 4" descr=""/>
          <p:cNvPicPr/>
          <p:nvPr/>
        </p:nvPicPr>
        <p:blipFill>
          <a:blip r:embed="rId2"/>
          <a:stretch/>
        </p:blipFill>
        <p:spPr>
          <a:xfrm>
            <a:off x="1143000" y="1066680"/>
            <a:ext cx="7391520" cy="5791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1219320" y="1439640"/>
            <a:ext cx="6858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sign of M&amp;E Pl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ted and fully budgeted M&amp;E plans by CEO endorsement for FSPs, and CEO approval for MSPs. Project log frames should align with GEF Focal Area result frameworks contained in the GEF-5 RB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lementation of M&amp;E Pl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/program monitoring and supervision will include execution of the M&amp;E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/Program Evalu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full and medium size projects will be evaluated. Reports should be sent to the GEF EO within 12 months of project comple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ngagement of Operational Focal Poi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&amp;E Plans should explain how GEF OFPs will be engaged in M&amp;E activit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3010-DB1C-483C-9810-D9711585F1C1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1219320" y="1440000"/>
            <a:ext cx="685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</a:rPr>
              <a:t>Engagement of Operational Focal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&amp;E plans should include how OFPs will be engag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Ps will be informed on M&amp;E activities, including Mid Term Reviews and Terminal Evaluations, receiving drafts for comments and final repo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Ps will be invited to contribute to the management response (where applicab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Agencies keep track of the application of this requirement in their GEF financed projects and progra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Bef>
                <a:spcPts val="45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1667-024C-48F1-A8B3-7206D264ACAE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1219320" y="1439640"/>
            <a:ext cx="6858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eep track of GEF suppor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t the national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ep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akeholders inform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nsult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 plans, implementation and results of GEF activities in the coun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isseminat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&amp;E information, promoting use of evaluation recommendations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ssons lear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ssist the Evaluation Offi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s the first point of entry into a country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identify major relevant stakehold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coordinate meet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assist with agend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coordinate country responses to these evalu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7765-C11D-4F84-A799-C1CF0B2976F5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1219320" y="1440000"/>
            <a:ext cx="6858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component: enhancing capacities to monitor and evaluate environmental impacts and trends. This should be identified as a priority in the NCSA capacity development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tion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apacity development plan should be formulated as a medium size project, or it should be integrated into a broader proposal that would be formulated as MSP or FSP – if MSP it should have 1:1 cofun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of regional partnerships could be conside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ding available from $44m set-aside for capacity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8D04-9EAC-49DB-82BF-2D7F1C50D801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20:45:39Z</dcterms:created>
  <dc:creator>Soledad</dc:creator>
  <dc:description/>
  <dc:language>en-US</dc:language>
  <cp:lastModifiedBy>wb350798</cp:lastModifiedBy>
  <dcterms:modified xsi:type="dcterms:W3CDTF">2012-03-14T21:48:45Z</dcterms:modified>
  <cp:revision>321</cp:revision>
  <dc:subject/>
  <dc:title>Slide 1</dc:title>
</cp:coreProperties>
</file>