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1EE-D3DD-47A0-BB32-6A52FB41AE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A6F5-EA15-4938-8442-C23E6BABA7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95B-C499-4A45-8BDC-CF8F60CB88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08F-C06A-4261-B048-2198D664851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457-8376-497C-9A65-AC8212827C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7940-DFB0-4891-BAB8-399CE60C78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4DD-75BB-4DA6-B394-FB9CD2B230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06D-946E-4F42-A4ED-E60B23143B6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A505-1117-4533-A177-C31B9500F2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22D-EBC5-47B0-9982-AAC36DA2D2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261C-BA1D-4113-9C77-4487B49762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E09-2FD1-4151-B5FE-E64217BC6B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A9A-AD90-4C23-BA7C-C057C5D845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59A-21D2-400C-8B75-868721B813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2170-6A67-4FD9-92FC-FD8B53FF5EA3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BBF-0E31-48BA-AE23-1B056F9A24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1EC-3F65-4EE6-90E5-540502E511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995-3861-45EB-9F35-F53E404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122-45CE-4A34-AE5F-1D743E4B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24C-0A20-49B5-812F-7988019A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B0B-FE6B-4913-ACCE-B1CFFC2C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A69-7CB8-41FD-BC6A-D0B1E0A7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18D2-5E67-49DD-8A8E-A1DD332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C0C6-751B-4B79-B18B-A50B8CC5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F6E7-5966-4655-865A-69856FD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C81-2986-4ACD-86A9-2C785F2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528B-B3F8-4248-BC0B-F5730E1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9E36-EEEE-47FC-B13F-0FD011F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A14-7456-4F69-8D98-1CE95B8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346D-EA98-4CA9-8BB8-03EE01E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687C-8E53-43B3-8E3B-958DC2E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91C-37CC-4696-ADE2-F1D6F627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649F-B1B8-4C2E-91FF-3EA4BC41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EC13-3414-4EAA-83EA-8EDD063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3836B-12E6-4317-B484-428E140E6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778B7-4877-42FD-8706-324BE0700D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EE933-4FC8-4D70-B4EE-208B48030D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F2892-C184-416C-9A53-4532A4DE25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D42D4-BE28-4ACB-874A-C7F8B06E3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BEF-F1B3-482B-BF85-EA2A159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26E6F-A965-4FC6-8DCB-30D3BD6909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C52C1-DE78-4584-BA5D-2D0F82875F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5EC79-A06C-4BCD-84FD-B07F46FC29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B8BA5-E6A6-49D4-A3A2-88CD1E6FF6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EA8F5-6F6D-4201-A198-5A25A740B8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911BB-7A63-416E-8776-49A2238B21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73889-E493-48F7-B2A7-15DCC2DCE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A6B-3068-4CA7-838D-D0CF259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53-23A2-4F6B-B4EC-982EB549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299-B181-4DA2-8171-2F4A569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1A3-CA63-4944-82A1-E4E5521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E5B-ADC9-468B-A39F-39EFAFA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D04-46B2-46EB-A79A-CEB41C2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4DED-F47C-43B1-BBCE-EAF0261E8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9E8-4948-4FCA-AC08-1FEFA0220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AE1-037E-4B7F-860E-2074A476A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85F3-1C22-42C5-8A0C-9DDB0D2C4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596-BDF9-4A61-A99E-C8BDE5FE2995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932200"/>
            <a:ext cx="6334200" cy="32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228600" y="0"/>
            <a:ext cx="192420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DB0-1833-47B5-951D-1164F7C4026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B2CC-0EFA-40EC-AD40-049F415D9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C29-18B2-4E38-AC50-320522C54F1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A6F8-A24C-43CC-8F8C-9A5BF8C5701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0F7-4647-442F-A5B8-BD9DD7846DB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CF7C-FF7F-4257-B886-5171020326B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840-4F67-4AE1-930F-FDCDBEB469F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512-AAB2-41EF-8350-4768F4A42ED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EA5-D943-41C9-9985-89210F1CB1A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58E-B341-4C8B-BAA5-C44923312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CCE-791E-46CD-B1D1-FA75A1A51CB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75C-0289-4BA2-BA25-0614B618F3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379-44BB-4380-9777-D82CB261F9C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8E4-B935-4ED7-954A-0B2896DC5C3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0A0-3381-4926-9946-F64215F2699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GEF Portfolio – Central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80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Times New Roman"/>
              </a:rPr>
              <a:t>Burundi, Cameroon, Central African Republic, Congo, Democratic Republic of Congo, Equatorial Guinea, Gabon, Sao Tome and Prin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7160" y="1600200"/>
          <a:ext cx="4317840" cy="2286000"/>
        </p:xfrm>
        <a:graphic>
          <a:graphicData uri="http://schemas.openxmlformats.org/drawingml/2006/table">
            <a:tbl>
              <a:tblPr/>
              <a:tblGrid>
                <a:gridCol w="750600"/>
                <a:gridCol w="762120"/>
                <a:gridCol w="903240"/>
                <a:gridCol w="900000"/>
                <a:gridCol w="1001880"/>
              </a:tblGrid>
              <a:tr h="3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439,0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3,1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,521,5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71,4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87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18,7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91,6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85,9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31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,136,4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26,4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7,449,6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352680" y="1144440"/>
          <a:ext cx="3505320" cy="365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Projects (7 Active, 102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Chart 15" descr=""/>
          <p:cNvPicPr/>
          <p:nvPr/>
        </p:nvPicPr>
        <p:blipFill>
          <a:blip r:embed="rId2"/>
          <a:stretch/>
        </p:blipFill>
        <p:spPr>
          <a:xfrm>
            <a:off x="1365120" y="3803760"/>
            <a:ext cx="3975120" cy="3060720"/>
          </a:xfrm>
          <a:prstGeom prst="rect">
            <a:avLst/>
          </a:prstGeom>
          <a:ln w="0">
            <a:noFill/>
          </a:ln>
        </p:spPr>
      </p:pic>
      <p:pic>
        <p:nvPicPr>
          <p:cNvPr id="214" name="Chart 16" descr=""/>
          <p:cNvPicPr/>
          <p:nvPr/>
        </p:nvPicPr>
        <p:blipFill>
          <a:blip r:embed="rId3"/>
          <a:stretch/>
        </p:blipFill>
        <p:spPr>
          <a:xfrm>
            <a:off x="5407200" y="388296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15" name="Chart 18" descr=""/>
          <p:cNvPicPr/>
          <p:nvPr/>
        </p:nvPicPr>
        <p:blipFill>
          <a:blip r:embed="rId4"/>
          <a:stretch/>
        </p:blipFill>
        <p:spPr>
          <a:xfrm>
            <a:off x="5864400" y="1974960"/>
            <a:ext cx="304776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5867280" y="1523880"/>
            <a:ext cx="3124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Portfolio (1.65 Billion US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(31 M) &amp; Completed (1.61 B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124080" y="91440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Portfolio (606.5 Million U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8 Projects (6 Active, 62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33920" y="1828800"/>
          <a:ext cx="2819160" cy="396720"/>
        </p:xfrm>
        <a:graphic>
          <a:graphicData uri="http://schemas.openxmlformats.org/drawingml/2006/table">
            <a:tbl>
              <a:tblPr/>
              <a:tblGrid>
                <a:gridCol w="1162080"/>
                <a:gridCol w="165708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 G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04,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423,3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9"/>
          <p:cNvSpPr/>
          <p:nvPr/>
        </p:nvSpPr>
        <p:spPr>
          <a:xfrm>
            <a:off x="1230120" y="23623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(6 Projects - 1.8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400800" y="22860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(62 Projects - 604.6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12" descr=""/>
          <p:cNvPicPr/>
          <p:nvPr/>
        </p:nvPicPr>
        <p:blipFill>
          <a:blip r:embed="rId2"/>
          <a:stretch/>
        </p:blipFill>
        <p:spPr>
          <a:xfrm>
            <a:off x="5022720" y="2736720"/>
            <a:ext cx="4432320" cy="374328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3" descr=""/>
          <p:cNvPicPr/>
          <p:nvPr/>
        </p:nvPicPr>
        <p:blipFill>
          <a:blip r:embed="rId3"/>
          <a:stretch/>
        </p:blipFill>
        <p:spPr>
          <a:xfrm>
            <a:off x="1139760" y="273672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971800" y="1533600"/>
          <a:ext cx="4267080" cy="1666800"/>
        </p:xfrm>
        <a:graphic>
          <a:graphicData uri="http://schemas.openxmlformats.org/drawingml/2006/table">
            <a:tbl>
              <a:tblPr/>
              <a:tblGrid>
                <a:gridCol w="784080"/>
                <a:gridCol w="903600"/>
                <a:gridCol w="809280"/>
                <a:gridCol w="744840"/>
                <a:gridCol w="10252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93,7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8,3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336,0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4,9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02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800,6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19,4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72,1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957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14,2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32,1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026,2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Chart 8" descr=""/>
          <p:cNvPicPr/>
          <p:nvPr/>
        </p:nvPicPr>
        <p:blipFill>
          <a:blip r:embed="rId2"/>
          <a:stretch/>
        </p:blipFill>
        <p:spPr>
          <a:xfrm>
            <a:off x="5479920" y="3498840"/>
            <a:ext cx="4280040" cy="3133800"/>
          </a:xfrm>
          <a:prstGeom prst="rect">
            <a:avLst/>
          </a:prstGeom>
          <a:ln w="0">
            <a:noFill/>
          </a:ln>
        </p:spPr>
      </p:pic>
      <p:pic>
        <p:nvPicPr>
          <p:cNvPr id="228" name="Chart 9" descr=""/>
          <p:cNvPicPr/>
          <p:nvPr/>
        </p:nvPicPr>
        <p:blipFill>
          <a:blip r:embed="rId3"/>
          <a:stretch/>
        </p:blipFill>
        <p:spPr>
          <a:xfrm>
            <a:off x="1365120" y="3578400"/>
            <a:ext cx="4127760" cy="305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676520" y="35337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5867280" y="3505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00400" y="914400"/>
          <a:ext cx="3886200" cy="365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(1 Active, 40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1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pic>
        <p:nvPicPr>
          <p:cNvPr id="234" name="Chart 3" descr=""/>
          <p:cNvPicPr/>
          <p:nvPr/>
        </p:nvPicPr>
        <p:blipFill>
          <a:blip r:embed="rId2"/>
          <a:stretch/>
        </p:blipFill>
        <p:spPr>
          <a:xfrm>
            <a:off x="1212840" y="4260960"/>
            <a:ext cx="3517920" cy="2603520"/>
          </a:xfrm>
          <a:prstGeom prst="rect">
            <a:avLst/>
          </a:prstGeom>
          <a:ln w="0">
            <a:noFill/>
          </a:ln>
        </p:spPr>
      </p:pic>
      <p:pic>
        <p:nvPicPr>
          <p:cNvPr id="235" name="Chart 6" descr=""/>
          <p:cNvPicPr/>
          <p:nvPr/>
        </p:nvPicPr>
        <p:blipFill>
          <a:blip r:embed="rId3"/>
          <a:stretch/>
        </p:blipFill>
        <p:spPr>
          <a:xfrm>
            <a:off x="1139760" y="1444680"/>
            <a:ext cx="4273560" cy="242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295280" y="1219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371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10" descr=""/>
          <p:cNvPicPr/>
          <p:nvPr/>
        </p:nvPicPr>
        <p:blipFill>
          <a:blip r:embed="rId4"/>
          <a:stretch/>
        </p:blipFill>
        <p:spPr>
          <a:xfrm>
            <a:off x="4950000" y="4260960"/>
            <a:ext cx="4047840" cy="260352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1" descr=""/>
          <p:cNvPicPr/>
          <p:nvPr/>
        </p:nvPicPr>
        <p:blipFill>
          <a:blip r:embed="rId5"/>
          <a:stretch/>
        </p:blipFill>
        <p:spPr>
          <a:xfrm>
            <a:off x="5102280" y="1517760"/>
            <a:ext cx="4048200" cy="232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5943600" y="1295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943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212840" y="1596960"/>
            <a:ext cx="7785000" cy="213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429000" y="14479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hart 5" descr=""/>
          <p:cNvPicPr/>
          <p:nvPr/>
        </p:nvPicPr>
        <p:blipFill>
          <a:blip r:embed="rId2"/>
          <a:stretch/>
        </p:blipFill>
        <p:spPr>
          <a:xfrm>
            <a:off x="1139760" y="3956040"/>
            <a:ext cx="8163000" cy="2908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352680" y="380988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itle 1" descr=""/>
          <p:cNvPicPr/>
          <p:nvPr/>
        </p:nvPicPr>
        <p:blipFill>
          <a:blip r:embed="rId3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3E92-A4FC-4F81-B8E8-481A454E13C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8BD-5778-48F7-A388-961DC7A9BD8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1F3-8F11-409C-9D3B-0E95B958BBA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A66-9FBF-4F9B-8F6B-D31EF96411B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8CB-08FB-45C4-82C3-52F23588565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8EA-AB02-4881-966D-950B2BCD48C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0B1-C76E-45AA-A50E-144CC8F62C4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820-7FA5-4EF9-899E-68DC24A70AE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3-14T21:48:45Z</dcterms:modified>
  <cp:revision>321</cp:revision>
  <dc:subject/>
  <dc:title>Slide 1</dc:title>
</cp:coreProperties>
</file>