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485-5CC5-4704-8888-FFBDD699FE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D1D-09DA-472C-9291-F17AF00639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CBA-BF6C-4466-A937-6567408504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9EC-A61A-468E-9B69-C9C3A1CF28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17EB-9D6E-42AA-916D-088897C370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BD3-FEE2-4987-801E-8A70899EC42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1849-A22E-478D-B30D-5D86D930A0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6CC-0B9C-42F6-B0BE-41C2424D46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6EF-C151-48CF-966B-76036FB2AC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A6E-82B3-4D88-924A-89D8F95161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349-9155-4FFE-8402-C5402BFBB7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2579-9D1E-4BE0-A3FD-E07B1C565B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EBA-FDAB-4A44-8CF2-5F6042A116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CD3-C527-4977-92D7-303B2BC92B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6E3-E122-43E1-9B8B-AE09A497D4E1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BCE-35FD-483D-93CA-8E054DA697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E76-9862-4089-AD79-538524793D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82D-F40F-430B-8197-50635402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530-DCB1-4BB0-89B9-4BE935F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EC2-56E6-4E53-BF7B-393974B7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BE8-92A6-4D52-940F-6B5C2659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CE37-B38C-4BED-8500-9C2F0421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96D0-426C-4486-A1E7-E6F6DD4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CE4-17CF-431E-BE78-5548CDC5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14C-90FF-4792-9A8A-1F135A99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B0FC-74A9-4CB6-ACBB-488145A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DB8-A677-4D88-8158-97995269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DEC-C513-4B2E-B4B6-6BF4AC8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140-27D5-4499-9A3F-38FCC582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18F6-CBA8-44E1-B5EF-98EA5FA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5C60-80B3-442B-9EE6-CE9C507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7B38-B6FA-409F-8CCD-48E0E71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2F79-8C16-477A-AEB7-068D4932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029D-F1A5-4FB1-A390-9522517B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5DECB-B9A7-48D8-95A7-BC5676ED3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8A5D6-F8A0-40DB-A330-A95B10DB66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0C5D1-6BFD-4046-A57C-BF102D252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C7DEF-275D-4DC7-A53F-8F486AD102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A100A-034C-4F21-8340-5229B4105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9FC-3FCF-4FAD-A598-16A7E63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DE71E-3658-4ABA-9862-A8AFB0F525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F5A5E-2CF1-43A5-85DE-7976C352B8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EB3FA-5999-41CB-B331-660D8AE32A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0C399-EAFB-4F65-81CF-3A451776C6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5615B-6E68-4F11-A962-8ECC1E8BA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29B68-4026-406F-8659-29F1D1D7E7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C27C0-D946-4F8A-B70B-B9C66EBEB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055-AAE7-4674-A01A-35A56CE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300-DDF2-42AA-8037-E79C679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3E3-01C8-403B-B7C4-A0B5EFA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94B-A673-4F7A-83E4-0DE9741B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A30-1436-4E2B-9D31-7F09AAE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137-6CC3-4ADD-BF16-99CEA8F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CDF-96E8-4524-80BE-14F4E4FA5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33A-F205-4FA1-A90B-9F11D995D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024-B967-4671-BACF-D7CD3400A5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43B7-3825-4F24-954C-190F078C8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16DA-1DCE-4BCA-8195-1A4E21355159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932200"/>
            <a:ext cx="6334200" cy="32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228600" y="0"/>
            <a:ext cx="192420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124-D38F-479B-98F7-1D443012502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D92-6BED-465D-853C-2B05B0655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AE0-2C16-45BE-AC16-64B88F044EB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00C-A206-40B3-A742-8CA28F059BD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B47-59A2-4E0E-810C-6B732B40C1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C369-3A29-447D-9F0D-502C83A10E0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3F8-77FD-4F75-B299-E807373772E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B2D-0EF5-4F55-8613-E6C0980A75E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3A4-C2C9-4330-9158-E7A182684C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FF78-84BB-4D3A-AA9C-1BFCCDC0B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B381-649D-44F8-97A0-04A879D16E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184-C52C-4B80-B3E4-79F8A67F03B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8DA-54B2-431B-8706-FA7F8BE32D4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DB1-7B5B-4AFC-8B81-6D0E4934528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3D52-1650-4202-8D98-655231EB5AC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GEF Portfolio – Central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80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Times New Roman"/>
              </a:rPr>
              <a:t>Burundi, Cameroon, Central African Republic, Congo, Democratic Republic of Congo, Equatorial Guinea, Gabon, Sao Tome and Prin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7160" y="1600200"/>
          <a:ext cx="4317840" cy="2286000"/>
        </p:xfrm>
        <a:graphic>
          <a:graphicData uri="http://schemas.openxmlformats.org/drawingml/2006/table">
            <a:tbl>
              <a:tblPr/>
              <a:tblGrid>
                <a:gridCol w="750600"/>
                <a:gridCol w="762120"/>
                <a:gridCol w="903240"/>
                <a:gridCol w="900000"/>
                <a:gridCol w="1001880"/>
              </a:tblGrid>
              <a:tr h="3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439,0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3,1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,521,5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71,4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87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18,7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91,6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85,9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31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,136,4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26,4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7,449,6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352680" y="1144440"/>
          <a:ext cx="3505320" cy="365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Projects (7 Active, 102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Chart 15" descr=""/>
          <p:cNvPicPr/>
          <p:nvPr/>
        </p:nvPicPr>
        <p:blipFill>
          <a:blip r:embed="rId2"/>
          <a:stretch/>
        </p:blipFill>
        <p:spPr>
          <a:xfrm>
            <a:off x="1365120" y="3803760"/>
            <a:ext cx="3975120" cy="3060720"/>
          </a:xfrm>
          <a:prstGeom prst="rect">
            <a:avLst/>
          </a:prstGeom>
          <a:ln w="0">
            <a:noFill/>
          </a:ln>
        </p:spPr>
      </p:pic>
      <p:pic>
        <p:nvPicPr>
          <p:cNvPr id="214" name="Chart 16" descr=""/>
          <p:cNvPicPr/>
          <p:nvPr/>
        </p:nvPicPr>
        <p:blipFill>
          <a:blip r:embed="rId3"/>
          <a:stretch/>
        </p:blipFill>
        <p:spPr>
          <a:xfrm>
            <a:off x="5407200" y="388296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15" name="Chart 18" descr=""/>
          <p:cNvPicPr/>
          <p:nvPr/>
        </p:nvPicPr>
        <p:blipFill>
          <a:blip r:embed="rId4"/>
          <a:stretch/>
        </p:blipFill>
        <p:spPr>
          <a:xfrm>
            <a:off x="5864400" y="1974960"/>
            <a:ext cx="304776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5867280" y="1523880"/>
            <a:ext cx="3124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Portfolio (1.65 Billion US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(31 M) &amp; Completed (1.61 B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124080" y="91440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Portfolio (606.5 Million U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8 Projects (6 Active, 62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33920" y="1828800"/>
          <a:ext cx="2819160" cy="396720"/>
        </p:xfrm>
        <a:graphic>
          <a:graphicData uri="http://schemas.openxmlformats.org/drawingml/2006/table">
            <a:tbl>
              <a:tblPr/>
              <a:tblGrid>
                <a:gridCol w="1162080"/>
                <a:gridCol w="165708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 G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04,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423,3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9"/>
          <p:cNvSpPr/>
          <p:nvPr/>
        </p:nvSpPr>
        <p:spPr>
          <a:xfrm>
            <a:off x="1230120" y="23623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(6 Projects - 1.8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400800" y="22860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(62 Projects - 604.6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12" descr=""/>
          <p:cNvPicPr/>
          <p:nvPr/>
        </p:nvPicPr>
        <p:blipFill>
          <a:blip r:embed="rId2"/>
          <a:stretch/>
        </p:blipFill>
        <p:spPr>
          <a:xfrm>
            <a:off x="5022720" y="2736720"/>
            <a:ext cx="4432320" cy="374328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3" descr=""/>
          <p:cNvPicPr/>
          <p:nvPr/>
        </p:nvPicPr>
        <p:blipFill>
          <a:blip r:embed="rId3"/>
          <a:stretch/>
        </p:blipFill>
        <p:spPr>
          <a:xfrm>
            <a:off x="1139760" y="273672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971800" y="1533600"/>
          <a:ext cx="4267080" cy="1666800"/>
        </p:xfrm>
        <a:graphic>
          <a:graphicData uri="http://schemas.openxmlformats.org/drawingml/2006/table">
            <a:tbl>
              <a:tblPr/>
              <a:tblGrid>
                <a:gridCol w="784080"/>
                <a:gridCol w="903600"/>
                <a:gridCol w="809280"/>
                <a:gridCol w="744840"/>
                <a:gridCol w="10252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93,7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8,3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336,0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4,9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02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800,6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19,4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72,1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957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14,2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32,1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026,2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Chart 8" descr=""/>
          <p:cNvPicPr/>
          <p:nvPr/>
        </p:nvPicPr>
        <p:blipFill>
          <a:blip r:embed="rId2"/>
          <a:stretch/>
        </p:blipFill>
        <p:spPr>
          <a:xfrm>
            <a:off x="5479920" y="3498840"/>
            <a:ext cx="4280040" cy="3133800"/>
          </a:xfrm>
          <a:prstGeom prst="rect">
            <a:avLst/>
          </a:prstGeom>
          <a:ln w="0">
            <a:noFill/>
          </a:ln>
        </p:spPr>
      </p:pic>
      <p:pic>
        <p:nvPicPr>
          <p:cNvPr id="228" name="Chart 9" descr=""/>
          <p:cNvPicPr/>
          <p:nvPr/>
        </p:nvPicPr>
        <p:blipFill>
          <a:blip r:embed="rId3"/>
          <a:stretch/>
        </p:blipFill>
        <p:spPr>
          <a:xfrm>
            <a:off x="1365120" y="3578400"/>
            <a:ext cx="4127760" cy="305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676520" y="35337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5867280" y="3505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00400" y="914400"/>
          <a:ext cx="3886200" cy="365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(1 Active, 40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1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pic>
        <p:nvPicPr>
          <p:cNvPr id="234" name="Chart 3" descr=""/>
          <p:cNvPicPr/>
          <p:nvPr/>
        </p:nvPicPr>
        <p:blipFill>
          <a:blip r:embed="rId2"/>
          <a:stretch/>
        </p:blipFill>
        <p:spPr>
          <a:xfrm>
            <a:off x="1212840" y="4260960"/>
            <a:ext cx="3517920" cy="2603520"/>
          </a:xfrm>
          <a:prstGeom prst="rect">
            <a:avLst/>
          </a:prstGeom>
          <a:ln w="0">
            <a:noFill/>
          </a:ln>
        </p:spPr>
      </p:pic>
      <p:pic>
        <p:nvPicPr>
          <p:cNvPr id="235" name="Chart 6" descr=""/>
          <p:cNvPicPr/>
          <p:nvPr/>
        </p:nvPicPr>
        <p:blipFill>
          <a:blip r:embed="rId3"/>
          <a:stretch/>
        </p:blipFill>
        <p:spPr>
          <a:xfrm>
            <a:off x="1139760" y="1444680"/>
            <a:ext cx="4273560" cy="242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295280" y="1219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371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10" descr=""/>
          <p:cNvPicPr/>
          <p:nvPr/>
        </p:nvPicPr>
        <p:blipFill>
          <a:blip r:embed="rId4"/>
          <a:stretch/>
        </p:blipFill>
        <p:spPr>
          <a:xfrm>
            <a:off x="4950000" y="4260960"/>
            <a:ext cx="4047840" cy="260352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1" descr=""/>
          <p:cNvPicPr/>
          <p:nvPr/>
        </p:nvPicPr>
        <p:blipFill>
          <a:blip r:embed="rId5"/>
          <a:stretch/>
        </p:blipFill>
        <p:spPr>
          <a:xfrm>
            <a:off x="5102280" y="1517760"/>
            <a:ext cx="4048200" cy="232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5943600" y="1295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943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212840" y="1596960"/>
            <a:ext cx="7785000" cy="213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429000" y="14479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hart 5" descr=""/>
          <p:cNvPicPr/>
          <p:nvPr/>
        </p:nvPicPr>
        <p:blipFill>
          <a:blip r:embed="rId2"/>
          <a:stretch/>
        </p:blipFill>
        <p:spPr>
          <a:xfrm>
            <a:off x="1139760" y="3956040"/>
            <a:ext cx="8163000" cy="2908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352680" y="380988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itle 1" descr=""/>
          <p:cNvPicPr/>
          <p:nvPr/>
        </p:nvPicPr>
        <p:blipFill>
          <a:blip r:embed="rId3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B4E-7BD4-4884-A484-7E296A32DE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2F8-3CD8-4AED-80F4-DD5FA02DD4C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B8C9-2875-47D9-B4F9-C6A2BF0126C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87F2-0BC7-4B7E-A749-1993C9978CA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2FB8-8EE7-4CFE-92D1-02BE61C927B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544-ACC7-4F37-81D4-A90D7919C0E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F46-9288-4BE4-AED3-C329CEDE22A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DDF-495C-4CA8-AABB-D3146D23E2F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3-14T21:48:45Z</dcterms:modified>
  <cp:revision>321</cp:revision>
  <dc:subject/>
  <dc:title>Slide 1</dc:title>
</cp:coreProperties>
</file>