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0577-D6C4-458E-AC90-169DC1FBC95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4F7B-0303-4F70-9A2D-57A09C6D51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775F-911B-432D-8A42-498C84350A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FC7F-DCC7-484A-9CD8-F1718BC85C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12F3-8F68-4769-8C1E-955CFF661C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7339-759F-40B9-90CA-E1D58A8206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5978-82FA-4E41-898E-F9A965D010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5FF6-A0F0-4DE6-BD14-18A622E7DC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E321-703C-4E7D-A9F9-99FDF8ACF4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5C7E-2043-4D36-8D3C-B3282A415C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5330-DE00-4C02-8C80-992D640D8E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C142-76C3-44D7-9C6E-823DB602EF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8F43-8E92-4C44-8FB1-7C97436A7B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3486-7A4A-468A-8CE4-85432FCB33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62CA-EA36-4FC7-B8A5-CEECB97AD3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to 10 May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 and Barbud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6:36Z</dcterms:modified>
  <cp:revision>112</cp:revision>
  <dc:subject/>
  <dc:title>Focal Area and Cross Cutting Strategies – Chemicals</dc:title>
</cp:coreProperties>
</file>