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0907-EA67-4D8F-8769-FD1C66BDC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1398-7CD8-4B1E-94F2-1B06DAC15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BCA6-BBCB-4719-8BD2-5A3559C9A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B88F-6CF5-4D0A-A52C-39DFAAD3C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B669-C081-44A7-BC83-62163C450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B1E2-2653-4586-B77B-EE76DB6C8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C4AD-F525-4DCF-82E8-13249FA55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17 - 19 avril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Ouagadougou, Burkina Faso</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9480" y="1504800"/>
            <a:ext cx="7620120" cy="428004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Lisa</cp:lastModifiedBy>
  <dcterms:modified xsi:type="dcterms:W3CDTF">2012-04-23T02:11:56Z</dcterms:modified>
  <cp:revision>107</cp:revision>
  <dc:subject/>
  <dc:title>Results Based Management at the GEF</dc:title>
</cp:coreProperties>
</file>