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E61C-FBF7-4091-8805-012901782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E374-EE50-49D7-AFF2-C80100ED5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E302-E2FF-4FE7-AC0A-3A64F47EB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EEB3-7461-472E-9DDD-6E5ECB8EC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EB2E-1483-417E-A915-CD2F10AEC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EBEF-833B-4BE9-8EC7-CAAA6D3F1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C263-F63B-4E5B-9BDD-3B3833573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Atelier Elargi pour la Circonscript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17 - 19 avril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98989"/>
                </a:solidFill>
                <a:latin typeface="Calibri"/>
              </a:rPr>
              <a:t>Ouagadougou, Burkina Faso</a:t>
            </a:r>
            <a:endParaRPr b="0" lang="en-US" sz="2400" spc="-1" strike="noStrike">
              <a:solidFill>
                <a:srgbClr val="000000"/>
              </a:solidFill>
              <a:latin typeface="Calibri"/>
            </a:endParaRPr>
          </a:p>
        </p:txBody>
      </p:sp>
      <p:sp>
        <p:nvSpPr>
          <p:cNvPr id="88"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9480" y="1504800"/>
            <a:ext cx="7620120" cy="428004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Lisa</cp:lastModifiedBy>
  <dcterms:modified xsi:type="dcterms:W3CDTF">2012-04-23T02:11:56Z</dcterms:modified>
  <cp:revision>107</cp:revision>
  <dc:subject/>
  <dc:title>Results Based Management at the GEF</dc:title>
</cp:coreProperties>
</file>