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254A-05BA-4420-8455-7D20C2FEA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1DD6-EBAB-43F6-9A13-578811F3F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D626-AB6C-4235-88C8-3B4EBF997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E110-C52C-4103-A06F-41D5D8E8C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EE4C-CB56-49A4-8517-D9F7289B1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ABD5-03CF-49E9-BA88-A3A40FDC2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468C-C5AA-43F3-B4E0-E80B82DC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
        <p:nvSpPr>
          <p:cNvPr id="88" name="Subtitle 9"/>
          <p:cNvSpPr/>
          <p:nvPr/>
        </p:nvSpPr>
        <p:spPr>
          <a:xfrm>
            <a:off x="914400" y="38098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6-06T15:12:39Z</dcterms:modified>
  <cp:revision>110</cp:revision>
  <dc:subject/>
  <dc:title>Results Based Management at the GEF</dc:title>
</cp:coreProperties>
</file>