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A016-4544-47D9-A14C-9A9398B11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D845-0114-452E-8E81-456C42E18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935-BAC6-41EC-A20B-5A0BF30D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9274-324F-4EC5-8034-9A7660127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GEF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A8EA-9640-4F98-AD7D-59A9B43F5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3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2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3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itle 5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ые совещания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ГЭФ: управление, ориентированное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на результат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зультаты на уровне проектов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казател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личественный или качественный фактор или переменная, которые обеспечивают простой и надежный способ измерения достижения, отражая изменения, связанные с принимаемыми мерами, или помогая оценить действия участника процесса развит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ЭСР/КС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почка результатов КСР ОЭСР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3352680" y="133812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одим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3733920" y="2057400"/>
            <a:ext cx="1752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реднесрочный эфф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аткосрочный эфф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 в области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2819520" y="457200"/>
            <a:ext cx="32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Вводимые ресурсы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Средства на строительство дороги, оборудование и персо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6"/>
          <a:stretch/>
        </p:blipFill>
        <p:spPr>
          <a:xfrm>
            <a:off x="67816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3"/>
          <p:cNvSpPr/>
          <p:nvPr/>
        </p:nvSpPr>
        <p:spPr>
          <a:xfrm>
            <a:off x="2819520" y="16765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Меры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Строительство дор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2895480" y="22860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Результаты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Улучшение качества дор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5"/>
          <p:cNvSpPr/>
          <p:nvPr/>
        </p:nvSpPr>
        <p:spPr>
          <a:xfrm>
            <a:off x="2895480" y="29718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Итоги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Сокращение времени на проезд, увеличение объемов продаж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2819520" y="4419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f7f7f"/>
                </a:solidFill>
                <a:uFillTx/>
                <a:latin typeface="Arial"/>
              </a:rPr>
              <a:t>Воздействие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активизация торговли, рост доходов домохозя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304920" y="5334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о на основе документа Всемирного банка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Europe and Central Asia Region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ходный уровень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189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начальные данные об участниках программы или других ее аспектах, собранные до начала осуществления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отсутствии исходных данных возникают сложности 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м будущих целевых показателей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ам неизвестно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 находитесь, то как вы поймете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правляете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кой изменений при проведении мониторинга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лением исходных условий и изменений при оценке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сходные показатели для проектов ГЭФ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ы быть определены к моменту одобрения/утверждения проекта ИД ГЭ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отсутствия исходных данных по каждому показателю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составить план фиксации исходных показателей в течение первого года осущест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ониторинг портфеля проектов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ониторинг портфеля проектов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ниторинг всего комплекса мероприятий, финансируемых за счет средств ГЭ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ктом проводимого Секретариатом мониторинга является весь портфель проектов ГЭ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обальные выгоды для окружающей сред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тегии по тематическим област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 и итоги по тематическим област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ГЭФ: некоторые основные показатели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щение выбросов парниковых газов (П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охраняемых територий (ОТ), получивших поддержку – в гекта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земель, на которых обеспечено устойчивое землепользовани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 гекта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стратегических партнерств, получивших финансирование в целях обеспечения поддающихся измерению сокращений загрязнения водных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стран, получающих помощь на меры по сокращению выбросов С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762120" y="304920"/>
          <a:ext cx="7696080" cy="513216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по ТО «Б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ит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ие устойчивости систем охраняемых тери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 доходов систем охраняемых територий, обеспечивающий полное покрытие расходов на управление 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окупный годовой доход достаточен для управления охраняемым територ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ый годовой дох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ы устойчивого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по ТО «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ит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для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йствие демонстрации, внедрению и передаче инновационных технологий с низким уровнем выбросов углерод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и успешно демонстрируются, внедряются и переда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нт демонстраций технологий, достигших запланированных целе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новационные технологии с низким уровнем выбросов углерод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ируются и внедряются на мес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ол-в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одержание презентации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ЭФ: управление, ориентированное на результ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иторинг портфел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на уровне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сть и результативность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ность и возможности дост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ГЭФ: Инструменты оценки эффективности осуществления портфеля проектов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ы оценки (ИО) являются для Секретариата средством мониторинга осуществления портфеля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предназначены дл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леживания показателей на уровнях от отдельного проекта до портфеля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леживания эффективности осуществления портфеля проектов в тематических областях в це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ребования к инструментам оценки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аждой тематической области существует собственный инструмент оценки, отвечающий особым потребностям эт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должны быть разработаны на момент одобрения проекта ИД (для ССП – утверждения ИД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представляются повторно для среднесрочного обзора и обзора по завершении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 и соответствующие указания см. 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ttp://www.thegef.org/gef/tracking_too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ффективность и результативность управления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оказатели управления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кретариат отслеживает ряд показателей управления с целью определения эффективности деятельности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слеживаемые показатели дают общее представление о том, насколько эффективно ГЭФ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лекает и использует свои ресур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являет о себе как о мировом лидере в области охраны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ет результативность работы партнерств с участием ГЭФ по обеспечению стандартов обслуживания и результативности проектного цик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ует с партнер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ГЭФ: стандарты деловых операций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3520" y="1447920"/>
          <a:ext cx="8305560" cy="3892320"/>
        </p:xfrm>
        <a:graphic>
          <a:graphicData uri="http://schemas.openxmlformats.org/drawingml/2006/table">
            <a:tbl>
              <a:tblPr/>
              <a:tblGrid>
                <a:gridCol w="5945040"/>
                <a:gridCol w="1141560"/>
                <a:gridCol w="121896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шение эффективности проектного цик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лучшение показателей соблюдения сроков разработки про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евой 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84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ля ИФП/ГПП, обработка которых заняла более 10 дней, предусмотренных норматив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времени от утверждения проекта до его одобрения ИД в период ГЭФ-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не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ф.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яц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времени от утверждения проекта до его одобрения ИД в период ГЭФ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/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сяц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тчетность и возможности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тчеты об осуществлении проектов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ОП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ОП представляет собой отчет, ежегодно представляемый Агенствами в Секретари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состоянии проекта: дата начала, дата завершения, задержки в ходе осуществления проекта, аннулирование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рейтинговых оценках проек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д осуществления (Х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в области развит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Ежегодный обзор мониторинг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ый обзор мониторинга (ЕОМ) является главным отчетным инструментом системы мониторинга Секретариата ГЭ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быстро узнать общее состояние портфеля активных проектов ГЭФ в каждом финансово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у Обзора положены ООП, представляемые Агенств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правление, ориентированное на результат – интеграция в проектный цикл 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 концепции проекта до завершения проекта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609480" y="1504800"/>
            <a:ext cx="7620120" cy="4280040"/>
          </a:xfrm>
          <a:prstGeom prst="rect">
            <a:avLst/>
          </a:prstGeom>
          <a:ln w="0">
            <a:noFill/>
          </a:ln>
        </p:spPr>
      </p:pic>
      <p:sp>
        <p:nvSpPr>
          <p:cNvPr id="232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Brace 5"/>
          <p:cNvSpPr/>
          <p:nvPr/>
        </p:nvSpPr>
        <p:spPr>
          <a:xfrm rot="13955400">
            <a:off x="1218960" y="304776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традиции в центре внимания Совета и Секретариата ГЭФ находились 1-й и 2-й этапы проектног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4495680" y="46483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ОР в период ГЭФ-5 предполагает усиление внимания к 3 и 4 этапам проектног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"/>
          <p:cNvPicPr/>
          <p:nvPr/>
        </p:nvPicPr>
        <p:blipFill>
          <a:blip r:embed="rId1"/>
          <a:stretch/>
        </p:blipFill>
        <p:spPr>
          <a:xfrm>
            <a:off x="457200" y="1298520"/>
            <a:ext cx="8229600" cy="4827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лучшение качества данных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бор и обеспечение доступности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ГЭФ: управление, ориентированное на результат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16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" descr=""/>
          <p:cNvPicPr/>
          <p:nvPr/>
        </p:nvPicPr>
        <p:blipFill>
          <a:blip r:embed="rId2"/>
          <a:stretch/>
        </p:blipFill>
        <p:spPr>
          <a:xfrm>
            <a:off x="5505480" y="731880"/>
            <a:ext cx="3009960" cy="5638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5117400" y="304920"/>
            <a:ext cx="37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формационный порт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получения доступа к д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их сортир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03320" y="0"/>
            <a:ext cx="5154480" cy="66294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5715000" y="533520"/>
            <a:ext cx="304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й картографический портал дает прямой выход на онлайновую базу данных о проектах ГЭФ. Позволяет получить доступ к дополнительной информации, в том числе к ООП, ССО и ИО, находящимся в открытом дост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6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правление, ориентированное на результат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пределение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98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результат, направлено на совершенствование эффективности управления и подотчетности путем «определения реально достижимых ожидаемых результатов, мониторинга достижения прогнозируемых результатов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а накопленного опыта при принятии управленческих решений и отчетности о ходе деятельности»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тслеживание результатов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09480" y="990720"/>
            <a:ext cx="7619400" cy="4572720"/>
            <a:chOff x="609480" y="990720"/>
            <a:chExt cx="7619400" cy="4572720"/>
          </a:xfrm>
        </p:grpSpPr>
        <p:sp>
          <p:nvSpPr>
            <p:cNvPr id="141" name="Text Box 5"/>
            <p:cNvSpPr/>
            <p:nvPr/>
          </p:nvSpPr>
          <p:spPr>
            <a:xfrm>
              <a:off x="609480" y="990720"/>
              <a:ext cx="24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работка проек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3178800" y="990720"/>
              <a:ext cx="24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существл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5748480" y="99072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824560" y="136440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>
              <a:off x="5482800" y="136440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875160" y="173736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Логическая матрица / матрица результат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План МИ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1"/>
            <p:cNvSpPr/>
            <p:nvPr/>
          </p:nvSpPr>
          <p:spPr>
            <a:xfrm>
              <a:off x="2204280" y="3417120"/>
              <a:ext cx="4075920" cy="1679400"/>
            </a:xfrm>
            <a:prstGeom prst="rightArrow">
              <a:avLst>
                <a:gd name="adj1" fmla="val 50000"/>
                <a:gd name="adj2" fmla="val 606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2586240" y="3976920"/>
              <a:ext cx="25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правление, мониторинг и об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3267360" y="1737360"/>
              <a:ext cx="2215080" cy="52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Мониторинг хода осуществления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при необходимости, в середине процесса вносятся корректив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4"/>
            <p:cNvSpPr/>
            <p:nvPr/>
          </p:nvSpPr>
          <p:spPr>
            <a:xfrm>
              <a:off x="5925600" y="17373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Итоговая оцен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Усвоенные уро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AutoShape 15"/>
            <p:cNvCxnSpPr>
              <a:stCxn id="150" idx="2"/>
              <a:endCxn id="146" idx="2"/>
            </p:cNvCxnSpPr>
            <p:nvPr/>
          </p:nvCxnSpPr>
          <p:spPr>
            <a:xfrm rot="5400000">
              <a:off x="4353480" y="-308160"/>
              <a:ext cx="179640" cy="5180040"/>
            </a:xfrm>
            <a:prstGeom prst="bentConnector3">
              <a:avLst>
                <a:gd name="adj1" fmla="val 188052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2" name="Text Box 16"/>
            <p:cNvSpPr/>
            <p:nvPr/>
          </p:nvSpPr>
          <p:spPr>
            <a:xfrm>
              <a:off x="3599280" y="5193720"/>
              <a:ext cx="351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своенные уроки, наиболее эффективная практ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17"/>
          <p:cNvSpPr/>
          <p:nvPr/>
        </p:nvSpPr>
        <p:spPr>
          <a:xfrm>
            <a:off x="4351320" y="556272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о на основе документа Всемирного банка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ГЭФ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уктура УОР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55" name="Group 40"/>
          <p:cNvGrpSpPr/>
          <p:nvPr/>
        </p:nvGrpSpPr>
        <p:grpSpPr>
          <a:xfrm>
            <a:off x="457200" y="1295280"/>
            <a:ext cx="8457480" cy="4266720"/>
            <a:chOff x="457200" y="1295280"/>
            <a:chExt cx="8457480" cy="4266720"/>
          </a:xfrm>
        </p:grpSpPr>
        <p:grpSp>
          <p:nvGrpSpPr>
            <p:cNvPr id="156" name="Group 41"/>
            <p:cNvGrpSpPr/>
            <p:nvPr/>
          </p:nvGrpSpPr>
          <p:grpSpPr>
            <a:xfrm>
              <a:off x="2698920" y="1295280"/>
              <a:ext cx="6215760" cy="4266720"/>
              <a:chOff x="2698920" y="1295280"/>
              <a:chExt cx="6215760" cy="4266720"/>
            </a:xfrm>
          </p:grpSpPr>
          <p:sp>
            <p:nvSpPr>
              <p:cNvPr id="157" name="AutoShape 42"/>
              <p:cNvSpPr/>
              <p:nvPr/>
            </p:nvSpPr>
            <p:spPr>
              <a:xfrm>
                <a:off x="2698920" y="1295280"/>
                <a:ext cx="621576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43"/>
              <p:cNvSpPr/>
              <p:nvPr/>
            </p:nvSpPr>
            <p:spPr>
              <a:xfrm>
                <a:off x="4923000" y="4740840"/>
                <a:ext cx="148284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Задачи проек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44"/>
              <p:cNvSpPr/>
              <p:nvPr/>
            </p:nvSpPr>
            <p:spPr>
              <a:xfrm>
                <a:off x="4795560" y="2665800"/>
                <a:ext cx="190476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45"/>
              <p:cNvSpPr/>
              <p:nvPr/>
            </p:nvSpPr>
            <p:spPr>
              <a:xfrm>
                <a:off x="5284440" y="1295280"/>
                <a:ext cx="1106640" cy="11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Стратеги-ческие цели ГЭ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46"/>
              <p:cNvSpPr/>
              <p:nvPr/>
            </p:nvSpPr>
            <p:spPr>
              <a:xfrm>
                <a:off x="4094280" y="3653280"/>
                <a:ext cx="340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7"/>
              <p:cNvSpPr/>
              <p:nvPr/>
            </p:nvSpPr>
            <p:spPr>
              <a:xfrm>
                <a:off x="4854600" y="3657600"/>
                <a:ext cx="15037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в отдельных тематически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48"/>
              <p:cNvSpPr/>
              <p:nvPr/>
            </p:nvSpPr>
            <p:spPr>
              <a:xfrm>
                <a:off x="3392280" y="4551480"/>
                <a:ext cx="481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49"/>
              <p:cNvSpPr/>
              <p:nvPr/>
            </p:nvSpPr>
            <p:spPr>
              <a:xfrm>
                <a:off x="4896000" y="2530080"/>
                <a:ext cx="180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50"/>
            <p:cNvSpPr/>
            <p:nvPr/>
          </p:nvSpPr>
          <p:spPr>
            <a:xfrm>
              <a:off x="1525320" y="1614960"/>
              <a:ext cx="218520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оздейств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 ГВ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т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езульта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1"/>
            <p:cNvSpPr/>
            <p:nvPr/>
          </p:nvSpPr>
          <p:spPr>
            <a:xfrm flipV="1">
              <a:off x="2593800" y="3428640"/>
              <a:ext cx="180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2"/>
            <p:cNvSpPr/>
            <p:nvPr/>
          </p:nvSpPr>
          <p:spPr>
            <a:xfrm>
              <a:off x="2593800" y="2361960"/>
              <a:ext cx="180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3"/>
            <p:cNvSpPr/>
            <p:nvPr/>
          </p:nvSpPr>
          <p:spPr>
            <a:xfrm flipH="1">
              <a:off x="1719000" y="1599480"/>
              <a:ext cx="291240" cy="853560"/>
            </a:xfrm>
            <a:custGeom>
              <a:avLst/>
              <a:gdLst>
                <a:gd name="textAreaLeft" fmla="*/ -360 w 291240"/>
                <a:gd name="textAreaRight" fmla="*/ 104760 w 29124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4"/>
            <p:cNvSpPr/>
            <p:nvPr/>
          </p:nvSpPr>
          <p:spPr>
            <a:xfrm flipH="1">
              <a:off x="1522800" y="4266720"/>
              <a:ext cx="291240" cy="1013400"/>
            </a:xfrm>
            <a:custGeom>
              <a:avLst/>
              <a:gdLst>
                <a:gd name="textAreaLeft" fmla="*/ -360 w 291240"/>
                <a:gd name="textAreaRight" fmla="*/ 104760 w 29124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5"/>
            <p:cNvSpPr/>
            <p:nvPr/>
          </p:nvSpPr>
          <p:spPr>
            <a:xfrm>
              <a:off x="554400" y="1614960"/>
              <a:ext cx="1310760" cy="15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нститу-циональ-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верху вни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6"/>
            <p:cNvSpPr/>
            <p:nvPr/>
          </p:nvSpPr>
          <p:spPr>
            <a:xfrm>
              <a:off x="457200" y="4015800"/>
              <a:ext cx="131112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пераци-он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низу вверх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44"/>
          <p:cNvSpPr/>
          <p:nvPr/>
        </p:nvSpPr>
        <p:spPr>
          <a:xfrm>
            <a:off x="4952880" y="2743200"/>
            <a:ext cx="1494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и в отдельных тематически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атегические цели ГЭФ-5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хранение, устойчивое и рациональное использование биоразнообразия, экосистем и природных ресурсов в глобальном масштабе и с учетом ожидаемых последствий изменения клим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ьшение рисков глобального изменения климата пут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изации концентрации ПГ в атмосфере за счет мероприятий по сокращению выбросов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азания странам помощи в адаптации к изменению климата, в том числе и к его изменчив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атегические цели ГЭФ-5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рациональному использованию химических веществ на всём протяжении их жизненного цикла в целях минимизации неблагоприятных последствий для здоровья человека и глобальной окружающей сред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тратегическая цель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ащивание потенциала на национальном и региональном уровне, создание условий, благоприятствующих охране окружающей среды в мировом масштабе и устойчивому развит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огласование задач в тематических областях со стратегическими целями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и задачи по каждой тематической области приводятся в соответствие со Стратегическими целями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на уровне проектов приводятся в соответствие с задачами в тематических обла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дача по ТО БР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устойчивости систем охраняемых територ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ческая ц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, устойчивое и рациональное использование биоразнообразия, экосистем и природных ресурсов в глобальном масштаб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дача по ТО 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ие демонстрации, внедрению и передаче инновационных технологий с низким уровнем выбросов угле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ческая ц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ьшение рисков глобального изменения климата путем стабилизации концентрации ПГ в атмосфере за счет мероприятий по сокращению выбро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7:05Z</dcterms:modified>
  <cp:revision>122</cp:revision>
  <dc:subject/>
  <dc:title>Focal Area and Cross Cutting Strategies – Chemicals</dc:title>
</cp:coreProperties>
</file>