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DC47-884D-4D45-957F-7758B6B51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BA8C-B33F-40CE-BDAA-A517D98D6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comes: </a:t>
            </a:r>
            <a:r>
              <a:rPr b="1" lang="en-US" sz="1200" spc="-1" strike="noStrike">
                <a:solidFill>
                  <a:srgbClr val="7f7f7f"/>
                </a:solidFill>
                <a:latin typeface="Calibri"/>
              </a:rPr>
              <a:t>(farmers &amp; manufactures have better access to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FBB4-F942-4E52-889F-BCBAD39E0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8ECE-C62D-4211-99B9-0C509007C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efinitions for RBM at the GEF come from the OECD/D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B9FC-D019-434D-B4ED-CBEB58E8D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3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2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9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3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Title 5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Расширенные совещания</a:t>
            </a:r>
            <a:br>
              <a:rPr sz="2800"/>
            </a:b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на уровне групп стр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27 – 29 март 2012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8600" y="2514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ГЭФ: управление, ориентированное</a:t>
            </a: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на результат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зультаты на уровне проектов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оказатели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оличественный или качественный фактор или переменная, которые обеспечивают простой и надежный способ измерения достижения, отражая изменения, связанные с принимаемыми мерами, или помогая оценить действия участника процесса развит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ЭСР/КС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почка результатов КСР ОЭСР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805040" y="1143000"/>
            <a:ext cx="5662440" cy="4678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3352680" y="1338120"/>
            <a:ext cx="228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одимые рес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3733920" y="2057400"/>
            <a:ext cx="1752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3733920" y="289548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3733920" y="36576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3733920" y="530064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4724280" y="4309920"/>
            <a:ext cx="1524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реднесрочный эфф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2743200" y="42670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аткосрочный эфф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 rot="16200000">
            <a:off x="991440" y="4197960"/>
            <a:ext cx="1752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ы в области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141560" y="838080"/>
            <a:ext cx="1371600" cy="12970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2819520" y="457200"/>
            <a:ext cx="320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f7f7f"/>
                </a:solidFill>
                <a:uFillTx/>
                <a:latin typeface="Arial"/>
              </a:rPr>
              <a:t>Вводимые ресурсы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Средства на строительство дороги, оборудование и персо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188040" y="152388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3"/>
          <a:stretch/>
        </p:blipFill>
        <p:spPr>
          <a:xfrm>
            <a:off x="625320" y="304920"/>
            <a:ext cx="1049400" cy="99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4"/>
          <a:stretch/>
        </p:blipFill>
        <p:spPr>
          <a:xfrm>
            <a:off x="1523880" y="2666880"/>
            <a:ext cx="685800" cy="970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5"/>
          <a:stretch/>
        </p:blipFill>
        <p:spPr>
          <a:xfrm>
            <a:off x="6324480" y="3352680"/>
            <a:ext cx="1371600" cy="91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"/>
          <p:cNvPicPr/>
          <p:nvPr/>
        </p:nvPicPr>
        <p:blipFill>
          <a:blip r:embed="rId6"/>
          <a:stretch/>
        </p:blipFill>
        <p:spPr>
          <a:xfrm>
            <a:off x="6781680" y="4648320"/>
            <a:ext cx="1371600" cy="9777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3"/>
          <p:cNvSpPr/>
          <p:nvPr/>
        </p:nvSpPr>
        <p:spPr>
          <a:xfrm>
            <a:off x="2819520" y="16765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f7f7f"/>
                </a:solidFill>
                <a:uFillTx/>
                <a:latin typeface="Arial"/>
              </a:rPr>
              <a:t>Меры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Строительство дор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4"/>
          <p:cNvSpPr/>
          <p:nvPr/>
        </p:nvSpPr>
        <p:spPr>
          <a:xfrm>
            <a:off x="2895480" y="228600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f7f7f"/>
                </a:solidFill>
                <a:uFillTx/>
                <a:latin typeface="Arial"/>
              </a:rPr>
              <a:t>Результаты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Улучшение качества дор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7"/>
          <a:stretch/>
        </p:blipFill>
        <p:spPr>
          <a:xfrm>
            <a:off x="7086600" y="1143000"/>
            <a:ext cx="1257480" cy="8254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5"/>
          <p:cNvSpPr/>
          <p:nvPr/>
        </p:nvSpPr>
        <p:spPr>
          <a:xfrm>
            <a:off x="2895480" y="29718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f7f7f"/>
                </a:solidFill>
                <a:uFillTx/>
                <a:latin typeface="Arial"/>
              </a:rPr>
              <a:t>Итоги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Сокращение времени на проезд, увеличение объемов продаж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2819520" y="4419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f7f7f"/>
                </a:solidFill>
                <a:uFillTx/>
                <a:latin typeface="Arial"/>
              </a:rPr>
              <a:t>Воздействие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активизация торговли, рост доходов домохозя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304920" y="5334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о на основе документа Всемирного банка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2 Results Ch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Europe and Central Asia Region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ходный уровень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2189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начальные данные об участниках программы или других ее аспектах, собранные до начала осуществления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отсутствии исходных данных возникают сложности 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м будущих целевых показателей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ам неизвестно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 находитесь, то как вы поймете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правляетес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кой изменений при проведении мониторинга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поставлением исходных условий и изменений при оценке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Исходные показатели для проектов ГЭФ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ны быть определены к моменту одобрения/утверждения проекта ИД ГЭ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лучае отсутствия исходных данных по каждому показателю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составить план фиксации исходных показателей в течение первого года осущест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ониторинг портфеля проектов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ониторинг портфеля проектов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ниторинг всего комплекса мероприятий, финансируемых за счет средств ГЭ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ъектом проводимого Секретариатом мониторинга является весь портфель проектов ГЭ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9bbb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лобальные выгоды для окружающей сред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9bbb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атегии по тематическим областя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9bbb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и и итоги по тематическим областя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ГЭФ: некоторые основные показатели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щение выбросов парниковых газов (П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охраняемых територий (ОТ), получивших поддержку – в гектар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земель, на которых обеспечено устойчивое землепользовани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З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 гектар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стратегических партнерств, получивших финансирование в целях обеспечения поддающихся измерению сокращений загрязнения водных сис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стран, получающих помощь на меры по сокращению выбросов С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762120" y="304920"/>
          <a:ext cx="7696080" cy="5132160"/>
        </p:xfrm>
        <a:graphic>
          <a:graphicData uri="http://schemas.openxmlformats.org/drawingml/2006/table">
            <a:tbl>
              <a:tblPr/>
              <a:tblGrid>
                <a:gridCol w="1904760"/>
                <a:gridCol w="2133720"/>
                <a:gridCol w="1832040"/>
                <a:gridCol w="1825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 по ТО «Б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для ит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для резуль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0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ие устойчивости систем охраняемых тери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т доходов систем охраняемых територий, обеспечивающий полное покрытие расходов на управление 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окупный годовой доход достаточен для управления охраняемым територ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ый годовой дох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ы устойчивого финанс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 по ТО «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для ит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для резуль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9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йствие демонстрации, внедрению и передаче инновационных технологий с низким уровнем выбросов углерод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и успешно демонстрируются, внедряются и переда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цент демонстраций технологий, достигших запланированных целе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новационные технологии с низким уровнем выбросов углерод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монстрируются и внедряются на мес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кол-в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одержание презентации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ЭФ: управление, ориентированное на результ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ниторинг портфеля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ы на уровне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сть и результативность у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четность и возможности досту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ГЭФ: Инструменты оценки эффективности осуществления портфеля проектов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рументы оценки (ИО) являются для Секретариата средством мониторинга осуществления портфеля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О предназначены дл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леживания показателей на уровнях от отдельного проекта до портфеля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леживания эффективности осуществления портфеля проектов в тематических областях в цел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ребования к инструментам оценки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аждой тематической области существует собственный инструмент оценки, отвечающий особым потребностям эт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О должны быть разработаны на момент одобрения проекта ИД (для ССП – утверждения ИД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О представляются повторно для среднесрочного обзора и обзора по завершении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О и соответствующие указания см. 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http://www.thegef.org/gef/tracking_too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ффективность и результативность управления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оказатели управления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кретариат отслеживает ряд показателей управления с целью определения эффективности деятельности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слеживаемые показатели дают общее представление о том, насколько эффективно ГЭФ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лекает и использует свои ресурс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являет о себе как о мировом лидере в области охраны окружающей сре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ет результативность работы партнерств с участием ГЭФ по обеспечению стандартов обслуживания и результативности проектного цик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так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ует с партнер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ГЭФ: стандарты деловых операций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33520" y="1447920"/>
          <a:ext cx="8305560" cy="3892320"/>
        </p:xfrm>
        <a:graphic>
          <a:graphicData uri="http://schemas.openxmlformats.org/drawingml/2006/table">
            <a:tbl>
              <a:tblPr/>
              <a:tblGrid>
                <a:gridCol w="5945040"/>
                <a:gridCol w="1141560"/>
                <a:gridCol w="1218960"/>
              </a:tblGrid>
              <a:tr h="4208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ышение эффективности проектного цик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лучшение показателей соблюдения сроков разработки програ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евой 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84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ля ИФП/ГПП, обработка которых заняла более 10 дней, предусмотренных норматив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%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продолжительность времени от утверждения проекта до его одобрения ИД в период ГЭФ-4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не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1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ф.г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"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сяц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ся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продолжительность времени от утверждения проекта до его одобрения ИД в период ГЭФ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/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сяц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тчетность и возможности доступа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тчеты об осуществлении проектов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ОП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ОП представляет собой отчет, ежегодно представляемый Агенствами в Секретари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чет о состоянии проекта: дата начала, дата завершения, задержки в ходе осуществления проекта, аннулирование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чет о рейтинговых оценках проек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д осуществления (Х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 в области развит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Ежегодный обзор мониторинга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ый обзор мониторинга (ЕОМ) является главным отчетным инструментом системы мониторинга Секретариата ГЭ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воляет быстро узнать общее состояние портфеля активных проектов ГЭФ в каждом финансовом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у Обзора положены ООП, представляемые Агенств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правление, ориентированное на результат – интеграция в проектный цикл 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т концепции проекта до завершения проекта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31" name="Content Placeholder 3" descr=""/>
          <p:cNvPicPr/>
          <p:nvPr/>
        </p:nvPicPr>
        <p:blipFill>
          <a:blip r:embed="rId1"/>
          <a:stretch/>
        </p:blipFill>
        <p:spPr>
          <a:xfrm>
            <a:off x="609480" y="1504800"/>
            <a:ext cx="7620120" cy="4280040"/>
          </a:xfrm>
          <a:prstGeom prst="rect">
            <a:avLst/>
          </a:prstGeom>
          <a:ln w="0">
            <a:noFill/>
          </a:ln>
        </p:spPr>
      </p:pic>
      <p:sp>
        <p:nvSpPr>
          <p:cNvPr id="232" name="Left Brace 4"/>
          <p:cNvSpPr/>
          <p:nvPr/>
        </p:nvSpPr>
        <p:spPr>
          <a:xfrm rot="16200000">
            <a:off x="5715000" y="2819160"/>
            <a:ext cx="762120" cy="2895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2895480"/>
              <a:gd name="textAreaBottom" fmla="*/ 28756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558"/>
                </a:lnTo>
                <a:cubicBezTo>
                  <a:pt x="10800" y="10795"/>
                  <a:pt x="5400" y="11032"/>
                  <a:pt x="0" y="11032"/>
                </a:cubicBezTo>
                <a:cubicBezTo>
                  <a:pt x="5400" y="11032"/>
                  <a:pt x="10800" y="11269"/>
                  <a:pt x="10800" y="11506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ight Brace 5"/>
          <p:cNvSpPr/>
          <p:nvPr/>
        </p:nvSpPr>
        <p:spPr>
          <a:xfrm rot="13955400">
            <a:off x="1218960" y="304776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523880"/>
              <a:gd name="textAreaBottom" fmla="*/ 1506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10"/>
                </a:cubicBezTo>
                <a:lnTo>
                  <a:pt x="10800" y="9990"/>
                </a:lnTo>
                <a:cubicBezTo>
                  <a:pt x="10800" y="10395"/>
                  <a:pt x="16200" y="10800"/>
                  <a:pt x="21600" y="10800"/>
                </a:cubicBezTo>
                <a:cubicBezTo>
                  <a:pt x="16200" y="10800"/>
                  <a:pt x="10800" y="11205"/>
                  <a:pt x="10800" y="11610"/>
                </a:cubicBezTo>
                <a:lnTo>
                  <a:pt x="10800" y="20790"/>
                </a:lnTo>
                <a:cubicBezTo>
                  <a:pt x="10800" y="211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380880" y="236232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традиции в центре внимания Совета и Секретариата ГЭФ находились 1-й и 2-й этапы проектного ц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4495680" y="46483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ОР в период ГЭФ-5 предполагает усиление внимания к 3 и 4 этапам проектного ц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3" descr=""/>
          <p:cNvPicPr/>
          <p:nvPr/>
        </p:nvPicPr>
        <p:blipFill>
          <a:blip r:embed="rId1"/>
          <a:stretch/>
        </p:blipFill>
        <p:spPr>
          <a:xfrm>
            <a:off x="457200" y="1298520"/>
            <a:ext cx="8229600" cy="48276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лучшение качества данных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бор и обеспечение доступности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ГЭФ: управление, ориентированное на результат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91652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" descr=""/>
          <p:cNvPicPr/>
          <p:nvPr/>
        </p:nvPicPr>
        <p:blipFill>
          <a:blip r:embed="rId2"/>
          <a:stretch/>
        </p:blipFill>
        <p:spPr>
          <a:xfrm>
            <a:off x="5505480" y="731880"/>
            <a:ext cx="3009960" cy="5638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5117400" y="304920"/>
            <a:ext cx="37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формационный порт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получения доступа к да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их сортир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03320" y="0"/>
            <a:ext cx="5154480" cy="66294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5715000" y="533520"/>
            <a:ext cx="304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ой картографический портал дает прямой выход на онлайновую базу данных о проектах ГЭФ. Позволяет получить доступ к дополнительной информации, в том числе к ООП, ССО и ИО, находящимся в открытом дост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46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Управление, ориентированное на результат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пределение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98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ие, ориентированное на результат, направлено на совершенствование эффективности управления и подотчетности путем «определения реально достижимых ожидаемых результатов, мониторинга достижения прогнозируемых результатов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та накопленного опыта при принятии управленческих решений и отчетности о ходе деятельности»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тслеживание результатов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609480" y="990720"/>
            <a:ext cx="7619400" cy="4572720"/>
            <a:chOff x="609480" y="990720"/>
            <a:chExt cx="7619400" cy="4572720"/>
          </a:xfrm>
        </p:grpSpPr>
        <p:sp>
          <p:nvSpPr>
            <p:cNvPr id="141" name="Text Box 5"/>
            <p:cNvSpPr/>
            <p:nvPr/>
          </p:nvSpPr>
          <p:spPr>
            <a:xfrm>
              <a:off x="609480" y="990720"/>
              <a:ext cx="24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работка проек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6"/>
            <p:cNvSpPr/>
            <p:nvPr/>
          </p:nvSpPr>
          <p:spPr>
            <a:xfrm>
              <a:off x="3178800" y="990720"/>
              <a:ext cx="24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существл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7"/>
            <p:cNvSpPr/>
            <p:nvPr/>
          </p:nvSpPr>
          <p:spPr>
            <a:xfrm>
              <a:off x="5748480" y="990720"/>
              <a:ext cx="24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2824560" y="136440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>
              <a:off x="5482800" y="136440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875160" y="1737360"/>
              <a:ext cx="195480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Логическая матрица / матрица результат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План МИ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1"/>
            <p:cNvSpPr/>
            <p:nvPr/>
          </p:nvSpPr>
          <p:spPr>
            <a:xfrm>
              <a:off x="2204280" y="3417120"/>
              <a:ext cx="4075920" cy="1679400"/>
            </a:xfrm>
            <a:prstGeom prst="rightArrow">
              <a:avLst>
                <a:gd name="adj1" fmla="val 50000"/>
                <a:gd name="adj2" fmla="val 606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2586240" y="3976920"/>
              <a:ext cx="25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правление, мониторинг и об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3"/>
            <p:cNvSpPr/>
            <p:nvPr/>
          </p:nvSpPr>
          <p:spPr>
            <a:xfrm>
              <a:off x="3267360" y="1737360"/>
              <a:ext cx="2215080" cy="52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Мониторинг хода осуществления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при необходимости, в середине процесса вносятся корректив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4"/>
            <p:cNvSpPr/>
            <p:nvPr/>
          </p:nvSpPr>
          <p:spPr>
            <a:xfrm>
              <a:off x="5925600" y="1737360"/>
              <a:ext cx="22150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Итоговая оцен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Усвоенные уро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AutoShape 15"/>
            <p:cNvCxnSpPr>
              <a:stCxn id="150" idx="2"/>
              <a:endCxn id="146" idx="2"/>
            </p:cNvCxnSpPr>
            <p:nvPr/>
          </p:nvCxnSpPr>
          <p:spPr>
            <a:xfrm rot="5400000">
              <a:off x="4353480" y="-308160"/>
              <a:ext cx="179640" cy="5180040"/>
            </a:xfrm>
            <a:prstGeom prst="bentConnector3">
              <a:avLst>
                <a:gd name="adj1" fmla="val 188052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2" name="Text Box 16"/>
            <p:cNvSpPr/>
            <p:nvPr/>
          </p:nvSpPr>
          <p:spPr>
            <a:xfrm>
              <a:off x="3599280" y="5193720"/>
              <a:ext cx="351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своенные уроки, наиболее эффективная практ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17"/>
          <p:cNvSpPr/>
          <p:nvPr/>
        </p:nvSpPr>
        <p:spPr>
          <a:xfrm>
            <a:off x="4351320" y="5562720"/>
            <a:ext cx="456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о на основе документа Всемирного банка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005, p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ГЭФ: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труктура УОР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55" name="Group 40"/>
          <p:cNvGrpSpPr/>
          <p:nvPr/>
        </p:nvGrpSpPr>
        <p:grpSpPr>
          <a:xfrm>
            <a:off x="457200" y="1295280"/>
            <a:ext cx="8457480" cy="4266720"/>
            <a:chOff x="457200" y="1295280"/>
            <a:chExt cx="8457480" cy="4266720"/>
          </a:xfrm>
        </p:grpSpPr>
        <p:grpSp>
          <p:nvGrpSpPr>
            <p:cNvPr id="156" name="Group 41"/>
            <p:cNvGrpSpPr/>
            <p:nvPr/>
          </p:nvGrpSpPr>
          <p:grpSpPr>
            <a:xfrm>
              <a:off x="2698920" y="1295280"/>
              <a:ext cx="6215760" cy="4266720"/>
              <a:chOff x="2698920" y="1295280"/>
              <a:chExt cx="6215760" cy="4266720"/>
            </a:xfrm>
          </p:grpSpPr>
          <p:sp>
            <p:nvSpPr>
              <p:cNvPr id="157" name="AutoShape 42"/>
              <p:cNvSpPr/>
              <p:nvPr/>
            </p:nvSpPr>
            <p:spPr>
              <a:xfrm>
                <a:off x="2698920" y="1295280"/>
                <a:ext cx="6215760" cy="42667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43"/>
              <p:cNvSpPr/>
              <p:nvPr/>
            </p:nvSpPr>
            <p:spPr>
              <a:xfrm>
                <a:off x="4923000" y="4740840"/>
                <a:ext cx="1482840" cy="66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Задачи проект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44"/>
              <p:cNvSpPr/>
              <p:nvPr/>
            </p:nvSpPr>
            <p:spPr>
              <a:xfrm>
                <a:off x="4795560" y="2665800"/>
                <a:ext cx="190476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45"/>
              <p:cNvSpPr/>
              <p:nvPr/>
            </p:nvSpPr>
            <p:spPr>
              <a:xfrm>
                <a:off x="5284440" y="1295280"/>
                <a:ext cx="1106640" cy="11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Стратеги-ческие цели ГЭФ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46"/>
              <p:cNvSpPr/>
              <p:nvPr/>
            </p:nvSpPr>
            <p:spPr>
              <a:xfrm>
                <a:off x="4094280" y="3653280"/>
                <a:ext cx="340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47"/>
              <p:cNvSpPr/>
              <p:nvPr/>
            </p:nvSpPr>
            <p:spPr>
              <a:xfrm>
                <a:off x="4854600" y="3657600"/>
                <a:ext cx="150372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Задачи в отдельных тематических областя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48"/>
              <p:cNvSpPr/>
              <p:nvPr/>
            </p:nvSpPr>
            <p:spPr>
              <a:xfrm>
                <a:off x="3392280" y="4551480"/>
                <a:ext cx="481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49"/>
              <p:cNvSpPr/>
              <p:nvPr/>
            </p:nvSpPr>
            <p:spPr>
              <a:xfrm>
                <a:off x="4896000" y="2530080"/>
                <a:ext cx="180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50"/>
            <p:cNvSpPr/>
            <p:nvPr/>
          </p:nvSpPr>
          <p:spPr>
            <a:xfrm>
              <a:off x="1525320" y="1614960"/>
              <a:ext cx="2185200" cy="35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оздейств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а ГВ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то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езульта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1"/>
            <p:cNvSpPr/>
            <p:nvPr/>
          </p:nvSpPr>
          <p:spPr>
            <a:xfrm flipV="1">
              <a:off x="2593800" y="3428640"/>
              <a:ext cx="180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2"/>
            <p:cNvSpPr/>
            <p:nvPr/>
          </p:nvSpPr>
          <p:spPr>
            <a:xfrm>
              <a:off x="2593800" y="2361960"/>
              <a:ext cx="180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53"/>
            <p:cNvSpPr/>
            <p:nvPr/>
          </p:nvSpPr>
          <p:spPr>
            <a:xfrm flipH="1">
              <a:off x="1719000" y="1599480"/>
              <a:ext cx="291240" cy="853560"/>
            </a:xfrm>
            <a:custGeom>
              <a:avLst/>
              <a:gdLst>
                <a:gd name="textAreaLeft" fmla="*/ -360 w 291240"/>
                <a:gd name="textAreaRight" fmla="*/ 104760 w 291240"/>
                <a:gd name="textAreaTop" fmla="*/ 21960 h 853560"/>
                <a:gd name="textAreaBottom" fmla="*/ 831600 h 85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54"/>
            <p:cNvSpPr/>
            <p:nvPr/>
          </p:nvSpPr>
          <p:spPr>
            <a:xfrm flipH="1">
              <a:off x="1522800" y="4266720"/>
              <a:ext cx="291240" cy="1013400"/>
            </a:xfrm>
            <a:custGeom>
              <a:avLst/>
              <a:gdLst>
                <a:gd name="textAreaLeft" fmla="*/ -360 w 291240"/>
                <a:gd name="textAreaRight" fmla="*/ 104760 w 291240"/>
                <a:gd name="textAreaTop" fmla="*/ 26280 h 1013400"/>
                <a:gd name="textAreaBottom" fmla="*/ 987120 h 101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5"/>
            <p:cNvSpPr/>
            <p:nvPr/>
          </p:nvSpPr>
          <p:spPr>
            <a:xfrm>
              <a:off x="554400" y="1614960"/>
              <a:ext cx="1310760" cy="15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нститу-циональ-ный 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верху вни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56"/>
            <p:cNvSpPr/>
            <p:nvPr/>
          </p:nvSpPr>
          <p:spPr>
            <a:xfrm>
              <a:off x="457200" y="4015800"/>
              <a:ext cx="131112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пераци-онный 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низу вверх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44"/>
          <p:cNvSpPr/>
          <p:nvPr/>
        </p:nvSpPr>
        <p:spPr>
          <a:xfrm>
            <a:off x="4952880" y="2743200"/>
            <a:ext cx="1494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и в отдельных тематических обла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тратегические цели ГЭФ-5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(1-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атегическая цель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хранение, устойчивое и рациональное использование биоразнообразия, экосистем и природных ресурсов в глобальном масштабе и с учетом ожидаемых последствий изменения клима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атегическая цель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ньшение рисков глобального изменения климата пут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билизации концентрации ПГ в атмосфере за счет мероприятий по сокращению выбросов 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азания странам помощи в адаптации к изменению климата, в том числе и к его изменчив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тратегические цели ГЭФ-5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(3-4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тратегическая цель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ие рациональному использованию химических веществ на всём протяжении их жизненного цикла в целях минимизации неблагоприятных последствий для здоровья человека и глобальной окружающей сред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тратегическая цель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ращивание потенциала на национальном и региональном уровне, создание условий, благоприятствующих охране окружающей среды в мировом масштабе и устойчивому развит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огласование задач в тематических областях со стратегическими целями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и задачи по каждой тематической области приводятся в соответствие со Стратегическими целями 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и на уровне проектов приводятся в соответствие с задачами в тематических област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мер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дача по ТО БР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устойчивости систем охраняемых територ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тегическая ц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хранение, устойчивое и рациональное использование биоразнообразия, экосистем и природных ресурсов в глобальном масштаб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дача по ТО ИК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ие демонстрации, внедрению и передаче инновационных технологий с низким уровнем выбросов углер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тегическая ц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ьшение рисков глобального изменения климата путем стабилизации концентрации ПГ в атмосфере за счет мероприятий по сокращению выбро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7:05Z</dcterms:modified>
  <cp:revision>122</cp:revision>
  <dc:subject/>
  <dc:title>Focal Area and Cross Cutting Strategies – Chemicals</dc:title>
</cp:coreProperties>
</file>