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1E51-8825-4797-B303-A3A20ABB68C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E7F1-6E3B-4932-819E-DB078D2257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D1F-25F6-4C6D-83CC-96FF256EA4E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373-C3E4-4749-B9DF-4684C87DDB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9C81-BF84-440B-823B-EAA984B68B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866F-27CB-4369-A487-284DA4A7270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A90A-CF9A-4689-8926-EBE2E1AF04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6 – 8 de marzo de 2012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;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base en políticas apropiadas de gestión de bosqu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sujetos a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erramientas de seguimiento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el  la CEO las endos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Mejoras en materia de datos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Captación y accesibilida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1" name="Content Placeholder 3" descr=""/>
          <p:cNvPicPr/>
          <p:nvPr/>
        </p:nvPicPr>
        <p:blipFill>
          <a:blip r:embed="rId1"/>
          <a:stretch/>
        </p:blipFill>
        <p:spPr>
          <a:xfrm>
            <a:off x="450720" y="987480"/>
            <a:ext cx="8285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33:12Z</dcterms:modified>
  <cp:revision>199</cp:revision>
  <dc:subject/>
  <dc:title>Focal Area and Cross Cutting Strategies – Chemicals</dc:title>
</cp:coreProperties>
</file>