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9A81-9CFD-4B12-BD99-9F8BC43BFA7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6863-9544-443F-A725-4F2F8B2DA03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676D-D549-49D9-A576-1405A33438A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C703-64C3-445C-9E90-BC75E6829D9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350E-5EF6-4F71-9AEF-A1F81AE8EF5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40EF-311F-40D3-9F77-612F50D19F3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FMAM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0947-D32F-4B07-AE5C-BCB9BEEE1D1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ef.org/gef/tracking_too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Gestión Basada en Resultados e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6 – 8 de marzo de 2012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San José, Costa 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Resultados a nivel de proyec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dicador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factor o variable, de carácter cuantitativo o cualitativo, que proporciona un medio simple y confiable de medición de lo logrado, para reflejar cambios vinculados con una intervención o para ayudar a evaluar el desempeño de un actor del desarroll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OCDE/CAD 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dena de resultados de OCDE/DA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3733920" y="133812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733920" y="20574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median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cort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érmin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819520" y="457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Financiamiento para construcción de una carretera, equipos y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2819520" y="17924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onstrucción del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819520" y="2666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arretera mej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2819520" y="36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ducción del tiempo de viaje, aumento de los productos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4611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Mejora de las actividades comerciales, incremento de los ingresos de los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04920" y="5334120"/>
            <a:ext cx="41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de Banco Mundia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gión de Europa y Asia Central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8195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cursos del FMAM y de co-financiamiento;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2819520" y="16336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: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signar tierra boscosa a comunidades locales para manejarla con base en políticas apropiadas de gestión de bosqu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819520" y="28861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: hectáreas de bosques sujetos a manejo forestal comunitario soste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895480" y="400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hectáreas de bosques mej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971800" y="506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 secuestro de carbono, biodiversidad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87520" y="3733920"/>
            <a:ext cx="1332000" cy="1136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1478160" cy="110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137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7010280" y="4952880"/>
            <a:ext cx="18417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f497d"/>
                </a:solidFill>
                <a:latin typeface="Calibri"/>
              </a:rPr>
              <a:t>Línea de Bas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9903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os iniciales sobre participantes de un proyecto u otros aspectos del mismo, recibidos antes de la intervención del proy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 no se dispone de ellos, es difícil: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jar metas a alcanzar por efecto d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no se sabe dónde se está, ¿cómo se puede sab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cia dónde se está yen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tir del monitoreo, estimar los cambios necesarios a medida que el proyecto ava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on permite comparar las condicones iniciales con los cambios generados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Líneas de base para proyectos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spués de 20 años de inversiones, se espera que los proyectos (FIPs) presentados cuenten con líneas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 se carece de una cifra de referencia para cada indicador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debe esbozarse un plan sobre la manera de captarla durante el primer año de ejec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ace monitoreo de todo el conjunto de intervenciones financiadas por el FM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 monitoreo que hace la Secretaría (con la colaboracion de las Agencias),  se centra en la cartera global, y busca dar cuent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ios ambientales mund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etas de áreas foca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s de áreas fo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gunos indicadores clave para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misiones de gases de efecto invernadero reducidas/evit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de áreas proteg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sujetas a un manejo sostenible de la tier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alianzas estratégicas financiadas para producir una reducción medible de la contaminación en masas de ag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países que reciben apoyo para actividades de reducción de contaminantes orgánicos persist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Síntesis de la presentación</a:t>
            </a: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stión basada en los resultados e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ultados a nivel de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eo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icacia y eficiencia de la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inistro de información y acces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152280"/>
          <a:ext cx="7696080" cy="572940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biodivers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tenibilidad de sistemas de áreas protegidas mejor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resos para sistemas de áreas protegidas incrementados para cubrir el total de los gastos que requiere su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total anual de los ingresos es suficiente para la gestión de la área proteg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os ingresos anuales: US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s de financiamiento sosten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cambio clim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1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la demostración, la puesta en funcionamiento y transferencia de tecnologías innovadoras con bajas emisiones de carbo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exitosamente demostradas, puestas en funcionamiento y transf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demostraciones de tecnología que alcanzan las metas planificada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innovadoras con bajas emisiones de carbono demostradas y puestas en funcionamiento en la prác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erramientas de seguimiento del FMAM para el seguimiento del desempeño de la cartera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ituyen la herramienta de seguimiento de la Secreta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vés de ellas se bus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licar los indicadores desde el nivel de los proyectos (individualmente considerados), hasta el nivel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ar el seguimiento de la cartera global en las áreas fo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quisitos de las herramientas de seguimien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da área focal  tiene su propia herramienta de seguimiento (TT) para atender sus necesidades sing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has herramientas deben estar completas cuando el  la CEO las endosa FSP / aprueba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vuelven a presentar a mitad de período y al culminar 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 herramientas y sus directrices conexas pueden encontrarse en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tracking_to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ficacia y eficiencia de la gest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Indicadores de gestión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 Secretaría del FMAM realiza el seguimiento de algunos indicadores de gestión con el fin de medir la eficacia de la Secretaría a lo largo del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os indicadores proporcionan una visión general de la forma en que el FMAM cumple adecuadamente los siguientes cometi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ovilización y uso de sus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isibilidad como institución líder en materia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iciencia de sus alianzas en cuanto a cumplimiento de estándares de servicios y eficiencia del ciclo de sus proyecto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ectividad de su colaboración con  entidades ali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tándares d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8305560" cy="4938480"/>
        </p:xfrm>
        <a:graphic>
          <a:graphicData uri="http://schemas.openxmlformats.org/drawingml/2006/table">
            <a:tbl>
              <a:tblPr/>
              <a:tblGrid>
                <a:gridCol w="5945040"/>
                <a:gridCol w="1224000"/>
                <a:gridCol w="113652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yores eficiencias en el cicl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joras en cuanto a puntualidad del diseñ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jercicio de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5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orción de los FIP/las DPP que superan el servicio estándar de 10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la CEO lo refrenda para el FMAM-4 (hasta el cierre del ejercicio de 2011)"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el FEP lo refrenda para 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Presentación de informes y acces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Informes sobre la ejecución de los proyectos (IEP / PIR)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 informes anuales presentados a la Secretaría por parte de las Ag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l estado del proyecto: comienzo, cierre, demoras experimentadas, cancel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 los avances de los proyectos (calific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nce en la ejecu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tivo de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Examen anual de seguimiento (AMR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s el principal instrumento de reporte al Consejo con que cuenta el sistema de seguimiento de la Secretaría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porciona una síntesis de la solidez global de la cartera activa de proyectos del FMAM en cada ejerc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informe se basa en los IEP/PIR presentados por las Ag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Gestión basada en resultados integrada en el ciclo de los proyectos (desde el concepto de proyecto hasta la culminación de los mismos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00120"/>
            <a:ext cx="7632720" cy="4291200"/>
          </a:xfrm>
          <a:prstGeom prst="rect">
            <a:avLst/>
          </a:prstGeom>
          <a:ln w="0">
            <a:noFill/>
          </a:ln>
        </p:spPr>
      </p:pic>
      <p:sp>
        <p:nvSpPr>
          <p:cNvPr id="196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Brace 5"/>
          <p:cNvSpPr/>
          <p:nvPr/>
        </p:nvSpPr>
        <p:spPr>
          <a:xfrm rot="13955400">
            <a:off x="1614240" y="309708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80880" y="2362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Históricamente, el Consejo y la Secretaría del FMAM han centrado la atención en los dos primeros pasos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495680" y="46483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n FMAM-5 la GBR ha hecho mayor hincapié en los pasos 3 y 4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en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Mejoras en materia de datos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Captación y accesibilidad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1" name="Content Placeholder 3" descr=""/>
          <p:cNvPicPr/>
          <p:nvPr/>
        </p:nvPicPr>
        <p:blipFill>
          <a:blip r:embed="rId1"/>
          <a:stretch/>
        </p:blipFill>
        <p:spPr>
          <a:xfrm>
            <a:off x="450720" y="987480"/>
            <a:ext cx="82854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Defini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foque basado en resultados tiene como fin lograr mejoras en cuanto a eficacia y responsabilidad “definiendo los resultados realistas previstos, el seguimiento del avance hacia la consecución de los resultados previstos, la integración de lecciones aprendidas en las decisiones de manejo y el suministro de información sobre el desempeñ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alibri"/>
              </a:rPr>
              <a:t>Agencia Canadiense para el Desarrollo Internacional (CIDA)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eguimiento de los resultad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62120" y="1066680"/>
            <a:ext cx="7619400" cy="4245480"/>
            <a:chOff x="762120" y="1066680"/>
            <a:chExt cx="7619400" cy="4245480"/>
          </a:xfrm>
        </p:grpSpPr>
        <p:sp>
          <p:nvSpPr>
            <p:cNvPr id="98" name="Text Box 5"/>
            <p:cNvSpPr/>
            <p:nvPr/>
          </p:nvSpPr>
          <p:spPr>
            <a:xfrm>
              <a:off x="76212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eño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33144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jec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5901120" y="106668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val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297720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>
              <a:off x="563508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220040" y="198072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arco lógico/Marco de result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 de M y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356920" y="3357720"/>
              <a:ext cx="4075560" cy="1585800"/>
            </a:xfrm>
            <a:prstGeom prst="rightArrow">
              <a:avLst>
                <a:gd name="adj1" fmla="val 50000"/>
                <a:gd name="adj2" fmla="val 642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900880" y="3886560"/>
              <a:ext cx="22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stión, monitoreo y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420000" y="1771560"/>
              <a:ext cx="221508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onitoreo del avance, corrección la mitad del proyecto si es neces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6078240" y="17715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valuaciones termi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cciones aprendi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5"/>
            <p:cNvCxnSpPr>
              <a:stCxn id="107" idx="2"/>
              <a:endCxn id="103" idx="2"/>
            </p:cNvCxnSpPr>
            <p:nvPr/>
          </p:nvCxnSpPr>
          <p:spPr>
            <a:xfrm rot="5400000">
              <a:off x="4502160" y="-103320"/>
              <a:ext cx="378720" cy="4988160"/>
            </a:xfrm>
            <a:prstGeom prst="bentConnector3">
              <a:avLst>
                <a:gd name="adj1" fmla="val 16032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Text Box 16"/>
            <p:cNvSpPr/>
            <p:nvPr/>
          </p:nvSpPr>
          <p:spPr>
            <a:xfrm>
              <a:off x="4197240" y="5035680"/>
              <a:ext cx="262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ecciones aprendidas, buenas prác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609480" y="541008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 del documentg del Banco Mundial 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io de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Marco de GBR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838080" y="1066680"/>
            <a:ext cx="7625880" cy="4266720"/>
            <a:chOff x="838080" y="1066680"/>
            <a:chExt cx="7625880" cy="4266720"/>
          </a:xfrm>
        </p:grpSpPr>
        <p:grpSp>
          <p:nvGrpSpPr>
            <p:cNvPr id="113" name="Group 41"/>
            <p:cNvGrpSpPr/>
            <p:nvPr/>
          </p:nvGrpSpPr>
          <p:grpSpPr>
            <a:xfrm>
              <a:off x="2971080" y="1066680"/>
              <a:ext cx="5492880" cy="4266720"/>
              <a:chOff x="2971080" y="1066680"/>
              <a:chExt cx="5492880" cy="4266720"/>
            </a:xfrm>
          </p:grpSpPr>
          <p:sp>
            <p:nvSpPr>
              <p:cNvPr id="114" name="AutoShape 42"/>
              <p:cNvSpPr/>
              <p:nvPr/>
            </p:nvSpPr>
            <p:spPr>
              <a:xfrm>
                <a:off x="2971080" y="1066680"/>
                <a:ext cx="549288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43"/>
              <p:cNvSpPr/>
              <p:nvPr/>
            </p:nvSpPr>
            <p:spPr>
              <a:xfrm>
                <a:off x="4936680" y="4512240"/>
                <a:ext cx="131040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l proyec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4"/>
              <p:cNvSpPr/>
              <p:nvPr/>
            </p:nvSpPr>
            <p:spPr>
              <a:xfrm>
                <a:off x="4824000" y="2638440"/>
                <a:ext cx="1683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Metas de el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5"/>
              <p:cNvSpPr/>
              <p:nvPr/>
            </p:nvSpPr>
            <p:spPr>
              <a:xfrm>
                <a:off x="5258160" y="1295640"/>
                <a:ext cx="97812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600" spc="-1" strike="noStrike">
                    <a:solidFill>
                      <a:srgbClr val="000000"/>
                    </a:solidFill>
                    <a:latin typeface="Calibri"/>
                  </a:rPr>
                  <a:t>Metas estratégicas del FM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6"/>
              <p:cNvSpPr/>
              <p:nvPr/>
            </p:nvSpPr>
            <p:spPr>
              <a:xfrm>
                <a:off x="4204080" y="3424680"/>
                <a:ext cx="30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7"/>
              <p:cNvSpPr/>
              <p:nvPr/>
            </p:nvSpPr>
            <p:spPr>
              <a:xfrm>
                <a:off x="5001480" y="3648960"/>
                <a:ext cx="1328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 la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8"/>
              <p:cNvSpPr/>
              <p:nvPr/>
            </p:nvSpPr>
            <p:spPr>
              <a:xfrm>
                <a:off x="3583800" y="4322880"/>
                <a:ext cx="42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9"/>
              <p:cNvSpPr/>
              <p:nvPr/>
            </p:nvSpPr>
            <p:spPr>
              <a:xfrm>
                <a:off x="4912920" y="2301480"/>
                <a:ext cx="159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0"/>
            <p:cNvSpPr/>
            <p:nvPr/>
          </p:nvSpPr>
          <p:spPr>
            <a:xfrm>
              <a:off x="1933920" y="1386360"/>
              <a:ext cx="193104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mpa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n for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B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2878200" y="3200040"/>
              <a:ext cx="144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2894040" y="2286720"/>
              <a:ext cx="180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3"/>
            <p:cNvSpPr/>
            <p:nvPr/>
          </p:nvSpPr>
          <p:spPr>
            <a:xfrm flipH="1">
              <a:off x="2105280" y="1370880"/>
              <a:ext cx="257400" cy="85356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4"/>
            <p:cNvSpPr/>
            <p:nvPr/>
          </p:nvSpPr>
          <p:spPr>
            <a:xfrm flipH="1">
              <a:off x="2105280" y="3862800"/>
              <a:ext cx="257400" cy="101340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5"/>
            <p:cNvSpPr/>
            <p:nvPr/>
          </p:nvSpPr>
          <p:spPr>
            <a:xfrm>
              <a:off x="838080" y="1386360"/>
              <a:ext cx="1396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rriba hacia abaj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6"/>
            <p:cNvSpPr/>
            <p:nvPr/>
          </p:nvSpPr>
          <p:spPr>
            <a:xfrm>
              <a:off x="838080" y="3787200"/>
              <a:ext cx="131076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oper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bajo hacia arrib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8377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1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Conservar, usar en forma sostenible y realizar la gestión de la biodiversidad, los ecosistemas y los recursos naturales a nivel mundial, teniendo en cuenta los impactos previstos del cambio climátic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2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Reducir los riesgos del cambio climático mundial a travé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1) La estabilización de las concentraciones de gases de efecto invernadero a través de medidas de reducción de emisiones,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2) La asistencia a los países a adaptarse al cambio climático, incluida su variabilida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omover la adecuada gestión de los productos químicos a lo largo de todo su ciclo de existencia para reducir al mínimo los efectos adversos sobre la salud humana y el medio ambiente mund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rear capacidades nacionales y regionales y condiciones propicias para la protección del medio ambiente mundial y el desarrollo sosten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lineación de los objetivos de las áreas focales con las metas estratégica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da una de las metas y de los objetivos de las áreas focales está alineada con metas estratégicas del FM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as metas a nivel de proyectos están alineadas con los objetivos de las áreas focal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biodiversidad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Mejor sostenibiliad de los sistemas de zonas protegi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1: Conservar, usar en forma sostenible y realizar la gestión de la biodiversidad, los ecosistemas y los recursos naturales a nivel mund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cambio climático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mover la demostración, la puesta en acción y la transferencia de tecnologías de bajo nivel de emisión de carbono innovado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2: Reducir los riesgos del cambio climático mundial estabilizando las concentraciones de gases de efecto invernadero a través de medidas de reducción de emisio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07T11:33:12Z</dcterms:modified>
  <cp:revision>199</cp:revision>
  <dc:subject/>
  <dc:title>Focal Area and Cross Cutting Strategies – Chemicals</dc:title>
</cp:coreProperties>
</file>