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EA07-8861-4958-A01D-6CD43AA5B0A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4818-EC0D-487D-B652-AD793FB1821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74D3-9AE1-4988-81A8-E9C5A2A7FE9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DD94-8DBA-4A4F-9B7C-4B1FFB66B91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a “simplified” environment project (i.e. I have only taken one activity, all projects contain many more than just th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= hect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D9F7-2F09-4CD8-9667-4E41D7F851B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C4D9-3D8D-4204-9B9C-CFEA2D7C3A9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478F-BFD3-41A0-8BF2-DF7E7868692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Lima, Per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políticas apropiadas de gestión de bo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bajo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Herramientas de seguimiento (TT)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la CEO las ratific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s-A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52640" y="30492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04920" y="220968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6:06Z</dcterms:modified>
  <cp:revision>206</cp:revision>
  <dc:subject/>
  <dc:title>Focal Area and Cross Cutting Strategies – Chemicals</dc:title>
</cp:coreProperties>
</file>