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BAA4-C147-4097-9866-B906239CC2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9E60-8BB1-4470-B0CD-86C760B6868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1A1-BE6B-4CBD-BE40-E2CD0471F0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811F-C759-4011-9831-43693EA8ECE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9AE8-3E31-452D-AED4-943AD73C42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78F-A6C2-42CD-A7E2-1843E0F3CF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911-5805-4B7D-9D4E-93C120086B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Herramientas de seguimiento (TT)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la CEO las ratific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s-A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04920" y="220968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6:06Z</dcterms:modified>
  <cp:revision>206</cp:revision>
  <dc:subject/>
  <dc:title>Focal Area and Cross Cutting Strategies – Chemicals</dc:title>
</cp:coreProperties>
</file>