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AE5-E90B-4955-9C59-3238B1EEE6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CE10-9F6C-4791-A796-9A2DD28D22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0E88-3245-4941-916C-CC4A5BA539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F50C-B66A-42DA-BE0F-4FB180F9E7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D222-838F-46AE-85BC-F8971B5CE5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78D-644D-42E2-8D09-AA95445A35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77F-9269-45B1-98AC-B1B557778A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7:56Z</dcterms:modified>
  <cp:revision>201</cp:revision>
  <dc:subject/>
  <dc:title>Focal Area and Cross Cutting Strategies – Chemicals</dc:title>
</cp:coreProperties>
</file>