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6583-849D-47FC-91BE-0D512700FE4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EBDC-F8A0-4E45-A6A9-B9EF391AE53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C844-50B0-4567-8905-EECCC4AD251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comes: </a:t>
            </a:r>
            <a:r>
              <a:rPr b="1" lang="en-US" sz="1200" spc="-1" strike="noStrike">
                <a:solidFill>
                  <a:srgbClr val="7f7f7f"/>
                </a:solidFill>
                <a:latin typeface="Calibri"/>
              </a:rPr>
              <a:t>(farmers &amp; manufactures have better access to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00D3-3E46-43D7-B3BC-6BBFD43FF1E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from a “simplified” environment project (i.e. I have only taken one activity, all projects contain many more than just th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 = hect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B547-6905-417C-AD1D-39AE1BB5E87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6386-3CA1-44A2-9E84-38086ED5A00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efinitions for RBM at the FMAM come from the OECD/D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2F89-1C29-4FD9-BF42-755D5FC93F5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thegef.org/gef/tracking_tools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Gestión Basada en Resultados en el FMA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45716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Taller de Circunscripción Ampliado del FM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8 a 10 de mayo de 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Antigua y Barbu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Resultados a nivel de proyecto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Indicador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 factor o variable, de carácter cuantitativo o cualitativo, que proporciona un medio simple y confiable de medición de lo logrado, para reflejar cambios vinculados con una intervención o para ayudar a evaluar el desempeño de un actor del desarroll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 OCDE/CAD 20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adena de resultados de OCDE/DAC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805040" y="1143000"/>
            <a:ext cx="5662440" cy="4678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3733920" y="133812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su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3733920" y="20574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Activ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3733920" y="289548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3733920" y="36576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733920" y="530064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Impa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4724280" y="4309920"/>
            <a:ext cx="1524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Efectos a mediano pl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2743200" y="4267080"/>
            <a:ext cx="1523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Efectos a corto pl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 rot="16200000">
            <a:off x="991440" y="4197960"/>
            <a:ext cx="17524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Resultados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término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141560" y="838080"/>
            <a:ext cx="1371600" cy="12970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2819520" y="4572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nsum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Financiamiento para construcción de una carretera, equipos y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6188040" y="1523880"/>
            <a:ext cx="1279440" cy="1216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3"/>
          <a:stretch/>
        </p:blipFill>
        <p:spPr>
          <a:xfrm>
            <a:off x="625320" y="304920"/>
            <a:ext cx="1049400" cy="99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4"/>
          <a:stretch/>
        </p:blipFill>
        <p:spPr>
          <a:xfrm>
            <a:off x="1523880" y="2666880"/>
            <a:ext cx="685800" cy="970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5"/>
          <a:stretch/>
        </p:blipFill>
        <p:spPr>
          <a:xfrm>
            <a:off x="6324480" y="3352680"/>
            <a:ext cx="1371600" cy="912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6"/>
          <a:stretch/>
        </p:blipFill>
        <p:spPr>
          <a:xfrm>
            <a:off x="6553080" y="4648320"/>
            <a:ext cx="1371600" cy="9777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3"/>
          <p:cNvSpPr/>
          <p:nvPr/>
        </p:nvSpPr>
        <p:spPr>
          <a:xfrm>
            <a:off x="2819520" y="179244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Actividade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Construcción del carre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2819520" y="2666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Product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Carretera mejo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7"/>
          <a:stretch/>
        </p:blipFill>
        <p:spPr>
          <a:xfrm>
            <a:off x="7086600" y="1143000"/>
            <a:ext cx="1257480" cy="8254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5"/>
          <p:cNvSpPr/>
          <p:nvPr/>
        </p:nvSpPr>
        <p:spPr>
          <a:xfrm>
            <a:off x="2819520" y="362124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Resultad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Reducción del tiempo de viaje, aumento de los productos vend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2819520" y="46116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mpacto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Mejora de las actividades comerciales, incremento de los ingresos de los ho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304920" y="5334120"/>
            <a:ext cx="419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do de Banco Mundial,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odule 2 Results Cha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gión de Europa y Asia Central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2819520" y="45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nsum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Recursos del FMAM y de co-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2819520" y="16336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Actividades: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signar tierra boscosa a comunidades locales para manejarla con políticas apropiadas de gestión de bos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2819520" y="288612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f7f7f"/>
                </a:solidFill>
                <a:uFillTx/>
                <a:latin typeface="Calibri"/>
              </a:rPr>
              <a:t>Productos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: hectáreas de bosques bajo manejo forestal comunitario sosten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2895480" y="4002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Resultad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hectáreas de bosques mejo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2971800" y="50688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mpacto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 secuestro de carbono, biodiversidad prote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487520" y="3733920"/>
            <a:ext cx="1332000" cy="1136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1478160" cy="1109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3"/>
          <a:stretch/>
        </p:blipFill>
        <p:spPr>
          <a:xfrm>
            <a:off x="6172200" y="228600"/>
            <a:ext cx="1371600" cy="122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4"/>
          <a:stretch/>
        </p:blipFill>
        <p:spPr>
          <a:xfrm>
            <a:off x="7010280" y="4952880"/>
            <a:ext cx="18417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f497d"/>
                </a:solidFill>
                <a:latin typeface="Calibri"/>
              </a:rPr>
              <a:t>Línea de Bas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9903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os iniciales sobre participantes de un proyecto u otros aspectos del mismo, recibidos antes de la intervención del proy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 no se dispone de ellos, es difícil: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jar metas a alcanzar por efecto del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 no se sabe dónde se está, ¿cómo se puede sab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acia dónde se está yend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artir del monitoreo, estimar los cambios necesarios a medida que el proyecto avan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 evaluacion permite comparar las condicones iniciales con los cambios generados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Líneas de base para proyectos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espués de 20 años de inversiones, se espera que los proyectos (FIPs) presentados cuenten con líneas de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Si se carece de una cifra de referencia para cada indicador </a:t>
            </a:r>
            <a:r>
              <a:rPr b="0" lang="es-CO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 debe esbozarse un plan sobre la manera de captarla durante el primer año de ejecu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onitoreo de la cartera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Monitoreo de la cartera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Se hace monitoreo de todo el conjunto de intervenciones financiadas por el FM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El monitoreo que hace la Secretaría (con la colaboracion de las Agencias),  se centra en la cartera global, y busca dar cuent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ios ambientales mundi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Metas de áreas focal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Objetivos de áreas foc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lgunos indicadores clave para 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Emisiones de gases de efecto invernadero reducidas/evita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º de hectáreas de áreas protegi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º de hectáreas sujetas a un manejo sostenible de la tier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úmero de alianzas estratégicas financiadas para producir una reducción medible de la contaminación en masas de ag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úmero de países que reciben apoyo para actividades de reducción de contaminantes orgánicos persist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Síntesis de la presentación</a:t>
            </a: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estión basada en los resultados en 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sultados a nivel de proy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eo de la cart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icacia y eficiencia de la gest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uministro de información y accesibi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762120" y="152280"/>
          <a:ext cx="7696080" cy="5729400"/>
        </p:xfrm>
        <a:graphic>
          <a:graphicData uri="http://schemas.openxmlformats.org/drawingml/2006/table">
            <a:tbl>
              <a:tblPr/>
              <a:tblGrid>
                <a:gridCol w="1904760"/>
                <a:gridCol w="2133720"/>
                <a:gridCol w="1832040"/>
                <a:gridCol w="182556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ivo de la área focal de biodiversid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02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stenibilidad de sistemas de áreas protegidas mejora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gresos para sistemas de áreas protegidas incrementados para cubrir el total de los gastos que requiere su gest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total anual de los ingresos es suficiente para la gestión de la área protegi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e los ingresos anuales: US$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es de financiamiento sosteni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o.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ivo de la área focal de cambio climát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1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ver la demostración, la puesta en funcionamiento y transferencia de tecnologías innovadoras con bajas emisiones de carbo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ologías exitosamente demostradas, puestas en funcionamiento y transferi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centaje de demostraciones de tecnología que alcanzan las metas planificadas</a:t>
                      </a: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ologías innovadoras con bajas emisiones de carbono demostradas y puestas en funcionamiento en la práct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o.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Herramientas de seguimiento del FMAM para el seguimiento del desempeño de la cartera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ituyen la herramienta de seguimiento de la Secretar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ravés de ellas se bus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licar los indicadores desde el nivel de los proyectos (individualmente considerados), hasta el nivel de la cart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zar el seguimiento de la cartera global en las áreas foc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quisitos de las herramientas de seguimiento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da área focal  tiene su propia herramienta de seguimiento (TT) para atender sus necesidades singul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chas herramientas deben estar completas cuando el  la CEO las endosa FSP / aprueba MS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 vuelven a presentar a mitad de período y al culminar el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s herramientas y sus directrices conexas pueden encontrarse en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tracking_too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ficacia y eficiencia de la gest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Indicadores de gestión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La Secretaría del FMAM realiza el seguimiento de algunos indicadores de gestión con el fin de medir la eficacia de la Secretaría a lo largo del tiem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Los indicadores proporcionan una visión general de la forma en que el FMAM cumple adecuadamente los siguientes cometid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Movilización y uso de sus recurs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Visibilidad como institución líder en materia ambien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ficiencia de sus alianzas en cuanto a cumplimiento de estándares de servicios y eficiencia del ciclo de sus proyectos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fectividad de su colaboración con  entidades ali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Estándares del FMAM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04920" y="762120"/>
          <a:ext cx="8305560" cy="4938480"/>
        </p:xfrm>
        <a:graphic>
          <a:graphicData uri="http://schemas.openxmlformats.org/drawingml/2006/table">
            <a:tbl>
              <a:tblPr/>
              <a:tblGrid>
                <a:gridCol w="5945040"/>
                <a:gridCol w="1224000"/>
                <a:gridCol w="1136520"/>
              </a:tblGrid>
              <a:tr h="42084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yores eficiencias en el ciclo de los 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joras en cuanto a puntualidad del diseño de los 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jercicio de 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951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porción de los FIP/las DPP que superan el servicio estándar de 10 dí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%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promedio transcurrido entre la aprobación del proyecto y el momento en que la CEO lo refrenda para el FMAM-4 (hasta el cierre del ejercicio de 2011)"</a:t>
                      </a: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promedio transcurrido entre la aprobación del proyecto y el momento en que el FEP lo refrenda para </a:t>
                      </a: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MAM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Presentación de informes y accesibilida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Informes sobre la ejecución de los proyectos (IEP / PIR)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n informes anuales presentados a la Secretaría por parte de las Age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 cuenta del estado del proyecto: comienzo, cierre, demoras experimentadas, cancel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 cuenta de los avances de los proyectos (calificacion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ance en la ejecu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tivo de desarr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Examen anual de seguimiento (AMR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Es el principal instrumento de reporte al Consejo con que cuenta el sistema de seguimiento de la Secretaría d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roporciona una síntesis de la solidez global de la cartera activa de proyectos del FMAM en cada ejercic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El informe se basa en los IEP/PIR presentados por las Agenc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Gestión basada en resultados integrada en el ciclo de los proyectos (desde el concepto de proyecto hasta la culminación de los mismos)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95" name="Content Placeholder 3" descr=""/>
          <p:cNvPicPr/>
          <p:nvPr/>
        </p:nvPicPr>
        <p:blipFill>
          <a:blip r:embed="rId1"/>
          <a:stretch/>
        </p:blipFill>
        <p:spPr>
          <a:xfrm>
            <a:off x="603360" y="1500120"/>
            <a:ext cx="7632720" cy="4291200"/>
          </a:xfrm>
          <a:prstGeom prst="rect">
            <a:avLst/>
          </a:prstGeom>
          <a:ln w="0">
            <a:noFill/>
          </a:ln>
        </p:spPr>
      </p:pic>
      <p:sp>
        <p:nvSpPr>
          <p:cNvPr id="196" name="Left Brace 4"/>
          <p:cNvSpPr/>
          <p:nvPr/>
        </p:nvSpPr>
        <p:spPr>
          <a:xfrm rot="16200000">
            <a:off x="5715000" y="2819160"/>
            <a:ext cx="762120" cy="2895480"/>
          </a:xfrm>
          <a:custGeom>
            <a:avLst/>
            <a:gdLst>
              <a:gd name="textAreaLeft" fmla="*/ 487080 w 762120"/>
              <a:gd name="textAreaRight" fmla="*/ 762480 w 762120"/>
              <a:gd name="textAreaTop" fmla="*/ 19800 h 2895480"/>
              <a:gd name="textAreaBottom" fmla="*/ 287568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4"/>
                </a:cubicBezTo>
                <a:lnTo>
                  <a:pt x="10800" y="10558"/>
                </a:lnTo>
                <a:cubicBezTo>
                  <a:pt x="10800" y="10795"/>
                  <a:pt x="5400" y="11032"/>
                  <a:pt x="0" y="11032"/>
                </a:cubicBezTo>
                <a:cubicBezTo>
                  <a:pt x="5400" y="11032"/>
                  <a:pt x="10800" y="11269"/>
                  <a:pt x="10800" y="11506"/>
                </a:cubicBezTo>
                <a:lnTo>
                  <a:pt x="10800" y="21126"/>
                </a:lnTo>
                <a:cubicBezTo>
                  <a:pt x="10800" y="2136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ight Brace 5"/>
          <p:cNvSpPr/>
          <p:nvPr/>
        </p:nvSpPr>
        <p:spPr>
          <a:xfrm rot="13955400">
            <a:off x="1614240" y="309708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1523880"/>
              <a:gd name="textAreaBottom" fmla="*/ 1506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5"/>
                  <a:pt x="10800" y="810"/>
                </a:cubicBezTo>
                <a:lnTo>
                  <a:pt x="10800" y="9990"/>
                </a:lnTo>
                <a:cubicBezTo>
                  <a:pt x="10800" y="10395"/>
                  <a:pt x="16200" y="10800"/>
                  <a:pt x="21600" y="10800"/>
                </a:cubicBezTo>
                <a:cubicBezTo>
                  <a:pt x="16200" y="10800"/>
                  <a:pt x="10800" y="11205"/>
                  <a:pt x="10800" y="11610"/>
                </a:cubicBezTo>
                <a:lnTo>
                  <a:pt x="10800" y="20790"/>
                </a:lnTo>
                <a:cubicBezTo>
                  <a:pt x="10800" y="2119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380880" y="236232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Históricamente, el Consejo y la Secretaría del FMAM han centrado la atención en los dos primeros pasos del ciclo de los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4495680" y="4648320"/>
            <a:ext cx="304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En FMAM-5 la GBR ha hecho mayor hincapié en los pasos 3 y 4 del ciclo de los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Gestión basada en resultados en 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¿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Gestión basada en resultados :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Definic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foque basado en resultados tiene como fin lograr mejoras en cuanto a eficacia y responsabilidad “definiendo los resultados realistas previstos, el seguimiento del avance hacia la consecución de los resultados previstos, la integración de lecciones aprendidas en las decisiones de manejo y el suministro de información sobre el desempeñ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alibri"/>
              </a:rPr>
              <a:t>Agencia Canadiense para el Desarrollo Internacional (CIDA), 19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Seguimiento de los resultados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762120" y="1066680"/>
            <a:ext cx="7619400" cy="4245480"/>
            <a:chOff x="762120" y="1066680"/>
            <a:chExt cx="7619400" cy="4245480"/>
          </a:xfrm>
        </p:grpSpPr>
        <p:sp>
          <p:nvSpPr>
            <p:cNvPr id="98" name="Text Box 5"/>
            <p:cNvSpPr/>
            <p:nvPr/>
          </p:nvSpPr>
          <p:spPr>
            <a:xfrm>
              <a:off x="762120" y="1066680"/>
              <a:ext cx="24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iseño del proyec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3331440" y="1066680"/>
              <a:ext cx="24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jecu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5901120" y="1066680"/>
              <a:ext cx="248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valu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8"/>
            <p:cNvSpPr/>
            <p:nvPr/>
          </p:nvSpPr>
          <p:spPr>
            <a:xfrm>
              <a:off x="2977200" y="141948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9"/>
            <p:cNvSpPr/>
            <p:nvPr/>
          </p:nvSpPr>
          <p:spPr>
            <a:xfrm>
              <a:off x="5635080" y="141948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1220040" y="1980720"/>
              <a:ext cx="195480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arco lógico/Marco de resultad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lan de M y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1"/>
            <p:cNvSpPr/>
            <p:nvPr/>
          </p:nvSpPr>
          <p:spPr>
            <a:xfrm>
              <a:off x="2356920" y="3357720"/>
              <a:ext cx="4075560" cy="1585800"/>
            </a:xfrm>
            <a:prstGeom prst="rightArrow">
              <a:avLst>
                <a:gd name="adj1" fmla="val 50000"/>
                <a:gd name="adj2" fmla="val 642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2900880" y="3886560"/>
              <a:ext cx="22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estión, monitoreo y aprendiza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3420000" y="1771560"/>
              <a:ext cx="221508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onitoreo del avance, corrección la mitad del proyecto si es necesar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6078240" y="1771560"/>
              <a:ext cx="221508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Evaluaciones termina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ecciones aprendid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AutoShape 15"/>
            <p:cNvCxnSpPr>
              <a:stCxn id="107" idx="2"/>
              <a:endCxn id="103" idx="2"/>
            </p:cNvCxnSpPr>
            <p:nvPr/>
          </p:nvCxnSpPr>
          <p:spPr>
            <a:xfrm rot="5400000">
              <a:off x="4502160" y="-103320"/>
              <a:ext cx="378720" cy="4988160"/>
            </a:xfrm>
            <a:prstGeom prst="bentConnector3">
              <a:avLst>
                <a:gd name="adj1" fmla="val 16032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9" name="Text Box 16"/>
            <p:cNvSpPr/>
            <p:nvPr/>
          </p:nvSpPr>
          <p:spPr>
            <a:xfrm>
              <a:off x="4197240" y="5035680"/>
              <a:ext cx="262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ecciones aprendidas, buenas práct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17"/>
          <p:cNvSpPr/>
          <p:nvPr/>
        </p:nvSpPr>
        <p:spPr>
          <a:xfrm>
            <a:off x="609480" y="541008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do  del documentg del Banco Mundial -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Julio de 2005, p.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Marco de GBR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12" name="Group 40"/>
          <p:cNvGrpSpPr/>
          <p:nvPr/>
        </p:nvGrpSpPr>
        <p:grpSpPr>
          <a:xfrm>
            <a:off x="838080" y="1066680"/>
            <a:ext cx="7625880" cy="4266720"/>
            <a:chOff x="838080" y="1066680"/>
            <a:chExt cx="7625880" cy="4266720"/>
          </a:xfrm>
        </p:grpSpPr>
        <p:grpSp>
          <p:nvGrpSpPr>
            <p:cNvPr id="113" name="Group 41"/>
            <p:cNvGrpSpPr/>
            <p:nvPr/>
          </p:nvGrpSpPr>
          <p:grpSpPr>
            <a:xfrm>
              <a:off x="2971080" y="1066680"/>
              <a:ext cx="5492880" cy="4266720"/>
              <a:chOff x="2971080" y="1066680"/>
              <a:chExt cx="5492880" cy="4266720"/>
            </a:xfrm>
          </p:grpSpPr>
          <p:sp>
            <p:nvSpPr>
              <p:cNvPr id="114" name="AutoShape 42"/>
              <p:cNvSpPr/>
              <p:nvPr/>
            </p:nvSpPr>
            <p:spPr>
              <a:xfrm>
                <a:off x="2971080" y="1066680"/>
                <a:ext cx="5492880" cy="426672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43"/>
              <p:cNvSpPr/>
              <p:nvPr/>
            </p:nvSpPr>
            <p:spPr>
              <a:xfrm>
                <a:off x="4936680" y="4512240"/>
                <a:ext cx="1310400" cy="66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Objetivos del proyec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44"/>
              <p:cNvSpPr/>
              <p:nvPr/>
            </p:nvSpPr>
            <p:spPr>
              <a:xfrm>
                <a:off x="4824000" y="2638440"/>
                <a:ext cx="1683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Metas de el área focal</a:t>
                </a: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45"/>
              <p:cNvSpPr/>
              <p:nvPr/>
            </p:nvSpPr>
            <p:spPr>
              <a:xfrm>
                <a:off x="5258160" y="1295640"/>
                <a:ext cx="978120" cy="69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600" spc="-1" strike="noStrike">
                    <a:solidFill>
                      <a:srgbClr val="000000"/>
                    </a:solidFill>
                    <a:latin typeface="Calibri"/>
                  </a:rPr>
                  <a:t>Metas estratégicas del FMA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46"/>
              <p:cNvSpPr/>
              <p:nvPr/>
            </p:nvSpPr>
            <p:spPr>
              <a:xfrm>
                <a:off x="4204080" y="3424680"/>
                <a:ext cx="30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47"/>
              <p:cNvSpPr/>
              <p:nvPr/>
            </p:nvSpPr>
            <p:spPr>
              <a:xfrm>
                <a:off x="5001480" y="3648960"/>
                <a:ext cx="1328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Objetivos de la área focal</a:t>
                </a: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48"/>
              <p:cNvSpPr/>
              <p:nvPr/>
            </p:nvSpPr>
            <p:spPr>
              <a:xfrm>
                <a:off x="3583800" y="4322880"/>
                <a:ext cx="42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49"/>
              <p:cNvSpPr/>
              <p:nvPr/>
            </p:nvSpPr>
            <p:spPr>
              <a:xfrm>
                <a:off x="4912920" y="2301480"/>
                <a:ext cx="159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 Box 50"/>
            <p:cNvSpPr/>
            <p:nvPr/>
          </p:nvSpPr>
          <p:spPr>
            <a:xfrm>
              <a:off x="1933920" y="1386360"/>
              <a:ext cx="1931040" cy="35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Impact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en forma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B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Produc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1"/>
            <p:cNvSpPr/>
            <p:nvPr/>
          </p:nvSpPr>
          <p:spPr>
            <a:xfrm flipV="1">
              <a:off x="2878200" y="3200040"/>
              <a:ext cx="1440" cy="61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2"/>
            <p:cNvSpPr/>
            <p:nvPr/>
          </p:nvSpPr>
          <p:spPr>
            <a:xfrm>
              <a:off x="2894040" y="2286720"/>
              <a:ext cx="1800" cy="62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53"/>
            <p:cNvSpPr/>
            <p:nvPr/>
          </p:nvSpPr>
          <p:spPr>
            <a:xfrm flipH="1">
              <a:off x="2105280" y="1370880"/>
              <a:ext cx="257400" cy="853560"/>
            </a:xfrm>
            <a:custGeom>
              <a:avLst/>
              <a:gdLst>
                <a:gd name="textAreaLeft" fmla="*/ -360 w 257400"/>
                <a:gd name="textAreaRight" fmla="*/ 92520 w 257400"/>
                <a:gd name="textAreaTop" fmla="*/ 21960 h 853560"/>
                <a:gd name="textAreaBottom" fmla="*/ 831600 h 85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4"/>
            <p:cNvSpPr/>
            <p:nvPr/>
          </p:nvSpPr>
          <p:spPr>
            <a:xfrm flipH="1">
              <a:off x="2105280" y="3862800"/>
              <a:ext cx="257400" cy="1013400"/>
            </a:xfrm>
            <a:custGeom>
              <a:avLst/>
              <a:gdLst>
                <a:gd name="textAreaLeft" fmla="*/ -360 w 257400"/>
                <a:gd name="textAreaRight" fmla="*/ 92520 w 257400"/>
                <a:gd name="textAreaTop" fmla="*/ 26280 h 1013400"/>
                <a:gd name="textAreaBottom" fmla="*/ 987120 h 101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55"/>
            <p:cNvSpPr/>
            <p:nvPr/>
          </p:nvSpPr>
          <p:spPr>
            <a:xfrm>
              <a:off x="838080" y="1386360"/>
              <a:ext cx="13964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Nivel institu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(de arriba hacia abaj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56"/>
            <p:cNvSpPr/>
            <p:nvPr/>
          </p:nvSpPr>
          <p:spPr>
            <a:xfrm>
              <a:off x="838080" y="3787200"/>
              <a:ext cx="1310760" cy="79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Nivel oper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(de abajo hacia arrib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etas estratégicas de FMAM-5 (1-2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520" y="8377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1 </a:t>
            </a: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– Conservar, usar en forma sostenible y realizar la gestión de la biodiversidad, los ecosistemas y los recursos naturales a nivel mundial, teniendo en cuenta los impactos previstos del cambio climátic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26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2 </a:t>
            </a: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– Reducir los riesgos del cambio climático mundial a través 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1) La estabilización de las concentraciones de gases de efecto invernadero a través de medidas de reducción de emisiones, 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2) La asistencia a los países a adaptarse al cambio climático, incluida su variabilida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etas estratégicas de FMAM-5 (3-4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89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3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Promover la adecuada gestión de los productos químicos a lo largo de todo su ciclo de existencia para reducir al mínimo los efectos adversos sobre la salud humana y el medio ambiente mund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4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Crear capacidades nacionales y regionales y condiciones propicias para la protección del medio ambiente mundial y el desarrollo sosten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Alineación de los objetivos de las áreas focales con las metas estratégicas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1426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ada una de las metas y de los objetivos de las áreas focales está alineada con metas estratégicas del FMA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as metas a nivel de proyectos están alineadas con los objetivos de las áreas focal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Objetivo de biodiversidad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Mejor sostenibiliad de los sistemas de zonas protegi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eta estratégica 1: Conservar, usar en forma sostenible y realizar la gestión de la biodiversidad, los ecosistemas y los recursos naturales a nivel mundia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Objetivo de cambio climático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mover la demostración, la puesta en acción y la transferencia de tecnologías de bajo nivel de emisión de carbono innovador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eta estratégica 2: Reducir los riesgos del cambio climático mundial estabilizando las concentraciones de gases de efecto invernadero a través de medidas de reducción de emision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5:17:56Z</dcterms:modified>
  <cp:revision>201</cp:revision>
  <dc:subject/>
  <dc:title>Focal Area and Cross Cutting Strategies – Chemicals</dc:title>
</cp:coreProperties>
</file>