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088-DA8A-4BD9-825A-1124797B81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350B-6BBA-4B51-A717-D5CFCB4D9A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77C-7D41-42E5-8651-0CC9008704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DF4-0A6E-41B5-9286-A41DAE7D89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AA7-BE65-4660-92E7-41342DD45D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7BB6-19E1-40AD-86E7-08BFD4DBF7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8C5-057B-444C-8EC4-505DCA00DF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8EDC-1869-48A5-9952-5E8129921A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E84-A20F-4577-9429-0848B96393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B08-9E79-4DEA-AA3D-08EB4FE767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FB1-ADC2-4BCD-B95F-691256C4DB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07B-7D45-4B51-98B2-D873161A16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2309-E15E-4CE5-ACE2-A4CA474119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E1B8-12F8-4AAD-923C-5957C2C5E9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875-86B4-43DB-A04E-3E4F327D90D2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248-A8DD-42E1-95CD-EDFB5C4BA3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E5C-8E41-4266-8544-DF9BDDB9C6E2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018-1008-44DE-BA80-3D7515B696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8BA-96DE-4D3D-B9F5-D9CD0D2CF9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284-9417-404C-8DA5-735D9E11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5B3-F634-47C3-8A18-7BC4691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7C0-5BAE-4978-B307-70CA3288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043-D79A-4BC1-8CAC-F12FDD26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F8DF-425E-4AA5-AFB7-E1CBB419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245B-6795-4AC1-8EAF-F26C01A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885-5B31-455C-81F0-3DA21CB5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DB3-5A36-4AAD-8E1D-F292A81A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CF3-8AC1-407B-AF33-71CD4AD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BB34-4949-45F5-B606-CA8DD51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94C-04C8-447F-9D2A-C2CDDA0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AF9-7E1A-45B6-A90B-6E8BCD9D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CCA1-0C38-48ED-BF20-A80D9D7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FF43-C043-42BC-8133-3907E3F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649B-406D-421E-85AA-1E878E0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B55B-BC40-4A9A-B098-7225486C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3C8E-1B06-468A-9A5C-837F5B58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09BAA-1F8F-475C-9FFB-E94EEBB86D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FFD93-11B4-4149-AF9B-383A03399B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89E01-546C-405A-8A10-D77AAF01BC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07EC0-884F-4375-9CC6-691E6AB8C3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DE5B4-A65D-4D8E-A4F6-643EA6D17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3DA-DB08-4253-A241-E736F75B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4BF76-F194-4FA5-A81E-8E22907A65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C8132-A2EF-426E-BC57-90CA882CCF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F0DAA-0DCF-4305-9E3E-BCD885B4BC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2E581-B9F4-4517-81AF-7935C83CC8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F9484-91A7-4178-A208-CA0035121A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1BCA6-BDDB-408E-B8F3-7D9089CCD5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AEAE5-5DDE-4D19-B3C3-EED3D9F5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9CF-9FFA-4D08-9C29-46C8DB9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630-5DD8-440A-8366-347A108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0DD-D780-4A41-A532-AC37837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C27-80EC-4480-A100-C0B71BF1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151-72E3-436D-9C95-8B4C65A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BC5-11D6-46C8-B58D-E7362BE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DC30-004A-44FF-A668-0A00D7CAC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369-6DDF-49EF-88D9-FE92826C9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724C-66FE-45BA-93AE-514A1BBB31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832-19A4-4671-9BB1-2E4C5ACCC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381-AFA8-45DC-BF8A-6197358833CA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938320"/>
            <a:ext cx="6321600" cy="3333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3DF6-F2D9-49A3-9E12-05C9C1C2152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F3D-44DB-466D-9813-8EA035F38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37DE-710A-4ACE-A78C-99826F5D79E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113-4B51-4C5C-9DA1-6843680005F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BD5-D921-4E51-A192-802B38D6908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F8CC-10C7-46BB-ABF6-78DD21B26A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683C-D176-4DCB-9842-2B332CC67A7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96AE-5E52-41C2-84D1-2B31228F24D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9E3-CCBA-40DF-9E04-D211B3DE7ED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4BF-E458-4B1E-9277-F243F8348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</a:t>
            </a:r>
            <a:r>
              <a:rPr b="1" i="1" lang="en-US" sz="1900" spc="-1" strike="noStrike">
                <a:solidFill>
                  <a:srgbClr val="31859c"/>
                </a:solidFill>
                <a:latin typeface="Calibri"/>
              </a:rPr>
              <a:t>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8342-2FB9-41AF-8F8A-32B43A54E0D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762-C444-4F22-91C9-D83E27F8E63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C19-EA44-4E59-B0F2-255686D394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DE90-7146-4060-B3FB-2C40CF51DB8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C71-228E-4B4F-91FC-A5472BF40C5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59B-3F7F-4F64-B600-CF20014ED0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1ED2-D11E-46C4-BCB5-80F2038278A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D48-4F56-44ED-B47E-85B6D23339C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1DC-FA25-45BD-925B-E3F05DD1971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7B51-F8C3-42B0-B773-E1C0ABE641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741-2A93-4BA5-8BB4-F5378F2D494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B37-E38E-41F4-80C4-471EAED6459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C3D-AE5C-447D-8993-DC5D144F1A0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CFF-BCAF-4145-8B25-F04BC091FE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3E93-1DEB-45E5-B222-0D3423F6F6D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1:48Z</dcterms:modified>
  <cp:revision>327</cp:revision>
  <dc:subject/>
  <dc:title>Slide 1</dc:title>
</cp:coreProperties>
</file>