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0B2-25CC-42EF-9F7F-6FC802EAA8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B944-337E-4307-AFDE-39443E07ED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7B3-3459-4417-B3E0-4229FE86F3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BBDB-3CD9-4871-94A7-6325CBDD72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A6B-7D98-4669-8CF9-1F7ADC11CD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1A4A-CBC6-4B00-9F76-104D21D5B0E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82E-7868-4068-8ABA-6EE0DDFB69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238-7A78-40C3-98E8-6F8751EFEF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5A9-F0A1-474B-AF81-5A43342C54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AD8-6FE0-44D6-A5D4-9A70F64637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809C-F5A4-4366-A028-2D90DB0A4E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E21-3F47-4B24-AE51-A344A42D85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A29-6F9C-4737-8C5C-491B5EC1D1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4A4-5344-4888-8A52-5DD8D9F6FD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B94B-EF23-4874-9E15-B296D4A49D4C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D5D9-DBA1-48E1-86F1-DB0C7D6D12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2081-7DFC-466B-AF58-18D2D54EABF8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6EC-72E0-4481-BB09-5F367D3B1C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358-43F9-4205-B81D-C8D1139097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191-24D7-41CE-9BEF-BC32C598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D66-51DD-497A-9773-782E4092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605-4D34-4E93-ABB1-EE76B0EF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252-F4C8-4E74-9F81-B78B1067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BAC9-B2E5-4C4D-A626-3A2CB14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3AD7-E7E2-4471-90BD-16C2982C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A915-61F8-4B1B-905A-0BF51410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E9E-3E67-45D9-A23C-19AEAB1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357-C1DA-4DA9-B174-5F244B0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94B-D747-468E-882C-341A57A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02CA-6C1F-4DDB-8F15-2418E2B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D1A-010F-4919-88A7-191BF47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EC8C-92B5-4599-9B5B-28B54B7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B32-1BCB-4E2B-9AE1-211A7E6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482-EAC3-4F17-B509-BFDDAA1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BC1-C0FA-408C-9910-752A0C9C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0A4-C988-44F8-A66E-4FB7B4D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8CABF-C1EA-45A5-92F6-6DC3AF86C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70CBA-921F-4E5A-B576-15D11A70A5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AE672-69E2-4460-A520-4C6CA2809C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26858-E96D-4CE2-996E-D418014D0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E4C75-E111-446F-8D10-A309EF7D3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28D-8EB2-4A43-927B-45C3FBA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A350C-38DE-4AF0-A7F2-1FD0EED415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8DA77-EA93-43E9-BA84-BEA7C39276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055A6-0DA4-49C0-B62E-69366A32D1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C1855-A22D-4339-812E-1D4F13C2C0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8B6FC-8652-4567-B66A-F1A9F8A57C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F0FBD-7345-4B18-8291-017D67A7BB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C3346-12CA-4BC1-9776-6D2ACB0C7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B0B-5E78-4FC1-B7EF-1266E123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3A8-6DD3-4E78-8C5E-324D57C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61D-914C-44E9-BBCC-628B271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A50-3C7A-4A0C-9AD0-A29AA5C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5C2-EA7A-437A-AAEA-D467720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52E-E408-46F7-A92D-C54294A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14B5-27FE-4766-9319-B6DB48A1D4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A8D-51C9-41FE-8732-F981140C8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64D-B33C-4E9D-A53E-7953F712F6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050-4B02-40E3-A8B0-E9C92790E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DCF-AA7D-4B18-BBC3-89C35132FF59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938320"/>
            <a:ext cx="6321600" cy="3333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DF74-E3EB-46B2-81CC-B0516EC0C5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F5F-26D7-4CED-A212-0C153ABFB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175-AECE-4E47-A2C4-AFF3BEED818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B5F-C41D-4929-BDA1-C08CB1F006E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D81-9859-4439-8E03-47F11C32FD6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5A91-41F9-40BB-92D7-600478E31E5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759-D93A-4A08-8ADB-EA6D0FF649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E2D-D10B-4F7A-A198-2AE7275617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72C-A666-453D-9D81-160C181C5EC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C29E-2175-4157-9A2B-4557C0B2B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</a:t>
            </a:r>
            <a:r>
              <a:rPr b="1" i="1" lang="en-US" sz="1900" spc="-1" strike="noStrike">
                <a:solidFill>
                  <a:srgbClr val="31859c"/>
                </a:solidFill>
                <a:latin typeface="Calibri"/>
              </a:rPr>
              <a:t>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5A06-1C5C-4849-ADDD-5EC7ED2F862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62C-1316-45E4-849B-7DAB851C7FD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039-03FD-41E2-A2E8-38B34BFD813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2C1-48D4-43BD-908D-9847B561000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F801-ADE7-4A35-84F9-19047F6FB02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DBD1-2CD2-47BF-8F6D-E0DCF5A250F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BA5-BC31-4BE4-B936-B5C5BA07E3E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805-4C89-416C-A870-F580094772E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602-137F-4F0A-A3FE-2BBF4E5D848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EE4C-3A5C-4AD0-8FA6-C326EC9CC9E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09D3-E811-4377-BDAC-D5DB3D549AA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F82-25E9-44FB-82DF-6C17D954DA8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D1A-EC20-4322-82C8-95D7A5F12E9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994B-DCD2-4699-BE84-EE7DC919929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1A6-B056-49AF-96BA-BC9ACEAAE3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1:48Z</dcterms:modified>
  <cp:revision>327</cp:revision>
  <dc:subject/>
  <dc:title>Slide 1</dc:title>
</cp:coreProperties>
</file>