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649A-5C6C-4243-83D4-957474D306E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DHWA, Balji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B49A-DE99-45A2-A12D-453E988D076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F910-17E7-4CAE-BCFF-B52B4C76694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6794-E7EB-4B79-9433-9E87CDF8C3D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BC1F-D6E1-46F2-A855-F95080474B3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E7F1-2B18-49C3-BCAE-B8462B19098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1FC9-8697-4643-88D5-C072F64AE63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C909-88C8-43E1-9CD4-84F8BB209E6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4249-DBCD-4CB8-B0D3-77E6DD28514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13A4-776E-4C6F-A436-265A851D9F9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AC99-DCCF-456A-8336-D5298BC1DB6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A4F6-2965-4A7F-9545-33B19D5D11C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7EA3-A37F-41D3-A9A2-0AB7CCA7F4B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5F70-6C67-4C76-BB9D-BF8AAB7EBE7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FB30-AAB2-4AD3-A737-49BEF8EFAE53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108A-CC60-4642-8508-B64C313A7A7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BBA2-BC84-4DB4-B94B-51FEB52A0C04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3200-4D38-4488-A73E-6EE08842E31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BB7D-6118-4595-AC1D-B3C9D0E6781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3CC-F46E-440A-917B-2C16D04E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79A-B927-463D-B092-7324F4D3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C75-278D-4CDC-951C-E08DA548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C5FE-6BCF-4576-81A8-98E9C39F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9DDB-181D-4B48-8C99-93DFB2E9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5D4E-21DE-463B-88A0-590DC3BC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CD19-98AF-48E3-8E53-00EB30A0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B608-04A7-49A0-8913-9BA170C0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46D3-A9E5-4078-9764-11E71723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4EFB-7F14-45BD-AA07-01E1BD1C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BF53-67B6-4226-BD4D-66E872B6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7FE-4CAB-463A-8F34-9E0CA515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6C15-8F52-4B55-A9F0-0AE712C8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7957-9B29-4B3B-9735-4F910216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ECDE-8E55-4A85-B4E1-95F7DF1A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B96B-BDD4-4D14-B0C1-84921AF7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F75A-E634-4C9B-81F3-BEEEF933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4F293-61C0-43B9-A549-4BE8566FD8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52563-B723-4CF4-B661-A760B069C1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73298-F45F-4325-A6CF-8FE7AD4266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FC20B-B8FC-48E9-A6F6-FC5B86A51A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25BD5-4691-474E-A9FD-E7246D560C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835-F415-45EE-B414-330F9142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E887F-322F-47DD-AF56-FAAE5DABD4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5A96B-0DDB-43D5-BB37-C1FFAA1F29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5D59B4-515A-4B5D-9118-E11D810102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3A8F0-FC58-4CBF-B2A9-C38E995836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40C56-4BED-4367-AE48-D1D307E64A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4655D-FD5D-45B0-BF0C-7A48B61008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F8E8B-A89E-4625-B1DA-DED75C9C7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F86-CC8F-4922-992E-628141F7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141-EC44-472F-990F-1EDA3792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624-F59F-415A-B709-1C4D9B35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02A-596D-467D-BD45-29A46A58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63D-8EFE-4872-95F7-2A1A3713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A4D-C126-46DA-A83C-2A431B72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2920-B294-4B5A-95DA-C6843D857B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E24F-E9B4-4F39-AB56-4FA71D617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69F0-55F3-4C59-83BD-B7214497AF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9956-BB35-4509-B85A-C7404054E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BC00-F6E1-4AB3-9938-FC73D572F92E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0720" y="213372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1859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Subtitle 2" descr=""/>
          <p:cNvPicPr/>
          <p:nvPr/>
        </p:nvPicPr>
        <p:blipFill>
          <a:blip r:embed="rId2"/>
          <a:stretch/>
        </p:blipFill>
        <p:spPr>
          <a:xfrm>
            <a:off x="1450800" y="2938320"/>
            <a:ext cx="6321600" cy="33339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3"/>
          <a:stretch/>
        </p:blipFill>
        <p:spPr>
          <a:xfrm>
            <a:off x="5334120" y="233280"/>
            <a:ext cx="358128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BF6D-F5FE-48A1-8183-F6EED651220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Evaluation Str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16E1-BEEE-430D-B17D-C69D88262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371240" y="144000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formance Evaluations asses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titutional and procedural issues across the GE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al area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rience with GEF strategies and polici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nual Performance Report assess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stainability of 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Monitoring and Eval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Implementation &amp; Exec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Terminal Evalu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APR also includes periodic reviews of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at En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Supervi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-Financ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performance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D217-143F-43E1-8EE1-8655769A251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18960" y="1440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ews recently completed and in progre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  2010 and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rth F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d revie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s 2012 -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 Mid-Term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Access Mid-Term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37B9-1D5C-46D9-88B1-0F502EC1FD1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evaluation assess the positive and negative, primary and secondary long-term effects produced by a development intervention, directly or indirectly, intended or uninten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es address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ntributions to progress towards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pathways and factors affecting further progress towards impa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ntributions to changes in environmental stress, environmental status and socio-economic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2C92-392B-4F55-BD05-69B18D23256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cently completed and in progre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evaluation on biodiversity in Per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tional waters (South China Sea), and climate chan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lann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odiversity and one more focal area to be determin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tI analysis of clos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D192-A03D-43A1-AA12-B5EB5A3F6A5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y Level Evaluations assess GEF support in a country across all GEF focal areas, Agencies, projects and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untry is used as the unit of analy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Es assess the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lev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iciency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GEF projects at the country level, to se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hese projects perform in producing resul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hese results are linked to national environmental and sustainable development agendas as well as to the GEF mandate of achieving global environmental benef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304C-32A6-4D16-B43D-0DC913F28B3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1219320" y="1439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Country Level Evaluations modal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lly-fledge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 (CPE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Studies (CPS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reduced in scope, they provide additional evaluative coverage of country portfolios in each GEF geographic reg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Ss are conducted in parallel and in collaboration with a country evaluation of a GEF Agency, to reduce the evaluation burden to count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, ongoing and planned country level evalua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cently completed and in progr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Nicaragua, OECS, Jamaica, El Salvador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Brazil, Cuba, India, Timor Leste, Sri Lanka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go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lanned FY13-1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: Asia, Africa, MENA, E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E2F6-E0EF-42AC-BBDF-D0DD7153C76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1219320" y="1439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s on topics of cross-cutting issu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s, processes, focal area strategies, cross-sectoral and other thematic issues and special review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ently completed evalua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ategic Priority for Adaptation (SP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Capacity Self-Assessments (NCS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Climate Change Fund (SCC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d revie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al Area Strate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9969-55E4-41B9-97D3-6925DD85753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Fifth Overall Performance Study</a:t>
            </a:r>
            <a:br>
              <a:rPr sz="4000"/>
            </a:b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 OPS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DCA0-B444-4908-8172-AC2CBA5D9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2193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RBM, Monitoring &amp; Evalu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&amp;E in the GE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&amp;E Levels and Responsible Agenc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M&amp;E Poli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inimum Requirem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ole of the Focal Poi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Evaluations Strea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mpac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untry Level Evalu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mati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OPS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Knowledge Shar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GEF Portfolio – Region</a:t>
            </a:r>
            <a:r>
              <a:rPr b="1" i="1" lang="en-US" sz="1900" spc="-1" strike="noStrike">
                <a:solidFill>
                  <a:srgbClr val="31859c"/>
                </a:solidFill>
                <a:latin typeface="Calibri"/>
              </a:rPr>
              <a:t>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Q&amp;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6826-5F3C-465A-8B0A-8EFB4D72028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D32D-1026-4072-974B-A79FC655857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295280" y="14396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up to 15 during GEF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ct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nternational Waters, Climate Change and other focal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PR continued and strengthened as well as independent process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atic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ocal area strategies and 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attention to the catalytic role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E2CC-7ADE-43BC-9D5F-D061F43538C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ycle issues: efficiency of decision making in the GEF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consultations: are the ECW developing in a continuous consultation proces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more would be need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e-survey suffici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obal and regional projec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sub-regional issu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1F9B-6DFD-4F5E-87FA-1C9A3A99184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valuation reports should be subject to a dynamic dissemin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motion of a culture of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pplication of 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eedback to new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D3E5-76E6-4FE1-A298-1BD2BAC9A64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00+ memb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nline tools for participation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 (soon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770D-6BCD-49F3-8828-84D75FF180B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583A-F01B-4028-8656-7F172A0D189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99BC-2922-42FF-B5BA-28359810D66C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E1C3-4A40-41C5-8AC9-11B070D0A69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6" name="Title 1" descr=""/>
          <p:cNvPicPr/>
          <p:nvPr/>
        </p:nvPicPr>
        <p:blipFill>
          <a:blip r:embed="rId2"/>
          <a:stretch/>
        </p:blipFill>
        <p:spPr>
          <a:xfrm>
            <a:off x="1225440" y="274680"/>
            <a:ext cx="7918560" cy="792000"/>
          </a:xfrm>
          <a:prstGeom prst="rect">
            <a:avLst/>
          </a:prstGeom>
          <a:ln w="0">
            <a:noFill/>
          </a:ln>
        </p:spPr>
      </p:pic>
      <p:sp>
        <p:nvSpPr>
          <p:cNvPr id="147" name="Content Placeholder 2"/>
          <p:cNvSpPr/>
          <p:nvPr/>
        </p:nvSpPr>
        <p:spPr>
          <a:xfrm>
            <a:off x="1219320" y="1440000"/>
            <a:ext cx="685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BM,  especially monitoring, tell whether the organization is 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on track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he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right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1859c"/>
                </a:solidFill>
                <a:latin typeface="Calibri"/>
              </a:rPr>
              <a:t>Two overarching objectives</a:t>
            </a:r>
            <a:r>
              <a:rPr b="0" lang="en-US" sz="2600" spc="-1" strike="noStrike">
                <a:solidFill>
                  <a:srgbClr val="31859c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ectiv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ces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erformance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artners involved in GEF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E144-C72F-4545-8653-E791B1566CD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7F8B-E335-4572-AC4D-75038956561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ontent Placeholder 4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 and fully budgeted M&amp;E plans by CEO endorsement for FSPs, and CEO approval for MSPs. Project log frames should align with GEF Focal Area result frameworks contained in the GEF-5 RB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/Program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full and medium size projects will be evaluated. Reports should be sent to the GEF EO within 12 months of project comple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explain how GEF OFPs will be engaged in M&amp;E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D732-1114-45FE-8CA9-62905C8A9CA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include how OFPs will be eng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Ps will be informed on M&amp;E activities, including Mid Term Reviews and Terminal Evaluations, receiving drafts for comments and final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Ps will be invited to contribute to the management response (where applic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9682-E9AE-4ED1-B594-9C7241165BB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219320" y="143964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identify major relevant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ssist with agen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country responses to these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98AC-6EB5-4E4D-991A-255AF4C43B0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219320" y="1440000"/>
            <a:ext cx="6858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component: enhancing capacities to monitor and evaluate environmental impacts and trends. This should be identified as a priority in the NCSA capacity developm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regional partnerships could be consid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ding available from $44m set-aside for capacity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F8A5-8551-4594-B241-3B0A1269B37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Lisa</cp:lastModifiedBy>
  <dcterms:modified xsi:type="dcterms:W3CDTF">2012-04-23T01:31:48Z</dcterms:modified>
  <cp:revision>327</cp:revision>
  <dc:subject/>
  <dc:title>Slide 1</dc:title>
</cp:coreProperties>
</file>