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3.png" ContentType="image/png"/>
  <Override PartName="/ppt/media/image53.jpeg" ContentType="image/jpe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36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54.png" ContentType="image/png"/>
  <Override PartName="/ppt/media/image31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50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BAAB-C755-4E0F-BB37-7CE37745A16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4252-106D-471E-BBEF-427D50C1C77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895B-A5A2-43E5-85F9-D817D07A598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EB16-7E3C-40FC-89D8-FB6A0C96A97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5417-E976-4466-AE16-7D92F23D6DE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00BE-21BD-437F-8115-635F595C36E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C26F-4885-4956-ACE3-FB4A506F066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EAA1-4910-407B-99B9-614151141970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7122-D20D-466A-8C0C-7DFB5125521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EEC2-F74E-4BDC-909D-277D5C7A6EF6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B22F-688E-4DC9-9AE8-3B81BE87F63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AC66-2B9C-483D-84DB-D78C1D8AA39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7B5-A1EA-4617-8693-F17E59FF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4E3-87B1-4F00-AC24-087F8A07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FB7-721E-4292-B35F-32D60ED4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29E-3523-4055-B899-F9CB270D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7201-9E28-4B4E-AE0F-BD7DA4E2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A54F-CEF5-46FD-8053-873088C1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CE3A-F60E-4125-B87F-DAE91287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9820-BB87-4CD2-BDCC-B3A09DF5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1A2C-0452-4BAC-B1C8-5657B835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9FAF-E2A2-4E89-9676-DD7E6341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5C48-7F7D-457D-88F4-1526CFDA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0525-B811-4558-BCA8-DB187926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97A6-755C-465E-B6EA-CBF31A04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83DA-43C7-4DC3-AAD2-2E239AA1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9C16-A798-4FC6-B4CC-79081B80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8439-4AC3-40C9-AD62-27699A3B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AE2A-023C-4FAE-BEAD-3C596EAF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ECC8B-BBAA-4283-AB5C-B97909C7F5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18266-BF07-4245-A9AA-415078846F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42FE5-A34C-4586-81E9-CF4CF51EE9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2D318-9B8A-4ECF-BE1F-A86F30F012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3A5BE-D402-436D-8263-AA0863A7B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A93-9007-4476-A15A-56387349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F6CA5-4AD2-48EE-8CDB-141745E7AF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AACF1-22A9-43EE-ADDD-CAA646FF4A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7BDD2-43CC-4714-ACE7-065D1CBF90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23F3C-8552-4629-A77D-AFCAD063D0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62C41-0DB6-479E-9AF1-0AEB311261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FF7A6-E175-421B-9DF1-F760440A2E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DF0BA-A781-4528-8EE5-79A95672A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EA40-25E7-4599-A266-BCBF16DB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552-2CF9-4389-9168-DEF021F4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B81-70DE-42A5-9F6D-1FB40614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E26-EE73-4B0A-99DC-C7545973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E56A-99EA-4600-883C-0A11F2AA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B0D-AECE-4A9C-BEF7-6CB8CC07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D543-6A76-4D2E-8B21-D4D5DB9BBC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9433-8676-4F0A-B4CF-101B22FC4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BBC9-6024-41C0-B71A-5145819187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C005-9072-429A-AA7B-D869B8B44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A750-FF27-4081-BC61-AAB519883AB7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png"/><Relationship Id="rId22" Type="http://schemas.openxmlformats.org/officeDocument/2006/relationships/image" Target="../media/image41.png"/><Relationship Id="rId23" Type="http://schemas.openxmlformats.org/officeDocument/2006/relationships/image" Target="../media/image42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image" Target="../media/image45.png"/><Relationship Id="rId2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3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160020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1859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50800" y="2401920"/>
            <a:ext cx="6321600" cy="33400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untry Portfolio Evaluations countries have the opportunity to provide their perspective to Council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8052-DA94-4A24-A295-6D65E7211D5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Fifth Overall Performance Study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(OPS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6616-CCB9-4B88-840B-F67C29406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2189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ssess the extent to which the GEF is achieving its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 laid down in the GEF Instrument and reviews by the Assemb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 developed and adopted by the GEF Council in operational policies and programs for GEF financed activ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nd to identify potential impr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44B7-8679-426B-A81E-2E94F5934C9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p to 15 during GEF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ct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ternational Waters, Climate Change and other focal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PR continued and strengthened as well as independent proces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atic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ocal area strategies an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element of OPS5 will be a meta-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7D50-B4C0-441C-B492-8306CD8C0A9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19320" y="114300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upport for the creation of an environment that enables necessary changes to tak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And…require constant attention and adju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esting of approaches that are intended to lead to GEBs if adopted on a broader sc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roader implementation of results of foundational and demonstration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66"/>
          <p:cNvGrpSpPr/>
          <p:nvPr/>
        </p:nvGrpSpPr>
        <p:grpSpPr>
          <a:xfrm>
            <a:off x="5257800" y="2625840"/>
            <a:ext cx="2514600" cy="1108080"/>
            <a:chOff x="5257800" y="2625840"/>
            <a:chExt cx="2514600" cy="1108080"/>
          </a:xfrm>
        </p:grpSpPr>
        <p:grpSp>
          <p:nvGrpSpPr>
            <p:cNvPr id="180" name="Oval 45"/>
            <p:cNvGrpSpPr/>
            <p:nvPr/>
          </p:nvGrpSpPr>
          <p:grpSpPr>
            <a:xfrm>
              <a:off x="5257800" y="2625840"/>
              <a:ext cx="2514600" cy="1108080"/>
              <a:chOff x="5257800" y="2625840"/>
              <a:chExt cx="2514600" cy="1108080"/>
            </a:xfrm>
          </p:grpSpPr>
          <p:pic>
            <p:nvPicPr>
              <p:cNvPr id="181" name="Oval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7800" y="2625840"/>
                <a:ext cx="2514600" cy="11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5910480" y="2903400"/>
                <a:ext cx="120600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33"/>
            <p:cNvGrpSpPr/>
            <p:nvPr/>
          </p:nvGrpSpPr>
          <p:grpSpPr>
            <a:xfrm>
              <a:off x="5599800" y="2897280"/>
              <a:ext cx="1827720" cy="546840"/>
              <a:chOff x="5599800" y="2897280"/>
              <a:chExt cx="1827720" cy="546840"/>
            </a:xfrm>
          </p:grpSpPr>
          <p:pic>
            <p:nvPicPr>
              <p:cNvPr id="184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5599800" y="2897280"/>
                <a:ext cx="1716480" cy="27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0000" y="3035160"/>
                <a:ext cx="1464480" cy="27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Oval 7" descr=""/>
              <p:cNvPicPr/>
              <p:nvPr/>
            </p:nvPicPr>
            <p:blipFill>
              <a:blip r:embed="rId4"/>
              <a:stretch/>
            </p:blipFill>
            <p:spPr>
              <a:xfrm>
                <a:off x="5599800" y="3173400"/>
                <a:ext cx="1827720" cy="270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7" name="Rectangle 62"/>
            <p:cNvSpPr/>
            <p:nvPr/>
          </p:nvSpPr>
          <p:spPr>
            <a:xfrm>
              <a:off x="5643720" y="2758680"/>
              <a:ext cx="174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006600"/>
                  </a:solidFill>
                  <a:latin typeface="Arial"/>
                </a:rPr>
                <a:t>BEHAVIORAL 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71"/>
          <p:cNvSpPr/>
          <p:nvPr/>
        </p:nvSpPr>
        <p:spPr>
          <a:xfrm>
            <a:off x="6553080" y="4938840"/>
            <a:ext cx="2362320" cy="27648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8"/>
          <p:cNvSpPr/>
          <p:nvPr/>
        </p:nvSpPr>
        <p:spPr>
          <a:xfrm>
            <a:off x="3465360" y="4818240"/>
            <a:ext cx="3316320" cy="552240"/>
          </a:xfrm>
          <a:prstGeom prst="rightArrow">
            <a:avLst>
              <a:gd name="adj1" fmla="val 50000"/>
              <a:gd name="adj2" fmla="val 49821"/>
            </a:avLst>
          </a:prstGeom>
          <a:solidFill>
            <a:srgbClr val="ffff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NTERMEDIAT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75"/>
          <p:cNvSpPr/>
          <p:nvPr/>
        </p:nvSpPr>
        <p:spPr>
          <a:xfrm>
            <a:off x="152280" y="4818240"/>
            <a:ext cx="3886200" cy="552240"/>
          </a:xfrm>
          <a:prstGeom prst="rightArrow">
            <a:avLst>
              <a:gd name="adj1" fmla="val 50000"/>
              <a:gd name="adj2" fmla="val 49814"/>
            </a:avLst>
          </a:prstGeom>
          <a:solidFill>
            <a:srgbClr val="ffff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NSTITUTION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Right Triangle 8"/>
          <p:cNvGrpSpPr/>
          <p:nvPr/>
        </p:nvGrpSpPr>
        <p:grpSpPr>
          <a:xfrm>
            <a:off x="3597120" y="3078000"/>
            <a:ext cx="5370840" cy="1768680"/>
            <a:chOff x="3597120" y="3078000"/>
            <a:chExt cx="5370840" cy="1768680"/>
          </a:xfrm>
        </p:grpSpPr>
        <p:pic>
          <p:nvPicPr>
            <p:cNvPr id="192" name="Right Triangle 8" descr=""/>
            <p:cNvPicPr/>
            <p:nvPr/>
          </p:nvPicPr>
          <p:blipFill>
            <a:blip r:embed="rId5"/>
            <a:stretch/>
          </p:blipFill>
          <p:spPr>
            <a:xfrm>
              <a:off x="3597120" y="3078000"/>
              <a:ext cx="537084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16200000">
              <a:off x="7196040" y="3344400"/>
              <a:ext cx="81756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38"/>
          <p:cNvSpPr/>
          <p:nvPr/>
        </p:nvSpPr>
        <p:spPr>
          <a:xfrm>
            <a:off x="457200" y="8730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FOUNDA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9"/>
          <p:cNvSpPr/>
          <p:nvPr/>
        </p:nvSpPr>
        <p:spPr>
          <a:xfrm>
            <a:off x="2971800" y="8730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DEMONSTRA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4"/>
          <p:cNvSpPr/>
          <p:nvPr/>
        </p:nvSpPr>
        <p:spPr>
          <a:xfrm>
            <a:off x="5370480" y="873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INVESTMENT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646200" y="34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Generic GEF Theory of Chan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2"/>
          <p:cNvSpPr/>
          <p:nvPr/>
        </p:nvSpPr>
        <p:spPr>
          <a:xfrm rot="20556600">
            <a:off x="5468400" y="3611160"/>
            <a:ext cx="35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31511f"/>
                </a:solidFill>
                <a:latin typeface="Calibri"/>
              </a:rPr>
              <a:t>Stres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66"/>
          <p:cNvGrpSpPr/>
          <p:nvPr/>
        </p:nvGrpSpPr>
        <p:grpSpPr>
          <a:xfrm>
            <a:off x="3998880" y="3520080"/>
            <a:ext cx="5063040" cy="1204200"/>
            <a:chOff x="3998880" y="3520080"/>
            <a:chExt cx="5063040" cy="1204200"/>
          </a:xfrm>
        </p:grpSpPr>
        <p:grpSp>
          <p:nvGrpSpPr>
            <p:cNvPr id="200" name="Right Triangle 21"/>
            <p:cNvGrpSpPr/>
            <p:nvPr/>
          </p:nvGrpSpPr>
          <p:grpSpPr>
            <a:xfrm>
              <a:off x="3998880" y="3548160"/>
              <a:ext cx="4987440" cy="1176120"/>
              <a:chOff x="3998880" y="3548160"/>
              <a:chExt cx="4987440" cy="1176120"/>
            </a:xfrm>
          </p:grpSpPr>
          <p:pic>
            <p:nvPicPr>
              <p:cNvPr id="201" name="Right Triangl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3998880" y="3548160"/>
                <a:ext cx="498744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16200000">
                <a:off x="7442280" y="3479400"/>
                <a:ext cx="543240" cy="16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TextBox 105"/>
            <p:cNvSpPr/>
            <p:nvPr/>
          </p:nvSpPr>
          <p:spPr>
            <a:xfrm rot="20793000">
              <a:off x="5827680" y="3893760"/>
              <a:ext cx="32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Calibri"/>
                </a:rPr>
                <a:t>Change in environmental sta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69"/>
          <p:cNvGrpSpPr/>
          <p:nvPr/>
        </p:nvGrpSpPr>
        <p:grpSpPr>
          <a:xfrm>
            <a:off x="7148520" y="5257800"/>
            <a:ext cx="1700280" cy="387360"/>
            <a:chOff x="7148520" y="5257800"/>
            <a:chExt cx="1700280" cy="387360"/>
          </a:xfrm>
        </p:grpSpPr>
        <p:grpSp>
          <p:nvGrpSpPr>
            <p:cNvPr id="205" name="Straight Connector 5"/>
            <p:cNvGrpSpPr/>
            <p:nvPr/>
          </p:nvGrpSpPr>
          <p:grpSpPr>
            <a:xfrm>
              <a:off x="7148520" y="5266440"/>
              <a:ext cx="351720" cy="378720"/>
              <a:chOff x="7148520" y="5266440"/>
              <a:chExt cx="351720" cy="378720"/>
            </a:xfrm>
          </p:grpSpPr>
          <p:pic>
            <p:nvPicPr>
              <p:cNvPr id="206" name="Straight Connector 5" descr=""/>
              <p:cNvPicPr/>
              <p:nvPr/>
            </p:nvPicPr>
            <p:blipFill>
              <a:blip r:embed="rId7"/>
              <a:stretch/>
            </p:blipFill>
            <p:spPr>
              <a:xfrm>
                <a:off x="7148520" y="5266440"/>
                <a:ext cx="351720" cy="37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 rot="9339600">
                <a:off x="7224840" y="5335920"/>
                <a:ext cx="21600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Box 78"/>
            <p:cNvSpPr/>
            <p:nvPr/>
          </p:nvSpPr>
          <p:spPr>
            <a:xfrm>
              <a:off x="7460640" y="5257800"/>
              <a:ext cx="138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daptive management / Learn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65"/>
          <p:cNvGrpSpPr/>
          <p:nvPr/>
        </p:nvGrpSpPr>
        <p:grpSpPr>
          <a:xfrm>
            <a:off x="4191120" y="4058280"/>
            <a:ext cx="4910040" cy="720720"/>
            <a:chOff x="4191120" y="4058280"/>
            <a:chExt cx="4910040" cy="720720"/>
          </a:xfrm>
        </p:grpSpPr>
        <p:sp>
          <p:nvSpPr>
            <p:cNvPr id="210" name="Right Triangle 33"/>
            <p:cNvSpPr/>
            <p:nvPr/>
          </p:nvSpPr>
          <p:spPr>
            <a:xfrm rot="16200000">
              <a:off x="6244200" y="2017080"/>
              <a:ext cx="653760" cy="4760280"/>
            </a:xfrm>
            <a:prstGeom prst="rtTriangl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90"/>
            <p:cNvSpPr/>
            <p:nvPr/>
          </p:nvSpPr>
          <p:spPr>
            <a:xfrm rot="21133200">
              <a:off x="5797080" y="4280040"/>
              <a:ext cx="33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Calibri"/>
                </a:rPr>
                <a:t>Environmentally sustainabl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3"/>
          <p:cNvGrpSpPr/>
          <p:nvPr/>
        </p:nvGrpSpPr>
        <p:grpSpPr>
          <a:xfrm>
            <a:off x="152280" y="3211560"/>
            <a:ext cx="2352960" cy="1395360"/>
            <a:chOff x="152280" y="3211560"/>
            <a:chExt cx="2352960" cy="1395360"/>
          </a:xfrm>
        </p:grpSpPr>
        <p:grpSp>
          <p:nvGrpSpPr>
            <p:cNvPr id="213" name="Oval 36"/>
            <p:cNvGrpSpPr/>
            <p:nvPr/>
          </p:nvGrpSpPr>
          <p:grpSpPr>
            <a:xfrm>
              <a:off x="152280" y="3211560"/>
              <a:ext cx="2352960" cy="1395360"/>
              <a:chOff x="152280" y="3211560"/>
              <a:chExt cx="2352960" cy="1395360"/>
            </a:xfrm>
          </p:grpSpPr>
          <p:pic>
            <p:nvPicPr>
              <p:cNvPr id="214" name="Oval 36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280" y="3211560"/>
                <a:ext cx="235296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533880" y="3427200"/>
                <a:ext cx="158976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Oval 4"/>
            <p:cNvSpPr/>
            <p:nvPr/>
          </p:nvSpPr>
          <p:spPr>
            <a:xfrm>
              <a:off x="525600" y="3252240"/>
              <a:ext cx="158976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KNOWLEDGE &amp; INFORM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4"/>
          <p:cNvGrpSpPr/>
          <p:nvPr/>
        </p:nvGrpSpPr>
        <p:grpSpPr>
          <a:xfrm>
            <a:off x="152280" y="1611360"/>
            <a:ext cx="2352960" cy="1395360"/>
            <a:chOff x="152280" y="1611360"/>
            <a:chExt cx="2352960" cy="1395360"/>
          </a:xfrm>
        </p:grpSpPr>
        <p:grpSp>
          <p:nvGrpSpPr>
            <p:cNvPr id="218" name="Oval 39"/>
            <p:cNvGrpSpPr/>
            <p:nvPr/>
          </p:nvGrpSpPr>
          <p:grpSpPr>
            <a:xfrm>
              <a:off x="152280" y="1611360"/>
              <a:ext cx="2352960" cy="1395360"/>
              <a:chOff x="152280" y="1611360"/>
              <a:chExt cx="2352960" cy="1395360"/>
            </a:xfrm>
          </p:grpSpPr>
          <p:pic>
            <p:nvPicPr>
              <p:cNvPr id="219" name="Oval 39" descr=""/>
              <p:cNvPicPr/>
              <p:nvPr/>
            </p:nvPicPr>
            <p:blipFill>
              <a:blip r:embed="rId9"/>
              <a:stretch/>
            </p:blipFill>
            <p:spPr>
              <a:xfrm>
                <a:off x="152280" y="1611360"/>
                <a:ext cx="235296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533880" y="1829880"/>
                <a:ext cx="158976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Oval 4"/>
            <p:cNvSpPr/>
            <p:nvPr/>
          </p:nvSpPr>
          <p:spPr>
            <a:xfrm>
              <a:off x="525600" y="1654560"/>
              <a:ext cx="158976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GOVERNANCE FRAME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Oval 41"/>
          <p:cNvGrpSpPr/>
          <p:nvPr/>
        </p:nvGrpSpPr>
        <p:grpSpPr>
          <a:xfrm>
            <a:off x="165240" y="2011320"/>
            <a:ext cx="1261800" cy="811080"/>
            <a:chOff x="165240" y="2011320"/>
            <a:chExt cx="1261800" cy="811080"/>
          </a:xfrm>
        </p:grpSpPr>
        <p:pic>
          <p:nvPicPr>
            <p:cNvPr id="223" name="Oval 41" descr=""/>
            <p:cNvPicPr/>
            <p:nvPr/>
          </p:nvPicPr>
          <p:blipFill>
            <a:blip r:embed="rId10"/>
            <a:stretch/>
          </p:blipFill>
          <p:spPr>
            <a:xfrm>
              <a:off x="165240" y="2011320"/>
              <a:ext cx="1261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388800" y="2144880"/>
              <a:ext cx="8146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Policy, legal &amp; regulatory framewor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Oval 42"/>
          <p:cNvGrpSpPr/>
          <p:nvPr/>
        </p:nvGrpSpPr>
        <p:grpSpPr>
          <a:xfrm>
            <a:off x="249120" y="3541680"/>
            <a:ext cx="1195560" cy="914400"/>
            <a:chOff x="249120" y="3541680"/>
            <a:chExt cx="1195560" cy="914400"/>
          </a:xfrm>
        </p:grpSpPr>
        <p:pic>
          <p:nvPicPr>
            <p:cNvPr id="226" name="Oval 42" descr=""/>
            <p:cNvPicPr/>
            <p:nvPr/>
          </p:nvPicPr>
          <p:blipFill>
            <a:blip r:embed="rId11"/>
            <a:stretch/>
          </p:blipFill>
          <p:spPr>
            <a:xfrm>
              <a:off x="249120" y="3541680"/>
              <a:ext cx="11955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63680" y="3687840"/>
              <a:ext cx="766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Information-sharing &amp; 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Oval 43"/>
          <p:cNvGrpSpPr/>
          <p:nvPr/>
        </p:nvGrpSpPr>
        <p:grpSpPr>
          <a:xfrm>
            <a:off x="1163520" y="3571920"/>
            <a:ext cx="1255680" cy="622080"/>
            <a:chOff x="1163520" y="3571920"/>
            <a:chExt cx="1255680" cy="622080"/>
          </a:xfrm>
        </p:grpSpPr>
        <p:pic>
          <p:nvPicPr>
            <p:cNvPr id="229" name="Oval 43" descr=""/>
            <p:cNvPicPr/>
            <p:nvPr/>
          </p:nvPicPr>
          <p:blipFill>
            <a:blip r:embed="rId12"/>
            <a:stretch/>
          </p:blipFill>
          <p:spPr>
            <a:xfrm>
              <a:off x="1163520" y="3571920"/>
              <a:ext cx="125568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386000" y="3676680"/>
              <a:ext cx="8096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Awareness-rais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Straight Connector 5"/>
          <p:cNvGrpSpPr/>
          <p:nvPr/>
        </p:nvGrpSpPr>
        <p:grpSpPr>
          <a:xfrm>
            <a:off x="2298600" y="2882880"/>
            <a:ext cx="444600" cy="439920"/>
            <a:chOff x="2298600" y="2882880"/>
            <a:chExt cx="444600" cy="439920"/>
          </a:xfrm>
        </p:grpSpPr>
        <p:pic>
          <p:nvPicPr>
            <p:cNvPr id="232" name="Straight Connector 5" descr=""/>
            <p:cNvPicPr/>
            <p:nvPr/>
          </p:nvPicPr>
          <p:blipFill>
            <a:blip r:embed="rId13"/>
            <a:stretch/>
          </p:blipFill>
          <p:spPr>
            <a:xfrm>
              <a:off x="2298600" y="2882880"/>
              <a:ext cx="44460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639000">
              <a:off x="2368440" y="2957400"/>
              <a:ext cx="25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Straight Connector 5"/>
          <p:cNvGrpSpPr/>
          <p:nvPr/>
        </p:nvGrpSpPr>
        <p:grpSpPr>
          <a:xfrm>
            <a:off x="6205680" y="2359080"/>
            <a:ext cx="414360" cy="407880"/>
            <a:chOff x="6205680" y="2359080"/>
            <a:chExt cx="414360" cy="407880"/>
          </a:xfrm>
        </p:grpSpPr>
        <p:pic>
          <p:nvPicPr>
            <p:cNvPr id="235" name="Straight Connector 5" descr=""/>
            <p:cNvPicPr/>
            <p:nvPr/>
          </p:nvPicPr>
          <p:blipFill>
            <a:blip r:embed="rId14"/>
            <a:stretch/>
          </p:blipFill>
          <p:spPr>
            <a:xfrm>
              <a:off x="6205680" y="2359080"/>
              <a:ext cx="4143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9339600">
              <a:off x="6294240" y="2430360"/>
              <a:ext cx="2570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Straight Connector 5"/>
          <p:cNvGrpSpPr/>
          <p:nvPr/>
        </p:nvGrpSpPr>
        <p:grpSpPr>
          <a:xfrm>
            <a:off x="6278400" y="3602160"/>
            <a:ext cx="408240" cy="390240"/>
            <a:chOff x="6278400" y="3602160"/>
            <a:chExt cx="408240" cy="390240"/>
          </a:xfrm>
        </p:grpSpPr>
        <p:pic>
          <p:nvPicPr>
            <p:cNvPr id="238" name="Straight Connector 5" descr=""/>
            <p:cNvPicPr/>
            <p:nvPr/>
          </p:nvPicPr>
          <p:blipFill>
            <a:blip r:embed="rId15"/>
            <a:stretch/>
          </p:blipFill>
          <p:spPr>
            <a:xfrm>
              <a:off x="6278400" y="3602160"/>
              <a:ext cx="40824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rot="9339600">
              <a:off x="6364440" y="3669840"/>
              <a:ext cx="25704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Oval 58"/>
          <p:cNvGrpSpPr/>
          <p:nvPr/>
        </p:nvGrpSpPr>
        <p:grpSpPr>
          <a:xfrm>
            <a:off x="1090440" y="2011320"/>
            <a:ext cx="1403640" cy="811080"/>
            <a:chOff x="1090440" y="2011320"/>
            <a:chExt cx="1403640" cy="811080"/>
          </a:xfrm>
        </p:grpSpPr>
        <p:pic>
          <p:nvPicPr>
            <p:cNvPr id="241" name="Oval 58" descr=""/>
            <p:cNvPicPr/>
            <p:nvPr/>
          </p:nvPicPr>
          <p:blipFill>
            <a:blip r:embed="rId16"/>
            <a:stretch/>
          </p:blipFill>
          <p:spPr>
            <a:xfrm>
              <a:off x="1090440" y="2011320"/>
              <a:ext cx="1403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333440" y="2146320"/>
              <a:ext cx="9144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Administrative refor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65"/>
          <p:cNvGrpSpPr/>
          <p:nvPr/>
        </p:nvGrpSpPr>
        <p:grpSpPr>
          <a:xfrm>
            <a:off x="4989600" y="1177920"/>
            <a:ext cx="2514600" cy="1219320"/>
            <a:chOff x="4989600" y="1177920"/>
            <a:chExt cx="2514600" cy="1219320"/>
          </a:xfrm>
        </p:grpSpPr>
        <p:grpSp>
          <p:nvGrpSpPr>
            <p:cNvPr id="244" name="Group 29"/>
            <p:cNvGrpSpPr/>
            <p:nvPr/>
          </p:nvGrpSpPr>
          <p:grpSpPr>
            <a:xfrm>
              <a:off x="4989600" y="1177920"/>
              <a:ext cx="2460960" cy="1214280"/>
              <a:chOff x="4989600" y="1177920"/>
              <a:chExt cx="2460960" cy="1214280"/>
            </a:xfrm>
          </p:grpSpPr>
          <p:grpSp>
            <p:nvGrpSpPr>
              <p:cNvPr id="245" name="Oval 46"/>
              <p:cNvGrpSpPr/>
              <p:nvPr/>
            </p:nvGrpSpPr>
            <p:grpSpPr>
              <a:xfrm>
                <a:off x="4989600" y="1177920"/>
                <a:ext cx="2460960" cy="1214280"/>
                <a:chOff x="4989600" y="1177920"/>
                <a:chExt cx="2460960" cy="1214280"/>
              </a:xfrm>
            </p:grpSpPr>
            <p:pic>
              <p:nvPicPr>
                <p:cNvPr id="246" name="Oval 46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989600" y="1177920"/>
                  <a:ext cx="2460960" cy="1214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5388480" y="1369440"/>
                  <a:ext cx="1665360" cy="78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Oval 4"/>
              <p:cNvSpPr/>
              <p:nvPr/>
            </p:nvSpPr>
            <p:spPr>
              <a:xfrm>
                <a:off x="5257440" y="1284120"/>
                <a:ext cx="1911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533520"/>
                    <a:tab algn="l" pos="1066680"/>
                    <a:tab algn="l" pos="1600200"/>
                    <a:tab algn="l" pos="2133720"/>
                    <a:tab algn="l" pos="2666880"/>
                    <a:tab algn="l" pos="3200400"/>
                    <a:tab algn="l" pos="3733920"/>
                    <a:tab algn="l" pos="4267080"/>
                    <a:tab algn="l" pos="4800600"/>
                    <a:tab algn="l" pos="5334120"/>
                    <a:tab algn="l" pos="5867280"/>
                    <a:tab algn="l" pos="6400800"/>
                    <a:tab algn="l" pos="6934320"/>
                    <a:tab algn="l" pos="7467480"/>
                    <a:tab algn="l" pos="8001000"/>
                    <a:tab algn="l" pos="8534520"/>
                    <a:tab algn="l" pos="9067680"/>
                    <a:tab algn="l" pos="9601200"/>
                    <a:tab algn="l" pos="101347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SCA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Oval 48"/>
            <p:cNvGrpSpPr/>
            <p:nvPr/>
          </p:nvGrpSpPr>
          <p:grpSpPr>
            <a:xfrm>
              <a:off x="5010480" y="1413720"/>
              <a:ext cx="1449720" cy="449280"/>
              <a:chOff x="5010480" y="1413720"/>
              <a:chExt cx="1449720" cy="449280"/>
            </a:xfrm>
          </p:grpSpPr>
          <p:pic>
            <p:nvPicPr>
              <p:cNvPr id="250" name="Oval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10480" y="1413720"/>
                <a:ext cx="1449720" cy="4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5260320" y="1496520"/>
                <a:ext cx="94932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Mainstream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Oval 49"/>
            <p:cNvGrpSpPr/>
            <p:nvPr/>
          </p:nvGrpSpPr>
          <p:grpSpPr>
            <a:xfrm>
              <a:off x="5082120" y="1680840"/>
              <a:ext cx="1151280" cy="485640"/>
              <a:chOff x="5082120" y="1680840"/>
              <a:chExt cx="1151280" cy="485640"/>
            </a:xfrm>
          </p:grpSpPr>
          <p:pic>
            <p:nvPicPr>
              <p:cNvPr id="253" name="Oval 49" descr=""/>
              <p:cNvPicPr/>
              <p:nvPr/>
            </p:nvPicPr>
            <p:blipFill>
              <a:blip r:embed="rId19"/>
              <a:stretch/>
            </p:blipFill>
            <p:spPr>
              <a:xfrm>
                <a:off x="5082120" y="1680840"/>
                <a:ext cx="1151280" cy="48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291280" y="1764360"/>
                <a:ext cx="7383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Scaling-u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Oval 57"/>
            <p:cNvGrpSpPr/>
            <p:nvPr/>
          </p:nvGrpSpPr>
          <p:grpSpPr>
            <a:xfrm>
              <a:off x="5607360" y="1905480"/>
              <a:ext cx="1521000" cy="491760"/>
              <a:chOff x="5607360" y="1905480"/>
              <a:chExt cx="1521000" cy="491760"/>
            </a:xfrm>
          </p:grpSpPr>
          <p:pic>
            <p:nvPicPr>
              <p:cNvPr id="256" name="Oval 57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07360" y="1905480"/>
                <a:ext cx="1521000" cy="49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5868000" y="1992240"/>
                <a:ext cx="100188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Market chan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Oval 60"/>
            <p:cNvGrpSpPr/>
            <p:nvPr/>
          </p:nvGrpSpPr>
          <p:grpSpPr>
            <a:xfrm>
              <a:off x="6054480" y="1528920"/>
              <a:ext cx="1449720" cy="455400"/>
              <a:chOff x="6054480" y="1528920"/>
              <a:chExt cx="1449720" cy="455400"/>
            </a:xfrm>
          </p:grpSpPr>
          <p:pic>
            <p:nvPicPr>
              <p:cNvPr id="259" name="Oval 60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54480" y="1528920"/>
                <a:ext cx="1449720" cy="45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6304320" y="1607400"/>
                <a:ext cx="9493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Re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Oval 61"/>
          <p:cNvGrpSpPr/>
          <p:nvPr/>
        </p:nvGrpSpPr>
        <p:grpSpPr>
          <a:xfrm>
            <a:off x="1090440" y="4011480"/>
            <a:ext cx="1116360" cy="554040"/>
            <a:chOff x="1090440" y="4011480"/>
            <a:chExt cx="1116360" cy="554040"/>
          </a:xfrm>
        </p:grpSpPr>
        <p:pic>
          <p:nvPicPr>
            <p:cNvPr id="262" name="Oval 61" descr=""/>
            <p:cNvPicPr/>
            <p:nvPr/>
          </p:nvPicPr>
          <p:blipFill>
            <a:blip r:embed="rId22"/>
            <a:stretch/>
          </p:blipFill>
          <p:spPr>
            <a:xfrm>
              <a:off x="1090440" y="4011480"/>
              <a:ext cx="1116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290600" y="4103640"/>
              <a:ext cx="7128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Knowledge gene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69"/>
          <p:cNvGrpSpPr/>
          <p:nvPr/>
        </p:nvGrpSpPr>
        <p:grpSpPr>
          <a:xfrm>
            <a:off x="2819520" y="1447920"/>
            <a:ext cx="2286000" cy="3159000"/>
            <a:chOff x="2819520" y="1447920"/>
            <a:chExt cx="2286000" cy="3159000"/>
          </a:xfrm>
        </p:grpSpPr>
        <p:grpSp>
          <p:nvGrpSpPr>
            <p:cNvPr id="265" name="Group 8"/>
            <p:cNvGrpSpPr/>
            <p:nvPr/>
          </p:nvGrpSpPr>
          <p:grpSpPr>
            <a:xfrm>
              <a:off x="2819520" y="1447920"/>
              <a:ext cx="2286000" cy="3159000"/>
              <a:chOff x="2819520" y="1447920"/>
              <a:chExt cx="2286000" cy="3159000"/>
            </a:xfrm>
          </p:grpSpPr>
          <p:grpSp>
            <p:nvGrpSpPr>
              <p:cNvPr id="266" name="Oval 16"/>
              <p:cNvGrpSpPr/>
              <p:nvPr/>
            </p:nvGrpSpPr>
            <p:grpSpPr>
              <a:xfrm>
                <a:off x="2819520" y="1447920"/>
                <a:ext cx="2286000" cy="3159000"/>
                <a:chOff x="2819520" y="1447920"/>
                <a:chExt cx="2286000" cy="3159000"/>
              </a:xfrm>
            </p:grpSpPr>
            <p:pic>
              <p:nvPicPr>
                <p:cNvPr id="267" name="Oval 16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819520" y="1447920"/>
                  <a:ext cx="2286000" cy="315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>
                  <a:off x="3189240" y="1921680"/>
                  <a:ext cx="1546560" cy="21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Oval 4"/>
              <p:cNvSpPr/>
              <p:nvPr/>
            </p:nvSpPr>
            <p:spPr>
              <a:xfrm>
                <a:off x="3067920" y="1695240"/>
                <a:ext cx="177516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76"/>
                  </a:spcAft>
                  <a:tabLst>
                    <a:tab algn="l" pos="0"/>
                    <a:tab algn="l" pos="533520"/>
                    <a:tab algn="l" pos="1066680"/>
                    <a:tab algn="l" pos="1600200"/>
                    <a:tab algn="l" pos="2133720"/>
                    <a:tab algn="l" pos="2666880"/>
                    <a:tab algn="l" pos="3200400"/>
                    <a:tab algn="l" pos="3733920"/>
                    <a:tab algn="l" pos="4267080"/>
                    <a:tab algn="l" pos="4800600"/>
                    <a:tab algn="l" pos="5334120"/>
                    <a:tab algn="l" pos="5867280"/>
                    <a:tab algn="l" pos="6400800"/>
                    <a:tab algn="l" pos="6934320"/>
                    <a:tab algn="l" pos="7467480"/>
                    <a:tab algn="l" pos="8001000"/>
                    <a:tab algn="l" pos="8534520"/>
                    <a:tab algn="l" pos="9067680"/>
                    <a:tab algn="l" pos="9601200"/>
                    <a:tab algn="l" pos="10134720"/>
                    <a:tab algn="l" pos="1066788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</a:rPr>
                  <a:t>IMPLEMENTING STRATEG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Oval 18"/>
            <p:cNvGrpSpPr/>
            <p:nvPr/>
          </p:nvGrpSpPr>
          <p:grpSpPr>
            <a:xfrm>
              <a:off x="2919960" y="2048400"/>
              <a:ext cx="1249560" cy="719280"/>
              <a:chOff x="2919960" y="2048400"/>
              <a:chExt cx="1249560" cy="719280"/>
            </a:xfrm>
          </p:grpSpPr>
          <p:pic>
            <p:nvPicPr>
              <p:cNvPr id="271" name="Oval 18" descr=""/>
              <p:cNvPicPr/>
              <p:nvPr/>
            </p:nvPicPr>
            <p:blipFill>
              <a:blip r:embed="rId24"/>
              <a:stretch/>
            </p:blipFill>
            <p:spPr>
              <a:xfrm>
                <a:off x="2919960" y="2048400"/>
                <a:ext cx="124956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3139200" y="2163240"/>
                <a:ext cx="808200" cy="41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Technologies &amp; approach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Oval 23"/>
            <p:cNvGrpSpPr/>
            <p:nvPr/>
          </p:nvGrpSpPr>
          <p:grpSpPr>
            <a:xfrm>
              <a:off x="2840760" y="2639880"/>
              <a:ext cx="1408320" cy="768240"/>
              <a:chOff x="2840760" y="2639880"/>
              <a:chExt cx="1408320" cy="768240"/>
            </a:xfrm>
          </p:grpSpPr>
          <p:pic>
            <p:nvPicPr>
              <p:cNvPr id="274" name="Oval 23" descr=""/>
              <p:cNvPicPr/>
              <p:nvPr/>
            </p:nvPicPr>
            <p:blipFill>
              <a:blip r:embed="rId25"/>
              <a:stretch/>
            </p:blipFill>
            <p:spPr>
              <a:xfrm>
                <a:off x="2840760" y="2639880"/>
                <a:ext cx="1408320" cy="76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3085200" y="2764080"/>
                <a:ext cx="916200" cy="4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Organizational structures &amp; arrangement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Oval 59"/>
            <p:cNvGrpSpPr/>
            <p:nvPr/>
          </p:nvGrpSpPr>
          <p:grpSpPr>
            <a:xfrm>
              <a:off x="3755160" y="2182320"/>
              <a:ext cx="1334880" cy="981360"/>
              <a:chOff x="3755160" y="2182320"/>
              <a:chExt cx="1334880" cy="981360"/>
            </a:xfrm>
          </p:grpSpPr>
          <p:pic>
            <p:nvPicPr>
              <p:cNvPr id="277" name="Oval 59" descr=""/>
              <p:cNvPicPr/>
              <p:nvPr/>
            </p:nvPicPr>
            <p:blipFill>
              <a:blip r:embed="rId26"/>
              <a:stretch/>
            </p:blipFill>
            <p:spPr>
              <a:xfrm>
                <a:off x="3755160" y="2182320"/>
                <a:ext cx="1334880" cy="9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3989880" y="2337840"/>
                <a:ext cx="86832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Financial mechanisms for adoption &amp; sustainabili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Rectangle 68"/>
            <p:cNvSpPr/>
            <p:nvPr/>
          </p:nvSpPr>
          <p:spPr>
            <a:xfrm>
              <a:off x="3127320" y="3429360"/>
              <a:ext cx="1827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Promoting champ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Building on promising initia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Raising profile of initia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Removal of barri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Innov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quality assurance advi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Recognized experts from developed, newly emerging, and developing 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Ongoing advice and comments to the replenish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ence grou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Formed by staff from the GEF Agencies independent evaluation off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o provide peer reviews of sub-studies and other deliver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ill provide time to allow for meaningful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9AA1-30C5-4A7C-99FA-5E4EC5D7926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report: end of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 meta-evaluation approach, drawing on existing GEF eval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report: end of 2013 or early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al report will be tackled trough separate evalu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BF40-2F1E-4242-92AA-E286E7B8E0B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1219320" y="268200"/>
            <a:ext cx="7924680" cy="7984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1219320" y="121932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ce of GEF to conventions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ngs on outcomes and sustainability of finish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ngs of progress toward impact of finish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catalytic role of GEF (foundation, demonstration and/or investment projec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understanding of GEF longer term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performance issues such as cofunding, management costs, quality at entry and superv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the implementation and achievements of the focal areas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E986-31DF-4425-BA4D-CCEF929DE34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1219320" y="334800"/>
            <a:ext cx="7924680" cy="963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12189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global environmental problems and the relevance of GEF -- will include the emergence of new fina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ore in-depth look at focal area strategies and at the existing impact evid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vernance of the GEF, donor performance and resources mob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the private sector and civil socie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-cutting policies: gender, participation, safegurads, and knowledge sh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of the SGP evaluation (since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ST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4210-E133-41FE-A623-A56C8543D4D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219320" y="12189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BM, Monitoring &amp; Eval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in the GE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&amp;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s and responsible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M&amp;E Poli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the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ifth Overall Performance Study (OPS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of the Overall Performance 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streams &amp; OPS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 of OPS5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Knowledge Sharing and Community of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Questions &amp; Ans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F96D-6666-4EED-9E16-FBE5593337A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S5 audience inclu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replenishment particip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hrough the Assembly the members of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s will be shared with other GEF par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T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GO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Project proponents and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1FA8-0D8D-4D43-976C-732285E354D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Evaluation reports should be subject to a dynamic dissemin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rpose of KM in the GE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Promotion of a culture o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Application of 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Feedback to new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5B88-8BCB-4D47-B6E4-CDBA56256CB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1218960" y="1447920"/>
            <a:ext cx="662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00+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ine tools for particip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A57F-56FB-453D-9982-6233F73119C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C115-43B3-4839-876C-2163680F379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FDD9-817C-4423-AA54-9B01568F2FBE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62C0-694F-4ACE-9196-CA6B0472806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6" name="Title 1" descr=""/>
          <p:cNvPicPr/>
          <p:nvPr/>
        </p:nvPicPr>
        <p:blipFill>
          <a:blip r:embed="rId2"/>
          <a:stretch/>
        </p:blipFill>
        <p:spPr>
          <a:xfrm>
            <a:off x="1225440" y="274680"/>
            <a:ext cx="7918560" cy="79200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BM, especially monitoring, tell whether the organization is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he right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Two overarching obj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ec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erformance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artners involved in GE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C2A8-4694-4BBB-9807-68E87EECB8E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A494-08F8-4D99-92AC-7E3ABB03B12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4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219320" y="1294920"/>
            <a:ext cx="685800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 and fully budgeted M&amp;E plans by CEO endorsement for FSPs, and CEO approval for MS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log frames should align with GEF Focal Area result frameworks contained in the GEF-5 RB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/Program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SPs and MSPs will be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orts should be sent to the GEF EO within 12 months of project comple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explain how GEF OFPs will be engaged in M&amp;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4121-0298-419D-8D2D-1E1E6F31F3D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&amp;E plans should include how OFPs will be eng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Ps will be informed on M&amp;E activities, including Mid-Term Reviews and Terminal Evaluations, receiving drafts for comments and fin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Ps will be invited to contribute to the management response (where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F25C-51E4-47B2-9AE4-ED1B55D1F8E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219320" y="14396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the first point of entry into a coun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Identify major relevant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ssist with agen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country responses to these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4BAA-EB10-4976-A9D4-A85147FE7B2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219320" y="129492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component: enhancing capacities to monitor and evaluate environmental impacts and trends (should be identified as a priority in the NCSA capacity developme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on pl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 plan should b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ulated as a Medium-Siz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integrated into a broader proposal that would be formulated as MSP or FSP (if MSP it should have 1:1 cofun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ding available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C22E-8EA5-4A6A-A957-E7794CAB971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3T02:07:26Z</dcterms:modified>
  <cp:revision>351</cp:revision>
  <dc:subject/>
  <dc:title>Slide 1</dc:title>
</cp:coreProperties>
</file>