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50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6767-B238-494C-AF99-D6A863612B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03BF-D175-48AD-8F2B-9D00A063F1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7D9-7E70-4589-86A1-6C84AF82F2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6998-9B9F-4ED7-A535-571745A4B9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B55-BE53-466E-86A1-F88D10544AE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6D9F-F707-4D8D-8EE5-69FE795E8E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829D-67F3-46A9-9570-ADE7B97918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40DD-9652-4C2C-BF70-8F5FD48B0CE8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0ECE-CCB0-4CCF-8922-1FEBEB2A92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444B-4BCA-44EA-8052-A982E39211BD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744-2C80-43D3-8E52-905493CD5FC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D610-7E94-4231-87D1-7A48FC1E45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152-013B-4508-B607-B6A5C69F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BFE-A374-491D-9DF6-144F1C6B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71A-B5CD-4D08-95E8-0D502DA4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C3E-A63B-4852-ACAC-73CEB068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9889-0827-4108-86ED-1588B509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BFC3-E798-474F-8E03-EDBE69D4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2BFF-8114-47C5-8D20-5623E973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895E-E315-43FC-ACBC-EABC7451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8CC2-D1C8-4C17-AB6F-B211AFB7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171A-F738-4194-AA9C-46BE1C2D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5F83-6461-4ADC-97B4-0460D7A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963-BC01-47D3-8B56-2B1B03AC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BC6B-5D4A-4275-82DC-1F4730DC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23C8-2632-4990-BFEB-3E4F58F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84FE-9F75-46D4-A835-1366C5C0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16E7-A6CA-4FC5-97E6-3D2D7ED1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F2F3-4D68-4AE8-8209-381802C6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7F759-9A44-43C2-B0A8-00211B9F1F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039E4-6929-49CF-859D-CDBEEC7E6C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3332A-4CE6-447D-89CC-3DB1BEE74D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DE0F8-D2D4-4B60-821B-A2DC5A9316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78794-6A5D-49BB-B715-2C18739A2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212-AE7F-4C00-9BFB-3FB68E1B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D0BCF-E669-4276-86E3-02262A29DB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B5933-CA66-42F8-A02B-0CB8AFAA93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37F89-2B36-4E64-BF49-0BB42C7B3B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55593-B12A-4592-AE80-EAD00F2373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C41EA-7396-4E7D-9624-16265E1110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1C61E-7D92-43D1-A42E-EF6BC3547C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E29F6-CB0F-4ABB-B2E5-20A386192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62F-4187-463A-97E1-2075D202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040-F120-4B92-94EE-D69D52D6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F9E-1C54-42DB-8F57-5CB224DE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36F-528E-4544-9022-BA0FEB7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BFE-B025-4C12-9108-4421281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9C4-816F-4457-9FCD-8872E1D6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82CF-1120-44A2-9E9C-4AF5F719DC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B1EC-416D-4C49-9A86-3C932B4E2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202-5DC6-41B9-894A-3B99916B05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5C03-E986-45BC-AC09-CB980FAA1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FD8B-AA2B-4981-AB03-7F21A4DB643D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3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160020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50800" y="2401920"/>
            <a:ext cx="6321600" cy="3340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untry Portfolio Evaluations countries have the opportunity to provide their perspective to Council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9201-64FA-4205-A9C2-1C07AD4C6E7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(OPS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68C2-19B5-4343-ABBA-E3814581E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89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sess the extent to which the GEF is achieving its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laid down in the GEF Instrument and reviews by the Assemb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developed and adopted by the GEF Council in operational policies and programs for GEF financed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nd to identify potential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B44F-89F0-4403-910E-F8D408507F4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element of OPS5 will be a meta-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8CC1-E1B7-4C07-9433-8875FBB9007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114300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upport for the creation of an environment that enables necessary changes to tak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nd…require constant attention and adju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esting of approaches that are intended to lead to GEBs if adopted on a broader 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roader implementation of results of foundational and demonstr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66"/>
          <p:cNvGrpSpPr/>
          <p:nvPr/>
        </p:nvGrpSpPr>
        <p:grpSpPr>
          <a:xfrm>
            <a:off x="5257800" y="2625840"/>
            <a:ext cx="2514600" cy="1108080"/>
            <a:chOff x="5257800" y="2625840"/>
            <a:chExt cx="2514600" cy="1108080"/>
          </a:xfrm>
        </p:grpSpPr>
        <p:grpSp>
          <p:nvGrpSpPr>
            <p:cNvPr id="180" name="Oval 45"/>
            <p:cNvGrpSpPr/>
            <p:nvPr/>
          </p:nvGrpSpPr>
          <p:grpSpPr>
            <a:xfrm>
              <a:off x="5257800" y="2625840"/>
              <a:ext cx="2514600" cy="1108080"/>
              <a:chOff x="5257800" y="2625840"/>
              <a:chExt cx="2514600" cy="1108080"/>
            </a:xfrm>
          </p:grpSpPr>
          <p:pic>
            <p:nvPicPr>
              <p:cNvPr id="181" name="Oval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7800" y="2625840"/>
                <a:ext cx="251460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5910480" y="2903400"/>
                <a:ext cx="120600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3"/>
            <p:cNvGrpSpPr/>
            <p:nvPr/>
          </p:nvGrpSpPr>
          <p:grpSpPr>
            <a:xfrm>
              <a:off x="5599800" y="2897280"/>
              <a:ext cx="1827720" cy="546840"/>
              <a:chOff x="5599800" y="2897280"/>
              <a:chExt cx="1827720" cy="546840"/>
            </a:xfrm>
          </p:grpSpPr>
          <p:pic>
            <p:nvPicPr>
              <p:cNvPr id="184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9800" y="2897280"/>
                <a:ext cx="171648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0000" y="3035160"/>
                <a:ext cx="1464480" cy="27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Oval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599800" y="3173400"/>
                <a:ext cx="1827720" cy="27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Rectangle 62"/>
            <p:cNvSpPr/>
            <p:nvPr/>
          </p:nvSpPr>
          <p:spPr>
            <a:xfrm>
              <a:off x="5643720" y="2758680"/>
              <a:ext cx="174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006600"/>
                  </a:solidFill>
                  <a:latin typeface="Arial"/>
                </a:rPr>
                <a:t>BEHAVIORAL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71"/>
          <p:cNvSpPr/>
          <p:nvPr/>
        </p:nvSpPr>
        <p:spPr>
          <a:xfrm>
            <a:off x="6553080" y="4938840"/>
            <a:ext cx="2362320" cy="2764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8"/>
          <p:cNvSpPr/>
          <p:nvPr/>
        </p:nvSpPr>
        <p:spPr>
          <a:xfrm>
            <a:off x="3465360" y="4818240"/>
            <a:ext cx="3316320" cy="5522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TERMEDIAT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75"/>
          <p:cNvSpPr/>
          <p:nvPr/>
        </p:nvSpPr>
        <p:spPr>
          <a:xfrm>
            <a:off x="152280" y="4818240"/>
            <a:ext cx="3886200" cy="5522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STITU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ight Triangle 8"/>
          <p:cNvGrpSpPr/>
          <p:nvPr/>
        </p:nvGrpSpPr>
        <p:grpSpPr>
          <a:xfrm>
            <a:off x="3597120" y="3078000"/>
            <a:ext cx="5370840" cy="1768680"/>
            <a:chOff x="3597120" y="3078000"/>
            <a:chExt cx="5370840" cy="1768680"/>
          </a:xfrm>
        </p:grpSpPr>
        <p:pic>
          <p:nvPicPr>
            <p:cNvPr id="192" name="Right Triangle 8" descr=""/>
            <p:cNvPicPr/>
            <p:nvPr/>
          </p:nvPicPr>
          <p:blipFill>
            <a:blip r:embed="rId5"/>
            <a:stretch/>
          </p:blipFill>
          <p:spPr>
            <a:xfrm>
              <a:off x="3597120" y="3078000"/>
              <a:ext cx="537084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6200000">
              <a:off x="7196040" y="3344400"/>
              <a:ext cx="8175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8"/>
          <p:cNvSpPr/>
          <p:nvPr/>
        </p:nvSpPr>
        <p:spPr>
          <a:xfrm>
            <a:off x="457200" y="873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FOUNDA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9"/>
          <p:cNvSpPr/>
          <p:nvPr/>
        </p:nvSpPr>
        <p:spPr>
          <a:xfrm>
            <a:off x="2971800" y="8730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DEMONSTRA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4"/>
          <p:cNvSpPr/>
          <p:nvPr/>
        </p:nvSpPr>
        <p:spPr>
          <a:xfrm>
            <a:off x="5370480" y="873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INVESTMENT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646200" y="3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Generic GEF Theory of 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2"/>
          <p:cNvSpPr/>
          <p:nvPr/>
        </p:nvSpPr>
        <p:spPr>
          <a:xfrm rot="20556600">
            <a:off x="5468400" y="3611160"/>
            <a:ext cx="35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31511f"/>
                </a:solidFill>
                <a:latin typeface="Calibri"/>
              </a:rPr>
              <a:t>Stres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6"/>
          <p:cNvGrpSpPr/>
          <p:nvPr/>
        </p:nvGrpSpPr>
        <p:grpSpPr>
          <a:xfrm>
            <a:off x="3998880" y="3520080"/>
            <a:ext cx="5063040" cy="1204200"/>
            <a:chOff x="3998880" y="3520080"/>
            <a:chExt cx="5063040" cy="1204200"/>
          </a:xfrm>
        </p:grpSpPr>
        <p:grpSp>
          <p:nvGrpSpPr>
            <p:cNvPr id="200" name="Right Triangle 21"/>
            <p:cNvGrpSpPr/>
            <p:nvPr/>
          </p:nvGrpSpPr>
          <p:grpSpPr>
            <a:xfrm>
              <a:off x="3998880" y="3548160"/>
              <a:ext cx="4987440" cy="1176120"/>
              <a:chOff x="3998880" y="3548160"/>
              <a:chExt cx="4987440" cy="1176120"/>
            </a:xfrm>
          </p:grpSpPr>
          <p:pic>
            <p:nvPicPr>
              <p:cNvPr id="201" name="Right Triangl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8880" y="3548160"/>
                <a:ext cx="498744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16200000">
                <a:off x="7442280" y="3479400"/>
                <a:ext cx="543240" cy="16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Box 105"/>
            <p:cNvSpPr/>
            <p:nvPr/>
          </p:nvSpPr>
          <p:spPr>
            <a:xfrm rot="20793000">
              <a:off x="5827680" y="3893760"/>
              <a:ext cx="32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Calibri"/>
                </a:rPr>
                <a:t>Change in environmental 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9"/>
          <p:cNvGrpSpPr/>
          <p:nvPr/>
        </p:nvGrpSpPr>
        <p:grpSpPr>
          <a:xfrm>
            <a:off x="7148520" y="5257800"/>
            <a:ext cx="1700280" cy="387360"/>
            <a:chOff x="7148520" y="5257800"/>
            <a:chExt cx="1700280" cy="387360"/>
          </a:xfrm>
        </p:grpSpPr>
        <p:grpSp>
          <p:nvGrpSpPr>
            <p:cNvPr id="205" name="Straight Connector 5"/>
            <p:cNvGrpSpPr/>
            <p:nvPr/>
          </p:nvGrpSpPr>
          <p:grpSpPr>
            <a:xfrm>
              <a:off x="7148520" y="5266440"/>
              <a:ext cx="351720" cy="378720"/>
              <a:chOff x="7148520" y="5266440"/>
              <a:chExt cx="351720" cy="378720"/>
            </a:xfrm>
          </p:grpSpPr>
          <p:pic>
            <p:nvPicPr>
              <p:cNvPr id="206" name="Straight Connector 5" descr=""/>
              <p:cNvPicPr/>
              <p:nvPr/>
            </p:nvPicPr>
            <p:blipFill>
              <a:blip r:embed="rId7"/>
              <a:stretch/>
            </p:blipFill>
            <p:spPr>
              <a:xfrm>
                <a:off x="7148520" y="5266440"/>
                <a:ext cx="35172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9339600">
                <a:off x="7224840" y="5335920"/>
                <a:ext cx="2160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78"/>
            <p:cNvSpPr/>
            <p:nvPr/>
          </p:nvSpPr>
          <p:spPr>
            <a:xfrm>
              <a:off x="7460640" y="5257800"/>
              <a:ext cx="138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daptive management / Lear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65"/>
          <p:cNvGrpSpPr/>
          <p:nvPr/>
        </p:nvGrpSpPr>
        <p:grpSpPr>
          <a:xfrm>
            <a:off x="4191120" y="4058280"/>
            <a:ext cx="4910040" cy="720720"/>
            <a:chOff x="4191120" y="4058280"/>
            <a:chExt cx="4910040" cy="720720"/>
          </a:xfrm>
        </p:grpSpPr>
        <p:sp>
          <p:nvSpPr>
            <p:cNvPr id="210" name="Right Triangle 33"/>
            <p:cNvSpPr/>
            <p:nvPr/>
          </p:nvSpPr>
          <p:spPr>
            <a:xfrm rot="16200000">
              <a:off x="6244200" y="2017080"/>
              <a:ext cx="653760" cy="4760280"/>
            </a:xfrm>
            <a:prstGeom prst="rtTriangl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90"/>
            <p:cNvSpPr/>
            <p:nvPr/>
          </p:nvSpPr>
          <p:spPr>
            <a:xfrm rot="21133200">
              <a:off x="5797080" y="4280040"/>
              <a:ext cx="33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Calibri"/>
                </a:rPr>
                <a:t>Environmentally sustainabl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152280" y="3211560"/>
            <a:ext cx="2352960" cy="1395360"/>
            <a:chOff x="152280" y="3211560"/>
            <a:chExt cx="2352960" cy="1395360"/>
          </a:xfrm>
        </p:grpSpPr>
        <p:grpSp>
          <p:nvGrpSpPr>
            <p:cNvPr id="213" name="Oval 36"/>
            <p:cNvGrpSpPr/>
            <p:nvPr/>
          </p:nvGrpSpPr>
          <p:grpSpPr>
            <a:xfrm>
              <a:off x="152280" y="3211560"/>
              <a:ext cx="2352960" cy="1395360"/>
              <a:chOff x="152280" y="3211560"/>
              <a:chExt cx="2352960" cy="1395360"/>
            </a:xfrm>
          </p:grpSpPr>
          <p:pic>
            <p:nvPicPr>
              <p:cNvPr id="214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280" y="32115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33880" y="3427200"/>
                <a:ext cx="158976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4"/>
            <p:cNvSpPr/>
            <p:nvPr/>
          </p:nvSpPr>
          <p:spPr>
            <a:xfrm>
              <a:off x="525600" y="3252240"/>
              <a:ext cx="15897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KNOWLEDGE &amp; INFOR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152280" y="1611360"/>
            <a:ext cx="2352960" cy="1395360"/>
            <a:chOff x="152280" y="1611360"/>
            <a:chExt cx="2352960" cy="1395360"/>
          </a:xfrm>
        </p:grpSpPr>
        <p:grpSp>
          <p:nvGrpSpPr>
            <p:cNvPr id="218" name="Oval 39"/>
            <p:cNvGrpSpPr/>
            <p:nvPr/>
          </p:nvGrpSpPr>
          <p:grpSpPr>
            <a:xfrm>
              <a:off x="152280" y="1611360"/>
              <a:ext cx="2352960" cy="1395360"/>
              <a:chOff x="152280" y="1611360"/>
              <a:chExt cx="2352960" cy="1395360"/>
            </a:xfrm>
          </p:grpSpPr>
          <p:pic>
            <p:nvPicPr>
              <p:cNvPr id="219" name="Oval 39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280" y="16113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33880" y="1829880"/>
                <a:ext cx="158976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4"/>
            <p:cNvSpPr/>
            <p:nvPr/>
          </p:nvSpPr>
          <p:spPr>
            <a:xfrm>
              <a:off x="525600" y="1654560"/>
              <a:ext cx="15897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GOVERNANCE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Oval 41"/>
          <p:cNvGrpSpPr/>
          <p:nvPr/>
        </p:nvGrpSpPr>
        <p:grpSpPr>
          <a:xfrm>
            <a:off x="165240" y="2011320"/>
            <a:ext cx="1261800" cy="811080"/>
            <a:chOff x="165240" y="2011320"/>
            <a:chExt cx="1261800" cy="811080"/>
          </a:xfrm>
        </p:grpSpPr>
        <p:pic>
          <p:nvPicPr>
            <p:cNvPr id="223" name="Oval 41" descr=""/>
            <p:cNvPicPr/>
            <p:nvPr/>
          </p:nvPicPr>
          <p:blipFill>
            <a:blip r:embed="rId10"/>
            <a:stretch/>
          </p:blipFill>
          <p:spPr>
            <a:xfrm>
              <a:off x="165240" y="2011320"/>
              <a:ext cx="1261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88800" y="2144880"/>
              <a:ext cx="8146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Policy, legal &amp; regulatory frame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Oval 42"/>
          <p:cNvGrpSpPr/>
          <p:nvPr/>
        </p:nvGrpSpPr>
        <p:grpSpPr>
          <a:xfrm>
            <a:off x="249120" y="3541680"/>
            <a:ext cx="1195560" cy="914400"/>
            <a:chOff x="249120" y="3541680"/>
            <a:chExt cx="1195560" cy="914400"/>
          </a:xfrm>
        </p:grpSpPr>
        <p:pic>
          <p:nvPicPr>
            <p:cNvPr id="226" name="Oval 42" descr=""/>
            <p:cNvPicPr/>
            <p:nvPr/>
          </p:nvPicPr>
          <p:blipFill>
            <a:blip r:embed="rId11"/>
            <a:stretch/>
          </p:blipFill>
          <p:spPr>
            <a:xfrm>
              <a:off x="249120" y="3541680"/>
              <a:ext cx="1195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3680" y="3687840"/>
              <a:ext cx="766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Information-sharing &amp; 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43"/>
          <p:cNvGrpSpPr/>
          <p:nvPr/>
        </p:nvGrpSpPr>
        <p:grpSpPr>
          <a:xfrm>
            <a:off x="1163520" y="3571920"/>
            <a:ext cx="1255680" cy="622080"/>
            <a:chOff x="1163520" y="3571920"/>
            <a:chExt cx="1255680" cy="622080"/>
          </a:xfrm>
        </p:grpSpPr>
        <p:pic>
          <p:nvPicPr>
            <p:cNvPr id="229" name="Oval 43" descr=""/>
            <p:cNvPicPr/>
            <p:nvPr/>
          </p:nvPicPr>
          <p:blipFill>
            <a:blip r:embed="rId12"/>
            <a:stretch/>
          </p:blipFill>
          <p:spPr>
            <a:xfrm>
              <a:off x="1163520" y="3571920"/>
              <a:ext cx="12556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386000" y="3676680"/>
              <a:ext cx="8096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wareness-rai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Straight Connector 5"/>
          <p:cNvGrpSpPr/>
          <p:nvPr/>
        </p:nvGrpSpPr>
        <p:grpSpPr>
          <a:xfrm>
            <a:off x="2298600" y="2882880"/>
            <a:ext cx="444600" cy="439920"/>
            <a:chOff x="2298600" y="2882880"/>
            <a:chExt cx="444600" cy="439920"/>
          </a:xfrm>
        </p:grpSpPr>
        <p:pic>
          <p:nvPicPr>
            <p:cNvPr id="232" name="Straight Connector 5" descr=""/>
            <p:cNvPicPr/>
            <p:nvPr/>
          </p:nvPicPr>
          <p:blipFill>
            <a:blip r:embed="rId13"/>
            <a:stretch/>
          </p:blipFill>
          <p:spPr>
            <a:xfrm>
              <a:off x="2298600" y="2882880"/>
              <a:ext cx="44460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639000">
              <a:off x="2368440" y="2957400"/>
              <a:ext cx="25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Straight Connector 5"/>
          <p:cNvGrpSpPr/>
          <p:nvPr/>
        </p:nvGrpSpPr>
        <p:grpSpPr>
          <a:xfrm>
            <a:off x="6205680" y="2359080"/>
            <a:ext cx="414360" cy="407880"/>
            <a:chOff x="6205680" y="2359080"/>
            <a:chExt cx="414360" cy="407880"/>
          </a:xfrm>
        </p:grpSpPr>
        <p:pic>
          <p:nvPicPr>
            <p:cNvPr id="235" name="Straight Connector 5" descr=""/>
            <p:cNvPicPr/>
            <p:nvPr/>
          </p:nvPicPr>
          <p:blipFill>
            <a:blip r:embed="rId14"/>
            <a:stretch/>
          </p:blipFill>
          <p:spPr>
            <a:xfrm>
              <a:off x="6205680" y="235908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9339600">
              <a:off x="6294240" y="2430360"/>
              <a:ext cx="257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Straight Connector 5"/>
          <p:cNvGrpSpPr/>
          <p:nvPr/>
        </p:nvGrpSpPr>
        <p:grpSpPr>
          <a:xfrm>
            <a:off x="6278400" y="3602160"/>
            <a:ext cx="408240" cy="390240"/>
            <a:chOff x="6278400" y="3602160"/>
            <a:chExt cx="408240" cy="390240"/>
          </a:xfrm>
        </p:grpSpPr>
        <p:pic>
          <p:nvPicPr>
            <p:cNvPr id="238" name="Straight Connector 5" descr=""/>
            <p:cNvPicPr/>
            <p:nvPr/>
          </p:nvPicPr>
          <p:blipFill>
            <a:blip r:embed="rId15"/>
            <a:stretch/>
          </p:blipFill>
          <p:spPr>
            <a:xfrm>
              <a:off x="6278400" y="3602160"/>
              <a:ext cx="40824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9339600">
              <a:off x="6364440" y="3669840"/>
              <a:ext cx="2570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Oval 58"/>
          <p:cNvGrpSpPr/>
          <p:nvPr/>
        </p:nvGrpSpPr>
        <p:grpSpPr>
          <a:xfrm>
            <a:off x="1090440" y="2011320"/>
            <a:ext cx="1403640" cy="811080"/>
            <a:chOff x="1090440" y="2011320"/>
            <a:chExt cx="1403640" cy="811080"/>
          </a:xfrm>
        </p:grpSpPr>
        <p:pic>
          <p:nvPicPr>
            <p:cNvPr id="241" name="Oval 58" descr=""/>
            <p:cNvPicPr/>
            <p:nvPr/>
          </p:nvPicPr>
          <p:blipFill>
            <a:blip r:embed="rId16"/>
            <a:stretch/>
          </p:blipFill>
          <p:spPr>
            <a:xfrm>
              <a:off x="1090440" y="2011320"/>
              <a:ext cx="1403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33440" y="2146320"/>
              <a:ext cx="914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dministrative re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5"/>
          <p:cNvGrpSpPr/>
          <p:nvPr/>
        </p:nvGrpSpPr>
        <p:grpSpPr>
          <a:xfrm>
            <a:off x="4989600" y="1177920"/>
            <a:ext cx="2514600" cy="1219320"/>
            <a:chOff x="4989600" y="1177920"/>
            <a:chExt cx="2514600" cy="1219320"/>
          </a:xfrm>
        </p:grpSpPr>
        <p:grpSp>
          <p:nvGrpSpPr>
            <p:cNvPr id="244" name="Group 29"/>
            <p:cNvGrpSpPr/>
            <p:nvPr/>
          </p:nvGrpSpPr>
          <p:grpSpPr>
            <a:xfrm>
              <a:off x="4989600" y="1177920"/>
              <a:ext cx="2460960" cy="1214280"/>
              <a:chOff x="4989600" y="1177920"/>
              <a:chExt cx="2460960" cy="1214280"/>
            </a:xfrm>
          </p:grpSpPr>
          <p:grpSp>
            <p:nvGrpSpPr>
              <p:cNvPr id="245" name="Oval 46"/>
              <p:cNvGrpSpPr/>
              <p:nvPr/>
            </p:nvGrpSpPr>
            <p:grpSpPr>
              <a:xfrm>
                <a:off x="4989600" y="1177920"/>
                <a:ext cx="2460960" cy="1214280"/>
                <a:chOff x="4989600" y="1177920"/>
                <a:chExt cx="2460960" cy="1214280"/>
              </a:xfrm>
            </p:grpSpPr>
            <p:pic>
              <p:nvPicPr>
                <p:cNvPr id="246" name="Oval 4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89600" y="1177920"/>
                  <a:ext cx="2460960" cy="121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5388480" y="1369440"/>
                  <a:ext cx="166536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Oval 4"/>
              <p:cNvSpPr/>
              <p:nvPr/>
            </p:nvSpPr>
            <p:spPr>
              <a:xfrm>
                <a:off x="5257440" y="1284120"/>
                <a:ext cx="1911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SC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Oval 48"/>
            <p:cNvGrpSpPr/>
            <p:nvPr/>
          </p:nvGrpSpPr>
          <p:grpSpPr>
            <a:xfrm>
              <a:off x="5010480" y="1413720"/>
              <a:ext cx="1449720" cy="449280"/>
              <a:chOff x="5010480" y="1413720"/>
              <a:chExt cx="1449720" cy="449280"/>
            </a:xfrm>
          </p:grpSpPr>
          <p:pic>
            <p:nvPicPr>
              <p:cNvPr id="250" name="Oval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10480" y="1413720"/>
                <a:ext cx="1449720" cy="4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60320" y="1496520"/>
                <a:ext cx="94932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instream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Oval 49"/>
            <p:cNvGrpSpPr/>
            <p:nvPr/>
          </p:nvGrpSpPr>
          <p:grpSpPr>
            <a:xfrm>
              <a:off x="5082120" y="1680840"/>
              <a:ext cx="1151280" cy="485640"/>
              <a:chOff x="5082120" y="1680840"/>
              <a:chExt cx="1151280" cy="485640"/>
            </a:xfrm>
          </p:grpSpPr>
          <p:pic>
            <p:nvPicPr>
              <p:cNvPr id="253" name="Oval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82120" y="1680840"/>
                <a:ext cx="1151280" cy="4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291280" y="1764360"/>
                <a:ext cx="738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Scaling-u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Oval 57"/>
            <p:cNvGrpSpPr/>
            <p:nvPr/>
          </p:nvGrpSpPr>
          <p:grpSpPr>
            <a:xfrm>
              <a:off x="5607360" y="1905480"/>
              <a:ext cx="1521000" cy="491760"/>
              <a:chOff x="5607360" y="1905480"/>
              <a:chExt cx="1521000" cy="491760"/>
            </a:xfrm>
          </p:grpSpPr>
          <p:pic>
            <p:nvPicPr>
              <p:cNvPr id="256" name="Oval 5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07360" y="1905480"/>
                <a:ext cx="1521000" cy="49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868000" y="1992240"/>
                <a:ext cx="100188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rket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Oval 60"/>
            <p:cNvGrpSpPr/>
            <p:nvPr/>
          </p:nvGrpSpPr>
          <p:grpSpPr>
            <a:xfrm>
              <a:off x="6054480" y="1528920"/>
              <a:ext cx="1449720" cy="455400"/>
              <a:chOff x="6054480" y="1528920"/>
              <a:chExt cx="1449720" cy="455400"/>
            </a:xfrm>
          </p:grpSpPr>
          <p:pic>
            <p:nvPicPr>
              <p:cNvPr id="259" name="Oval 6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54480" y="1528920"/>
                <a:ext cx="1449720" cy="45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6304320" y="1607400"/>
                <a:ext cx="9493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Oval 61"/>
          <p:cNvGrpSpPr/>
          <p:nvPr/>
        </p:nvGrpSpPr>
        <p:grpSpPr>
          <a:xfrm>
            <a:off x="1090440" y="4011480"/>
            <a:ext cx="1116360" cy="554040"/>
            <a:chOff x="1090440" y="4011480"/>
            <a:chExt cx="1116360" cy="554040"/>
          </a:xfrm>
        </p:grpSpPr>
        <p:pic>
          <p:nvPicPr>
            <p:cNvPr id="262" name="Oval 61" descr=""/>
            <p:cNvPicPr/>
            <p:nvPr/>
          </p:nvPicPr>
          <p:blipFill>
            <a:blip r:embed="rId22"/>
            <a:stretch/>
          </p:blipFill>
          <p:spPr>
            <a:xfrm>
              <a:off x="1090440" y="4011480"/>
              <a:ext cx="1116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0600" y="4103640"/>
              <a:ext cx="712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Knowledge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9"/>
          <p:cNvGrpSpPr/>
          <p:nvPr/>
        </p:nvGrpSpPr>
        <p:grpSpPr>
          <a:xfrm>
            <a:off x="2819520" y="1447920"/>
            <a:ext cx="2286000" cy="3159000"/>
            <a:chOff x="2819520" y="1447920"/>
            <a:chExt cx="2286000" cy="3159000"/>
          </a:xfrm>
        </p:grpSpPr>
        <p:grpSp>
          <p:nvGrpSpPr>
            <p:cNvPr id="265" name="Group 8"/>
            <p:cNvGrpSpPr/>
            <p:nvPr/>
          </p:nvGrpSpPr>
          <p:grpSpPr>
            <a:xfrm>
              <a:off x="2819520" y="1447920"/>
              <a:ext cx="2286000" cy="3159000"/>
              <a:chOff x="2819520" y="1447920"/>
              <a:chExt cx="2286000" cy="3159000"/>
            </a:xfrm>
          </p:grpSpPr>
          <p:grpSp>
            <p:nvGrpSpPr>
              <p:cNvPr id="266" name="Oval 16"/>
              <p:cNvGrpSpPr/>
              <p:nvPr/>
            </p:nvGrpSpPr>
            <p:grpSpPr>
              <a:xfrm>
                <a:off x="2819520" y="1447920"/>
                <a:ext cx="2286000" cy="3159000"/>
                <a:chOff x="2819520" y="1447920"/>
                <a:chExt cx="2286000" cy="3159000"/>
              </a:xfrm>
            </p:grpSpPr>
            <p:pic>
              <p:nvPicPr>
                <p:cNvPr id="267" name="Oval 1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819520" y="1447920"/>
                  <a:ext cx="2286000" cy="315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3189240" y="1921680"/>
                  <a:ext cx="1546560" cy="21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Oval 4"/>
              <p:cNvSpPr/>
              <p:nvPr/>
            </p:nvSpPr>
            <p:spPr>
              <a:xfrm>
                <a:off x="3067920" y="1695240"/>
                <a:ext cx="177516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IMPLEMENTING 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Oval 18"/>
            <p:cNvGrpSpPr/>
            <p:nvPr/>
          </p:nvGrpSpPr>
          <p:grpSpPr>
            <a:xfrm>
              <a:off x="2919960" y="2048400"/>
              <a:ext cx="1249560" cy="719280"/>
              <a:chOff x="2919960" y="2048400"/>
              <a:chExt cx="1249560" cy="719280"/>
            </a:xfrm>
          </p:grpSpPr>
          <p:pic>
            <p:nvPicPr>
              <p:cNvPr id="271" name="Oval 18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19960" y="2048400"/>
                <a:ext cx="124956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139200" y="2163240"/>
                <a:ext cx="80820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Technologies &amp; approach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Oval 23"/>
            <p:cNvGrpSpPr/>
            <p:nvPr/>
          </p:nvGrpSpPr>
          <p:grpSpPr>
            <a:xfrm>
              <a:off x="2840760" y="2639880"/>
              <a:ext cx="1408320" cy="768240"/>
              <a:chOff x="2840760" y="2639880"/>
              <a:chExt cx="1408320" cy="768240"/>
            </a:xfrm>
          </p:grpSpPr>
          <p:pic>
            <p:nvPicPr>
              <p:cNvPr id="274" name="Oval 23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40760" y="2639880"/>
                <a:ext cx="140832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085200" y="2764080"/>
                <a:ext cx="91620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Organizational structures &amp; arrange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Oval 59"/>
            <p:cNvGrpSpPr/>
            <p:nvPr/>
          </p:nvGrpSpPr>
          <p:grpSpPr>
            <a:xfrm>
              <a:off x="3755160" y="2182320"/>
              <a:ext cx="1334880" cy="981360"/>
              <a:chOff x="3755160" y="2182320"/>
              <a:chExt cx="1334880" cy="981360"/>
            </a:xfrm>
          </p:grpSpPr>
          <p:pic>
            <p:nvPicPr>
              <p:cNvPr id="277" name="Oval 59" descr=""/>
              <p:cNvPicPr/>
              <p:nvPr/>
            </p:nvPicPr>
            <p:blipFill>
              <a:blip r:embed="rId26"/>
              <a:stretch/>
            </p:blipFill>
            <p:spPr>
              <a:xfrm>
                <a:off x="3755160" y="2182320"/>
                <a:ext cx="1334880" cy="9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3989880" y="2337840"/>
                <a:ext cx="868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Financial mechanisms for adoption &amp; sustainabil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68"/>
            <p:cNvSpPr/>
            <p:nvPr/>
          </p:nvSpPr>
          <p:spPr>
            <a:xfrm>
              <a:off x="3127320" y="3429360"/>
              <a:ext cx="1827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Promoting champ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Building on promising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aising profile of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emoval of barr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quality assurance advi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cognized experts from developed, newly emerging, and developing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Ongoing advice and comments to the replenish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gro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Formed by staff from the GEF Agencies independent evaluation off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o provide peer reviews of sub-studies and other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ill provide time to allow for meaningful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973F-17C8-40AC-BFAF-F011ADD87B9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port: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 meta-evaluation approach, drawing on existing GEF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report: end of 2013 or early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al report will be tackled trough separate evalu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268F-3A62-4882-BBFF-203C969E9D7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219320" y="268200"/>
            <a:ext cx="7924680" cy="798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219320" y="121932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ce of GEF to conventions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n outcomes and sustainability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f progress toward impact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catalytic role of GEF (foundation, demonstration and/or investment projec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GEF longer term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performance issues such as cofunding, management costs, quality at entry and super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the implementation and achievements of the focal areas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85A0-0EAB-4042-A436-B576444B2CD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1219320" y="334800"/>
            <a:ext cx="7924680" cy="963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12189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the relevance of GEF -- will include the emergence of new fina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in-depth look at focal area strategies and at the existing impact evi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 of the GEF, donor performance and resources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the private sector and civil socie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utting policies: gender, participation, safegurads, and knowledge sh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the SGP evaluation (since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83B5-ED4A-4DF0-A013-41E3D028017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&amp;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and responsible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fth Overall Performance Study (OPS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of the Overall Performanc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streams &amp; OPS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of OPS5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Knowledge Sharing and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Questions &amp; Ans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B47C-10BF-4F47-87FD-8B39E3B5842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S5 audience incl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plenishment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hrough the Assembly the members of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will be shared with other GEF pa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GO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Project proponents and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EAAB-AC73-41A1-849D-8FE736DB224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KM in the G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E620-C8A9-4D0F-BD61-91BCE4D4099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21896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0+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tools for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38E1-8F44-4A49-BCE3-E7E89870197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D2F-AA08-48E7-9A36-F245AE1386F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3601-5C8E-4CB7-998C-B9A01BD499E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E96-0111-4E8A-9BC6-0255C0996C4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25440" y="274680"/>
            <a:ext cx="791856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especially monitoring,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right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49A9-9297-43E9-BDCF-2D020A122D6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954-CD68-4835-A626-E7630DBEF1C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294920"/>
            <a:ext cx="68580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log frames should align with GEF Focal Area result frameworks contained in the GEF-5 RB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SPs and MSPs will be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s should be sent to the GEF EO within 12 months of project com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5E51-52C7-49FA-85F6-0BFC64C9289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-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B35A-5F12-4FF8-8AB0-4A8A0C2EDE0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the first point of entry into a coun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A9C9-A0D8-4BBA-BECA-5B78B5BF0A8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 (should be identified as a priority in the NCSA capacity developm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 plan should 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ulated as a Medium-Siz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ntegrated into a broader proposal that would be formulated as MSP or FSP (if MSP it should have 1:1 cofun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85F6-3BFD-497C-B2F9-C8F3E7D3060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3T02:07:26Z</dcterms:modified>
  <cp:revision>351</cp:revision>
  <dc:subject/>
  <dc:title>Slide 1</dc:title>
</cp:coreProperties>
</file>