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65AD-23FD-46FE-9B46-52E7B3B9AB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A367-C39B-4817-9896-07264BD2AA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D287-B791-434E-B895-2AC9A23E9D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2639-3F8D-4E92-9FEB-A634C026E0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DAC7-3ACE-407C-A275-4FAACD057B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F088-8D63-46B4-AC7C-65FB5C3FC20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D99-3BC2-4EFB-8002-372E138D2D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CEA3-74C7-41F2-B1F3-67F4571E49B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D198-7D47-4E1F-9C7C-205665BDB1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AFD8-401F-41AF-9525-5EE82F5BA616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299-3390-457E-B1B0-FF02BDC512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57A-5B4A-4FD0-AF06-679B02D1CF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212-BD60-4D47-A559-CE48087F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403-2748-46D2-81BC-66C2E5E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A9B-7573-4134-90EF-645B7607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15F-C011-4C12-BDCB-5E0F28D7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6CD7-8DF2-4CF4-8D86-C83382D9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4A5-179C-4423-94B1-21155E5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6D09-61C6-4041-B8B5-7013C15E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06C5-23A0-4B79-B5DC-4025479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09C-F4CC-4461-8CB9-80B4764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56B6-8271-4355-96EC-D4071C3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F775-D7D1-4D78-823F-E3DAABD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BF8-B609-4998-91CC-03DDAA0D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1D6-75E7-4D40-82D4-A1BF919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89E0-A935-4A73-9C26-EF0D968E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6FB3-C1E5-46A8-B1CE-0F06396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565-AC6B-40E8-B462-D59FD8AD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A81A-7D8F-4FA8-AE42-A6FB86E4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81FEF-D1CE-4A56-827E-7708474BF7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10347-6854-45AB-93A9-EC8922DFB7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FFB5B-D2A7-4E71-9323-3258F215A1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F31CD-9823-445C-88BE-94A51B138A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FB67C-1DA3-4A1B-B0E4-47FDE6CB6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0CF-E951-417F-91FC-8379406C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7E017-5732-4C60-8B3B-97CC381781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C78EC-9175-44D9-9FD9-F7CE5CB8AF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57E06-7FBF-4459-B8E5-793435D1E0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D29DB-3D87-41CC-9FA6-0EE849DC69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4D742-CB16-40FC-A44A-EED593AB2A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42059-66F2-43E7-B661-920ECB6B56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94F14-4205-45E8-96FD-CD3D7DE8D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BB7-CD1E-41D3-B8CA-740E77D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D40-58B7-4AF8-AB62-D81B9792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520-4124-4F93-AB54-3FDA9741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C3C-9DDA-4523-9CF2-63841A9A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975-6FAC-4FE7-A770-8171BEC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374-A1BD-4944-AC5D-B66E03F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72BE-43DC-45D8-AE5A-2B8A6AA3AB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858-D6EA-4CBA-BA3C-EA5B2E7CE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563-1912-4141-972F-80E97773D4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183-2C00-4D75-BECE-00EB1704E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05F0-AF62-4380-A0D2-832B17C34B02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401920"/>
            <a:ext cx="6321600" cy="3340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C6C-14A7-4C98-87A2-5AC1271DBB6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327-80B5-4C69-A8DC-6185241B0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3101-A696-4D68-8254-F96F137675F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4C6B-4641-4DB0-93C2-14623232EAF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0480" y="2903400"/>
                <a:ext cx="120600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599800" y="2897280"/>
              <a:ext cx="1827720" cy="546840"/>
              <a:chOff x="5599800" y="2897280"/>
              <a:chExt cx="182772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9800" y="2897280"/>
                <a:ext cx="171648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0000" y="3035160"/>
                <a:ext cx="1464480" cy="27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599800" y="3173400"/>
                <a:ext cx="1827720" cy="27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3720" y="27586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8680"/>
            <a:chOff x="3597120" y="3078000"/>
            <a:chExt cx="5370840" cy="176868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0080"/>
            <a:ext cx="5063040" cy="1204200"/>
            <a:chOff x="3998880" y="3520080"/>
            <a:chExt cx="5063040" cy="120420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87440" cy="1176120"/>
              <a:chOff x="3998880" y="3548160"/>
              <a:chExt cx="498744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8744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2280" y="3479400"/>
                <a:ext cx="543240" cy="16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27680" y="3893760"/>
              <a:ext cx="32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1720" cy="378720"/>
              <a:chOff x="7148520" y="5266440"/>
              <a:chExt cx="35172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172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840" y="5335920"/>
                <a:ext cx="2160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3880" y="3427200"/>
                <a:ext cx="15897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25600" y="3252240"/>
              <a:ext cx="1589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3880" y="1829880"/>
                <a:ext cx="15897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25600" y="1654560"/>
              <a:ext cx="1589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65240" y="2011320"/>
            <a:ext cx="1261800" cy="811080"/>
            <a:chOff x="165240" y="2011320"/>
            <a:chExt cx="1261800" cy="81108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65240" y="2011320"/>
              <a:ext cx="1261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9120" y="3541680"/>
            <a:ext cx="1195560" cy="914400"/>
            <a:chOff x="249120" y="3541680"/>
            <a:chExt cx="119556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9120" y="3541680"/>
              <a:ext cx="1195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63520" y="3571920"/>
            <a:ext cx="1255680" cy="622080"/>
            <a:chOff x="1163520" y="3571920"/>
            <a:chExt cx="1255680" cy="62208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63520" y="3571920"/>
              <a:ext cx="12556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82880"/>
            <a:ext cx="444600" cy="439920"/>
            <a:chOff x="2298600" y="2882880"/>
            <a:chExt cx="444600" cy="43992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82880"/>
              <a:ext cx="444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14360" cy="407880"/>
            <a:chOff x="6205680" y="2359080"/>
            <a:chExt cx="414360" cy="40788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602160"/>
            <a:ext cx="408240" cy="390240"/>
            <a:chOff x="6278400" y="3602160"/>
            <a:chExt cx="408240" cy="39024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602160"/>
              <a:ext cx="40824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90440" y="2011320"/>
            <a:ext cx="1403640" cy="811080"/>
            <a:chOff x="1090440" y="2011320"/>
            <a:chExt cx="1403640" cy="81108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90440" y="2011320"/>
              <a:ext cx="1403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4280"/>
              <a:chOff x="4989600" y="1177920"/>
              <a:chExt cx="2460960" cy="121428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4280"/>
                <a:chOff x="4989600" y="1177920"/>
                <a:chExt cx="2460960" cy="121428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88480" y="1369440"/>
                  <a:ext cx="166536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57440" y="1284120"/>
                <a:ext cx="1911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10480" y="1413720"/>
              <a:ext cx="1449720" cy="449280"/>
              <a:chOff x="5010480" y="1413720"/>
              <a:chExt cx="1449720" cy="4492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10480" y="1413720"/>
                <a:ext cx="1449720" cy="4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320" y="1496520"/>
                <a:ext cx="94932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82120" y="1680840"/>
              <a:ext cx="1151280" cy="485640"/>
              <a:chOff x="5082120" y="1680840"/>
              <a:chExt cx="1151280" cy="48564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82120" y="1680840"/>
                <a:ext cx="1151280" cy="4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280" y="1764360"/>
                <a:ext cx="738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7360" y="1905480"/>
              <a:ext cx="1521000" cy="491760"/>
              <a:chOff x="5607360" y="1905480"/>
              <a:chExt cx="1521000" cy="49176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7360" y="1905480"/>
                <a:ext cx="1521000" cy="49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2240"/>
                <a:ext cx="100188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54480" y="1528920"/>
              <a:ext cx="1449720" cy="455400"/>
              <a:chOff x="6054480" y="1528920"/>
              <a:chExt cx="1449720" cy="4554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54480" y="1528920"/>
                <a:ext cx="1449720" cy="45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320" y="1607400"/>
                <a:ext cx="9493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90440" y="4011480"/>
            <a:ext cx="1116360" cy="554040"/>
            <a:chOff x="1090440" y="4011480"/>
            <a:chExt cx="1116360" cy="55404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90440" y="4011480"/>
              <a:ext cx="1116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89240" y="1921680"/>
                  <a:ext cx="154656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67920" y="1695240"/>
                <a:ext cx="177516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9960" y="2048400"/>
              <a:ext cx="1249560" cy="719280"/>
              <a:chOff x="2919960" y="2048400"/>
              <a:chExt cx="1249560" cy="71928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9960" y="2048400"/>
                <a:ext cx="124956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9200" y="216324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40760" y="2639880"/>
              <a:ext cx="1408320" cy="768240"/>
              <a:chOff x="2840760" y="2639880"/>
              <a:chExt cx="140832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40760" y="2639880"/>
                <a:ext cx="140832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55160" y="2182320"/>
              <a:ext cx="1334880" cy="981360"/>
              <a:chOff x="3755160" y="2182320"/>
              <a:chExt cx="133488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55160" y="2182320"/>
                <a:ext cx="133488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784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17D2-34B3-4C46-AD71-8CBD37099D9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25D-9350-4559-AE28-E2815BEEBF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9320" y="268200"/>
            <a:ext cx="7924680" cy="798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4F2C-6BF4-4225-B4DA-FC5E18221C1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9320" y="334800"/>
            <a:ext cx="7924680" cy="963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E528-4B81-4AA2-B585-BCC7B0FEA93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ED99-08E5-40B4-8844-FDC115D7038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EA1-9DD6-4B78-BF0C-12203FCA1A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EDB-4C9B-456E-8AE3-2E924378D58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41F-A53A-4326-A956-EEBF526738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9024-D331-4941-8571-DB60A66C8FD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B08-362C-4BEA-B45A-7DE52151FA7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E02-6512-4125-89E8-6F0062F11B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C87E-E228-4803-85CB-82D997D370F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F50-E6BF-456D-BBCA-C46E8CBF6E8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4EBD-1465-4DB4-BFBB-7D3AE1235CC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471-EDAE-4FC6-B283-7C36FAFDFF6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D1F-924C-48ED-A65A-62F67CA6A11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683-4A79-4E7C-AE4E-FB378A0E49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2:07:26Z</dcterms:modified>
  <cp:revision>351</cp:revision>
  <dc:subject/>
  <dc:title>Slide 1</dc:title>
</cp:coreProperties>
</file>