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37AD-10D4-4B26-8109-82734B5B176D}"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6410-7785-477E-B5CA-51B1A558A5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1F0E-F7E3-47F5-9F3E-F0E18154FB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6754-CA13-484D-AA0D-A93DD9D186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F4E1-C9EC-4D4A-9130-B8E67149B1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362B-4E38-4841-AEAD-427D5EDBA4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391A-F1B4-4507-8230-8BA78096FF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3677-686D-4E59-AD99-9815B08E48B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1066-C9E2-4A7B-A09B-5717B73D63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CF13-9FDD-49A3-AB03-27B1A9D7BAB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7A5A-361C-4EF1-8EEA-6A748A7BAE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C92FE-58E7-4BBF-9AED-085E775A9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CA106-061E-4314-ACDB-B75F9C84C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AC0BF-6A80-41E1-A91B-7CD946D9C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43845-C6D8-434D-91FE-7E6DB864F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80BF1-2C27-4D4B-9260-F655E5EA1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5204C-D81B-44FD-BB40-7FD120642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201BA-66E8-42EF-AA0D-0737FB600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66A91-97E2-471D-B543-3DA0320F7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59FAC-B343-43FD-844B-CF50FE530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AAE5F-7CA1-47EC-901B-40EEFA60F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2684F-9275-4F2F-A825-53A0FA003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1B836-1AF2-4EA0-B773-74C6218B3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99EDC-F6D0-4A0E-9376-992E9A869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E0CEE-414C-4040-A5BA-1740D976A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CCDEC-0CB2-428A-830E-77D8D4B07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FF353-9BAA-461D-A75D-B09FC58E1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1D439-6E11-4F8A-8C13-43D2FBB5E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E77829-ED58-4332-A1FA-533AC523F2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B9C034-9ED5-44B8-9164-2EFF971009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109297-DB4E-4767-AF60-5AE1AED13D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D984C6-BDDB-4020-A9E1-3D4B3C7E48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46E99E-516C-4A97-B0BD-8364B2AB27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4E92-24D6-4426-9870-B405C00C3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BDDF87-E3FB-4027-830C-D2E14D81DF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D04803-092D-4491-B422-A30FFC4101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75767F-CD4F-42CB-9CF5-813F3F0E8D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BD5A7D-58F2-492F-9264-A20FB35722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8E0905-5C16-4EDF-8652-A5A5CA2CBB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233B7F-E48E-45F6-A6EF-E8D22F4602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DE6E0F-90B3-4CFA-BBA1-7C08849ACE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AAA7-A54D-43AD-BEFB-4BB90EB7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681D5-A05B-4570-81E3-983FB99C0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52192-A4AD-4E6E-BC7C-D538A2673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253B-CF8E-47E4-B60C-0F51F896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97E9-EB8E-4CC5-9F6B-98B2C93EF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9A8C-F151-48AC-8883-B206B24FA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5FD6-EC39-44CA-BBC1-8FF9208F5A2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A9A6-5E03-473C-BFF8-3FD589A88C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AF54-176B-463A-A15E-ADC8E4A559C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6FE8-5F55-4128-839C-F498C89F1A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0" y="0"/>
            <a:ext cx="1219320" cy="685800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D805-F929-40DA-BA56-28B64C026716}"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50800" y="2401920"/>
            <a:ext cx="6321600" cy="362088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9320" y="274680"/>
            <a:ext cx="7924680" cy="79200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E408-8E2F-40DC-A44C-2251562AFFD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4EE4-D556-4894-93E2-4550E22683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9320" y="274680"/>
            <a:ext cx="7924680" cy="79200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A2A4-18CA-4621-BEE3-A537E9F47FB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9320" y="450720"/>
            <a:ext cx="7924680" cy="86544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A919-399C-4F94-82AE-735D118DF8B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9320" y="274680"/>
            <a:ext cx="7924680" cy="82224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6320" y="2625840"/>
              <a:ext cx="2620440" cy="1108080"/>
              <a:chOff x="5206320" y="2625840"/>
              <a:chExt cx="2620440" cy="1108080"/>
            </a:xfrm>
          </p:grpSpPr>
          <p:pic>
            <p:nvPicPr>
              <p:cNvPr id="241" name="Oval 45" descr=""/>
              <p:cNvPicPr/>
              <p:nvPr/>
            </p:nvPicPr>
            <p:blipFill>
              <a:blip r:embed="rId1"/>
              <a:stretch/>
            </p:blipFill>
            <p:spPr>
              <a:xfrm>
                <a:off x="5206320" y="2625840"/>
                <a:ext cx="2620440" cy="1108080"/>
              </a:xfrm>
              <a:prstGeom prst="rect">
                <a:avLst/>
              </a:prstGeom>
              <a:ln w="0">
                <a:noFill/>
              </a:ln>
            </p:spPr>
          </p:pic>
          <p:sp>
            <p:nvSpPr>
              <p:cNvPr id="242" name=""/>
              <p:cNvSpPr/>
              <p:nvPr/>
            </p:nvSpPr>
            <p:spPr>
              <a:xfrm>
                <a:off x="5886360" y="29034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897280"/>
              <a:ext cx="2285280" cy="546840"/>
              <a:chOff x="5562720" y="2897280"/>
              <a:chExt cx="2285280" cy="546840"/>
            </a:xfrm>
          </p:grpSpPr>
          <p:pic>
            <p:nvPicPr>
              <p:cNvPr id="244" name="Oval 7" descr=""/>
              <p:cNvPicPr/>
              <p:nvPr/>
            </p:nvPicPr>
            <p:blipFill>
              <a:blip r:embed="rId2"/>
              <a:stretch/>
            </p:blipFill>
            <p:spPr>
              <a:xfrm>
                <a:off x="5562720" y="2897280"/>
                <a:ext cx="2208600" cy="276120"/>
              </a:xfrm>
              <a:prstGeom prst="rect">
                <a:avLst/>
              </a:prstGeom>
              <a:ln w="0">
                <a:noFill/>
              </a:ln>
            </p:spPr>
          </p:pic>
          <p:pic>
            <p:nvPicPr>
              <p:cNvPr id="245" name="Oval 7" descr=""/>
              <p:cNvPicPr/>
              <p:nvPr/>
            </p:nvPicPr>
            <p:blipFill>
              <a:blip r:embed="rId3"/>
              <a:stretch/>
            </p:blipFill>
            <p:spPr>
              <a:xfrm>
                <a:off x="5639400" y="3035160"/>
                <a:ext cx="2208600" cy="270720"/>
              </a:xfrm>
              <a:prstGeom prst="rect">
                <a:avLst/>
              </a:prstGeom>
              <a:ln w="0">
                <a:noFill/>
              </a:ln>
            </p:spPr>
          </p:pic>
          <p:pic>
            <p:nvPicPr>
              <p:cNvPr id="246" name="Oval 7" descr=""/>
              <p:cNvPicPr/>
              <p:nvPr/>
            </p:nvPicPr>
            <p:blipFill>
              <a:blip r:embed="rId4"/>
              <a:stretch/>
            </p:blipFill>
            <p:spPr>
              <a:xfrm>
                <a:off x="5568480" y="3173400"/>
                <a:ext cx="2267640" cy="270720"/>
              </a:xfrm>
              <a:prstGeom prst="rect">
                <a:avLst/>
              </a:prstGeom>
              <a:ln w="0">
                <a:noFill/>
              </a:ln>
            </p:spPr>
          </p:pic>
        </p:grpSp>
        <p:sp>
          <p:nvSpPr>
            <p:cNvPr id="247" name="Rectangle 62"/>
            <p:cNvSpPr/>
            <p:nvPr/>
          </p:nvSpPr>
          <p:spPr>
            <a:xfrm>
              <a:off x="5189760" y="27586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8680"/>
            <a:chOff x="3597120" y="3078000"/>
            <a:chExt cx="5370840" cy="1768680"/>
          </a:xfrm>
        </p:grpSpPr>
        <p:pic>
          <p:nvPicPr>
            <p:cNvPr id="252" name="Right Triangle 8" descr=""/>
            <p:cNvPicPr/>
            <p:nvPr/>
          </p:nvPicPr>
          <p:blipFill>
            <a:blip r:embed="rId5"/>
            <a:stretch/>
          </p:blipFill>
          <p:spPr>
            <a:xfrm>
              <a:off x="3597120" y="3078000"/>
              <a:ext cx="5370840" cy="176868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2440"/>
            <a:ext cx="5058720" cy="1221840"/>
            <a:chOff x="3998880" y="3502440"/>
            <a:chExt cx="5058720" cy="1221840"/>
          </a:xfrm>
        </p:grpSpPr>
        <p:grpSp>
          <p:nvGrpSpPr>
            <p:cNvPr id="260" name="Right Triangle 21"/>
            <p:cNvGrpSpPr/>
            <p:nvPr/>
          </p:nvGrpSpPr>
          <p:grpSpPr>
            <a:xfrm>
              <a:off x="3998880" y="3548160"/>
              <a:ext cx="4987440" cy="1176120"/>
              <a:chOff x="3998880" y="3548160"/>
              <a:chExt cx="4987440" cy="1176120"/>
            </a:xfrm>
          </p:grpSpPr>
          <p:pic>
            <p:nvPicPr>
              <p:cNvPr id="261" name="Right Triangle 21" descr=""/>
              <p:cNvPicPr/>
              <p:nvPr/>
            </p:nvPicPr>
            <p:blipFill>
              <a:blip r:embed="rId6"/>
              <a:stretch/>
            </p:blipFill>
            <p:spPr>
              <a:xfrm>
                <a:off x="3998880" y="3548160"/>
                <a:ext cx="4987440" cy="1176120"/>
              </a:xfrm>
              <a:prstGeom prst="rect">
                <a:avLst/>
              </a:prstGeom>
              <a:ln w="0">
                <a:noFill/>
              </a:ln>
            </p:spPr>
          </p:pic>
          <p:sp>
            <p:nvSpPr>
              <p:cNvPr id="262" name=""/>
              <p:cNvSpPr/>
              <p:nvPr/>
            </p:nvSpPr>
            <p:spPr>
              <a:xfrm rot="16200000">
                <a:off x="7442280" y="3479400"/>
                <a:ext cx="54324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3360" y="3876120"/>
              <a:ext cx="324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1720" cy="378720"/>
              <a:chOff x="7148520" y="5266440"/>
              <a:chExt cx="351720" cy="378720"/>
            </a:xfrm>
          </p:grpSpPr>
          <p:pic>
            <p:nvPicPr>
              <p:cNvPr id="266" name="Straight Connector 5" descr=""/>
              <p:cNvPicPr/>
              <p:nvPr/>
            </p:nvPicPr>
            <p:blipFill>
              <a:blip r:embed="rId7"/>
              <a:stretch/>
            </p:blipFill>
            <p:spPr>
              <a:xfrm>
                <a:off x="7148520" y="5266440"/>
                <a:ext cx="351720" cy="378720"/>
              </a:xfrm>
              <a:prstGeom prst="rect">
                <a:avLst/>
              </a:prstGeom>
              <a:ln w="0">
                <a:noFill/>
              </a:ln>
            </p:spPr>
          </p:pic>
          <p:sp>
            <p:nvSpPr>
              <p:cNvPr id="267" name=""/>
              <p:cNvSpPr/>
              <p:nvPr/>
            </p:nvSpPr>
            <p:spPr>
              <a:xfrm rot="9339600">
                <a:off x="7224840" y="5335920"/>
                <a:ext cx="21600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3880" y="3427200"/>
                <a:ext cx="158976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25600" y="3252240"/>
              <a:ext cx="158976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3880" y="1829880"/>
                <a:ext cx="158976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25600" y="1654560"/>
              <a:ext cx="158976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65240" y="2011320"/>
            <a:ext cx="1261800" cy="1013040"/>
            <a:chOff x="165240" y="2011320"/>
            <a:chExt cx="1261800" cy="1013040"/>
          </a:xfrm>
        </p:grpSpPr>
        <p:pic>
          <p:nvPicPr>
            <p:cNvPr id="283" name="Oval 41" descr=""/>
            <p:cNvPicPr/>
            <p:nvPr/>
          </p:nvPicPr>
          <p:blipFill>
            <a:blip r:embed="rId10"/>
            <a:stretch/>
          </p:blipFill>
          <p:spPr>
            <a:xfrm>
              <a:off x="165240" y="2011320"/>
              <a:ext cx="1261800" cy="101304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55440" y="3541680"/>
            <a:ext cx="1500120" cy="914400"/>
            <a:chOff x="-55440" y="3541680"/>
            <a:chExt cx="1500120" cy="914400"/>
          </a:xfrm>
        </p:grpSpPr>
        <p:pic>
          <p:nvPicPr>
            <p:cNvPr id="286" name="Oval 42" descr=""/>
            <p:cNvPicPr/>
            <p:nvPr/>
          </p:nvPicPr>
          <p:blipFill>
            <a:blip r:embed="rId11"/>
            <a:stretch/>
          </p:blipFill>
          <p:spPr>
            <a:xfrm>
              <a:off x="-55440" y="3541680"/>
              <a:ext cx="150012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63520" y="3571920"/>
            <a:ext cx="1255680" cy="622080"/>
            <a:chOff x="1163520" y="3571920"/>
            <a:chExt cx="1255680" cy="622080"/>
          </a:xfrm>
        </p:grpSpPr>
        <p:pic>
          <p:nvPicPr>
            <p:cNvPr id="289" name="Oval 43" descr=""/>
            <p:cNvPicPr/>
            <p:nvPr/>
          </p:nvPicPr>
          <p:blipFill>
            <a:blip r:embed="rId12"/>
            <a:stretch/>
          </p:blipFill>
          <p:spPr>
            <a:xfrm>
              <a:off x="1163520" y="3571920"/>
              <a:ext cx="1255680" cy="62208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82880"/>
            <a:ext cx="444600" cy="439920"/>
            <a:chOff x="2298600" y="2882880"/>
            <a:chExt cx="444600" cy="439920"/>
          </a:xfrm>
        </p:grpSpPr>
        <p:pic>
          <p:nvPicPr>
            <p:cNvPr id="292" name="Straight Connector 5" descr=""/>
            <p:cNvPicPr/>
            <p:nvPr/>
          </p:nvPicPr>
          <p:blipFill>
            <a:blip r:embed="rId13"/>
            <a:stretch/>
          </p:blipFill>
          <p:spPr>
            <a:xfrm>
              <a:off x="2298600" y="2882880"/>
              <a:ext cx="444600" cy="43992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14360" cy="407880"/>
            <a:chOff x="6205680" y="2359080"/>
            <a:chExt cx="414360" cy="407880"/>
          </a:xfrm>
        </p:grpSpPr>
        <p:pic>
          <p:nvPicPr>
            <p:cNvPr id="295" name="Straight Connector 5" descr=""/>
            <p:cNvPicPr/>
            <p:nvPr/>
          </p:nvPicPr>
          <p:blipFill>
            <a:blip r:embed="rId14"/>
            <a:stretch/>
          </p:blipFill>
          <p:spPr>
            <a:xfrm>
              <a:off x="6205680" y="2359080"/>
              <a:ext cx="414360" cy="40788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602160"/>
            <a:ext cx="408240" cy="390240"/>
            <a:chOff x="6278400" y="3602160"/>
            <a:chExt cx="408240" cy="390240"/>
          </a:xfrm>
        </p:grpSpPr>
        <p:pic>
          <p:nvPicPr>
            <p:cNvPr id="298" name="Straight Connector 5" descr=""/>
            <p:cNvPicPr/>
            <p:nvPr/>
          </p:nvPicPr>
          <p:blipFill>
            <a:blip r:embed="rId15"/>
            <a:stretch/>
          </p:blipFill>
          <p:spPr>
            <a:xfrm>
              <a:off x="6278400" y="3602160"/>
              <a:ext cx="408240" cy="39024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90440" y="2011320"/>
            <a:ext cx="1403640" cy="811080"/>
            <a:chOff x="1090440" y="2011320"/>
            <a:chExt cx="1403640" cy="811080"/>
          </a:xfrm>
        </p:grpSpPr>
        <p:pic>
          <p:nvPicPr>
            <p:cNvPr id="301" name="Oval 58" descr=""/>
            <p:cNvPicPr/>
            <p:nvPr/>
          </p:nvPicPr>
          <p:blipFill>
            <a:blip r:embed="rId16"/>
            <a:stretch/>
          </p:blipFill>
          <p:spPr>
            <a:xfrm>
              <a:off x="1090440" y="2011320"/>
              <a:ext cx="1403640" cy="81108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19600"/>
              <a:chOff x="4989600" y="1177920"/>
              <a:chExt cx="2460960" cy="1119600"/>
            </a:xfrm>
          </p:grpSpPr>
          <p:grpSp>
            <p:nvGrpSpPr>
              <p:cNvPr id="305" name="Oval 46"/>
              <p:cNvGrpSpPr/>
              <p:nvPr/>
            </p:nvGrpSpPr>
            <p:grpSpPr>
              <a:xfrm>
                <a:off x="4989600" y="1177920"/>
                <a:ext cx="2460960" cy="1119600"/>
                <a:chOff x="4989600" y="1177920"/>
                <a:chExt cx="2460960" cy="1119600"/>
              </a:xfrm>
            </p:grpSpPr>
            <p:pic>
              <p:nvPicPr>
                <p:cNvPr id="306" name="Oval 46" descr=""/>
                <p:cNvPicPr/>
                <p:nvPr/>
              </p:nvPicPr>
              <p:blipFill>
                <a:blip r:embed="rId17"/>
                <a:stretch/>
              </p:blipFill>
              <p:spPr>
                <a:xfrm>
                  <a:off x="4989600" y="1177920"/>
                  <a:ext cx="2460960" cy="1119600"/>
                </a:xfrm>
                <a:prstGeom prst="rect">
                  <a:avLst/>
                </a:prstGeom>
                <a:ln w="0">
                  <a:noFill/>
                </a:ln>
              </p:spPr>
            </p:pic>
            <p:sp>
              <p:nvSpPr>
                <p:cNvPr id="307" name=""/>
                <p:cNvSpPr/>
                <p:nvPr/>
              </p:nvSpPr>
              <p:spPr>
                <a:xfrm>
                  <a:off x="5388480" y="1354680"/>
                  <a:ext cx="1665360" cy="72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57440" y="1275840"/>
                <a:ext cx="1911960" cy="178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10480" y="1395360"/>
              <a:ext cx="1449720" cy="414000"/>
              <a:chOff x="5010480" y="1395360"/>
              <a:chExt cx="1449720" cy="414000"/>
            </a:xfrm>
          </p:grpSpPr>
          <p:pic>
            <p:nvPicPr>
              <p:cNvPr id="310" name="Oval 48" descr=""/>
              <p:cNvPicPr/>
              <p:nvPr/>
            </p:nvPicPr>
            <p:blipFill>
              <a:blip r:embed="rId18"/>
              <a:stretch/>
            </p:blipFill>
            <p:spPr>
              <a:xfrm>
                <a:off x="5010480" y="1395360"/>
                <a:ext cx="1449720" cy="414000"/>
              </a:xfrm>
              <a:prstGeom prst="rect">
                <a:avLst/>
              </a:prstGeom>
              <a:ln w="0">
                <a:noFill/>
              </a:ln>
            </p:spPr>
          </p:pic>
          <p:sp>
            <p:nvSpPr>
              <p:cNvPr id="311" name=""/>
              <p:cNvSpPr/>
              <p:nvPr/>
            </p:nvSpPr>
            <p:spPr>
              <a:xfrm>
                <a:off x="5260320" y="1471680"/>
                <a:ext cx="949320" cy="21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7360" y="1848600"/>
              <a:ext cx="1521000" cy="548640"/>
              <a:chOff x="5607360" y="1848600"/>
              <a:chExt cx="1521000" cy="548640"/>
            </a:xfrm>
          </p:grpSpPr>
          <p:pic>
            <p:nvPicPr>
              <p:cNvPr id="313" name="Oval 57" descr=""/>
              <p:cNvPicPr/>
              <p:nvPr/>
            </p:nvPicPr>
            <p:blipFill>
              <a:blip r:embed="rId19"/>
              <a:stretch/>
            </p:blipFill>
            <p:spPr>
              <a:xfrm>
                <a:off x="5607360" y="1848600"/>
                <a:ext cx="1521000" cy="548640"/>
              </a:xfrm>
              <a:prstGeom prst="rect">
                <a:avLst/>
              </a:prstGeom>
              <a:ln w="0">
                <a:noFill/>
              </a:ln>
            </p:spPr>
          </p:pic>
          <p:sp>
            <p:nvSpPr>
              <p:cNvPr id="314" name=""/>
              <p:cNvSpPr/>
              <p:nvPr/>
            </p:nvSpPr>
            <p:spPr>
              <a:xfrm>
                <a:off x="5868000" y="1928520"/>
                <a:ext cx="1001880" cy="24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54480" y="1501560"/>
              <a:ext cx="1449720" cy="537120"/>
              <a:chOff x="6054480" y="1501560"/>
              <a:chExt cx="1449720" cy="537120"/>
            </a:xfrm>
          </p:grpSpPr>
          <p:pic>
            <p:nvPicPr>
              <p:cNvPr id="316" name="Oval 60" descr=""/>
              <p:cNvPicPr/>
              <p:nvPr/>
            </p:nvPicPr>
            <p:blipFill>
              <a:blip r:embed="rId20"/>
              <a:stretch/>
            </p:blipFill>
            <p:spPr>
              <a:xfrm>
                <a:off x="6054480" y="1501560"/>
                <a:ext cx="1449720" cy="537120"/>
              </a:xfrm>
              <a:prstGeom prst="rect">
                <a:avLst/>
              </a:prstGeom>
              <a:ln w="0">
                <a:noFill/>
              </a:ln>
            </p:spPr>
          </p:pic>
          <p:sp>
            <p:nvSpPr>
              <p:cNvPr id="317" name=""/>
              <p:cNvSpPr/>
              <p:nvPr/>
            </p:nvSpPr>
            <p:spPr>
              <a:xfrm>
                <a:off x="6304320" y="1573920"/>
                <a:ext cx="949320" cy="22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82120" y="1641600"/>
              <a:ext cx="1151280" cy="682920"/>
              <a:chOff x="5082120" y="1641600"/>
              <a:chExt cx="1151280" cy="682920"/>
            </a:xfrm>
          </p:grpSpPr>
          <p:pic>
            <p:nvPicPr>
              <p:cNvPr id="319" name="Oval 49" descr=""/>
              <p:cNvPicPr/>
              <p:nvPr/>
            </p:nvPicPr>
            <p:blipFill>
              <a:blip r:embed="rId21"/>
              <a:stretch/>
            </p:blipFill>
            <p:spPr>
              <a:xfrm>
                <a:off x="5082120" y="1641600"/>
                <a:ext cx="1151280" cy="682920"/>
              </a:xfrm>
              <a:prstGeom prst="rect">
                <a:avLst/>
              </a:prstGeom>
              <a:ln w="0">
                <a:noFill/>
              </a:ln>
            </p:spPr>
          </p:pic>
          <p:sp>
            <p:nvSpPr>
              <p:cNvPr id="320" name=""/>
              <p:cNvSpPr/>
              <p:nvPr/>
            </p:nvSpPr>
            <p:spPr>
              <a:xfrm>
                <a:off x="5291280" y="1718640"/>
                <a:ext cx="738360" cy="24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90440" y="4011480"/>
            <a:ext cx="1116360" cy="828720"/>
            <a:chOff x="1090440" y="4011480"/>
            <a:chExt cx="1116360" cy="828720"/>
          </a:xfrm>
        </p:grpSpPr>
        <p:pic>
          <p:nvPicPr>
            <p:cNvPr id="322" name="Oval 61" descr=""/>
            <p:cNvPicPr/>
            <p:nvPr/>
          </p:nvPicPr>
          <p:blipFill>
            <a:blip r:embed="rId22"/>
            <a:stretch/>
          </p:blipFill>
          <p:spPr>
            <a:xfrm>
              <a:off x="1090440" y="4011480"/>
              <a:ext cx="1116360" cy="82872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89240" y="1921680"/>
                  <a:ext cx="154656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67920" y="1695240"/>
                <a:ext cx="177552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9960" y="2048400"/>
              <a:ext cx="1249920" cy="719280"/>
              <a:chOff x="2919960" y="2048400"/>
              <a:chExt cx="1249920" cy="719280"/>
            </a:xfrm>
          </p:grpSpPr>
          <p:pic>
            <p:nvPicPr>
              <p:cNvPr id="331" name="Oval 18" descr=""/>
              <p:cNvPicPr/>
              <p:nvPr/>
            </p:nvPicPr>
            <p:blipFill>
              <a:blip r:embed="rId24"/>
              <a:stretch/>
            </p:blipFill>
            <p:spPr>
              <a:xfrm>
                <a:off x="2919960" y="2048400"/>
                <a:ext cx="1249920" cy="719280"/>
              </a:xfrm>
              <a:prstGeom prst="rect">
                <a:avLst/>
              </a:prstGeom>
              <a:ln w="0">
                <a:noFill/>
              </a:ln>
            </p:spPr>
          </p:pic>
          <p:sp>
            <p:nvSpPr>
              <p:cNvPr id="332" name=""/>
              <p:cNvSpPr/>
              <p:nvPr/>
            </p:nvSpPr>
            <p:spPr>
              <a:xfrm>
                <a:off x="3139200" y="216324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40760" y="2639880"/>
              <a:ext cx="1408320" cy="865800"/>
              <a:chOff x="2840760" y="2639880"/>
              <a:chExt cx="1408320" cy="865800"/>
            </a:xfrm>
          </p:grpSpPr>
          <p:pic>
            <p:nvPicPr>
              <p:cNvPr id="334" name="Oval 23" descr=""/>
              <p:cNvPicPr/>
              <p:nvPr/>
            </p:nvPicPr>
            <p:blipFill>
              <a:blip r:embed="rId25"/>
              <a:stretch/>
            </p:blipFill>
            <p:spPr>
              <a:xfrm>
                <a:off x="2840760" y="2639880"/>
                <a:ext cx="1408320" cy="865800"/>
              </a:xfrm>
              <a:prstGeom prst="rect">
                <a:avLst/>
              </a:prstGeom>
              <a:ln w="0">
                <a:noFill/>
              </a:ln>
            </p:spPr>
          </p:pic>
          <p:sp>
            <p:nvSpPr>
              <p:cNvPr id="335" name=""/>
              <p:cNvSpPr/>
              <p:nvPr/>
            </p:nvSpPr>
            <p:spPr>
              <a:xfrm>
                <a:off x="3085200" y="2764080"/>
                <a:ext cx="916200" cy="46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55160" y="2182320"/>
              <a:ext cx="1335240" cy="981360"/>
              <a:chOff x="3755160" y="2182320"/>
              <a:chExt cx="1335240" cy="981360"/>
            </a:xfrm>
          </p:grpSpPr>
          <p:pic>
            <p:nvPicPr>
              <p:cNvPr id="337" name="Oval 59" descr=""/>
              <p:cNvPicPr/>
              <p:nvPr/>
            </p:nvPicPr>
            <p:blipFill>
              <a:blip r:embed="rId26"/>
              <a:stretch/>
            </p:blipFill>
            <p:spPr>
              <a:xfrm>
                <a:off x="3755160" y="2182320"/>
                <a:ext cx="1335240" cy="981360"/>
              </a:xfrm>
              <a:prstGeom prst="rect">
                <a:avLst/>
              </a:prstGeom>
              <a:ln w="0">
                <a:noFill/>
              </a:ln>
            </p:spPr>
          </p:pic>
          <p:sp>
            <p:nvSpPr>
              <p:cNvPr id="338" name=""/>
              <p:cNvSpPr/>
              <p:nvPr/>
            </p:nvSpPr>
            <p:spPr>
              <a:xfrm>
                <a:off x="3989880" y="233784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9320" y="274680"/>
            <a:ext cx="7924680" cy="79200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4971-DB40-4F45-9DEB-8906923E5AB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9320" y="274680"/>
            <a:ext cx="7924680" cy="82224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10E4-A4ED-449C-A8F3-BA84D83DE6A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9320" y="268200"/>
            <a:ext cx="7924680" cy="86544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0A40-6084-4166-8EE1-3DF35E11BDB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9320" y="334800"/>
            <a:ext cx="7924680" cy="96372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C925-1344-4EB0-9196-5C5D70E0F5A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9320" y="274680"/>
            <a:ext cx="7924680" cy="79200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A8D5-6BDE-4B54-B831-5C78B0DEC92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9320" y="274680"/>
            <a:ext cx="7924680" cy="79200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4579-DCB6-433F-89CC-21878F68021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9320" y="274680"/>
            <a:ext cx="7924680" cy="79200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9B0A-7DC3-4A17-A9BB-AFC116458F2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9320" y="274680"/>
            <a:ext cx="7924680" cy="79200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3C41-D491-45BE-9B2B-446F0552421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9320" y="274680"/>
            <a:ext cx="7924680" cy="79200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B72C-937B-46AD-AEC8-E6770E8E6AD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E050-879B-482E-9D73-0FFD11636ACA}"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45C2-797A-4D71-9D04-BD56F329AD8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25440" y="274680"/>
            <a:ext cx="7918560" cy="79200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9320" y="274680"/>
            <a:ext cx="7924680" cy="79200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8FCA-7A4D-451C-B74B-A0E5A875F0F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CCA8-CEDF-4CEF-BD00-E9A7F64234B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ahLst/>
            <a:rect l="l" t="t" r="r" b="b"/>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8360" y="1073160"/>
            <a:ext cx="1352880" cy="963720"/>
            <a:chOff x="3438360" y="1073160"/>
            <a:chExt cx="1352880" cy="963720"/>
          </a:xfrm>
        </p:grpSpPr>
        <p:pic>
          <p:nvPicPr>
            <p:cNvPr id="206" name="Flowchart: Decision 121" descr=""/>
            <p:cNvPicPr/>
            <p:nvPr/>
          </p:nvPicPr>
          <p:blipFill>
            <a:blip r:embed="rId5"/>
            <a:stretch/>
          </p:blipFill>
          <p:spPr>
            <a:xfrm>
              <a:off x="3438360" y="1073160"/>
              <a:ext cx="1352880" cy="96372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9320" y="274680"/>
            <a:ext cx="7924680" cy="79200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34E7-A59B-49F8-AD87-65ADD73890F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219320" y="274680"/>
            <a:ext cx="7924680" cy="79200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F13F-FC77-48D8-9424-313A32D16BB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9320" y="268200"/>
            <a:ext cx="7924680" cy="79848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3FDA-7DF7-447C-BE7B-E07EEFD7156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9320" y="274680"/>
            <a:ext cx="7924680" cy="79200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1AFB-524A-461A-883E-7C00367B733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Lisa</cp:lastModifiedBy>
  <dcterms:modified xsi:type="dcterms:W3CDTF">2012-04-23T02:12:36Z</dcterms:modified>
  <cp:revision>399</cp:revision>
  <dc:subject/>
  <dc:title>Slide 1</dc:title>
</cp:coreProperties>
</file>