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B269-8191-4853-B08F-91E7DB84EE85}"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gé de l'évaluation</a:t>
            </a: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373A-FB0F-4CAE-8DAA-E462710AA0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A4CE-5508-4B9D-BBC9-5B599BFE0B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2CC6-17BD-40D4-B045-F8C0A328A7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C281-6DB8-4222-BA07-D166D1DF30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CB25-C2B1-4937-B18E-AA413D4EB5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FDD5-9F66-40FB-B139-3359A1A91B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F4E9-D9BA-4C58-9568-B5CB94DCAB4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4EBA-075A-4AC9-A036-DB93ED9D7D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13CA-1139-4AB7-921B-E93E8877FDB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3E00-5B99-4097-A513-C2C3AE70A9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F6128-865B-44F1-B717-199067A5C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91451-A173-4880-AF50-2A4538BC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07C4-5C93-4A68-8C84-15C5BDD9B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55068-2F37-47DB-9350-B6A8CA294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9A458-4342-4F2F-8540-386D4E646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7BAE2-038C-48A8-B0F6-599B5D1B3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07034-4F18-49EB-ABA7-9072AF543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5F1A-0182-4761-AB6C-711D69645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8A2ED-E3DA-4D69-A9BE-B8F7332D2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1B15B-3EB6-4719-9725-60009174E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E8041-BC52-467F-8D4A-78637E12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A9B7B-2E3C-462C-A7C2-EFB1650A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BB5B-9FF4-4DA9-8A62-C64E33E0B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FEE42-1AF1-4013-8071-693FC2D4C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B0885-FB4E-4A5F-B108-A3C2C49AF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4A8F4-2694-47A7-91BF-A172E3056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C04D3-CC42-4334-ABFA-8AACB9479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80D737-B641-4EC5-A020-653144785C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8B195C-AC06-4CC6-98B2-75BD19B27B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19B4D4-9E0A-4D8C-92ED-4D2CB661F2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3A3F3F-6252-4EFC-9C18-5368FC1239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8A76D8-4D14-4096-9006-E8E10BA97E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FFE0-4CC5-4CD3-9D1A-63ECE3B8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0B78BF-4494-4256-9D92-25490C57E5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F46CEF-CA05-4CAD-A689-5FDCC0FFEA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0AC17D-CCBD-481B-AF0E-30FCBAFBF1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DD100D-0659-4CE6-B401-F49888535E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2EA26F-D098-4C85-8E67-0E8ED67A87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266972-7DE3-4BB5-9838-1671C98388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D4D87B-FC9E-4F1E-9ECD-56851F720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EDA3-96C1-4DD7-AEDE-220B3BBD8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93772-8CAC-47DC-A43E-AF5F261F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CB35-8E97-4592-99EA-5FB5641D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A0A8-CF7E-4C34-BEB5-31E6ACDD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F724-2648-4E5C-9F3F-54B6C2B2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7D561-431C-4C50-93D8-E9B54EB84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8372-CD76-485B-A45B-841527E52EB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DEA4-2331-4F42-8E65-84785A9C44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C996-9C7F-49F5-8F58-912EF60E132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1DA4-45A8-4351-B5DB-D314BB89DD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A018-736F-4CC1-9D77-CD1D8365937D}"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44680" y="2401920"/>
            <a:ext cx="6334200" cy="3627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2840" y="195120"/>
            <a:ext cx="7937640" cy="87804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DE54-1B63-4D5F-8DE0-2AD2DD0C8F6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1E5B-CBDF-4D71-95DB-6EF345475C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2840" y="268200"/>
            <a:ext cx="7937640" cy="80496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7066-16B4-4C8B-9C87-35BEBAA32E0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2840" y="225360"/>
            <a:ext cx="7937640" cy="112716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F0EC-E6C4-48ED-8CB4-45C27281CC2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2840" y="109440"/>
            <a:ext cx="7937640" cy="101772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0200" y="2625840"/>
              <a:ext cx="2626560" cy="1108080"/>
              <a:chOff x="5200200" y="2625840"/>
              <a:chExt cx="2626560" cy="1108080"/>
            </a:xfrm>
          </p:grpSpPr>
          <p:pic>
            <p:nvPicPr>
              <p:cNvPr id="241" name="Oval 45" descr=""/>
              <p:cNvPicPr/>
              <p:nvPr/>
            </p:nvPicPr>
            <p:blipFill>
              <a:blip r:embed="rId1"/>
              <a:stretch/>
            </p:blipFill>
            <p:spPr>
              <a:xfrm>
                <a:off x="5200200" y="2625840"/>
                <a:ext cx="2626560" cy="1108080"/>
              </a:xfrm>
              <a:prstGeom prst="rect">
                <a:avLst/>
              </a:prstGeom>
              <a:ln w="0">
                <a:noFill/>
              </a:ln>
            </p:spPr>
          </p:pic>
          <p:sp>
            <p:nvSpPr>
              <p:cNvPr id="242" name=""/>
              <p:cNvSpPr/>
              <p:nvPr/>
            </p:nvSpPr>
            <p:spPr>
              <a:xfrm>
                <a:off x="5886360" y="29088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902680"/>
              <a:ext cx="2285280" cy="546840"/>
              <a:chOff x="5562720" y="2902680"/>
              <a:chExt cx="2285280" cy="546840"/>
            </a:xfrm>
          </p:grpSpPr>
          <p:pic>
            <p:nvPicPr>
              <p:cNvPr id="244" name="Oval 7" descr=""/>
              <p:cNvPicPr/>
              <p:nvPr/>
            </p:nvPicPr>
            <p:blipFill>
              <a:blip r:embed="rId2"/>
              <a:stretch/>
            </p:blipFill>
            <p:spPr>
              <a:xfrm>
                <a:off x="5562720" y="2902680"/>
                <a:ext cx="2202840" cy="281520"/>
              </a:xfrm>
              <a:prstGeom prst="rect">
                <a:avLst/>
              </a:prstGeom>
              <a:ln w="0">
                <a:noFill/>
              </a:ln>
            </p:spPr>
          </p:pic>
          <p:pic>
            <p:nvPicPr>
              <p:cNvPr id="245" name="Oval 7" descr=""/>
              <p:cNvPicPr/>
              <p:nvPr/>
            </p:nvPicPr>
            <p:blipFill>
              <a:blip r:embed="rId3"/>
              <a:stretch/>
            </p:blipFill>
            <p:spPr>
              <a:xfrm>
                <a:off x="5633280" y="3038040"/>
                <a:ext cx="2214720" cy="276120"/>
              </a:xfrm>
              <a:prstGeom prst="rect">
                <a:avLst/>
              </a:prstGeom>
              <a:ln w="0">
                <a:noFill/>
              </a:ln>
            </p:spPr>
          </p:pic>
          <p:pic>
            <p:nvPicPr>
              <p:cNvPr id="246" name="Oval 7" descr=""/>
              <p:cNvPicPr/>
              <p:nvPr/>
            </p:nvPicPr>
            <p:blipFill>
              <a:blip r:embed="rId4"/>
              <a:stretch/>
            </p:blipFill>
            <p:spPr>
              <a:xfrm>
                <a:off x="5568480" y="3173400"/>
                <a:ext cx="2261880" cy="276120"/>
              </a:xfrm>
              <a:prstGeom prst="rect">
                <a:avLst/>
              </a:prstGeom>
              <a:ln w="0">
                <a:noFill/>
              </a:ln>
            </p:spPr>
          </p:pic>
        </p:grpSp>
        <p:sp>
          <p:nvSpPr>
            <p:cNvPr id="247" name="Rectangle 62"/>
            <p:cNvSpPr/>
            <p:nvPr/>
          </p:nvSpPr>
          <p:spPr>
            <a:xfrm>
              <a:off x="5189760" y="27640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2200"/>
            <a:chOff x="3597120" y="3078000"/>
            <a:chExt cx="5370840" cy="1762200"/>
          </a:xfrm>
        </p:grpSpPr>
        <p:pic>
          <p:nvPicPr>
            <p:cNvPr id="252" name="Right Triangle 8" descr=""/>
            <p:cNvPicPr/>
            <p:nvPr/>
          </p:nvPicPr>
          <p:blipFill>
            <a:blip r:embed="rId5"/>
            <a:stretch/>
          </p:blipFill>
          <p:spPr>
            <a:xfrm>
              <a:off x="3597120" y="3078000"/>
              <a:ext cx="5370840" cy="176220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5320"/>
            <a:ext cx="5059440" cy="1218960"/>
            <a:chOff x="3998880" y="3505320"/>
            <a:chExt cx="5059440" cy="1218960"/>
          </a:xfrm>
        </p:grpSpPr>
        <p:grpSp>
          <p:nvGrpSpPr>
            <p:cNvPr id="260" name="Right Triangle 21"/>
            <p:cNvGrpSpPr/>
            <p:nvPr/>
          </p:nvGrpSpPr>
          <p:grpSpPr>
            <a:xfrm>
              <a:off x="3998880" y="3548160"/>
              <a:ext cx="4993560" cy="1176120"/>
              <a:chOff x="3998880" y="3548160"/>
              <a:chExt cx="4993560" cy="1176120"/>
            </a:xfrm>
          </p:grpSpPr>
          <p:pic>
            <p:nvPicPr>
              <p:cNvPr id="261" name="Right Triangle 21" descr=""/>
              <p:cNvPicPr/>
              <p:nvPr/>
            </p:nvPicPr>
            <p:blipFill>
              <a:blip r:embed="rId6"/>
              <a:stretch/>
            </p:blipFill>
            <p:spPr>
              <a:xfrm>
                <a:off x="3998880" y="3548160"/>
                <a:ext cx="4993560" cy="1176120"/>
              </a:xfrm>
              <a:prstGeom prst="rect">
                <a:avLst/>
              </a:prstGeom>
              <a:ln w="0">
                <a:noFill/>
              </a:ln>
            </p:spPr>
          </p:pic>
          <p:sp>
            <p:nvSpPr>
              <p:cNvPr id="262" name=""/>
              <p:cNvSpPr/>
              <p:nvPr/>
            </p:nvSpPr>
            <p:spPr>
              <a:xfrm rot="16200000">
                <a:off x="7446600" y="3478680"/>
                <a:ext cx="538200" cy="162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7320" y="3878280"/>
              <a:ext cx="3242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7840" cy="378720"/>
              <a:chOff x="7148520" y="5266440"/>
              <a:chExt cx="357840" cy="378720"/>
            </a:xfrm>
          </p:grpSpPr>
          <p:pic>
            <p:nvPicPr>
              <p:cNvPr id="266" name="Straight Connector 5" descr=""/>
              <p:cNvPicPr/>
              <p:nvPr/>
            </p:nvPicPr>
            <p:blipFill>
              <a:blip r:embed="rId7"/>
              <a:stretch/>
            </p:blipFill>
            <p:spPr>
              <a:xfrm>
                <a:off x="7148520" y="5266440"/>
                <a:ext cx="357840" cy="378720"/>
              </a:xfrm>
              <a:prstGeom prst="rect">
                <a:avLst/>
              </a:prstGeom>
              <a:ln w="0">
                <a:noFill/>
              </a:ln>
            </p:spPr>
          </p:pic>
          <p:sp>
            <p:nvSpPr>
              <p:cNvPr id="267" name=""/>
              <p:cNvSpPr/>
              <p:nvPr/>
            </p:nvSpPr>
            <p:spPr>
              <a:xfrm rot="9339600">
                <a:off x="7224480" y="5335920"/>
                <a:ext cx="21564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8560" y="343296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30640" y="325764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8560" y="183564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30640" y="166032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58760" y="2004840"/>
            <a:ext cx="1268280" cy="951120"/>
            <a:chOff x="158760" y="2004840"/>
            <a:chExt cx="1268280" cy="951120"/>
          </a:xfrm>
        </p:grpSpPr>
        <p:pic>
          <p:nvPicPr>
            <p:cNvPr id="283" name="Oval 41" descr=""/>
            <p:cNvPicPr/>
            <p:nvPr/>
          </p:nvPicPr>
          <p:blipFill>
            <a:blip r:embed="rId10"/>
            <a:stretch/>
          </p:blipFill>
          <p:spPr>
            <a:xfrm>
              <a:off x="158760" y="2004840"/>
              <a:ext cx="1268280" cy="95112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60480" y="3535200"/>
            <a:ext cx="1505160" cy="914400"/>
            <a:chOff x="-60480" y="3535200"/>
            <a:chExt cx="1505160" cy="914400"/>
          </a:xfrm>
        </p:grpSpPr>
        <p:pic>
          <p:nvPicPr>
            <p:cNvPr id="286" name="Oval 42" descr=""/>
            <p:cNvPicPr/>
            <p:nvPr/>
          </p:nvPicPr>
          <p:blipFill>
            <a:blip r:embed="rId11"/>
            <a:stretch/>
          </p:blipFill>
          <p:spPr>
            <a:xfrm>
              <a:off x="-60480" y="3535200"/>
              <a:ext cx="150516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58840" y="3565440"/>
            <a:ext cx="1260360" cy="622440"/>
            <a:chOff x="1158840" y="3565440"/>
            <a:chExt cx="1260360" cy="622440"/>
          </a:xfrm>
        </p:grpSpPr>
        <p:pic>
          <p:nvPicPr>
            <p:cNvPr id="289" name="Oval 43" descr=""/>
            <p:cNvPicPr/>
            <p:nvPr/>
          </p:nvPicPr>
          <p:blipFill>
            <a:blip r:embed="rId12"/>
            <a:stretch/>
          </p:blipFill>
          <p:spPr>
            <a:xfrm>
              <a:off x="1158840" y="3565440"/>
              <a:ext cx="1260360" cy="62244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76400"/>
            <a:ext cx="451080" cy="446400"/>
            <a:chOff x="2298600" y="2876400"/>
            <a:chExt cx="451080" cy="446400"/>
          </a:xfrm>
        </p:grpSpPr>
        <p:pic>
          <p:nvPicPr>
            <p:cNvPr id="292" name="Straight Connector 5" descr=""/>
            <p:cNvPicPr/>
            <p:nvPr/>
          </p:nvPicPr>
          <p:blipFill>
            <a:blip r:embed="rId13"/>
            <a:stretch/>
          </p:blipFill>
          <p:spPr>
            <a:xfrm>
              <a:off x="2298600" y="2876400"/>
              <a:ext cx="451080" cy="44640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20480" cy="414360"/>
            <a:chOff x="6205680" y="2359080"/>
            <a:chExt cx="420480" cy="414360"/>
          </a:xfrm>
        </p:grpSpPr>
        <p:pic>
          <p:nvPicPr>
            <p:cNvPr id="295" name="Straight Connector 5" descr=""/>
            <p:cNvPicPr/>
            <p:nvPr/>
          </p:nvPicPr>
          <p:blipFill>
            <a:blip r:embed="rId14"/>
            <a:stretch/>
          </p:blipFill>
          <p:spPr>
            <a:xfrm>
              <a:off x="6205680" y="2359080"/>
              <a:ext cx="420480" cy="41436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597120"/>
            <a:ext cx="414360" cy="395280"/>
            <a:chOff x="6278400" y="3597120"/>
            <a:chExt cx="414360" cy="395280"/>
          </a:xfrm>
        </p:grpSpPr>
        <p:pic>
          <p:nvPicPr>
            <p:cNvPr id="298" name="Straight Connector 5" descr=""/>
            <p:cNvPicPr/>
            <p:nvPr/>
          </p:nvPicPr>
          <p:blipFill>
            <a:blip r:embed="rId15"/>
            <a:stretch/>
          </p:blipFill>
          <p:spPr>
            <a:xfrm>
              <a:off x="6278400" y="3597120"/>
              <a:ext cx="414360" cy="39528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85760" y="2004840"/>
            <a:ext cx="1408320" cy="811440"/>
            <a:chOff x="1085760" y="2004840"/>
            <a:chExt cx="1408320" cy="811440"/>
          </a:xfrm>
        </p:grpSpPr>
        <p:pic>
          <p:nvPicPr>
            <p:cNvPr id="301" name="Oval 58" descr=""/>
            <p:cNvPicPr/>
            <p:nvPr/>
          </p:nvPicPr>
          <p:blipFill>
            <a:blip r:embed="rId16"/>
            <a:stretch/>
          </p:blipFill>
          <p:spPr>
            <a:xfrm>
              <a:off x="1085760" y="2004840"/>
              <a:ext cx="1408320" cy="81144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96280"/>
              <a:chOff x="4989600" y="1177920"/>
              <a:chExt cx="2460960" cy="1196280"/>
            </a:xfrm>
          </p:grpSpPr>
          <p:grpSp>
            <p:nvGrpSpPr>
              <p:cNvPr id="305" name="Oval 46"/>
              <p:cNvGrpSpPr/>
              <p:nvPr/>
            </p:nvGrpSpPr>
            <p:grpSpPr>
              <a:xfrm>
                <a:off x="4989600" y="1177920"/>
                <a:ext cx="2460960" cy="1196280"/>
                <a:chOff x="4989600" y="1177920"/>
                <a:chExt cx="2460960" cy="1196280"/>
              </a:xfrm>
            </p:grpSpPr>
            <p:pic>
              <p:nvPicPr>
                <p:cNvPr id="306" name="Oval 46" descr=""/>
                <p:cNvPicPr/>
                <p:nvPr/>
              </p:nvPicPr>
              <p:blipFill>
                <a:blip r:embed="rId17"/>
                <a:stretch/>
              </p:blipFill>
              <p:spPr>
                <a:xfrm>
                  <a:off x="4989600" y="1177920"/>
                  <a:ext cx="2460960" cy="1196280"/>
                </a:xfrm>
                <a:prstGeom prst="rect">
                  <a:avLst/>
                </a:prstGeom>
                <a:ln w="0">
                  <a:noFill/>
                </a:ln>
              </p:spPr>
            </p:pic>
            <p:sp>
              <p:nvSpPr>
                <p:cNvPr id="307" name=""/>
                <p:cNvSpPr/>
                <p:nvPr/>
              </p:nvSpPr>
              <p:spPr>
                <a:xfrm>
                  <a:off x="5393160" y="1372320"/>
                  <a:ext cx="1661760" cy="77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62480" y="1288080"/>
                <a:ext cx="1907640" cy="19080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04720" y="1404360"/>
              <a:ext cx="1455480" cy="442440"/>
              <a:chOff x="5004720" y="1404360"/>
              <a:chExt cx="1455480" cy="442440"/>
            </a:xfrm>
          </p:grpSpPr>
          <p:pic>
            <p:nvPicPr>
              <p:cNvPr id="310" name="Oval 48" descr=""/>
              <p:cNvPicPr/>
              <p:nvPr/>
            </p:nvPicPr>
            <p:blipFill>
              <a:blip r:embed="rId18"/>
              <a:stretch/>
            </p:blipFill>
            <p:spPr>
              <a:xfrm>
                <a:off x="5004720" y="1404360"/>
                <a:ext cx="1455480" cy="442440"/>
              </a:xfrm>
              <a:prstGeom prst="rect">
                <a:avLst/>
              </a:prstGeom>
              <a:ln w="0">
                <a:noFill/>
              </a:ln>
            </p:spPr>
          </p:pic>
          <p:sp>
            <p:nvSpPr>
              <p:cNvPr id="311" name=""/>
              <p:cNvSpPr/>
              <p:nvPr/>
            </p:nvSpPr>
            <p:spPr>
              <a:xfrm>
                <a:off x="5260680" y="1491840"/>
                <a:ext cx="948960" cy="23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1240" y="1888920"/>
              <a:ext cx="1527120" cy="508320"/>
              <a:chOff x="5601240" y="1888920"/>
              <a:chExt cx="1527120" cy="508320"/>
            </a:xfrm>
          </p:grpSpPr>
          <p:pic>
            <p:nvPicPr>
              <p:cNvPr id="313" name="Oval 57" descr=""/>
              <p:cNvPicPr/>
              <p:nvPr/>
            </p:nvPicPr>
            <p:blipFill>
              <a:blip r:embed="rId19"/>
              <a:stretch/>
            </p:blipFill>
            <p:spPr>
              <a:xfrm>
                <a:off x="5601240" y="1888920"/>
                <a:ext cx="1527120" cy="508320"/>
              </a:xfrm>
              <a:prstGeom prst="rect">
                <a:avLst/>
              </a:prstGeom>
              <a:ln w="0">
                <a:noFill/>
              </a:ln>
            </p:spPr>
          </p:pic>
          <p:sp>
            <p:nvSpPr>
              <p:cNvPr id="314" name=""/>
              <p:cNvSpPr/>
              <p:nvPr/>
            </p:nvSpPr>
            <p:spPr>
              <a:xfrm>
                <a:off x="5868000" y="1980360"/>
                <a:ext cx="100188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48720" y="1517760"/>
              <a:ext cx="1455480" cy="502560"/>
              <a:chOff x="6048720" y="1517760"/>
              <a:chExt cx="1455480" cy="502560"/>
            </a:xfrm>
          </p:grpSpPr>
          <p:pic>
            <p:nvPicPr>
              <p:cNvPr id="316" name="Oval 60" descr=""/>
              <p:cNvPicPr/>
              <p:nvPr/>
            </p:nvPicPr>
            <p:blipFill>
              <a:blip r:embed="rId20"/>
              <a:stretch/>
            </p:blipFill>
            <p:spPr>
              <a:xfrm>
                <a:off x="6048720" y="1517760"/>
                <a:ext cx="1455480" cy="502560"/>
              </a:xfrm>
              <a:prstGeom prst="rect">
                <a:avLst/>
              </a:prstGeom>
              <a:ln w="0">
                <a:noFill/>
              </a:ln>
            </p:spPr>
          </p:pic>
          <p:sp>
            <p:nvSpPr>
              <p:cNvPr id="317" name=""/>
              <p:cNvSpPr/>
              <p:nvPr/>
            </p:nvSpPr>
            <p:spPr>
              <a:xfrm>
                <a:off x="6304680" y="1601280"/>
                <a:ext cx="94896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76360" y="1667520"/>
              <a:ext cx="1157400" cy="658080"/>
              <a:chOff x="5076360" y="1667520"/>
              <a:chExt cx="1157400" cy="658080"/>
            </a:xfrm>
          </p:grpSpPr>
          <p:pic>
            <p:nvPicPr>
              <p:cNvPr id="319" name="Oval 49" descr=""/>
              <p:cNvPicPr/>
              <p:nvPr/>
            </p:nvPicPr>
            <p:blipFill>
              <a:blip r:embed="rId21"/>
              <a:stretch/>
            </p:blipFill>
            <p:spPr>
              <a:xfrm>
                <a:off x="5076360" y="1667520"/>
                <a:ext cx="1157400" cy="658080"/>
              </a:xfrm>
              <a:prstGeom prst="rect">
                <a:avLst/>
              </a:prstGeom>
              <a:ln w="0">
                <a:noFill/>
              </a:ln>
            </p:spPr>
          </p:pic>
          <p:sp>
            <p:nvSpPr>
              <p:cNvPr id="320" name=""/>
              <p:cNvSpPr/>
              <p:nvPr/>
            </p:nvSpPr>
            <p:spPr>
              <a:xfrm>
                <a:off x="5291640" y="1755720"/>
                <a:ext cx="73836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85760" y="4005360"/>
            <a:ext cx="1121040" cy="768240"/>
            <a:chOff x="1085760" y="4005360"/>
            <a:chExt cx="1121040" cy="768240"/>
          </a:xfrm>
        </p:grpSpPr>
        <p:pic>
          <p:nvPicPr>
            <p:cNvPr id="322" name="Oval 61" descr=""/>
            <p:cNvPicPr/>
            <p:nvPr/>
          </p:nvPicPr>
          <p:blipFill>
            <a:blip r:embed="rId22"/>
            <a:stretch/>
          </p:blipFill>
          <p:spPr>
            <a:xfrm>
              <a:off x="1085760" y="4005360"/>
              <a:ext cx="1121040" cy="76824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94280" y="1927440"/>
                  <a:ext cx="154260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72960" y="1701360"/>
                <a:ext cx="177084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3840" y="2042280"/>
              <a:ext cx="1256040" cy="700920"/>
              <a:chOff x="2913840" y="2042280"/>
              <a:chExt cx="1256040" cy="700920"/>
            </a:xfrm>
          </p:grpSpPr>
          <p:pic>
            <p:nvPicPr>
              <p:cNvPr id="331" name="Oval 18" descr=""/>
              <p:cNvPicPr/>
              <p:nvPr/>
            </p:nvPicPr>
            <p:blipFill>
              <a:blip r:embed="rId24"/>
              <a:stretch/>
            </p:blipFill>
            <p:spPr>
              <a:xfrm>
                <a:off x="2913840" y="2042280"/>
                <a:ext cx="1256040" cy="700920"/>
              </a:xfrm>
              <a:prstGeom prst="rect">
                <a:avLst/>
              </a:prstGeom>
              <a:ln w="0">
                <a:noFill/>
              </a:ln>
            </p:spPr>
          </p:pic>
          <p:sp>
            <p:nvSpPr>
              <p:cNvPr id="332" name=""/>
              <p:cNvSpPr/>
              <p:nvPr/>
            </p:nvSpPr>
            <p:spPr>
              <a:xfrm>
                <a:off x="3139200" y="216288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34640" y="2633760"/>
              <a:ext cx="1414440" cy="798480"/>
              <a:chOff x="2834640" y="2633760"/>
              <a:chExt cx="1414440" cy="798480"/>
            </a:xfrm>
          </p:grpSpPr>
          <p:pic>
            <p:nvPicPr>
              <p:cNvPr id="334" name="Oval 23" descr=""/>
              <p:cNvPicPr/>
              <p:nvPr/>
            </p:nvPicPr>
            <p:blipFill>
              <a:blip r:embed="rId25"/>
              <a:stretch/>
            </p:blipFill>
            <p:spPr>
              <a:xfrm>
                <a:off x="2834640" y="2633760"/>
                <a:ext cx="1414440" cy="798480"/>
              </a:xfrm>
              <a:prstGeom prst="rect">
                <a:avLst/>
              </a:prstGeom>
              <a:ln w="0">
                <a:noFill/>
              </a:ln>
            </p:spPr>
          </p:pic>
          <p:sp>
            <p:nvSpPr>
              <p:cNvPr id="335" name=""/>
              <p:cNvSpPr/>
              <p:nvPr/>
            </p:nvSpPr>
            <p:spPr>
              <a:xfrm>
                <a:off x="3085200" y="2764080"/>
                <a:ext cx="916200" cy="4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49040" y="2176560"/>
              <a:ext cx="1341360" cy="981360"/>
              <a:chOff x="3749040" y="2176560"/>
              <a:chExt cx="1341360" cy="981360"/>
            </a:xfrm>
          </p:grpSpPr>
          <p:pic>
            <p:nvPicPr>
              <p:cNvPr id="337" name="Oval 59" descr=""/>
              <p:cNvPicPr/>
              <p:nvPr/>
            </p:nvPicPr>
            <p:blipFill>
              <a:blip r:embed="rId26"/>
              <a:stretch/>
            </p:blipFill>
            <p:spPr>
              <a:xfrm>
                <a:off x="3749040" y="2176560"/>
                <a:ext cx="1341360" cy="981360"/>
              </a:xfrm>
              <a:prstGeom prst="rect">
                <a:avLst/>
              </a:prstGeom>
              <a:ln w="0">
                <a:noFill/>
              </a:ln>
            </p:spPr>
          </p:pic>
          <p:sp>
            <p:nvSpPr>
              <p:cNvPr id="338" name=""/>
              <p:cNvSpPr/>
              <p:nvPr/>
            </p:nvSpPr>
            <p:spPr>
              <a:xfrm>
                <a:off x="3989880" y="233820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2840" y="268200"/>
            <a:ext cx="7937640" cy="80496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526D-9F1B-4C3F-877B-156CB6AFF45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2840" y="109440"/>
            <a:ext cx="7937640" cy="101772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C0FE-DE0F-4B40-8B28-2A9EE91B6CA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2840" y="42840"/>
            <a:ext cx="7937640" cy="112716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0F21-3FD9-4534-A1CC-D8A7304DC2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2840" y="128520"/>
            <a:ext cx="7937640" cy="117648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86FD-23F7-4E09-8667-39C0A38634B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6AF9-9E03-4E02-AE9A-687DC577079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2840" y="268200"/>
            <a:ext cx="7937640" cy="80496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4297-F5F3-4FF0-A55B-9DF508C4E96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2840" y="195120"/>
            <a:ext cx="7937640" cy="87804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37E7-A777-4254-86BA-2865A92C385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2840" y="244440"/>
            <a:ext cx="7937640" cy="82872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ED6A-12BC-45B9-A83D-3FA9BE6A870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2840" y="244440"/>
            <a:ext cx="7937640" cy="82872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8B0E-B367-4ADC-95F3-9FDDF42E999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2F0C-67D1-467E-8F80-F042109AD2C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3AC5-4BBC-4DD9-93B3-ED94AD4AF3B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19320" y="122400"/>
            <a:ext cx="7931160" cy="95076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2840" y="195120"/>
            <a:ext cx="7937640" cy="87804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6109-C512-4FAC-ADCA-2DB6242027F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E92C-0FC5-43DF-84EC-0E1737960FF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2240" y="1060560"/>
            <a:ext cx="1365120" cy="981000"/>
            <a:chOff x="3432240" y="1060560"/>
            <a:chExt cx="1365120" cy="981000"/>
          </a:xfrm>
        </p:grpSpPr>
        <p:pic>
          <p:nvPicPr>
            <p:cNvPr id="206" name="Flowchart: Decision 121" descr=""/>
            <p:cNvPicPr/>
            <p:nvPr/>
          </p:nvPicPr>
          <p:blipFill>
            <a:blip r:embed="rId5"/>
            <a:stretch/>
          </p:blipFill>
          <p:spPr>
            <a:xfrm>
              <a:off x="3432240" y="1060560"/>
              <a:ext cx="1365120" cy="98100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2840" y="195120"/>
            <a:ext cx="7937640" cy="87804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BAAD-0158-4C54-A80E-73A7E30D54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036800" y="244440"/>
            <a:ext cx="8283240" cy="82872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82C4-CA71-4903-8B87-148D85D99D2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2840" y="42840"/>
            <a:ext cx="7937640" cy="112716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F270-955F-4FB5-8D0C-7571818DA23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2840" y="189000"/>
            <a:ext cx="7937640" cy="88416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1CF4-C492-4271-A7CD-92963C895E3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13:14Z</dcterms:modified>
  <cp:revision>403</cp:revision>
  <dc:subject/>
  <dc:title>Slide 1</dc:title>
</cp:coreProperties>
</file>