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9.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57.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8.png" ContentType="image/png"/>
  <Override PartName="/ppt/media/image5.png" ContentType="image/png"/>
  <Override PartName="/ppt/media/image35.png" ContentType="image/png"/>
  <Override PartName="/ppt/media/image8.png" ContentType="image/png"/>
  <Override PartName="/ppt/media/image38.png" ContentType="image/png"/>
  <Override PartName="/ppt/media/image27.png" ContentType="image/png"/>
  <Override PartName="/ppt/media/image12.wmf" ContentType="image/x-wmf"/>
  <Override PartName="/ppt/media/image51.png" ContentType="image/png"/>
  <Override PartName="/ppt/media/image13.png" ContentType="image/png"/>
  <Override PartName="/ppt/media/image7.png" ContentType="image/png"/>
  <Override PartName="/ppt/media/image37.png" ContentType="image/png"/>
  <Override PartName="/ppt/media/image26.png" ContentType="image/png"/>
  <Override PartName="/ppt/media/image45.png" ContentType="image/png"/>
  <Override PartName="/ppt/media/image46.png" ContentType="image/png"/>
  <Override PartName="/ppt/media/image47.png" ContentType="image/png"/>
  <Override PartName="/ppt/media/image48.png" ContentType="image/png"/>
  <Override PartName="/ppt/media/image49.png" ContentType="image/png"/>
  <Override PartName="/ppt/media/image52.png" ContentType="image/png"/>
  <Override PartName="/ppt/media/image44.png" ContentType="image/png"/>
  <Override PartName="/ppt/media/image53.png" ContentType="image/png"/>
  <Override PartName="/ppt/media/image58.jpeg" ContentType="image/jpeg"/>
  <Override PartName="/ppt/media/image42.png" ContentType="image/png"/>
  <Override PartName="/ppt/media/image54.png" ContentType="image/png"/>
  <Override PartName="/ppt/media/image43.png" ContentType="image/png"/>
  <Override PartName="/ppt/media/image55.png" ContentType="image/png"/>
  <Override PartName="/ppt/media/image41.png" ContentType="image/png"/>
  <Override PartName="/ppt/media/image36.png" ContentType="image/png"/>
  <Override PartName="/ppt/media/image3.png" ContentType="image/png"/>
  <Override PartName="/ppt/media/image33.png" ContentType="image/png"/>
  <Override PartName="/ppt/media/image56.jpeg" ContentType="image/jpeg"/>
  <Override PartName="/ppt/media/image34.png" ContentType="image/png"/>
  <Override PartName="/ppt/media/image39.png" ContentType="image/png"/>
  <Override PartName="/ppt/media/image9.png" ContentType="image/png"/>
  <Override PartName="/ppt/media/image31.png" ContentType="image/png"/>
  <Override PartName="/ppt/media/image30.png" ContentType="image/png"/>
  <Override PartName="/ppt/media/image10.wmf" ContentType="image/x-wmf"/>
  <Override PartName="/ppt/media/image25.png" ContentType="image/png"/>
  <Override PartName="/ppt/media/image4.jpeg" ContentType="image/jpeg"/>
  <Override PartName="/ppt/media/image40.png" ContentType="image/png"/>
  <Override PartName="/ppt/media/image2.png" ContentType="image/png"/>
  <Override PartName="/ppt/media/image32.png" ContentType="image/png"/>
  <Override PartName="/ppt/media/image50.png" ContentType="image/png"/>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1" name="PlaceHolder 1"/>
          <p:cNvSpPr>
            <a:spLocks noGrp="1"/>
          </p:cNvSpPr>
          <p:nvPr>
            <p:ph type="hdr"/>
          </p:nvPr>
        </p:nvSpPr>
        <p:spPr>
          <a:xfrm>
            <a:off x="0" y="0"/>
            <a:ext cx="2982960" cy="465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32" name="PlaceHolder 2"/>
          <p:cNvSpPr>
            <a:spLocks noGrp="1"/>
          </p:cNvSpPr>
          <p:nvPr>
            <p:ph type="dt" idx="9"/>
          </p:nvPr>
        </p:nvSpPr>
        <p:spPr>
          <a:xfrm>
            <a:off x="3897360" y="0"/>
            <a:ext cx="2982960" cy="465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33"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4" name="PlaceHolder 4"/>
          <p:cNvSpPr>
            <a:spLocks noGrp="1"/>
          </p:cNvSpPr>
          <p:nvPr>
            <p:ph type="body"/>
          </p:nvPr>
        </p:nvSpPr>
        <p:spPr>
          <a:xfrm>
            <a:off x="688680" y="4416120"/>
            <a:ext cx="550548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5" name="PlaceHolder 5"/>
          <p:cNvSpPr>
            <a:spLocks noGrp="1"/>
          </p:cNvSpPr>
          <p:nvPr>
            <p:ph type="ftr" idx="10"/>
          </p:nvPr>
        </p:nvSpPr>
        <p:spPr>
          <a:xfrm>
            <a:off x="0" y="8829720"/>
            <a:ext cx="2982960" cy="4651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36" name="PlaceHolder 6"/>
          <p:cNvSpPr>
            <a:spLocks noGrp="1"/>
          </p:cNvSpPr>
          <p:nvPr>
            <p:ph type="sldNum" idx="11"/>
          </p:nvPr>
        </p:nvSpPr>
        <p:spPr>
          <a:xfrm>
            <a:off x="3897360" y="8829720"/>
            <a:ext cx="2982960" cy="46512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5F96F-B95E-4552-AE9E-15F1BFC4E4D8}" type="slidenum">
              <a:rPr b="0" lang="en-US"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17440" y="696960"/>
            <a:ext cx="4648320" cy="3486240"/>
          </a:xfrm>
          <a:prstGeom prst="rect">
            <a:avLst/>
          </a:prstGeom>
          <a:ln w="0">
            <a:noFill/>
          </a:ln>
        </p:spPr>
      </p:sp>
      <p:sp>
        <p:nvSpPr>
          <p:cNvPr id="370" name="PlaceHolder 2"/>
          <p:cNvSpPr>
            <a:spLocks noGrp="1"/>
          </p:cNvSpPr>
          <p:nvPr>
            <p:ph type="body"/>
          </p:nvPr>
        </p:nvSpPr>
        <p:spPr>
          <a:xfrm>
            <a:off x="688680" y="4416120"/>
            <a:ext cx="55054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argé de l'évaluation</a:t>
            </a:r>
            <a:endParaRPr b="0" lang="en-US" sz="1200" spc="-1" strike="noStrike">
              <a:solidFill>
                <a:srgbClr val="000000"/>
              </a:solidFill>
              <a:latin typeface="Calibri"/>
            </a:endParaRPr>
          </a:p>
        </p:txBody>
      </p:sp>
      <p:sp>
        <p:nvSpPr>
          <p:cNvPr id="37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22A98-D8FC-45FF-B386-E695F27088F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72" name="Header Placeholder 6"/>
          <p:cNvSpPr/>
          <p:nvPr/>
        </p:nvSpPr>
        <p:spPr>
          <a:xfrm>
            <a:off x="0" y="0"/>
            <a:ext cx="298296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Date Placeholder 7"/>
          <p:cNvSpPr/>
          <p:nvPr/>
        </p:nvSpPr>
        <p:spPr>
          <a:xfrm>
            <a:off x="3897360" y="0"/>
            <a:ext cx="298296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17440" y="696960"/>
            <a:ext cx="4648320" cy="3486240"/>
          </a:xfrm>
          <a:prstGeom prst="rect">
            <a:avLst/>
          </a:prstGeom>
          <a:ln w="0">
            <a:noFill/>
          </a:ln>
        </p:spPr>
      </p:sp>
      <p:sp>
        <p:nvSpPr>
          <p:cNvPr id="39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75EDE-8EEB-457F-9669-4BC51A9FC25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93" name="Header Placeholder 6"/>
          <p:cNvSpPr/>
          <p:nvPr/>
        </p:nvSpPr>
        <p:spPr>
          <a:xfrm>
            <a:off x="0" y="0"/>
            <a:ext cx="298296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Date Placeholder 7"/>
          <p:cNvSpPr/>
          <p:nvPr/>
        </p:nvSpPr>
        <p:spPr>
          <a:xfrm>
            <a:off x="3897360" y="0"/>
            <a:ext cx="298296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17440" y="696960"/>
            <a:ext cx="4648320" cy="3486240"/>
          </a:xfrm>
          <a:prstGeom prst="rect">
            <a:avLst/>
          </a:prstGeom>
          <a:ln w="0">
            <a:noFill/>
          </a:ln>
        </p:spPr>
      </p:sp>
      <p:sp>
        <p:nvSpPr>
          <p:cNvPr id="39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DB73F-5075-4800-A447-67C26B47150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98" name="Header Placeholder 6"/>
          <p:cNvSpPr/>
          <p:nvPr/>
        </p:nvSpPr>
        <p:spPr>
          <a:xfrm>
            <a:off x="0" y="0"/>
            <a:ext cx="298296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Date Placeholder 7"/>
          <p:cNvSpPr/>
          <p:nvPr/>
        </p:nvSpPr>
        <p:spPr>
          <a:xfrm>
            <a:off x="3897360" y="0"/>
            <a:ext cx="298296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17440" y="696960"/>
            <a:ext cx="4648320" cy="3486240"/>
          </a:xfrm>
          <a:prstGeom prst="rect">
            <a:avLst/>
          </a:prstGeom>
          <a:ln w="0">
            <a:noFill/>
          </a:ln>
        </p:spPr>
      </p:sp>
      <p:sp>
        <p:nvSpPr>
          <p:cNvPr id="37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46031-311F-4040-8660-B1172590FEC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77" name="Header Placeholder 6"/>
          <p:cNvSpPr/>
          <p:nvPr/>
        </p:nvSpPr>
        <p:spPr>
          <a:xfrm>
            <a:off x="0" y="0"/>
            <a:ext cx="298296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Date Placeholder 7"/>
          <p:cNvSpPr/>
          <p:nvPr/>
        </p:nvSpPr>
        <p:spPr>
          <a:xfrm>
            <a:off x="3897360" y="0"/>
            <a:ext cx="298296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17440" y="696960"/>
            <a:ext cx="4648320" cy="3486240"/>
          </a:xfrm>
          <a:prstGeom prst="rect">
            <a:avLst/>
          </a:prstGeom>
          <a:ln w="0">
            <a:noFill/>
          </a:ln>
        </p:spPr>
      </p:sp>
      <p:sp>
        <p:nvSpPr>
          <p:cNvPr id="40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00F7C-4A86-4F75-AD12-17059C6692D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03" name="Header Placeholder 6"/>
          <p:cNvSpPr/>
          <p:nvPr/>
        </p:nvSpPr>
        <p:spPr>
          <a:xfrm>
            <a:off x="0" y="0"/>
            <a:ext cx="298296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Date Placeholder 7"/>
          <p:cNvSpPr/>
          <p:nvPr/>
        </p:nvSpPr>
        <p:spPr>
          <a:xfrm>
            <a:off x="3897360" y="0"/>
            <a:ext cx="298296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17440" y="696960"/>
            <a:ext cx="4648320" cy="3486240"/>
          </a:xfrm>
          <a:prstGeom prst="rect">
            <a:avLst/>
          </a:prstGeom>
          <a:ln w="0">
            <a:noFill/>
          </a:ln>
        </p:spPr>
      </p:sp>
      <p:sp>
        <p:nvSpPr>
          <p:cNvPr id="40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90370-F562-4EB6-A856-CDD4DD435F1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08" name="Date Placeholder 4"/>
          <p:cNvSpPr/>
          <p:nvPr/>
        </p:nvSpPr>
        <p:spPr>
          <a:xfrm>
            <a:off x="3897360" y="0"/>
            <a:ext cx="298296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5A5EF-EDEA-4C70-AB85-CC25A32704D4}"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409" name="Footer Placeholder 5"/>
          <p:cNvSpPr/>
          <p:nvPr/>
        </p:nvSpPr>
        <p:spPr>
          <a:xfrm>
            <a:off x="0" y="8829720"/>
            <a:ext cx="298296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Dakar, Senegal</a:t>
            </a:r>
            <a:endParaRPr b="0" lang="en-US" sz="1300" spc="-1" strike="noStrike">
              <a:solidFill>
                <a:srgbClr val="000000"/>
              </a:solidFill>
              <a:latin typeface="Arial"/>
            </a:endParaRPr>
          </a:p>
        </p:txBody>
      </p:sp>
      <p:sp>
        <p:nvSpPr>
          <p:cNvPr id="410" name="Header Placeholder 6"/>
          <p:cNvSpPr/>
          <p:nvPr/>
        </p:nvSpPr>
        <p:spPr>
          <a:xfrm>
            <a:off x="0" y="0"/>
            <a:ext cx="298296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17440" y="696960"/>
            <a:ext cx="4648320" cy="3486240"/>
          </a:xfrm>
          <a:prstGeom prst="rect">
            <a:avLst/>
          </a:prstGeom>
          <a:ln w="0">
            <a:noFill/>
          </a:ln>
        </p:spPr>
      </p:sp>
      <p:sp>
        <p:nvSpPr>
          <p:cNvPr id="38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291F6-4EBD-43C8-923C-BDB0AAB9F79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82" name="Date Placeholder 4"/>
          <p:cNvSpPr/>
          <p:nvPr/>
        </p:nvSpPr>
        <p:spPr>
          <a:xfrm>
            <a:off x="3897360" y="0"/>
            <a:ext cx="298296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BA94A-C84B-47C2-9D7C-53D0B24C305F}"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383" name="Footer Placeholder 5"/>
          <p:cNvSpPr/>
          <p:nvPr/>
        </p:nvSpPr>
        <p:spPr>
          <a:xfrm>
            <a:off x="0" y="8829720"/>
            <a:ext cx="298296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Dakar, Senegal</a:t>
            </a:r>
            <a:endParaRPr b="0" lang="en-US" sz="1300" spc="-1" strike="noStrike">
              <a:solidFill>
                <a:srgbClr val="000000"/>
              </a:solidFill>
              <a:latin typeface="Arial"/>
            </a:endParaRPr>
          </a:p>
        </p:txBody>
      </p:sp>
      <p:sp>
        <p:nvSpPr>
          <p:cNvPr id="384" name="Header Placeholder 6"/>
          <p:cNvSpPr/>
          <p:nvPr/>
        </p:nvSpPr>
        <p:spPr>
          <a:xfrm>
            <a:off x="0" y="0"/>
            <a:ext cx="298296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17440" y="696960"/>
            <a:ext cx="4648320" cy="3486240"/>
          </a:xfrm>
          <a:prstGeom prst="rect">
            <a:avLst/>
          </a:prstGeom>
          <a:ln w="0">
            <a:noFill/>
          </a:ln>
        </p:spPr>
      </p:sp>
      <p:sp>
        <p:nvSpPr>
          <p:cNvPr id="38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60842-D1D1-402A-9198-1388548E168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88" name="Header Placeholder 6"/>
          <p:cNvSpPr/>
          <p:nvPr/>
        </p:nvSpPr>
        <p:spPr>
          <a:xfrm>
            <a:off x="0" y="0"/>
            <a:ext cx="298296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Date Placeholder 7"/>
          <p:cNvSpPr/>
          <p:nvPr/>
        </p:nvSpPr>
        <p:spPr>
          <a:xfrm>
            <a:off x="3897360" y="0"/>
            <a:ext cx="298296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ADFE2E-2308-4C98-A36B-395360BD6D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9D94A-40DB-45AA-BAE7-CC6B7D47F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7A982A-2347-4F68-B682-9403F153C4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B9D722-1066-4D31-B765-57C650D2CF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D893AE-3EA4-4B6B-B378-FB399013AD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E6E924-4339-4006-9ABE-473EFD4E18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D15AE8-F6A4-47A7-BC2C-3711B4CE65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EE305F-113C-4C3E-8E73-91142147A6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E832A8-C587-47E2-9033-3ADC9019A7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E089FF-E4B6-434A-A9CA-5B3BC0C4A6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CEC97A-DCC8-4ABE-AAFD-74234A36F0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D40BD-7825-4B2A-9F46-B04A1D6CB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9FCD4-653E-4F9A-AAD4-50DD72A1CB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302B06-D67C-4430-A61D-C664A1960D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AF03D8-68D4-4A9A-A2B1-E10CA5E094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FCB6C4-5D1A-4303-830D-12291A008C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A9EA8C-E53A-46A1-861D-75BFCCD168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6029B2A-F129-48DB-8832-385BAB18152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2A8F32A-1EF5-4726-99B8-0D3D8FAF963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98A574B-D799-485B-8D63-C1F418285C0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2AFEC85-0A5B-4804-AE82-67FECE791A7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96AB5A0-F53A-4262-9D03-0EAEDCD20F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7759F-F23E-488B-B812-4F54EE96B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79595F7-68EC-4D22-9555-5B60C3991FB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29A055A-38BD-40D6-B11A-A95F3442A7B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EA23965-93A9-404E-8076-C552309269F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CFE6C5D-8FC7-4205-A18B-6D2FA6F9412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B12F99C-73E4-412D-8294-B7737877521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D7E1B9A-30D5-4CAA-93BF-A6F9C03DF7A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B71A7ED-A08F-4CF8-A9BC-DD7CB7DCA5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55B65-7EAC-450E-BADC-674B2B0F7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64366-9E6C-4FC5-9E03-AF60CE00E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4FECA-93E7-4FA6-8883-4468F0171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B1AE2-9FDC-4B49-9C76-DCEB05951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B05C5-1E7E-4F0B-9C29-D3BAFFBAB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60ED6-89E7-4A75-9646-9A3E580DF8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270C4-A396-4D31-9BE7-707615249593}"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959CA-5D28-4DC9-A158-528C75EC3AF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7BE04-8F1E-4CBB-9023-AA27BACD134A}"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F3E75-93A1-4F39-982D-EBEF2889D1A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Box 6"/>
          <p:cNvSpPr/>
          <p:nvPr/>
        </p:nvSpPr>
        <p:spPr>
          <a:xfrm>
            <a:off x="0" y="0"/>
            <a:ext cx="16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2" descr=""/>
          <p:cNvPicPr/>
          <p:nvPr/>
        </p:nvPicPr>
        <p:blipFill>
          <a:blip r:embed="rId2"/>
          <a:stretch/>
        </p:blipFill>
        <p:spPr>
          <a:xfrm>
            <a:off x="-6480" y="-6480"/>
            <a:ext cx="1231920" cy="6870960"/>
          </a:xfrm>
          <a:prstGeom prst="rect">
            <a:avLst/>
          </a:prstGeom>
          <a:ln w="0">
            <a:noFill/>
          </a:ln>
        </p:spPr>
      </p:pic>
      <p:pic>
        <p:nvPicPr>
          <p:cNvPr id="85" name="Picture 2" descr=""/>
          <p:cNvPicPr/>
          <p:nvPr/>
        </p:nvPicPr>
        <p:blipFill>
          <a:blip r:embed="rId3"/>
          <a:stretch/>
        </p:blipFill>
        <p:spPr>
          <a:xfrm>
            <a:off x="0" y="6321600"/>
            <a:ext cx="1219320" cy="536400"/>
          </a:xfrm>
          <a:prstGeom prst="rect">
            <a:avLst/>
          </a:prstGeom>
          <a:ln w="0">
            <a:noFill/>
          </a:ln>
        </p:spPr>
      </p:pic>
      <p:sp>
        <p:nvSpPr>
          <p:cNvPr id="86" name="Rectangle 9"/>
          <p:cNvSpPr/>
          <p:nvPr/>
        </p:nvSpPr>
        <p:spPr>
          <a:xfrm>
            <a:off x="0" y="0"/>
            <a:ext cx="1219320" cy="152280"/>
          </a:xfrm>
          <a:prstGeom prst="rect">
            <a:avLst/>
          </a:prstGeom>
          <a:solidFill>
            <a:srgbClr val="502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Straight Connector 10"/>
          <p:cNvSpPr/>
          <p:nvPr/>
        </p:nvSpPr>
        <p:spPr>
          <a:xfrm>
            <a:off x="0" y="228600"/>
            <a:ext cx="1219320" cy="1440"/>
          </a:xfrm>
          <a:prstGeom prst="line">
            <a:avLst/>
          </a:prstGeom>
          <a:ln w="31680">
            <a:solidFill>
              <a:srgbClr val="5028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 name="Rectangle 11"/>
          <p:cNvSpPr/>
          <p:nvPr/>
        </p:nvSpPr>
        <p:spPr>
          <a:xfrm>
            <a:off x="1219320" y="0"/>
            <a:ext cx="7924680" cy="152280"/>
          </a:xfrm>
          <a:prstGeom prst="rect">
            <a:avLst/>
          </a:prstGeom>
          <a:solidFill>
            <a:srgbClr val="66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Straight Connector 12"/>
          <p:cNvSpPr/>
          <p:nvPr/>
        </p:nvSpPr>
        <p:spPr>
          <a:xfrm>
            <a:off x="990720" y="228600"/>
            <a:ext cx="8153280" cy="1440"/>
          </a:xfrm>
          <a:prstGeom prst="line">
            <a:avLst/>
          </a:prstGeom>
          <a:ln w="28440">
            <a:solidFill>
              <a:srgbClr val="5028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sldNum" idx="8"/>
          </p:nvPr>
        </p:nvSpPr>
        <p:spPr>
          <a:xfrm>
            <a:off x="655272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5028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0C8CD-7474-4E54-B84A-91882AD78A0E}" type="slidenum">
              <a:rPr b="1" lang="en-US" sz="2400" spc="-1" strike="noStrike">
                <a:solidFill>
                  <a:srgbClr val="5028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image" Target="../media/image30.png"/><Relationship Id="rId9" Type="http://schemas.openxmlformats.org/officeDocument/2006/relationships/image" Target="../media/image31.png"/><Relationship Id="rId10" Type="http://schemas.openxmlformats.org/officeDocument/2006/relationships/image" Target="../media/image32.png"/><Relationship Id="rId11" Type="http://schemas.openxmlformats.org/officeDocument/2006/relationships/image" Target="../media/image33.png"/><Relationship Id="rId12" Type="http://schemas.openxmlformats.org/officeDocument/2006/relationships/image" Target="../media/image34.png"/><Relationship Id="rId13" Type="http://schemas.openxmlformats.org/officeDocument/2006/relationships/image" Target="../media/image35.png"/><Relationship Id="rId14" Type="http://schemas.openxmlformats.org/officeDocument/2006/relationships/image" Target="../media/image36.png"/><Relationship Id="rId15" Type="http://schemas.openxmlformats.org/officeDocument/2006/relationships/image" Target="../media/image37.png"/><Relationship Id="rId16" Type="http://schemas.openxmlformats.org/officeDocument/2006/relationships/image" Target="../media/image38.png"/><Relationship Id="rId17" Type="http://schemas.openxmlformats.org/officeDocument/2006/relationships/image" Target="../media/image39.png"/><Relationship Id="rId18" Type="http://schemas.openxmlformats.org/officeDocument/2006/relationships/image" Target="../media/image40.png"/><Relationship Id="rId19" Type="http://schemas.openxmlformats.org/officeDocument/2006/relationships/image" Target="../media/image41.png"/><Relationship Id="rId20" Type="http://schemas.openxmlformats.org/officeDocument/2006/relationships/image" Target="../media/image42.png"/><Relationship Id="rId21" Type="http://schemas.openxmlformats.org/officeDocument/2006/relationships/image" Target="../media/image43.png"/><Relationship Id="rId22" Type="http://schemas.openxmlformats.org/officeDocument/2006/relationships/image" Target="../media/image44.png"/><Relationship Id="rId23" Type="http://schemas.openxmlformats.org/officeDocument/2006/relationships/image" Target="../media/image45.png"/><Relationship Id="rId24" Type="http://schemas.openxmlformats.org/officeDocument/2006/relationships/image" Target="../media/image46.png"/><Relationship Id="rId25" Type="http://schemas.openxmlformats.org/officeDocument/2006/relationships/image" Target="../media/image47.png"/><Relationship Id="rId26" Type="http://schemas.openxmlformats.org/officeDocument/2006/relationships/image" Target="../media/image48.png"/><Relationship Id="rId2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hyperlink" Target="http://www.climate-eval.org/" TargetMode="External"/><Relationship Id="rId3" Type="http://schemas.openxmlformats.org/officeDocument/2006/relationships/image" Target="../media/image56.jpeg"/><Relationship Id="rId4" Type="http://schemas.openxmlformats.org/officeDocument/2006/relationships/slideLayout" Target="../slideLayouts/slideLayout2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6.jpeg"/><Relationship Id="rId3" Type="http://schemas.openxmlformats.org/officeDocument/2006/relationships/image" Target="../media/image58.jpeg"/><Relationship Id="rId4"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hyperlink" Target="http://www.gefeo.org/" TargetMode="External"/><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1600200"/>
            <a:ext cx="7391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fr-FR" sz="5400" spc="-1" strike="noStrike">
                <a:solidFill>
                  <a:srgbClr val="376b4c"/>
                </a:solidFill>
                <a:latin typeface="Calibri"/>
              </a:rPr>
              <a:t> </a:t>
            </a:r>
            <a:r>
              <a:rPr b="1" lang="fr-FR" sz="4000" spc="-1" strike="noStrike">
                <a:solidFill>
                  <a:srgbClr val="376b4c"/>
                </a:solidFill>
                <a:latin typeface="Calibri"/>
              </a:rPr>
              <a:t>Le suivi et l’évaluation du FEM </a:t>
            </a:r>
            <a:br>
              <a:rPr sz="4000"/>
            </a:br>
            <a:br>
              <a:rPr sz="4000"/>
            </a:br>
            <a:endParaRPr b="0" lang="en-US" sz="4000" spc="-1" strike="noStrike">
              <a:solidFill>
                <a:srgbClr val="000000"/>
              </a:solidFill>
              <a:latin typeface="Calibri"/>
            </a:endParaRPr>
          </a:p>
        </p:txBody>
      </p:sp>
      <p:pic>
        <p:nvPicPr>
          <p:cNvPr id="138" name="Subtitle 2" descr=""/>
          <p:cNvPicPr/>
          <p:nvPr/>
        </p:nvPicPr>
        <p:blipFill>
          <a:blip r:embed="rId2"/>
          <a:stretch/>
        </p:blipFill>
        <p:spPr>
          <a:xfrm>
            <a:off x="1444680" y="2401920"/>
            <a:ext cx="6334200" cy="3627360"/>
          </a:xfrm>
          <a:prstGeom prst="rect">
            <a:avLst/>
          </a:prstGeom>
          <a:ln w="0">
            <a:noFill/>
          </a:ln>
        </p:spPr>
      </p:pic>
      <p:sp>
        <p:nvSpPr>
          <p:cNvPr id="139" name="TextBox 4"/>
          <p:cNvSpPr/>
          <p:nvPr/>
        </p:nvSpPr>
        <p:spPr>
          <a:xfrm>
            <a:off x="7696080" y="0"/>
            <a:ext cx="25909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2" descr="M:\CSG\Project Co-ordination\LOGOS\GEF\GEF_NewLogos_LanguageVersionJPG\GEF_Brand_LongColor_TAG_FR.jpg"/>
          <p:cNvPicPr/>
          <p:nvPr/>
        </p:nvPicPr>
        <p:blipFill>
          <a:blip r:embed="rId3"/>
          <a:stretch/>
        </p:blipFill>
        <p:spPr>
          <a:xfrm>
            <a:off x="3962520" y="152280"/>
            <a:ext cx="4835520" cy="99072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Title 1" descr=""/>
          <p:cNvPicPr/>
          <p:nvPr/>
        </p:nvPicPr>
        <p:blipFill>
          <a:blip r:embed="rId1"/>
          <a:stretch/>
        </p:blipFill>
        <p:spPr>
          <a:xfrm>
            <a:off x="1212840" y="195120"/>
            <a:ext cx="7937640" cy="878040"/>
          </a:xfrm>
          <a:prstGeom prst="rect">
            <a:avLst/>
          </a:prstGeom>
          <a:ln w="0">
            <a:noFill/>
          </a:ln>
        </p:spPr>
      </p:pic>
      <p:sp>
        <p:nvSpPr>
          <p:cNvPr id="227"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81A01-C5A1-4448-9330-DBEB4970CF06}"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
        <p:nvSpPr>
          <p:cNvPr id="228" name=""/>
          <p:cNvSpPr txBox="1"/>
          <p:nvPr/>
        </p:nvSpPr>
        <p:spPr>
          <a:xfrm>
            <a:off x="1294920" y="1219320"/>
            <a:ext cx="7620120" cy="54100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a direction doit répondre à tous les rapports d’évaluation que le Bureau de l’évaluation du FEM présente au Conseil du FEM</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Conseil du FEM tient compte de l’évaluation et de la réponse de la direction pour prendre une décision</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Bureau de l’évaluation du FEM présente un rapport annuel sur la suite donnée aux décisions (Relevé d'interventions de la direction)</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ans le cas des évaluations de portefeuille-pays, ceux-ci ont la possibilité d’exposer également leur point de vue au Conseil</a:t>
            </a:r>
            <a:endParaRPr b="0" lang="en-US" sz="2400" spc="-1" strike="noStrike">
              <a:solidFill>
                <a:srgbClr val="000000"/>
              </a:solidFill>
              <a:latin typeface="Calibri"/>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0" y="1371240"/>
            <a:ext cx="9144000" cy="126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alibri"/>
              </a:rPr>
              <a:t>Cinquième bilan global</a:t>
            </a:r>
            <a:br>
              <a:rPr sz="4000"/>
            </a:br>
            <a:endParaRPr b="0" lang="en-US" sz="4000" spc="-1" strike="noStrike">
              <a:solidFill>
                <a:srgbClr val="000000"/>
              </a:solidFill>
              <a:latin typeface="Calibri"/>
            </a:endParaRPr>
          </a:p>
        </p:txBody>
      </p:sp>
      <p:sp>
        <p:nvSpPr>
          <p:cNvPr id="2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17B59-3658-4594-B321-DDD95A152E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Title 1" descr=""/>
          <p:cNvPicPr/>
          <p:nvPr/>
        </p:nvPicPr>
        <p:blipFill>
          <a:blip r:embed="rId1"/>
          <a:stretch/>
        </p:blipFill>
        <p:spPr>
          <a:xfrm>
            <a:off x="1212840" y="268200"/>
            <a:ext cx="7937640" cy="804960"/>
          </a:xfrm>
          <a:prstGeom prst="rect">
            <a:avLst/>
          </a:prstGeom>
          <a:ln w="0">
            <a:noFill/>
          </a:ln>
        </p:spPr>
      </p:pic>
      <p:sp>
        <p:nvSpPr>
          <p:cNvPr id="232" name=""/>
          <p:cNvSpPr txBox="1"/>
          <p:nvPr/>
        </p:nvSpPr>
        <p:spPr>
          <a:xfrm>
            <a:off x="1218960" y="1371600"/>
            <a:ext cx="7924680" cy="464832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Évaluer dans quelle mesure le FEM atteint ses objectifs :</a:t>
            </a:r>
            <a:endParaRPr b="0" lang="en-US" sz="28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rPr>
              <a:t>tels qu’énoncés dans l’instrument du FEM et les  examens par l’Assemblée</a:t>
            </a:r>
            <a:endParaRPr b="0" lang="en-US" sz="24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rPr>
              <a:t>tels qu’élaborés et adoptés par le Conseil du FEM dans les politiques opérationnelles et les programmes d’activités financées par le FEM</a:t>
            </a:r>
            <a:endParaRPr b="0" lang="en-US" sz="24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rPr>
              <a:t>et identifier les améliorations potentielles</a:t>
            </a:r>
            <a:endParaRPr b="0" lang="en-US" sz="2400" spc="-1" strike="noStrike">
              <a:solidFill>
                <a:srgbClr val="000000"/>
              </a:solidFill>
              <a:latin typeface="Calibri"/>
            </a:endParaRPr>
          </a:p>
          <a:p>
            <a:pPr marL="533520" indent="-5335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3"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162A9-566E-4B8E-9FA8-847C924B80B2}"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Title 1" descr=""/>
          <p:cNvPicPr/>
          <p:nvPr/>
        </p:nvPicPr>
        <p:blipFill>
          <a:blip r:embed="rId1"/>
          <a:stretch/>
        </p:blipFill>
        <p:spPr>
          <a:xfrm>
            <a:off x="1212840" y="225360"/>
            <a:ext cx="7937640" cy="1127160"/>
          </a:xfrm>
          <a:prstGeom prst="rect">
            <a:avLst/>
          </a:prstGeom>
          <a:ln w="0">
            <a:noFill/>
          </a:ln>
        </p:spPr>
      </p:pic>
      <p:sp>
        <p:nvSpPr>
          <p:cNvPr id="235" name=""/>
          <p:cNvSpPr txBox="1"/>
          <p:nvPr/>
        </p:nvSpPr>
        <p:spPr>
          <a:xfrm>
            <a:off x="1218960" y="1874520"/>
            <a:ext cx="7924680" cy="42210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onsolidation et renforcement des quatre axes d’éléments d’évaluation :</a:t>
            </a:r>
            <a:endParaRPr b="0" lang="en-US" sz="24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Examens de portefeuilles-pays </a:t>
            </a:r>
            <a:r>
              <a:rPr b="0" lang="fr-FR" sz="2000" spc="-1" strike="noStrike">
                <a:solidFill>
                  <a:srgbClr val="000000"/>
                </a:solidFill>
                <a:latin typeface="Calibri"/>
              </a:rPr>
              <a:t>: jusqu’à 15 pendant FEM-5</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Évaluations d’impact : </a:t>
            </a:r>
            <a:r>
              <a:rPr b="0" lang="fr-FR" sz="2000" spc="-1" strike="noStrike">
                <a:solidFill>
                  <a:srgbClr val="000000"/>
                </a:solidFill>
                <a:latin typeface="Calibri"/>
              </a:rPr>
              <a:t>eaux internationales, changements climatiques et autres domaines d’intervention</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Évaluations des résultats : </a:t>
            </a:r>
            <a:r>
              <a:rPr b="0" lang="fr-FR" sz="2000" spc="-1" strike="noStrike">
                <a:solidFill>
                  <a:srgbClr val="000000"/>
                </a:solidFill>
                <a:latin typeface="Calibri"/>
              </a:rPr>
              <a:t>poursuite et renforcement des RAP et examens indépendants des procédures</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Évaluations thématiques : </a:t>
            </a:r>
            <a:r>
              <a:rPr b="0" lang="fr-FR" sz="2000" spc="-1" strike="noStrike">
                <a:solidFill>
                  <a:srgbClr val="000000"/>
                </a:solidFill>
                <a:latin typeface="Calibri"/>
              </a:rPr>
              <a:t>stratégies liées aux domaines d’intervention et adaptation</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lang="fr-FR" sz="2400" spc="-1" strike="noStrike">
                <a:solidFill>
                  <a:srgbClr val="000000"/>
                </a:solidFill>
                <a:latin typeface="Calibri"/>
              </a:rPr>
              <a:t>Le principal élément du cinquième bilan global sera une méta-évaluation</a:t>
            </a:r>
            <a:endParaRPr b="0" lang="en-US" sz="2400" spc="-1" strike="noStrike">
              <a:solidFill>
                <a:srgbClr val="000000"/>
              </a:solidFill>
              <a:latin typeface="Calibri"/>
            </a:endParaRPr>
          </a:p>
        </p:txBody>
      </p:sp>
      <p:sp>
        <p:nvSpPr>
          <p:cNvPr id="236"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0993B-0B38-4923-8320-488B77B645C0}"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Title 1" descr=""/>
          <p:cNvPicPr/>
          <p:nvPr/>
        </p:nvPicPr>
        <p:blipFill>
          <a:blip r:embed="rId1"/>
          <a:stretch/>
        </p:blipFill>
        <p:spPr>
          <a:xfrm>
            <a:off x="1212840" y="109440"/>
            <a:ext cx="7937640" cy="1017720"/>
          </a:xfrm>
          <a:prstGeom prst="rect">
            <a:avLst/>
          </a:prstGeom>
          <a:ln w="0">
            <a:noFill/>
          </a:ln>
        </p:spPr>
      </p:pic>
      <p:sp>
        <p:nvSpPr>
          <p:cNvPr id="238" name=""/>
          <p:cNvSpPr txBox="1"/>
          <p:nvPr/>
        </p:nvSpPr>
        <p:spPr>
          <a:xfrm>
            <a:off x="1219320" y="1143000"/>
            <a:ext cx="7619760" cy="49831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lang="fr-FR" sz="2400" spc="-1" strike="noStrike">
                <a:solidFill>
                  <a:srgbClr val="000000"/>
                </a:solidFill>
                <a:latin typeface="Calibri"/>
              </a:rPr>
              <a:t>Activités fondamentales</a:t>
            </a:r>
            <a:endParaRPr b="0" lang="en-US" sz="24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Faciliter l’instauration de conditions permettant aux changements nécessaires d’avoir lieu</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 </a:t>
            </a:r>
            <a:r>
              <a:rPr b="0" lang="fr-FR" sz="2000" spc="-1" strike="noStrike">
                <a:solidFill>
                  <a:srgbClr val="006600"/>
                </a:solidFill>
                <a:latin typeface="Calibri"/>
              </a:rPr>
              <a:t>et … exiger une attention constante et des ajustement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émonstration</a:t>
            </a:r>
            <a:endParaRPr b="0" lang="en-US" sz="24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Tester des approches visant à déboucher sur des effets positifs sur l'environnement mondial si elles sont adoptées à une plus large échelle.</a:t>
            </a:r>
            <a:endParaRPr b="0" lang="en-US" sz="20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lang="fr-FR" sz="2400" spc="-1" strike="noStrike">
                <a:solidFill>
                  <a:srgbClr val="000000"/>
                </a:solidFill>
                <a:latin typeface="Calibri"/>
              </a:rPr>
              <a:t>Investissement</a:t>
            </a:r>
            <a:endParaRPr b="0" lang="en-US" sz="24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Mise en œuvre à plus large échelle des résultats des activités  fondamentales et de démonstration.</a:t>
            </a:r>
            <a:endParaRPr b="0" lang="en-US" sz="2000" spc="-1" strike="noStrike">
              <a:solidFill>
                <a:srgbClr val="000000"/>
              </a:solidFill>
              <a:latin typeface="Calibri"/>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9" name="Group 66"/>
          <p:cNvGrpSpPr/>
          <p:nvPr/>
        </p:nvGrpSpPr>
        <p:grpSpPr>
          <a:xfrm>
            <a:off x="5189760" y="2625840"/>
            <a:ext cx="2660400" cy="1108080"/>
            <a:chOff x="5189760" y="2625840"/>
            <a:chExt cx="2660400" cy="1108080"/>
          </a:xfrm>
        </p:grpSpPr>
        <p:grpSp>
          <p:nvGrpSpPr>
            <p:cNvPr id="240" name="Oval 45"/>
            <p:cNvGrpSpPr/>
            <p:nvPr/>
          </p:nvGrpSpPr>
          <p:grpSpPr>
            <a:xfrm>
              <a:off x="5200200" y="2625840"/>
              <a:ext cx="2626560" cy="1108080"/>
              <a:chOff x="5200200" y="2625840"/>
              <a:chExt cx="2626560" cy="1108080"/>
            </a:xfrm>
          </p:grpSpPr>
          <p:pic>
            <p:nvPicPr>
              <p:cNvPr id="241" name="Oval 45" descr=""/>
              <p:cNvPicPr/>
              <p:nvPr/>
            </p:nvPicPr>
            <p:blipFill>
              <a:blip r:embed="rId1"/>
              <a:stretch/>
            </p:blipFill>
            <p:spPr>
              <a:xfrm>
                <a:off x="5200200" y="2625840"/>
                <a:ext cx="2626560" cy="1108080"/>
              </a:xfrm>
              <a:prstGeom prst="rect">
                <a:avLst/>
              </a:prstGeom>
              <a:ln w="0">
                <a:noFill/>
              </a:ln>
            </p:spPr>
          </p:pic>
          <p:sp>
            <p:nvSpPr>
              <p:cNvPr id="242" name=""/>
              <p:cNvSpPr/>
              <p:nvPr/>
            </p:nvSpPr>
            <p:spPr>
              <a:xfrm>
                <a:off x="5886360" y="2908800"/>
                <a:ext cx="1256760" cy="50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3" name="Group 33"/>
            <p:cNvGrpSpPr/>
            <p:nvPr/>
          </p:nvGrpSpPr>
          <p:grpSpPr>
            <a:xfrm>
              <a:off x="5562720" y="2902680"/>
              <a:ext cx="2285280" cy="546840"/>
              <a:chOff x="5562720" y="2902680"/>
              <a:chExt cx="2285280" cy="546840"/>
            </a:xfrm>
          </p:grpSpPr>
          <p:pic>
            <p:nvPicPr>
              <p:cNvPr id="244" name="Oval 7" descr=""/>
              <p:cNvPicPr/>
              <p:nvPr/>
            </p:nvPicPr>
            <p:blipFill>
              <a:blip r:embed="rId2"/>
              <a:stretch/>
            </p:blipFill>
            <p:spPr>
              <a:xfrm>
                <a:off x="5562720" y="2902680"/>
                <a:ext cx="2202840" cy="281520"/>
              </a:xfrm>
              <a:prstGeom prst="rect">
                <a:avLst/>
              </a:prstGeom>
              <a:ln w="0">
                <a:noFill/>
              </a:ln>
            </p:spPr>
          </p:pic>
          <p:pic>
            <p:nvPicPr>
              <p:cNvPr id="245" name="Oval 7" descr=""/>
              <p:cNvPicPr/>
              <p:nvPr/>
            </p:nvPicPr>
            <p:blipFill>
              <a:blip r:embed="rId3"/>
              <a:stretch/>
            </p:blipFill>
            <p:spPr>
              <a:xfrm>
                <a:off x="5633280" y="3038040"/>
                <a:ext cx="2214720" cy="276120"/>
              </a:xfrm>
              <a:prstGeom prst="rect">
                <a:avLst/>
              </a:prstGeom>
              <a:ln w="0">
                <a:noFill/>
              </a:ln>
            </p:spPr>
          </p:pic>
          <p:pic>
            <p:nvPicPr>
              <p:cNvPr id="246" name="Oval 7" descr=""/>
              <p:cNvPicPr/>
              <p:nvPr/>
            </p:nvPicPr>
            <p:blipFill>
              <a:blip r:embed="rId4"/>
              <a:stretch/>
            </p:blipFill>
            <p:spPr>
              <a:xfrm>
                <a:off x="5568480" y="3173400"/>
                <a:ext cx="2261880" cy="276120"/>
              </a:xfrm>
              <a:prstGeom prst="rect">
                <a:avLst/>
              </a:prstGeom>
              <a:ln w="0">
                <a:noFill/>
              </a:ln>
            </p:spPr>
          </p:pic>
        </p:grpSp>
        <p:sp>
          <p:nvSpPr>
            <p:cNvPr id="247" name="Rectangle 62"/>
            <p:cNvSpPr/>
            <p:nvPr/>
          </p:nvSpPr>
          <p:spPr>
            <a:xfrm>
              <a:off x="5189760" y="2764080"/>
              <a:ext cx="2660400" cy="24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476"/>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fr-FR" sz="1100" spc="-1" strike="noStrike">
                  <a:solidFill>
                    <a:srgbClr val="006600"/>
                  </a:solidFill>
                  <a:latin typeface="Arial"/>
                </a:rPr>
                <a:t>CHANGEMENT DE COMPORTEMENT</a:t>
              </a:r>
              <a:endParaRPr b="0" lang="en-US" sz="1100" spc="-1" strike="noStrike">
                <a:solidFill>
                  <a:srgbClr val="000000"/>
                </a:solidFill>
                <a:latin typeface="Arial"/>
              </a:endParaRPr>
            </a:p>
          </p:txBody>
        </p:sp>
      </p:grpSp>
      <p:sp>
        <p:nvSpPr>
          <p:cNvPr id="248" name="TextBox 71"/>
          <p:cNvSpPr/>
          <p:nvPr/>
        </p:nvSpPr>
        <p:spPr>
          <a:xfrm>
            <a:off x="6553080" y="4938840"/>
            <a:ext cx="2362320" cy="27648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6600"/>
                </a:solidFill>
                <a:latin typeface="Calibri"/>
              </a:rPr>
              <a:t>IMPACT</a:t>
            </a:r>
            <a:endParaRPr b="0" lang="en-US" sz="1200" spc="-1" strike="noStrike">
              <a:solidFill>
                <a:srgbClr val="000000"/>
              </a:solidFill>
              <a:latin typeface="Arial"/>
            </a:endParaRPr>
          </a:p>
        </p:txBody>
      </p:sp>
      <p:sp>
        <p:nvSpPr>
          <p:cNvPr id="249" name="TextBox 68"/>
          <p:cNvSpPr/>
          <p:nvPr/>
        </p:nvSpPr>
        <p:spPr>
          <a:xfrm>
            <a:off x="3465360" y="4818240"/>
            <a:ext cx="3316320" cy="552240"/>
          </a:xfrm>
          <a:prstGeom prst="rightArrow">
            <a:avLst>
              <a:gd name="adj1" fmla="val 50000"/>
              <a:gd name="adj2" fmla="val 49821"/>
            </a:avLst>
          </a:prstGeom>
          <a:solidFill>
            <a:srgbClr val="ffffff"/>
          </a:solidFill>
          <a:ln w="936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6600"/>
                </a:solidFill>
                <a:latin typeface="Calibri"/>
              </a:rPr>
              <a:t>ÉTATS INTERMÉDIAIRES</a:t>
            </a:r>
            <a:endParaRPr b="0" lang="en-US" sz="1200" spc="-1" strike="noStrike">
              <a:solidFill>
                <a:srgbClr val="000000"/>
              </a:solidFill>
              <a:latin typeface="Arial"/>
            </a:endParaRPr>
          </a:p>
        </p:txBody>
      </p:sp>
      <p:sp>
        <p:nvSpPr>
          <p:cNvPr id="250" name="TextBox 175"/>
          <p:cNvSpPr/>
          <p:nvPr/>
        </p:nvSpPr>
        <p:spPr>
          <a:xfrm>
            <a:off x="152280" y="4818240"/>
            <a:ext cx="3886200" cy="552240"/>
          </a:xfrm>
          <a:prstGeom prst="rightArrow">
            <a:avLst>
              <a:gd name="adj1" fmla="val 50000"/>
              <a:gd name="adj2" fmla="val 49814"/>
            </a:avLst>
          </a:prstGeom>
          <a:solidFill>
            <a:srgbClr val="ffffff"/>
          </a:solidFill>
          <a:ln w="936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6600"/>
                </a:solidFill>
                <a:latin typeface="Calibri"/>
              </a:rPr>
              <a:t>DÉVELOPPEMENT INSTITUTIONNEL</a:t>
            </a:r>
            <a:endParaRPr b="0" lang="en-US" sz="1200" spc="-1" strike="noStrike">
              <a:solidFill>
                <a:srgbClr val="000000"/>
              </a:solidFill>
              <a:latin typeface="Arial"/>
            </a:endParaRPr>
          </a:p>
        </p:txBody>
      </p:sp>
      <p:grpSp>
        <p:nvGrpSpPr>
          <p:cNvPr id="251" name="Right Triangle 8"/>
          <p:cNvGrpSpPr/>
          <p:nvPr/>
        </p:nvGrpSpPr>
        <p:grpSpPr>
          <a:xfrm>
            <a:off x="3597120" y="3078000"/>
            <a:ext cx="5370840" cy="1762200"/>
            <a:chOff x="3597120" y="3078000"/>
            <a:chExt cx="5370840" cy="1762200"/>
          </a:xfrm>
        </p:grpSpPr>
        <p:pic>
          <p:nvPicPr>
            <p:cNvPr id="252" name="Right Triangle 8" descr=""/>
            <p:cNvPicPr/>
            <p:nvPr/>
          </p:nvPicPr>
          <p:blipFill>
            <a:blip r:embed="rId5"/>
            <a:stretch/>
          </p:blipFill>
          <p:spPr>
            <a:xfrm>
              <a:off x="3597120" y="3078000"/>
              <a:ext cx="5370840" cy="1762200"/>
            </a:xfrm>
            <a:prstGeom prst="rect">
              <a:avLst/>
            </a:prstGeom>
            <a:ln w="0">
              <a:noFill/>
            </a:ln>
          </p:spPr>
        </p:pic>
        <p:sp>
          <p:nvSpPr>
            <p:cNvPr id="253" name=""/>
            <p:cNvSpPr/>
            <p:nvPr/>
          </p:nvSpPr>
          <p:spPr>
            <a:xfrm rot="16200000">
              <a:off x="7196040" y="3344400"/>
              <a:ext cx="817560" cy="17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4" name="TextBox 38"/>
          <p:cNvSpPr/>
          <p:nvPr/>
        </p:nvSpPr>
        <p:spPr>
          <a:xfrm>
            <a:off x="457200" y="873000"/>
            <a:ext cx="1752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00"/>
                </a:solidFill>
                <a:latin typeface="Calibri"/>
              </a:rPr>
              <a:t>ÉLÉMENTS FONDAMENTAUX</a:t>
            </a:r>
            <a:endParaRPr b="0" lang="en-US" sz="1200" spc="-1" strike="noStrike">
              <a:solidFill>
                <a:srgbClr val="000000"/>
              </a:solidFill>
              <a:latin typeface="Arial"/>
            </a:endParaRPr>
          </a:p>
        </p:txBody>
      </p:sp>
      <p:sp>
        <p:nvSpPr>
          <p:cNvPr id="255" name="TextBox 39"/>
          <p:cNvSpPr/>
          <p:nvPr/>
        </p:nvSpPr>
        <p:spPr>
          <a:xfrm>
            <a:off x="2971800" y="873000"/>
            <a:ext cx="1828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00"/>
                </a:solidFill>
                <a:latin typeface="Calibri"/>
              </a:rPr>
              <a:t>ÉLÉMENTS  DE DÉMONSTRATION</a:t>
            </a:r>
            <a:endParaRPr b="0" lang="en-US" sz="1200" spc="-1" strike="noStrike">
              <a:solidFill>
                <a:srgbClr val="000000"/>
              </a:solidFill>
              <a:latin typeface="Arial"/>
            </a:endParaRPr>
          </a:p>
        </p:txBody>
      </p:sp>
      <p:sp>
        <p:nvSpPr>
          <p:cNvPr id="256" name="TextBox 74"/>
          <p:cNvSpPr/>
          <p:nvPr/>
        </p:nvSpPr>
        <p:spPr>
          <a:xfrm>
            <a:off x="5410080" y="762120"/>
            <a:ext cx="1752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00"/>
                </a:solidFill>
                <a:latin typeface="Calibri"/>
              </a:rPr>
              <a:t>ÉLÉMENTS  D’INVESTISSEMENT</a:t>
            </a:r>
            <a:endParaRPr b="0" lang="en-US" sz="1200" spc="-1" strike="noStrike">
              <a:solidFill>
                <a:srgbClr val="000000"/>
              </a:solidFill>
              <a:latin typeface="Arial"/>
            </a:endParaRPr>
          </a:p>
        </p:txBody>
      </p:sp>
      <p:sp>
        <p:nvSpPr>
          <p:cNvPr id="257" name="Title 1"/>
          <p:cNvSpPr/>
          <p:nvPr/>
        </p:nvSpPr>
        <p:spPr>
          <a:xfrm>
            <a:off x="646200" y="3492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00000"/>
                </a:solidFill>
                <a:latin typeface="Calibri"/>
              </a:rPr>
              <a:t>Théorie générale du changement du FEM</a:t>
            </a:r>
            <a:endParaRPr b="0" lang="en-US" sz="2900" spc="-1" strike="noStrike">
              <a:solidFill>
                <a:srgbClr val="000000"/>
              </a:solidFill>
              <a:latin typeface="Arial"/>
            </a:endParaRPr>
          </a:p>
        </p:txBody>
      </p:sp>
      <p:sp>
        <p:nvSpPr>
          <p:cNvPr id="258" name="TextBox 102"/>
          <p:cNvSpPr/>
          <p:nvPr/>
        </p:nvSpPr>
        <p:spPr>
          <a:xfrm rot="20556600">
            <a:off x="5468400" y="3611160"/>
            <a:ext cx="3591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00"/>
                </a:solidFill>
                <a:latin typeface="Calibri"/>
              </a:rPr>
              <a:t> </a:t>
            </a:r>
            <a:r>
              <a:rPr b="1" lang="fr-FR" sz="1200" spc="-1" strike="noStrike">
                <a:solidFill>
                  <a:srgbClr val="31511f"/>
                </a:solidFill>
                <a:latin typeface="Calibri"/>
              </a:rPr>
              <a:t>Réduction du stress</a:t>
            </a:r>
            <a:endParaRPr b="0" lang="en-US" sz="1200" spc="-1" strike="noStrike">
              <a:solidFill>
                <a:srgbClr val="000000"/>
              </a:solidFill>
              <a:latin typeface="Arial"/>
            </a:endParaRPr>
          </a:p>
        </p:txBody>
      </p:sp>
      <p:grpSp>
        <p:nvGrpSpPr>
          <p:cNvPr id="259" name="Group 66"/>
          <p:cNvGrpSpPr/>
          <p:nvPr/>
        </p:nvGrpSpPr>
        <p:grpSpPr>
          <a:xfrm>
            <a:off x="3998880" y="3505320"/>
            <a:ext cx="5059440" cy="1218960"/>
            <a:chOff x="3998880" y="3505320"/>
            <a:chExt cx="5059440" cy="1218960"/>
          </a:xfrm>
        </p:grpSpPr>
        <p:grpSp>
          <p:nvGrpSpPr>
            <p:cNvPr id="260" name="Right Triangle 21"/>
            <p:cNvGrpSpPr/>
            <p:nvPr/>
          </p:nvGrpSpPr>
          <p:grpSpPr>
            <a:xfrm>
              <a:off x="3998880" y="3548160"/>
              <a:ext cx="4993560" cy="1176120"/>
              <a:chOff x="3998880" y="3548160"/>
              <a:chExt cx="4993560" cy="1176120"/>
            </a:xfrm>
          </p:grpSpPr>
          <p:pic>
            <p:nvPicPr>
              <p:cNvPr id="261" name="Right Triangle 21" descr=""/>
              <p:cNvPicPr/>
              <p:nvPr/>
            </p:nvPicPr>
            <p:blipFill>
              <a:blip r:embed="rId6"/>
              <a:stretch/>
            </p:blipFill>
            <p:spPr>
              <a:xfrm>
                <a:off x="3998880" y="3548160"/>
                <a:ext cx="4993560" cy="1176120"/>
              </a:xfrm>
              <a:prstGeom prst="rect">
                <a:avLst/>
              </a:prstGeom>
              <a:ln w="0">
                <a:noFill/>
              </a:ln>
            </p:spPr>
          </p:pic>
          <p:sp>
            <p:nvSpPr>
              <p:cNvPr id="262" name=""/>
              <p:cNvSpPr/>
              <p:nvPr/>
            </p:nvSpPr>
            <p:spPr>
              <a:xfrm rot="16200000">
                <a:off x="7446600" y="3478680"/>
                <a:ext cx="538200" cy="162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3" name="TextBox 105"/>
            <p:cNvSpPr/>
            <p:nvPr/>
          </p:nvSpPr>
          <p:spPr>
            <a:xfrm rot="20793000">
              <a:off x="5827320" y="3878280"/>
              <a:ext cx="3242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00"/>
                  </a:solidFill>
                  <a:latin typeface="Calibri"/>
                </a:rPr>
                <a:t>Changement de l’état de l’environnement</a:t>
              </a:r>
              <a:endParaRPr b="0" lang="en-US" sz="1200" spc="-1" strike="noStrike">
                <a:solidFill>
                  <a:srgbClr val="000000"/>
                </a:solidFill>
                <a:latin typeface="Arial"/>
              </a:endParaRPr>
            </a:p>
          </p:txBody>
        </p:sp>
      </p:grpSp>
      <p:grpSp>
        <p:nvGrpSpPr>
          <p:cNvPr id="264" name="Group 69"/>
          <p:cNvGrpSpPr/>
          <p:nvPr/>
        </p:nvGrpSpPr>
        <p:grpSpPr>
          <a:xfrm>
            <a:off x="7148520" y="5257800"/>
            <a:ext cx="1700280" cy="387360"/>
            <a:chOff x="7148520" y="5257800"/>
            <a:chExt cx="1700280" cy="387360"/>
          </a:xfrm>
        </p:grpSpPr>
        <p:grpSp>
          <p:nvGrpSpPr>
            <p:cNvPr id="265" name="Straight Connector 5"/>
            <p:cNvGrpSpPr/>
            <p:nvPr/>
          </p:nvGrpSpPr>
          <p:grpSpPr>
            <a:xfrm>
              <a:off x="7148520" y="5266440"/>
              <a:ext cx="357840" cy="378720"/>
              <a:chOff x="7148520" y="5266440"/>
              <a:chExt cx="357840" cy="378720"/>
            </a:xfrm>
          </p:grpSpPr>
          <p:pic>
            <p:nvPicPr>
              <p:cNvPr id="266" name="Straight Connector 5" descr=""/>
              <p:cNvPicPr/>
              <p:nvPr/>
            </p:nvPicPr>
            <p:blipFill>
              <a:blip r:embed="rId7"/>
              <a:stretch/>
            </p:blipFill>
            <p:spPr>
              <a:xfrm>
                <a:off x="7148520" y="5266440"/>
                <a:ext cx="357840" cy="378720"/>
              </a:xfrm>
              <a:prstGeom prst="rect">
                <a:avLst/>
              </a:prstGeom>
              <a:ln w="0">
                <a:noFill/>
              </a:ln>
            </p:spPr>
          </p:pic>
          <p:sp>
            <p:nvSpPr>
              <p:cNvPr id="267" name=""/>
              <p:cNvSpPr/>
              <p:nvPr/>
            </p:nvSpPr>
            <p:spPr>
              <a:xfrm rot="9339600">
                <a:off x="7224480" y="5335920"/>
                <a:ext cx="215640" cy="240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8" name="TextBox 78"/>
            <p:cNvSpPr/>
            <p:nvPr/>
          </p:nvSpPr>
          <p:spPr>
            <a:xfrm>
              <a:off x="7460640" y="5257800"/>
              <a:ext cx="138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Gestion adaptative/</a:t>
              </a:r>
              <a:br>
                <a:rPr sz="900"/>
              </a:br>
              <a:r>
                <a:rPr b="0" lang="fr-FR" sz="900" spc="-1" strike="noStrike">
                  <a:solidFill>
                    <a:srgbClr val="000000"/>
                  </a:solidFill>
                  <a:latin typeface="Calibri"/>
                </a:rPr>
                <a:t>Apprentissage</a:t>
              </a:r>
              <a:endParaRPr b="0" lang="en-US" sz="900" spc="-1" strike="noStrike">
                <a:solidFill>
                  <a:srgbClr val="000000"/>
                </a:solidFill>
                <a:latin typeface="Arial"/>
              </a:endParaRPr>
            </a:p>
          </p:txBody>
        </p:sp>
      </p:grpSp>
      <p:grpSp>
        <p:nvGrpSpPr>
          <p:cNvPr id="269" name="Group 65"/>
          <p:cNvGrpSpPr/>
          <p:nvPr/>
        </p:nvGrpSpPr>
        <p:grpSpPr>
          <a:xfrm>
            <a:off x="4191120" y="3947400"/>
            <a:ext cx="4919040" cy="901440"/>
            <a:chOff x="4191120" y="3947400"/>
            <a:chExt cx="4919040" cy="901440"/>
          </a:xfrm>
        </p:grpSpPr>
        <p:sp>
          <p:nvSpPr>
            <p:cNvPr id="270" name="Right Triangle 33"/>
            <p:cNvSpPr/>
            <p:nvPr/>
          </p:nvSpPr>
          <p:spPr>
            <a:xfrm rot="16200000">
              <a:off x="6244200" y="2017080"/>
              <a:ext cx="653760" cy="4760280"/>
            </a:xfrm>
            <a:prstGeom prst="rtTriangle">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TextBox 90"/>
            <p:cNvSpPr/>
            <p:nvPr/>
          </p:nvSpPr>
          <p:spPr>
            <a:xfrm rot="21133200">
              <a:off x="5794200" y="4168440"/>
              <a:ext cx="33001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6600"/>
                  </a:solidFill>
                  <a:latin typeface="Calibri"/>
                </a:rPr>
                <a:t>Développement viable sur le plan de l’environnement</a:t>
              </a:r>
              <a:endParaRPr b="0" lang="en-US" sz="1200" spc="-1" strike="noStrike">
                <a:solidFill>
                  <a:srgbClr val="000000"/>
                </a:solidFill>
                <a:latin typeface="Arial"/>
              </a:endParaRPr>
            </a:p>
          </p:txBody>
        </p:sp>
      </p:grpSp>
      <p:grpSp>
        <p:nvGrpSpPr>
          <p:cNvPr id="272" name="Group 23"/>
          <p:cNvGrpSpPr/>
          <p:nvPr/>
        </p:nvGrpSpPr>
        <p:grpSpPr>
          <a:xfrm>
            <a:off x="152280" y="3211560"/>
            <a:ext cx="2352960" cy="1395360"/>
            <a:chOff x="152280" y="3211560"/>
            <a:chExt cx="2352960" cy="1395360"/>
          </a:xfrm>
        </p:grpSpPr>
        <p:grpSp>
          <p:nvGrpSpPr>
            <p:cNvPr id="273" name="Oval 36"/>
            <p:cNvGrpSpPr/>
            <p:nvPr/>
          </p:nvGrpSpPr>
          <p:grpSpPr>
            <a:xfrm>
              <a:off x="152280" y="3211560"/>
              <a:ext cx="2352960" cy="1395360"/>
              <a:chOff x="152280" y="3211560"/>
              <a:chExt cx="2352960" cy="1395360"/>
            </a:xfrm>
          </p:grpSpPr>
          <p:pic>
            <p:nvPicPr>
              <p:cNvPr id="274" name="Oval 36" descr=""/>
              <p:cNvPicPr/>
              <p:nvPr/>
            </p:nvPicPr>
            <p:blipFill>
              <a:blip r:embed="rId8"/>
              <a:stretch/>
            </p:blipFill>
            <p:spPr>
              <a:xfrm>
                <a:off x="152280" y="3211560"/>
                <a:ext cx="2352960" cy="1395360"/>
              </a:xfrm>
              <a:prstGeom prst="rect">
                <a:avLst/>
              </a:prstGeom>
              <a:ln w="0">
                <a:noFill/>
              </a:ln>
            </p:spPr>
          </p:pic>
          <p:sp>
            <p:nvSpPr>
              <p:cNvPr id="275" name=""/>
              <p:cNvSpPr/>
              <p:nvPr/>
            </p:nvSpPr>
            <p:spPr>
              <a:xfrm>
                <a:off x="538560" y="3432960"/>
                <a:ext cx="1585800" cy="914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6" name="Oval 4"/>
            <p:cNvSpPr/>
            <p:nvPr/>
          </p:nvSpPr>
          <p:spPr>
            <a:xfrm>
              <a:off x="530640" y="3257640"/>
              <a:ext cx="1585800" cy="308880"/>
            </a:xfrm>
            <a:prstGeom prst="rect">
              <a:avLst/>
            </a:prstGeom>
            <a:noFill/>
            <a:ln w="0">
              <a:noFill/>
            </a:ln>
          </p:spPr>
          <p:style>
            <a:lnRef idx="0"/>
            <a:fillRef idx="0"/>
            <a:effectRef idx="0"/>
            <a:fontRef idx="minor"/>
          </p:style>
          <p:txBody>
            <a:bodyPr lIns="15120" rIns="15120" tIns="15120" bIns="15120" anchor="ctr">
              <a:noAutofit/>
            </a:bodyPr>
            <a:p>
              <a:pPr algn="ctr">
                <a:lnSpc>
                  <a:spcPct val="90000"/>
                </a:lnSpc>
                <a:spcAft>
                  <a:spcPts val="476"/>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fr-FR" sz="1100" spc="-1" strike="noStrike">
                  <a:solidFill>
                    <a:srgbClr val="ffffff"/>
                  </a:solidFill>
                  <a:latin typeface="Calibri"/>
                </a:rPr>
                <a:t>CONNAISSANCE &amp; INFORMATION</a:t>
              </a:r>
              <a:endParaRPr b="0" lang="en-US" sz="1100" spc="-1" strike="noStrike">
                <a:solidFill>
                  <a:srgbClr val="000000"/>
                </a:solidFill>
                <a:latin typeface="Arial"/>
              </a:endParaRPr>
            </a:p>
          </p:txBody>
        </p:sp>
      </p:grpSp>
      <p:grpSp>
        <p:nvGrpSpPr>
          <p:cNvPr id="277" name="Group 24"/>
          <p:cNvGrpSpPr/>
          <p:nvPr/>
        </p:nvGrpSpPr>
        <p:grpSpPr>
          <a:xfrm>
            <a:off x="152280" y="1611360"/>
            <a:ext cx="2352960" cy="1395360"/>
            <a:chOff x="152280" y="1611360"/>
            <a:chExt cx="2352960" cy="1395360"/>
          </a:xfrm>
        </p:grpSpPr>
        <p:grpSp>
          <p:nvGrpSpPr>
            <p:cNvPr id="278" name="Oval 39"/>
            <p:cNvGrpSpPr/>
            <p:nvPr/>
          </p:nvGrpSpPr>
          <p:grpSpPr>
            <a:xfrm>
              <a:off x="152280" y="1611360"/>
              <a:ext cx="2352960" cy="1395360"/>
              <a:chOff x="152280" y="1611360"/>
              <a:chExt cx="2352960" cy="1395360"/>
            </a:xfrm>
          </p:grpSpPr>
          <p:pic>
            <p:nvPicPr>
              <p:cNvPr id="279" name="Oval 39" descr=""/>
              <p:cNvPicPr/>
              <p:nvPr/>
            </p:nvPicPr>
            <p:blipFill>
              <a:blip r:embed="rId9"/>
              <a:stretch/>
            </p:blipFill>
            <p:spPr>
              <a:xfrm>
                <a:off x="152280" y="1611360"/>
                <a:ext cx="2352960" cy="1395360"/>
              </a:xfrm>
              <a:prstGeom prst="rect">
                <a:avLst/>
              </a:prstGeom>
              <a:ln w="0">
                <a:noFill/>
              </a:ln>
            </p:spPr>
          </p:pic>
          <p:sp>
            <p:nvSpPr>
              <p:cNvPr id="280" name=""/>
              <p:cNvSpPr/>
              <p:nvPr/>
            </p:nvSpPr>
            <p:spPr>
              <a:xfrm>
                <a:off x="538560" y="1835640"/>
                <a:ext cx="1585800" cy="914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1" name="Oval 4"/>
            <p:cNvSpPr/>
            <p:nvPr/>
          </p:nvSpPr>
          <p:spPr>
            <a:xfrm>
              <a:off x="530640" y="1660320"/>
              <a:ext cx="1585800" cy="308880"/>
            </a:xfrm>
            <a:prstGeom prst="rect">
              <a:avLst/>
            </a:prstGeom>
            <a:noFill/>
            <a:ln w="0">
              <a:noFill/>
            </a:ln>
          </p:spPr>
          <p:style>
            <a:lnRef idx="0"/>
            <a:fillRef idx="0"/>
            <a:effectRef idx="0"/>
            <a:fontRef idx="minor"/>
          </p:style>
          <p:txBody>
            <a:bodyPr lIns="15120" rIns="15120" tIns="15120" bIns="15120" anchor="ctr">
              <a:noAutofit/>
            </a:bodyPr>
            <a:p>
              <a:pPr algn="ctr">
                <a:lnSpc>
                  <a:spcPct val="90000"/>
                </a:lnSpc>
                <a:spcAft>
                  <a:spcPts val="476"/>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fr-FR" sz="1100" spc="-1" strike="noStrike">
                  <a:solidFill>
                    <a:srgbClr val="ffffff"/>
                  </a:solidFill>
                  <a:latin typeface="Calibri"/>
                </a:rPr>
                <a:t>CADRE DE GOUVERNANCE</a:t>
              </a:r>
              <a:endParaRPr b="0" lang="en-US" sz="1100" spc="-1" strike="noStrike">
                <a:solidFill>
                  <a:srgbClr val="000000"/>
                </a:solidFill>
                <a:latin typeface="Arial"/>
              </a:endParaRPr>
            </a:p>
          </p:txBody>
        </p:sp>
      </p:grpSp>
      <p:grpSp>
        <p:nvGrpSpPr>
          <p:cNvPr id="282" name="Oval 41"/>
          <p:cNvGrpSpPr/>
          <p:nvPr/>
        </p:nvGrpSpPr>
        <p:grpSpPr>
          <a:xfrm>
            <a:off x="158760" y="2004840"/>
            <a:ext cx="1268280" cy="951120"/>
            <a:chOff x="158760" y="2004840"/>
            <a:chExt cx="1268280" cy="951120"/>
          </a:xfrm>
        </p:grpSpPr>
        <p:pic>
          <p:nvPicPr>
            <p:cNvPr id="283" name="Oval 41" descr=""/>
            <p:cNvPicPr/>
            <p:nvPr/>
          </p:nvPicPr>
          <p:blipFill>
            <a:blip r:embed="rId10"/>
            <a:stretch/>
          </p:blipFill>
          <p:spPr>
            <a:xfrm>
              <a:off x="158760" y="2004840"/>
              <a:ext cx="1268280" cy="951120"/>
            </a:xfrm>
            <a:prstGeom prst="rect">
              <a:avLst/>
            </a:prstGeom>
            <a:ln w="0">
              <a:noFill/>
            </a:ln>
          </p:spPr>
        </p:pic>
        <p:sp>
          <p:nvSpPr>
            <p:cNvPr id="284" name=""/>
            <p:cNvSpPr/>
            <p:nvPr/>
          </p:nvSpPr>
          <p:spPr>
            <a:xfrm>
              <a:off x="388800" y="2144880"/>
              <a:ext cx="814680" cy="493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Calibri"/>
                </a:rPr>
                <a:t>Cadres politiques, juridiques et réglemen-taires</a:t>
              </a:r>
              <a:endParaRPr b="0" lang="en-US" sz="900" spc="-1" strike="noStrike">
                <a:solidFill>
                  <a:srgbClr val="000000"/>
                </a:solidFill>
                <a:latin typeface="Arial"/>
              </a:endParaRPr>
            </a:p>
          </p:txBody>
        </p:sp>
      </p:grpSp>
      <p:grpSp>
        <p:nvGrpSpPr>
          <p:cNvPr id="285" name="Oval 42"/>
          <p:cNvGrpSpPr/>
          <p:nvPr/>
        </p:nvGrpSpPr>
        <p:grpSpPr>
          <a:xfrm>
            <a:off x="-60480" y="3535200"/>
            <a:ext cx="1505160" cy="914400"/>
            <a:chOff x="-60480" y="3535200"/>
            <a:chExt cx="1505160" cy="914400"/>
          </a:xfrm>
        </p:grpSpPr>
        <p:pic>
          <p:nvPicPr>
            <p:cNvPr id="286" name="Oval 42" descr=""/>
            <p:cNvPicPr/>
            <p:nvPr/>
          </p:nvPicPr>
          <p:blipFill>
            <a:blip r:embed="rId11"/>
            <a:stretch/>
          </p:blipFill>
          <p:spPr>
            <a:xfrm>
              <a:off x="-60480" y="3535200"/>
              <a:ext cx="1505160" cy="914400"/>
            </a:xfrm>
            <a:prstGeom prst="rect">
              <a:avLst/>
            </a:prstGeom>
            <a:ln w="0">
              <a:noFill/>
            </a:ln>
          </p:spPr>
        </p:pic>
        <p:sp>
          <p:nvSpPr>
            <p:cNvPr id="287" name=""/>
            <p:cNvSpPr/>
            <p:nvPr/>
          </p:nvSpPr>
          <p:spPr>
            <a:xfrm>
              <a:off x="203040" y="3687840"/>
              <a:ext cx="98280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Calibri"/>
                </a:rPr>
                <a:t>Échange d’informations et accès à l’information</a:t>
              </a:r>
              <a:endParaRPr b="0" lang="en-US" sz="900" spc="-1" strike="noStrike">
                <a:solidFill>
                  <a:srgbClr val="000000"/>
                </a:solidFill>
                <a:latin typeface="Arial"/>
              </a:endParaRPr>
            </a:p>
          </p:txBody>
        </p:sp>
      </p:grpSp>
      <p:grpSp>
        <p:nvGrpSpPr>
          <p:cNvPr id="288" name="Oval 43"/>
          <p:cNvGrpSpPr/>
          <p:nvPr/>
        </p:nvGrpSpPr>
        <p:grpSpPr>
          <a:xfrm>
            <a:off x="1158840" y="3565440"/>
            <a:ext cx="1260360" cy="622440"/>
            <a:chOff x="1158840" y="3565440"/>
            <a:chExt cx="1260360" cy="622440"/>
          </a:xfrm>
        </p:grpSpPr>
        <p:pic>
          <p:nvPicPr>
            <p:cNvPr id="289" name="Oval 43" descr=""/>
            <p:cNvPicPr/>
            <p:nvPr/>
          </p:nvPicPr>
          <p:blipFill>
            <a:blip r:embed="rId12"/>
            <a:stretch/>
          </p:blipFill>
          <p:spPr>
            <a:xfrm>
              <a:off x="1158840" y="3565440"/>
              <a:ext cx="1260360" cy="622440"/>
            </a:xfrm>
            <a:prstGeom prst="rect">
              <a:avLst/>
            </a:prstGeom>
            <a:ln w="0">
              <a:noFill/>
            </a:ln>
          </p:spPr>
        </p:pic>
        <p:sp>
          <p:nvSpPr>
            <p:cNvPr id="290" name=""/>
            <p:cNvSpPr/>
            <p:nvPr/>
          </p:nvSpPr>
          <p:spPr>
            <a:xfrm>
              <a:off x="1386000" y="3676680"/>
              <a:ext cx="809640" cy="363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Calibri"/>
                </a:rPr>
                <a:t>Sensibilisa-tion</a:t>
              </a:r>
              <a:endParaRPr b="0" lang="en-US" sz="900" spc="-1" strike="noStrike">
                <a:solidFill>
                  <a:srgbClr val="000000"/>
                </a:solidFill>
                <a:latin typeface="Arial"/>
              </a:endParaRPr>
            </a:p>
          </p:txBody>
        </p:sp>
      </p:grpSp>
      <p:grpSp>
        <p:nvGrpSpPr>
          <p:cNvPr id="291" name="Straight Connector 5"/>
          <p:cNvGrpSpPr/>
          <p:nvPr/>
        </p:nvGrpSpPr>
        <p:grpSpPr>
          <a:xfrm>
            <a:off x="2298600" y="2876400"/>
            <a:ext cx="451080" cy="446400"/>
            <a:chOff x="2298600" y="2876400"/>
            <a:chExt cx="451080" cy="446400"/>
          </a:xfrm>
        </p:grpSpPr>
        <p:pic>
          <p:nvPicPr>
            <p:cNvPr id="292" name="Straight Connector 5" descr=""/>
            <p:cNvPicPr/>
            <p:nvPr/>
          </p:nvPicPr>
          <p:blipFill>
            <a:blip r:embed="rId13"/>
            <a:stretch/>
          </p:blipFill>
          <p:spPr>
            <a:xfrm>
              <a:off x="2298600" y="2876400"/>
              <a:ext cx="451080" cy="446400"/>
            </a:xfrm>
            <a:prstGeom prst="rect">
              <a:avLst/>
            </a:prstGeom>
            <a:ln w="0">
              <a:noFill/>
            </a:ln>
          </p:spPr>
        </p:pic>
        <p:sp>
          <p:nvSpPr>
            <p:cNvPr id="293" name=""/>
            <p:cNvSpPr/>
            <p:nvPr/>
          </p:nvSpPr>
          <p:spPr>
            <a:xfrm rot="639000">
              <a:off x="2368440" y="2957400"/>
              <a:ext cx="250920" cy="287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4" name="Straight Connector 5"/>
          <p:cNvGrpSpPr/>
          <p:nvPr/>
        </p:nvGrpSpPr>
        <p:grpSpPr>
          <a:xfrm>
            <a:off x="6205680" y="2359080"/>
            <a:ext cx="420480" cy="414360"/>
            <a:chOff x="6205680" y="2359080"/>
            <a:chExt cx="420480" cy="414360"/>
          </a:xfrm>
        </p:grpSpPr>
        <p:pic>
          <p:nvPicPr>
            <p:cNvPr id="295" name="Straight Connector 5" descr=""/>
            <p:cNvPicPr/>
            <p:nvPr/>
          </p:nvPicPr>
          <p:blipFill>
            <a:blip r:embed="rId14"/>
            <a:stretch/>
          </p:blipFill>
          <p:spPr>
            <a:xfrm>
              <a:off x="6205680" y="2359080"/>
              <a:ext cx="420480" cy="414360"/>
            </a:xfrm>
            <a:prstGeom prst="rect">
              <a:avLst/>
            </a:prstGeom>
            <a:ln w="0">
              <a:noFill/>
            </a:ln>
          </p:spPr>
        </p:pic>
        <p:sp>
          <p:nvSpPr>
            <p:cNvPr id="296" name=""/>
            <p:cNvSpPr/>
            <p:nvPr/>
          </p:nvSpPr>
          <p:spPr>
            <a:xfrm rot="9339600">
              <a:off x="6294240" y="2430360"/>
              <a:ext cx="257040" cy="268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7" name="Straight Connector 5"/>
          <p:cNvGrpSpPr/>
          <p:nvPr/>
        </p:nvGrpSpPr>
        <p:grpSpPr>
          <a:xfrm>
            <a:off x="6278400" y="3597120"/>
            <a:ext cx="414360" cy="395280"/>
            <a:chOff x="6278400" y="3597120"/>
            <a:chExt cx="414360" cy="395280"/>
          </a:xfrm>
        </p:grpSpPr>
        <p:pic>
          <p:nvPicPr>
            <p:cNvPr id="298" name="Straight Connector 5" descr=""/>
            <p:cNvPicPr/>
            <p:nvPr/>
          </p:nvPicPr>
          <p:blipFill>
            <a:blip r:embed="rId15"/>
            <a:stretch/>
          </p:blipFill>
          <p:spPr>
            <a:xfrm>
              <a:off x="6278400" y="3597120"/>
              <a:ext cx="414360" cy="395280"/>
            </a:xfrm>
            <a:prstGeom prst="rect">
              <a:avLst/>
            </a:prstGeom>
            <a:ln w="0">
              <a:noFill/>
            </a:ln>
          </p:spPr>
        </p:pic>
        <p:sp>
          <p:nvSpPr>
            <p:cNvPr id="299" name=""/>
            <p:cNvSpPr/>
            <p:nvPr/>
          </p:nvSpPr>
          <p:spPr>
            <a:xfrm rot="9339600">
              <a:off x="6364440" y="3669840"/>
              <a:ext cx="257040" cy="252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0" name="Oval 58"/>
          <p:cNvGrpSpPr/>
          <p:nvPr/>
        </p:nvGrpSpPr>
        <p:grpSpPr>
          <a:xfrm>
            <a:off x="1085760" y="2004840"/>
            <a:ext cx="1408320" cy="811440"/>
            <a:chOff x="1085760" y="2004840"/>
            <a:chExt cx="1408320" cy="811440"/>
          </a:xfrm>
        </p:grpSpPr>
        <p:pic>
          <p:nvPicPr>
            <p:cNvPr id="301" name="Oval 58" descr=""/>
            <p:cNvPicPr/>
            <p:nvPr/>
          </p:nvPicPr>
          <p:blipFill>
            <a:blip r:embed="rId16"/>
            <a:stretch/>
          </p:blipFill>
          <p:spPr>
            <a:xfrm>
              <a:off x="1085760" y="2004840"/>
              <a:ext cx="1408320" cy="811440"/>
            </a:xfrm>
            <a:prstGeom prst="rect">
              <a:avLst/>
            </a:prstGeom>
            <a:ln w="0">
              <a:noFill/>
            </a:ln>
          </p:spPr>
        </p:pic>
        <p:sp>
          <p:nvSpPr>
            <p:cNvPr id="302" name=""/>
            <p:cNvSpPr/>
            <p:nvPr/>
          </p:nvSpPr>
          <p:spPr>
            <a:xfrm>
              <a:off x="1333440" y="2146320"/>
              <a:ext cx="91440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Calibri"/>
                </a:rPr>
                <a:t>Réformes administratives</a:t>
              </a:r>
              <a:endParaRPr b="0" lang="en-US" sz="900" spc="-1" strike="noStrike">
                <a:solidFill>
                  <a:srgbClr val="000000"/>
                </a:solidFill>
                <a:latin typeface="Arial"/>
              </a:endParaRPr>
            </a:p>
          </p:txBody>
        </p:sp>
      </p:grpSp>
      <p:grpSp>
        <p:nvGrpSpPr>
          <p:cNvPr id="303" name="Group 65"/>
          <p:cNvGrpSpPr/>
          <p:nvPr/>
        </p:nvGrpSpPr>
        <p:grpSpPr>
          <a:xfrm>
            <a:off x="4989600" y="1177920"/>
            <a:ext cx="2514600" cy="1219320"/>
            <a:chOff x="4989600" y="1177920"/>
            <a:chExt cx="2514600" cy="1219320"/>
          </a:xfrm>
        </p:grpSpPr>
        <p:grpSp>
          <p:nvGrpSpPr>
            <p:cNvPr id="304" name="Group 29"/>
            <p:cNvGrpSpPr/>
            <p:nvPr/>
          </p:nvGrpSpPr>
          <p:grpSpPr>
            <a:xfrm>
              <a:off x="4989600" y="1177920"/>
              <a:ext cx="2460960" cy="1196280"/>
              <a:chOff x="4989600" y="1177920"/>
              <a:chExt cx="2460960" cy="1196280"/>
            </a:xfrm>
          </p:grpSpPr>
          <p:grpSp>
            <p:nvGrpSpPr>
              <p:cNvPr id="305" name="Oval 46"/>
              <p:cNvGrpSpPr/>
              <p:nvPr/>
            </p:nvGrpSpPr>
            <p:grpSpPr>
              <a:xfrm>
                <a:off x="4989600" y="1177920"/>
                <a:ext cx="2460960" cy="1196280"/>
                <a:chOff x="4989600" y="1177920"/>
                <a:chExt cx="2460960" cy="1196280"/>
              </a:xfrm>
            </p:grpSpPr>
            <p:pic>
              <p:nvPicPr>
                <p:cNvPr id="306" name="Oval 46" descr=""/>
                <p:cNvPicPr/>
                <p:nvPr/>
              </p:nvPicPr>
              <p:blipFill>
                <a:blip r:embed="rId17"/>
                <a:stretch/>
              </p:blipFill>
              <p:spPr>
                <a:xfrm>
                  <a:off x="4989600" y="1177920"/>
                  <a:ext cx="2460960" cy="1196280"/>
                </a:xfrm>
                <a:prstGeom prst="rect">
                  <a:avLst/>
                </a:prstGeom>
                <a:ln w="0">
                  <a:noFill/>
                </a:ln>
              </p:spPr>
            </p:pic>
            <p:sp>
              <p:nvSpPr>
                <p:cNvPr id="307" name=""/>
                <p:cNvSpPr/>
                <p:nvPr/>
              </p:nvSpPr>
              <p:spPr>
                <a:xfrm>
                  <a:off x="5393160" y="1372320"/>
                  <a:ext cx="1661760" cy="776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8" name="Oval 4"/>
              <p:cNvSpPr/>
              <p:nvPr/>
            </p:nvSpPr>
            <p:spPr>
              <a:xfrm>
                <a:off x="5262480" y="1288080"/>
                <a:ext cx="1907640" cy="190800"/>
              </a:xfrm>
              <a:prstGeom prst="rect">
                <a:avLst/>
              </a:prstGeom>
              <a:noFill/>
              <a:ln w="0">
                <a:noFill/>
              </a:ln>
            </p:spPr>
            <p:style>
              <a:lnRef idx="0"/>
              <a:fillRef idx="0"/>
              <a:effectRef idx="0"/>
              <a:fontRef idx="minor"/>
            </p:style>
            <p:txBody>
              <a:bodyPr lIns="15120" rIns="15120" tIns="15120" bIns="15120" anchor="ctr">
                <a:noAutofit/>
              </a:bodyPr>
              <a:p>
                <a:pPr algn="ctr">
                  <a:lnSpc>
                    <a:spcPct val="90000"/>
                  </a:lnSpc>
                  <a:spcAft>
                    <a:spcPts val="524"/>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fr-FR" sz="1200" spc="-1" strike="noStrike">
                    <a:solidFill>
                      <a:srgbClr val="ffffff"/>
                    </a:solidFill>
                    <a:latin typeface="Calibri"/>
                  </a:rPr>
                  <a:t>ÉCHELLE</a:t>
                </a:r>
                <a:endParaRPr b="0" lang="en-US" sz="1200" spc="-1" strike="noStrike">
                  <a:solidFill>
                    <a:srgbClr val="000000"/>
                  </a:solidFill>
                  <a:latin typeface="Arial"/>
                </a:endParaRPr>
              </a:p>
            </p:txBody>
          </p:sp>
        </p:grpSp>
        <p:grpSp>
          <p:nvGrpSpPr>
            <p:cNvPr id="309" name="Oval 48"/>
            <p:cNvGrpSpPr/>
            <p:nvPr/>
          </p:nvGrpSpPr>
          <p:grpSpPr>
            <a:xfrm>
              <a:off x="5004720" y="1404360"/>
              <a:ext cx="1455480" cy="442440"/>
              <a:chOff x="5004720" y="1404360"/>
              <a:chExt cx="1455480" cy="442440"/>
            </a:xfrm>
          </p:grpSpPr>
          <p:pic>
            <p:nvPicPr>
              <p:cNvPr id="310" name="Oval 48" descr=""/>
              <p:cNvPicPr/>
              <p:nvPr/>
            </p:nvPicPr>
            <p:blipFill>
              <a:blip r:embed="rId18"/>
              <a:stretch/>
            </p:blipFill>
            <p:spPr>
              <a:xfrm>
                <a:off x="5004720" y="1404360"/>
                <a:ext cx="1455480" cy="442440"/>
              </a:xfrm>
              <a:prstGeom prst="rect">
                <a:avLst/>
              </a:prstGeom>
              <a:ln w="0">
                <a:noFill/>
              </a:ln>
            </p:spPr>
          </p:pic>
          <p:sp>
            <p:nvSpPr>
              <p:cNvPr id="311" name=""/>
              <p:cNvSpPr/>
              <p:nvPr/>
            </p:nvSpPr>
            <p:spPr>
              <a:xfrm>
                <a:off x="5260680" y="1491840"/>
                <a:ext cx="948960" cy="23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1511f"/>
                    </a:solidFill>
                    <a:latin typeface="Calibri"/>
                  </a:rPr>
                  <a:t>Généralisation</a:t>
                </a:r>
                <a:endParaRPr b="0" lang="en-US" sz="1000" spc="-1" strike="noStrike">
                  <a:solidFill>
                    <a:srgbClr val="000000"/>
                  </a:solidFill>
                  <a:latin typeface="Arial"/>
                </a:endParaRPr>
              </a:p>
            </p:txBody>
          </p:sp>
        </p:grpSp>
        <p:grpSp>
          <p:nvGrpSpPr>
            <p:cNvPr id="312" name="Oval 57"/>
            <p:cNvGrpSpPr/>
            <p:nvPr/>
          </p:nvGrpSpPr>
          <p:grpSpPr>
            <a:xfrm>
              <a:off x="5601240" y="1888920"/>
              <a:ext cx="1527120" cy="508320"/>
              <a:chOff x="5601240" y="1888920"/>
              <a:chExt cx="1527120" cy="508320"/>
            </a:xfrm>
          </p:grpSpPr>
          <p:pic>
            <p:nvPicPr>
              <p:cNvPr id="313" name="Oval 57" descr=""/>
              <p:cNvPicPr/>
              <p:nvPr/>
            </p:nvPicPr>
            <p:blipFill>
              <a:blip r:embed="rId19"/>
              <a:stretch/>
            </p:blipFill>
            <p:spPr>
              <a:xfrm>
                <a:off x="5601240" y="1888920"/>
                <a:ext cx="1527120" cy="508320"/>
              </a:xfrm>
              <a:prstGeom prst="rect">
                <a:avLst/>
              </a:prstGeom>
              <a:ln w="0">
                <a:noFill/>
              </a:ln>
            </p:spPr>
          </p:pic>
          <p:sp>
            <p:nvSpPr>
              <p:cNvPr id="314" name=""/>
              <p:cNvSpPr/>
              <p:nvPr/>
            </p:nvSpPr>
            <p:spPr>
              <a:xfrm>
                <a:off x="5868000" y="1980360"/>
                <a:ext cx="1001880" cy="26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1511f"/>
                    </a:solidFill>
                    <a:latin typeface="Calibri"/>
                  </a:rPr>
                  <a:t>Évolution du marché</a:t>
                </a:r>
                <a:endParaRPr b="0" lang="en-US" sz="1000" spc="-1" strike="noStrike">
                  <a:solidFill>
                    <a:srgbClr val="000000"/>
                  </a:solidFill>
                  <a:latin typeface="Arial"/>
                </a:endParaRPr>
              </a:p>
            </p:txBody>
          </p:sp>
        </p:grpSp>
        <p:grpSp>
          <p:nvGrpSpPr>
            <p:cNvPr id="315" name="Oval 60"/>
            <p:cNvGrpSpPr/>
            <p:nvPr/>
          </p:nvGrpSpPr>
          <p:grpSpPr>
            <a:xfrm>
              <a:off x="6048720" y="1517760"/>
              <a:ext cx="1455480" cy="502560"/>
              <a:chOff x="6048720" y="1517760"/>
              <a:chExt cx="1455480" cy="502560"/>
            </a:xfrm>
          </p:grpSpPr>
          <p:pic>
            <p:nvPicPr>
              <p:cNvPr id="316" name="Oval 60" descr=""/>
              <p:cNvPicPr/>
              <p:nvPr/>
            </p:nvPicPr>
            <p:blipFill>
              <a:blip r:embed="rId20"/>
              <a:stretch/>
            </p:blipFill>
            <p:spPr>
              <a:xfrm>
                <a:off x="6048720" y="1517760"/>
                <a:ext cx="1455480" cy="502560"/>
              </a:xfrm>
              <a:prstGeom prst="rect">
                <a:avLst/>
              </a:prstGeom>
              <a:ln w="0">
                <a:noFill/>
              </a:ln>
            </p:spPr>
          </p:pic>
          <p:sp>
            <p:nvSpPr>
              <p:cNvPr id="317" name=""/>
              <p:cNvSpPr/>
              <p:nvPr/>
            </p:nvSpPr>
            <p:spPr>
              <a:xfrm>
                <a:off x="6304680" y="1601280"/>
                <a:ext cx="948960" cy="24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Transposition des acquis</a:t>
                </a:r>
                <a:endParaRPr b="0" lang="en-US" sz="1000" spc="-1" strike="noStrike">
                  <a:solidFill>
                    <a:srgbClr val="000000"/>
                  </a:solidFill>
                  <a:latin typeface="Arial"/>
                </a:endParaRPr>
              </a:p>
            </p:txBody>
          </p:sp>
        </p:grpSp>
        <p:grpSp>
          <p:nvGrpSpPr>
            <p:cNvPr id="318" name="Oval 49"/>
            <p:cNvGrpSpPr/>
            <p:nvPr/>
          </p:nvGrpSpPr>
          <p:grpSpPr>
            <a:xfrm>
              <a:off x="5076360" y="1667520"/>
              <a:ext cx="1157400" cy="658080"/>
              <a:chOff x="5076360" y="1667520"/>
              <a:chExt cx="1157400" cy="658080"/>
            </a:xfrm>
          </p:grpSpPr>
          <p:pic>
            <p:nvPicPr>
              <p:cNvPr id="319" name="Oval 49" descr=""/>
              <p:cNvPicPr/>
              <p:nvPr/>
            </p:nvPicPr>
            <p:blipFill>
              <a:blip r:embed="rId21"/>
              <a:stretch/>
            </p:blipFill>
            <p:spPr>
              <a:xfrm>
                <a:off x="5076360" y="1667520"/>
                <a:ext cx="1157400" cy="658080"/>
              </a:xfrm>
              <a:prstGeom prst="rect">
                <a:avLst/>
              </a:prstGeom>
              <a:ln w="0">
                <a:noFill/>
              </a:ln>
            </p:spPr>
          </p:pic>
          <p:sp>
            <p:nvSpPr>
              <p:cNvPr id="320" name=""/>
              <p:cNvSpPr/>
              <p:nvPr/>
            </p:nvSpPr>
            <p:spPr>
              <a:xfrm>
                <a:off x="5291640" y="1755720"/>
                <a:ext cx="738360" cy="26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1511f"/>
                    </a:solidFill>
                    <a:latin typeface="Calibri"/>
                  </a:rPr>
                  <a:t>Passage à l’échelle supérieure</a:t>
                </a:r>
                <a:endParaRPr b="0" lang="en-US" sz="1000" spc="-1" strike="noStrike">
                  <a:solidFill>
                    <a:srgbClr val="000000"/>
                  </a:solidFill>
                  <a:latin typeface="Arial"/>
                </a:endParaRPr>
              </a:p>
            </p:txBody>
          </p:sp>
        </p:grpSp>
      </p:grpSp>
      <p:grpSp>
        <p:nvGrpSpPr>
          <p:cNvPr id="321" name="Oval 61"/>
          <p:cNvGrpSpPr/>
          <p:nvPr/>
        </p:nvGrpSpPr>
        <p:grpSpPr>
          <a:xfrm>
            <a:off x="1085760" y="4005360"/>
            <a:ext cx="1121040" cy="768240"/>
            <a:chOff x="1085760" y="4005360"/>
            <a:chExt cx="1121040" cy="768240"/>
          </a:xfrm>
        </p:grpSpPr>
        <p:pic>
          <p:nvPicPr>
            <p:cNvPr id="322" name="Oval 61" descr=""/>
            <p:cNvPicPr/>
            <p:nvPr/>
          </p:nvPicPr>
          <p:blipFill>
            <a:blip r:embed="rId22"/>
            <a:stretch/>
          </p:blipFill>
          <p:spPr>
            <a:xfrm>
              <a:off x="1085760" y="4005360"/>
              <a:ext cx="1121040" cy="768240"/>
            </a:xfrm>
            <a:prstGeom prst="rect">
              <a:avLst/>
            </a:prstGeom>
            <a:ln w="0">
              <a:noFill/>
            </a:ln>
          </p:spPr>
        </p:pic>
        <p:sp>
          <p:nvSpPr>
            <p:cNvPr id="323" name=""/>
            <p:cNvSpPr/>
            <p:nvPr/>
          </p:nvSpPr>
          <p:spPr>
            <a:xfrm>
              <a:off x="1290600" y="4103640"/>
              <a:ext cx="712800" cy="311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Calibri"/>
                </a:rPr>
                <a:t>Génération de connais-sances</a:t>
              </a:r>
              <a:endParaRPr b="0" lang="en-US" sz="900" spc="-1" strike="noStrike">
                <a:solidFill>
                  <a:srgbClr val="000000"/>
                </a:solidFill>
                <a:latin typeface="Arial"/>
              </a:endParaRPr>
            </a:p>
          </p:txBody>
        </p:sp>
      </p:grpSp>
      <p:grpSp>
        <p:nvGrpSpPr>
          <p:cNvPr id="324" name="Group 69"/>
          <p:cNvGrpSpPr/>
          <p:nvPr/>
        </p:nvGrpSpPr>
        <p:grpSpPr>
          <a:xfrm>
            <a:off x="2819520" y="1447920"/>
            <a:ext cx="2692800" cy="3159000"/>
            <a:chOff x="2819520" y="1447920"/>
            <a:chExt cx="2692800" cy="3159000"/>
          </a:xfrm>
        </p:grpSpPr>
        <p:grpSp>
          <p:nvGrpSpPr>
            <p:cNvPr id="325" name="Group 8"/>
            <p:cNvGrpSpPr/>
            <p:nvPr/>
          </p:nvGrpSpPr>
          <p:grpSpPr>
            <a:xfrm>
              <a:off x="2819520" y="1447920"/>
              <a:ext cx="2286360" cy="3159000"/>
              <a:chOff x="2819520" y="1447920"/>
              <a:chExt cx="2286360" cy="3159000"/>
            </a:xfrm>
          </p:grpSpPr>
          <p:grpSp>
            <p:nvGrpSpPr>
              <p:cNvPr id="326" name="Oval 16"/>
              <p:cNvGrpSpPr/>
              <p:nvPr/>
            </p:nvGrpSpPr>
            <p:grpSpPr>
              <a:xfrm>
                <a:off x="2819520" y="1447920"/>
                <a:ext cx="2286360" cy="3159000"/>
                <a:chOff x="2819520" y="1447920"/>
                <a:chExt cx="2286360" cy="3159000"/>
              </a:xfrm>
            </p:grpSpPr>
            <p:pic>
              <p:nvPicPr>
                <p:cNvPr id="327" name="Oval 16" descr=""/>
                <p:cNvPicPr/>
                <p:nvPr/>
              </p:nvPicPr>
              <p:blipFill>
                <a:blip r:embed="rId23"/>
                <a:stretch/>
              </p:blipFill>
              <p:spPr>
                <a:xfrm>
                  <a:off x="2819520" y="1447920"/>
                  <a:ext cx="2286360" cy="3159000"/>
                </a:xfrm>
                <a:prstGeom prst="rect">
                  <a:avLst/>
                </a:prstGeom>
                <a:ln w="0">
                  <a:noFill/>
                </a:ln>
              </p:spPr>
            </p:pic>
            <p:sp>
              <p:nvSpPr>
                <p:cNvPr id="328" name=""/>
                <p:cNvSpPr/>
                <p:nvPr/>
              </p:nvSpPr>
              <p:spPr>
                <a:xfrm>
                  <a:off x="3194280" y="1927440"/>
                  <a:ext cx="1542600" cy="2159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9" name="Oval 4"/>
              <p:cNvSpPr/>
              <p:nvPr/>
            </p:nvSpPr>
            <p:spPr>
              <a:xfrm>
                <a:off x="3072960" y="1701360"/>
                <a:ext cx="1770840" cy="531360"/>
              </a:xfrm>
              <a:prstGeom prst="rect">
                <a:avLst/>
              </a:prstGeom>
              <a:noFill/>
              <a:ln w="0">
                <a:noFill/>
              </a:ln>
            </p:spPr>
            <p:style>
              <a:lnRef idx="0"/>
              <a:fillRef idx="0"/>
              <a:effectRef idx="0"/>
              <a:fontRef idx="minor"/>
            </p:style>
            <p:txBody>
              <a:bodyPr lIns="15120" rIns="15120" tIns="15120" bIns="15120" anchor="ctr">
                <a:noAutofit/>
              </a:bodyPr>
              <a:p>
                <a:pPr algn="ctr">
                  <a:lnSpc>
                    <a:spcPct val="90000"/>
                  </a:lnSpc>
                  <a:spcAft>
                    <a:spcPts val="476"/>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fr-FR" sz="1100" spc="-1" strike="noStrike">
                    <a:solidFill>
                      <a:srgbClr val="ffffff"/>
                    </a:solidFill>
                    <a:latin typeface="Calibri"/>
                  </a:rPr>
                  <a:t>STRATÉGIES DE MISE               EN ŒUVRE</a:t>
                </a:r>
                <a:endParaRPr b="0" lang="en-US" sz="1100" spc="-1" strike="noStrike">
                  <a:solidFill>
                    <a:srgbClr val="000000"/>
                  </a:solidFill>
                  <a:latin typeface="Arial"/>
                </a:endParaRPr>
              </a:p>
            </p:txBody>
          </p:sp>
        </p:grpSp>
        <p:grpSp>
          <p:nvGrpSpPr>
            <p:cNvPr id="330" name="Oval 18"/>
            <p:cNvGrpSpPr/>
            <p:nvPr/>
          </p:nvGrpSpPr>
          <p:grpSpPr>
            <a:xfrm>
              <a:off x="2913840" y="2042280"/>
              <a:ext cx="1256040" cy="700920"/>
              <a:chOff x="2913840" y="2042280"/>
              <a:chExt cx="1256040" cy="700920"/>
            </a:xfrm>
          </p:grpSpPr>
          <p:pic>
            <p:nvPicPr>
              <p:cNvPr id="331" name="Oval 18" descr=""/>
              <p:cNvPicPr/>
              <p:nvPr/>
            </p:nvPicPr>
            <p:blipFill>
              <a:blip r:embed="rId24"/>
              <a:stretch/>
            </p:blipFill>
            <p:spPr>
              <a:xfrm>
                <a:off x="2913840" y="2042280"/>
                <a:ext cx="1256040" cy="700920"/>
              </a:xfrm>
              <a:prstGeom prst="rect">
                <a:avLst/>
              </a:prstGeom>
              <a:ln w="0">
                <a:noFill/>
              </a:ln>
            </p:spPr>
          </p:pic>
          <p:sp>
            <p:nvSpPr>
              <p:cNvPr id="332" name=""/>
              <p:cNvSpPr/>
              <p:nvPr/>
            </p:nvSpPr>
            <p:spPr>
              <a:xfrm>
                <a:off x="3139200" y="2162880"/>
                <a:ext cx="808560" cy="417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Calibri"/>
                  </a:rPr>
                  <a:t>Technologies et  approches</a:t>
                </a:r>
                <a:endParaRPr b="0" lang="en-US" sz="900" spc="-1" strike="noStrike">
                  <a:solidFill>
                    <a:srgbClr val="000000"/>
                  </a:solidFill>
                  <a:latin typeface="Arial"/>
                </a:endParaRPr>
              </a:p>
            </p:txBody>
          </p:sp>
        </p:grpSp>
        <p:grpSp>
          <p:nvGrpSpPr>
            <p:cNvPr id="333" name="Oval 23"/>
            <p:cNvGrpSpPr/>
            <p:nvPr/>
          </p:nvGrpSpPr>
          <p:grpSpPr>
            <a:xfrm>
              <a:off x="2834640" y="2633760"/>
              <a:ext cx="1414440" cy="798480"/>
              <a:chOff x="2834640" y="2633760"/>
              <a:chExt cx="1414440" cy="798480"/>
            </a:xfrm>
          </p:grpSpPr>
          <p:pic>
            <p:nvPicPr>
              <p:cNvPr id="334" name="Oval 23" descr=""/>
              <p:cNvPicPr/>
              <p:nvPr/>
            </p:nvPicPr>
            <p:blipFill>
              <a:blip r:embed="rId25"/>
              <a:stretch/>
            </p:blipFill>
            <p:spPr>
              <a:xfrm>
                <a:off x="2834640" y="2633760"/>
                <a:ext cx="1414440" cy="798480"/>
              </a:xfrm>
              <a:prstGeom prst="rect">
                <a:avLst/>
              </a:prstGeom>
              <a:ln w="0">
                <a:noFill/>
              </a:ln>
            </p:spPr>
          </p:pic>
          <p:sp>
            <p:nvSpPr>
              <p:cNvPr id="335" name=""/>
              <p:cNvSpPr/>
              <p:nvPr/>
            </p:nvSpPr>
            <p:spPr>
              <a:xfrm>
                <a:off x="3085200" y="2764080"/>
                <a:ext cx="916200" cy="46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Calibri"/>
                  </a:rPr>
                  <a:t>Structures organisation-nelles et dispositifs</a:t>
                </a:r>
                <a:endParaRPr b="0" lang="en-US" sz="900" spc="-1" strike="noStrike">
                  <a:solidFill>
                    <a:srgbClr val="000000"/>
                  </a:solidFill>
                  <a:latin typeface="Arial"/>
                </a:endParaRPr>
              </a:p>
            </p:txBody>
          </p:sp>
        </p:grpSp>
        <p:grpSp>
          <p:nvGrpSpPr>
            <p:cNvPr id="336" name="Oval 59"/>
            <p:cNvGrpSpPr/>
            <p:nvPr/>
          </p:nvGrpSpPr>
          <p:grpSpPr>
            <a:xfrm>
              <a:off x="3749040" y="2176560"/>
              <a:ext cx="1341360" cy="981360"/>
              <a:chOff x="3749040" y="2176560"/>
              <a:chExt cx="1341360" cy="981360"/>
            </a:xfrm>
          </p:grpSpPr>
          <p:pic>
            <p:nvPicPr>
              <p:cNvPr id="337" name="Oval 59" descr=""/>
              <p:cNvPicPr/>
              <p:nvPr/>
            </p:nvPicPr>
            <p:blipFill>
              <a:blip r:embed="rId26"/>
              <a:stretch/>
            </p:blipFill>
            <p:spPr>
              <a:xfrm>
                <a:off x="3749040" y="2176560"/>
                <a:ext cx="1341360" cy="981360"/>
              </a:xfrm>
              <a:prstGeom prst="rect">
                <a:avLst/>
              </a:prstGeom>
              <a:ln w="0">
                <a:noFill/>
              </a:ln>
            </p:spPr>
          </p:pic>
          <p:sp>
            <p:nvSpPr>
              <p:cNvPr id="338" name=""/>
              <p:cNvSpPr/>
              <p:nvPr/>
            </p:nvSpPr>
            <p:spPr>
              <a:xfrm>
                <a:off x="3989880" y="2338200"/>
                <a:ext cx="868680" cy="619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Calibri"/>
                  </a:rPr>
                  <a:t>Mécanismes financiers d’adoption et de rentabilité</a:t>
                </a:r>
                <a:endParaRPr b="0" lang="en-US" sz="900" spc="-1" strike="noStrike">
                  <a:solidFill>
                    <a:srgbClr val="000000"/>
                  </a:solidFill>
                  <a:latin typeface="Arial"/>
                </a:endParaRPr>
              </a:p>
            </p:txBody>
          </p:sp>
        </p:grpSp>
        <p:sp>
          <p:nvSpPr>
            <p:cNvPr id="339" name="Rectangle 68"/>
            <p:cNvSpPr/>
            <p:nvPr/>
          </p:nvSpPr>
          <p:spPr>
            <a:xfrm>
              <a:off x="3128400" y="3429360"/>
              <a:ext cx="2383920" cy="779760"/>
            </a:xfrm>
            <a:prstGeom prst="rect">
              <a:avLst/>
            </a:prstGeom>
            <a:noFill/>
            <a:ln w="0">
              <a:noFill/>
            </a:ln>
          </p:spPr>
          <p:style>
            <a:lnRef idx="0"/>
            <a:fillRef idx="0"/>
            <a:effectRef idx="0"/>
            <a:fontRef idx="minor"/>
          </p:style>
          <p:txBody>
            <a:bodyPr wrap="none" lIns="90000" rIns="90000" tIns="46800" bIns="46800" anchor="t">
              <a:spAutoFit/>
            </a:bodyPr>
            <a:p>
              <a:pPr>
                <a:buClr>
                  <a:srgbClr val="3151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Arial"/>
                </a:rPr>
                <a:t>Promouvoir des champions</a:t>
              </a:r>
              <a:endParaRPr b="0" lang="en-US" sz="900" spc="-1" strike="noStrike">
                <a:solidFill>
                  <a:srgbClr val="000000"/>
                </a:solidFill>
                <a:latin typeface="Arial"/>
              </a:endParaRPr>
            </a:p>
            <a:p>
              <a:pPr>
                <a:buClr>
                  <a:srgbClr val="3151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Arial"/>
                </a:rPr>
                <a:t>S’appuyer sur des initiatives prometteuses</a:t>
              </a:r>
              <a:endParaRPr b="0" lang="en-US" sz="900" spc="-1" strike="noStrike">
                <a:solidFill>
                  <a:srgbClr val="000000"/>
                </a:solidFill>
                <a:latin typeface="Arial"/>
              </a:endParaRPr>
            </a:p>
            <a:p>
              <a:pPr>
                <a:buClr>
                  <a:srgbClr val="3151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Arial"/>
                </a:rPr>
                <a:t>Rehausser l’image des initiatives</a:t>
              </a:r>
              <a:endParaRPr b="0" lang="en-US" sz="900" spc="-1" strike="noStrike">
                <a:solidFill>
                  <a:srgbClr val="000000"/>
                </a:solidFill>
                <a:latin typeface="Arial"/>
              </a:endParaRPr>
            </a:p>
            <a:p>
              <a:pPr>
                <a:buClr>
                  <a:srgbClr val="3151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Arial"/>
                </a:rPr>
                <a:t>Lever les obstacles</a:t>
              </a:r>
              <a:endParaRPr b="0" lang="en-US" sz="900" spc="-1" strike="noStrike">
                <a:solidFill>
                  <a:srgbClr val="000000"/>
                </a:solidFill>
                <a:latin typeface="Arial"/>
              </a:endParaRPr>
            </a:p>
            <a:p>
              <a:pPr>
                <a:buClr>
                  <a:srgbClr val="3151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Arial"/>
                </a:rPr>
                <a:t>Innover</a:t>
              </a:r>
              <a:endParaRPr b="0" lang="en-US" sz="900" spc="-1" strike="noStrike">
                <a:solidFill>
                  <a:srgbClr val="000000"/>
                </a:solidFill>
                <a:latin typeface="Arial"/>
              </a:endParaRPr>
            </a:p>
          </p:txBody>
        </p:sp>
      </p:gr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Title 1" descr=""/>
          <p:cNvPicPr/>
          <p:nvPr/>
        </p:nvPicPr>
        <p:blipFill>
          <a:blip r:embed="rId1"/>
          <a:stretch/>
        </p:blipFill>
        <p:spPr>
          <a:xfrm>
            <a:off x="1212840" y="268200"/>
            <a:ext cx="7937640" cy="804960"/>
          </a:xfrm>
          <a:prstGeom prst="rect">
            <a:avLst/>
          </a:prstGeom>
          <a:ln w="0">
            <a:noFill/>
          </a:ln>
        </p:spPr>
      </p:pic>
      <p:sp>
        <p:nvSpPr>
          <p:cNvPr id="341" name=""/>
          <p:cNvSpPr txBox="1"/>
          <p:nvPr/>
        </p:nvSpPr>
        <p:spPr>
          <a:xfrm>
            <a:off x="1218960" y="1143000"/>
            <a:ext cx="7924680" cy="49831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Trois conseillers en assurance de la qualité</a:t>
            </a:r>
            <a:endParaRPr b="0" lang="en-US" sz="24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Experts  reconnus de pays développés, émergents et en développement</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Conseils et observations dispensés en permanence au groupe de reconstitution des ressource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Groupe de référence </a:t>
            </a:r>
            <a:endParaRPr b="0" lang="en-US" sz="24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Formé des agents des bureaux indépendants de l'évaluation des Entités d'exécution du FEM</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Chargé de procéder à des examens par les pairs des sous-études et autres produits à fournir</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Temps prévu pour la réalisation d’examens pertinents</a:t>
            </a:r>
            <a:endParaRPr b="0" lang="en-US" sz="20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2"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2135F-7CDD-4BE1-8AA0-09E096CCB9FC}"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1212840" y="109440"/>
            <a:ext cx="7937640" cy="1017720"/>
          </a:xfrm>
          <a:prstGeom prst="rect">
            <a:avLst/>
          </a:prstGeom>
          <a:ln w="0">
            <a:noFill/>
          </a:ln>
        </p:spPr>
      </p:pic>
      <p:sp>
        <p:nvSpPr>
          <p:cNvPr id="344" name=""/>
          <p:cNvSpPr txBox="1"/>
          <p:nvPr/>
        </p:nvSpPr>
        <p:spPr>
          <a:xfrm>
            <a:off x="1218960" y="1143000"/>
            <a:ext cx="7924680" cy="4983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Premier rapport : fin 2012</a:t>
            </a:r>
            <a:endParaRPr b="0" lang="en-US" sz="28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rPr>
              <a:t>Une approche fondée sur une méta-évaluation, s’appuyant sur des évaluations existantes du FEM</a:t>
            </a:r>
            <a:endParaRPr b="0" lang="en-US" sz="24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Rapport final : fin 2013 ou début 2014</a:t>
            </a:r>
            <a:endParaRPr b="0" lang="en-US" sz="28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rPr>
              <a:t>Le rapport final sera élaboré sur la base d’études d’évaluation distinctes</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5"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BDBB9-DC76-448C-ACB2-036FBD1EA5B5}"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Title 1" descr=""/>
          <p:cNvPicPr/>
          <p:nvPr/>
        </p:nvPicPr>
        <p:blipFill>
          <a:blip r:embed="rId1"/>
          <a:stretch/>
        </p:blipFill>
        <p:spPr>
          <a:xfrm>
            <a:off x="1212840" y="42840"/>
            <a:ext cx="7937640" cy="1127160"/>
          </a:xfrm>
          <a:prstGeom prst="rect">
            <a:avLst/>
          </a:prstGeom>
          <a:ln w="0">
            <a:noFill/>
          </a:ln>
        </p:spPr>
      </p:pic>
      <p:sp>
        <p:nvSpPr>
          <p:cNvPr id="347" name=""/>
          <p:cNvSpPr txBox="1"/>
          <p:nvPr/>
        </p:nvSpPr>
        <p:spPr>
          <a:xfrm>
            <a:off x="1295280" y="1219320"/>
            <a:ext cx="6858000" cy="54864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ertinence du FEM au regard des convention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Notation des résultats et de la viabilité des projets achevé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Notation des progrès accomplis au regard des impacts escomptés des projets achevé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Évolution du rôle catalyseur du FEM  (éléments fondamentaux,  projets de démonstration et/ou d’investissement)</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Évolution de l’adhésion des pays et de leur rôle moteur</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Meilleure compréhension de l’impact à long terme du FEM </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Évolution des problèmes de performance, par exemple : cofinancement, coûts de gestion, qualité à l’entrée et supervision</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Évolution  de la mise en œuvre et des résultats obtenus dans les domaines d’intervention du FEM.</a:t>
            </a:r>
            <a:endParaRPr b="0" lang="en-US" sz="2000" spc="-1" strike="noStrike">
              <a:solidFill>
                <a:srgbClr val="000000"/>
              </a:solidFill>
              <a:latin typeface="Calibri"/>
            </a:endParaRPr>
          </a:p>
        </p:txBody>
      </p:sp>
      <p:sp>
        <p:nvSpPr>
          <p:cNvPr id="348" name="Slide Number Placeholder 3"/>
          <p:cNvSpPr/>
          <p:nvPr/>
        </p:nvSpPr>
        <p:spPr>
          <a:xfrm>
            <a:off x="7238880" y="6248520"/>
            <a:ext cx="137160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016E6-D086-4F24-8713-89F18A1B99D4}"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Title 1" descr=""/>
          <p:cNvPicPr/>
          <p:nvPr/>
        </p:nvPicPr>
        <p:blipFill>
          <a:blip r:embed="rId1"/>
          <a:stretch/>
        </p:blipFill>
        <p:spPr>
          <a:xfrm>
            <a:off x="1212840" y="128520"/>
            <a:ext cx="7937640" cy="1176480"/>
          </a:xfrm>
          <a:prstGeom prst="rect">
            <a:avLst/>
          </a:prstGeom>
          <a:ln w="0">
            <a:noFill/>
          </a:ln>
        </p:spPr>
      </p:pic>
      <p:sp>
        <p:nvSpPr>
          <p:cNvPr id="350" name=""/>
          <p:cNvSpPr txBox="1"/>
          <p:nvPr/>
        </p:nvSpPr>
        <p:spPr>
          <a:xfrm>
            <a:off x="1218960" y="1143000"/>
            <a:ext cx="7924680" cy="5029200"/>
          </a:xfrm>
          <a:prstGeom prst="rect">
            <a:avLst/>
          </a:prstGeom>
          <a:noFill/>
          <a:ln w="0">
            <a:noFill/>
          </a:ln>
        </p:spPr>
        <p:txBody>
          <a:bodyPr anchor="t">
            <a:normAutofit fontScale="86000"/>
          </a:bodyPr>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Évolution des problèmes liés à l’environnement mondial et pertinence du FEM, y compris l’émergence de nouvelles modalités de financement</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Examen plus approfondi  des stratégies pour les domaines d’intervention et des preuves d’impact existantes</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ouverture du processus de réforme : cycle et modalités des projets du FEM, accès direct, Système transparent d'allocation des ressources (STAR), paragraphe 28</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ouvernance du FEM, performance des bailleurs de fonds et mobilisation de ressources</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Rôle du secteur privé et de la société civile</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olitiques transversales : genre, participation, sauvegardes et échange de connaissances</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oint sur l’évaluation du Programme de </a:t>
            </a:r>
            <a:r>
              <a:rPr b="0" sz="2000" spc="-1" strike="noStrike">
                <a:solidFill>
                  <a:srgbClr val="000000"/>
                </a:solidFill>
                <a:latin typeface="Calibri"/>
              </a:rPr>
              <a:t>microfinancements</a:t>
            </a:r>
            <a:r>
              <a:rPr b="0" lang="fr-FR" sz="2000" spc="-1" strike="noStrike">
                <a:solidFill>
                  <a:srgbClr val="000000"/>
                </a:solidFill>
                <a:latin typeface="Calibri"/>
              </a:rPr>
              <a:t> (depuis 2009)</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Rôle du Groupe consultatif pour la science et la technologie (STAP)</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4840" indent="-29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	</a:t>
            </a:r>
            <a:endParaRPr b="0" lang="en-US" sz="2800" spc="-1" strike="noStrike">
              <a:solidFill>
                <a:srgbClr val="000000"/>
              </a:solidFill>
              <a:latin typeface="Calibri"/>
            </a:endParaRPr>
          </a:p>
        </p:txBody>
      </p:sp>
      <p:sp>
        <p:nvSpPr>
          <p:cNvPr id="351"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74762-ECBB-4D10-8D36-256AEAA20432}"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Title 1" descr=""/>
          <p:cNvPicPr/>
          <p:nvPr/>
        </p:nvPicPr>
        <p:blipFill>
          <a:blip r:embed="rId1"/>
          <a:stretch/>
        </p:blipFill>
        <p:spPr>
          <a:xfrm>
            <a:off x="1212840" y="195120"/>
            <a:ext cx="7937640" cy="878040"/>
          </a:xfrm>
          <a:prstGeom prst="rect">
            <a:avLst/>
          </a:prstGeom>
          <a:ln w="0">
            <a:noFill/>
          </a:ln>
        </p:spPr>
      </p:pic>
      <p:sp>
        <p:nvSpPr>
          <p:cNvPr id="142" name=""/>
          <p:cNvSpPr txBox="1"/>
          <p:nvPr/>
        </p:nvSpPr>
        <p:spPr>
          <a:xfrm>
            <a:off x="1218960" y="1218960"/>
            <a:ext cx="7543800" cy="5105160"/>
          </a:xfrm>
          <a:prstGeom prst="rect">
            <a:avLst/>
          </a:prstGeom>
          <a:noFill/>
          <a:ln w="0">
            <a:noFill/>
          </a:ln>
        </p:spPr>
        <p:txBody>
          <a:bodyPr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31859c"/>
                </a:solidFill>
                <a:latin typeface="Calibri"/>
              </a:rPr>
              <a:t>Gestion à objectifs de résultats (GOR) et suivi-évaluation (S&amp;E)</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6600"/>
                </a:solidFill>
                <a:latin typeface="Calibri"/>
              </a:rPr>
              <a:t>Le S&amp;E du FEM</a:t>
            </a:r>
            <a:endParaRPr b="0" lang="en-US" sz="2000" spc="-1" strike="noStrike">
              <a:solidFill>
                <a:srgbClr val="000000"/>
              </a:solidFill>
              <a:latin typeface="Calibri"/>
            </a:endParaRPr>
          </a:p>
          <a:p>
            <a:pPr lvl="1" marL="743040" indent="-28584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6600"/>
                </a:solidFill>
                <a:latin typeface="Calibri"/>
              </a:rPr>
              <a:t>Niveaux de S&amp;E et entités responsables </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31859c"/>
                </a:solidFill>
                <a:latin typeface="Calibri"/>
              </a:rPr>
              <a:t>Politique de S&amp;E</a:t>
            </a:r>
            <a:endParaRPr b="0" lang="en-US" sz="2000" spc="-1" strike="noStrike">
              <a:solidFill>
                <a:srgbClr val="000000"/>
              </a:solidFill>
              <a:latin typeface="Calibri"/>
            </a:endParaRPr>
          </a:p>
          <a:p>
            <a:pPr lvl="1" marL="743040" indent="-28584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Exigences minimales</a:t>
            </a:r>
            <a:endParaRPr b="0" lang="en-US" sz="2000" spc="-1" strike="noStrike">
              <a:solidFill>
                <a:srgbClr val="000000"/>
              </a:solidFill>
              <a:latin typeface="Calibri"/>
            </a:endParaRPr>
          </a:p>
          <a:p>
            <a:pPr lvl="1" marL="743040" indent="-28584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Rôle des points focaux</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1859c"/>
                </a:solidFill>
                <a:latin typeface="Calibri"/>
              </a:rPr>
              <a:t>Cinquième bilan global du FEM</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Objectif des bilans globaux</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Axes d’éléments d’évaluation  et cinquième bilan global</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Théorie du changement</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ontenu des rapports du cinquième bilan global</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1859c"/>
                </a:solidFill>
                <a:latin typeface="Calibri"/>
              </a:rPr>
              <a:t>Échange de connaissances et communauté de pratique</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1859c"/>
                </a:solidFill>
                <a:latin typeface="Calibri"/>
              </a:rPr>
              <a:t>Questions et réponses</a:t>
            </a:r>
            <a:endParaRPr b="0" lang="en-US" sz="2000" spc="-1" strike="noStrike">
              <a:solidFill>
                <a:srgbClr val="000000"/>
              </a:solidFill>
              <a:latin typeface="Calibri"/>
            </a:endParaRPr>
          </a:p>
        </p:txBody>
      </p:sp>
      <p:sp>
        <p:nvSpPr>
          <p:cNvPr id="143"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BF08E-5B30-4727-BB07-24E15B0D1318}"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Title 1" descr=""/>
          <p:cNvPicPr/>
          <p:nvPr/>
        </p:nvPicPr>
        <p:blipFill>
          <a:blip r:embed="rId1"/>
          <a:stretch/>
        </p:blipFill>
        <p:spPr>
          <a:xfrm>
            <a:off x="1212840" y="268200"/>
            <a:ext cx="7937640" cy="804960"/>
          </a:xfrm>
          <a:prstGeom prst="rect">
            <a:avLst/>
          </a:prstGeom>
          <a:ln w="0">
            <a:noFill/>
          </a:ln>
        </p:spPr>
      </p:pic>
      <p:sp>
        <p:nvSpPr>
          <p:cNvPr id="353" name=""/>
          <p:cNvSpPr txBox="1"/>
          <p:nvPr/>
        </p:nvSpPr>
        <p:spPr>
          <a:xfrm>
            <a:off x="1218960" y="1143000"/>
            <a:ext cx="7924680" cy="49831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public visé inclut :</a:t>
            </a:r>
            <a:endParaRPr b="0" lang="en-US" sz="24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Les participants à la reconstitution des ressources de la Caisse</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Le Conseil du FEM</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L’Assemblée</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Au travers de l’Assemblée, les membres du FEM</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s conclusions seront communiquées à d’autres parties  du FEM :</a:t>
            </a:r>
            <a:endParaRPr b="0" lang="en-US" sz="24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Secrétariat du FEM</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Entités d’exécution du FEM </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Groupe consultatif pour la science et la technologie (STAP)</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Réseau d’ONG</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Concepteurs de projets et autres</a:t>
            </a:r>
            <a:endParaRPr b="0" lang="en-US" sz="2000" spc="-1" strike="noStrike">
              <a:solidFill>
                <a:srgbClr val="000000"/>
              </a:solidFill>
              <a:latin typeface="Calibri"/>
            </a:endParaRPr>
          </a:p>
        </p:txBody>
      </p:sp>
      <p:sp>
        <p:nvSpPr>
          <p:cNvPr id="354"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4D0CF-A206-419E-B508-1AEE9A36B1B5}"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Title 1" descr=""/>
          <p:cNvPicPr/>
          <p:nvPr/>
        </p:nvPicPr>
        <p:blipFill>
          <a:blip r:embed="rId1"/>
          <a:stretch/>
        </p:blipFill>
        <p:spPr>
          <a:xfrm>
            <a:off x="1212840" y="195120"/>
            <a:ext cx="7937640" cy="878040"/>
          </a:xfrm>
          <a:prstGeom prst="rect">
            <a:avLst/>
          </a:prstGeom>
          <a:ln w="0">
            <a:noFill/>
          </a:ln>
        </p:spPr>
      </p:pic>
      <p:sp>
        <p:nvSpPr>
          <p:cNvPr id="356" name=""/>
          <p:cNvSpPr txBox="1"/>
          <p:nvPr/>
        </p:nvSpPr>
        <p:spPr>
          <a:xfrm>
            <a:off x="1219320" y="1439640"/>
            <a:ext cx="6858000" cy="556236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 </a:t>
            </a:r>
            <a:r>
              <a:rPr b="0" sz="2000" spc="-1" strike="noStrike">
                <a:solidFill>
                  <a:srgbClr val="000000"/>
                </a:solidFill>
                <a:latin typeface="Calibri"/>
              </a:rPr>
              <a:t>S&amp;E contribue </a:t>
            </a:r>
            <a:r>
              <a:rPr b="0" lang="fr-FR" sz="2000" spc="-1" strike="noStrike">
                <a:solidFill>
                  <a:srgbClr val="000000"/>
                </a:solidFill>
                <a:latin typeface="Calibri"/>
              </a:rPr>
              <a:t>à l’acquisition de connaissances et à l’amélioration de l’organisation :</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1859c"/>
                </a:solidFill>
                <a:latin typeface="Calibri"/>
              </a:rPr>
              <a:t>L’accès des publics ciblés aux conclusions et enseignements devrait être convivial</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1859c"/>
                </a:solidFill>
                <a:latin typeface="Calibri"/>
              </a:rPr>
              <a:t>Les rapports d’évaluation devraient faire l’objet d’une stratégie de diffusion dynamique</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 </a:t>
            </a:r>
            <a:r>
              <a:rPr b="0" lang="fr-FR" sz="2000" spc="-1" strike="noStrike">
                <a:solidFill>
                  <a:srgbClr val="000000"/>
                </a:solidFill>
                <a:latin typeface="Calibri"/>
              </a:rPr>
              <a:t>L’échange de connaissances permet aux partenaires de tirer parti des leçons de l’expérience</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Buts de l’échange de connaissances au sein du FEM :</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1859c"/>
                </a:solidFill>
                <a:latin typeface="Calibri"/>
              </a:rPr>
              <a:t>Promouvoir une culture d’apprentissage</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1859c"/>
                </a:solidFill>
                <a:latin typeface="Calibri"/>
              </a:rPr>
              <a:t>Mettre en pratique les enseignements tirés</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1859c"/>
                </a:solidFill>
                <a:latin typeface="Calibri"/>
              </a:rPr>
              <a:t>Rétroagir dans le cadre de nouvelles activités</a:t>
            </a:r>
            <a:endParaRPr b="0" lang="en-US" sz="2000" spc="-1" strike="noStrike">
              <a:solidFill>
                <a:srgbClr val="000000"/>
              </a:solidFill>
              <a:latin typeface="Calibri"/>
            </a:endParaRPr>
          </a:p>
        </p:txBody>
      </p:sp>
      <p:sp>
        <p:nvSpPr>
          <p:cNvPr id="357"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F4CB7-F7CA-42D9-8D53-AF8458DF5D13}"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Title 1" descr=""/>
          <p:cNvPicPr/>
          <p:nvPr/>
        </p:nvPicPr>
        <p:blipFill>
          <a:blip r:embed="rId1"/>
          <a:stretch/>
        </p:blipFill>
        <p:spPr>
          <a:xfrm>
            <a:off x="1212840" y="244440"/>
            <a:ext cx="7937640" cy="828720"/>
          </a:xfrm>
          <a:prstGeom prst="rect">
            <a:avLst/>
          </a:prstGeom>
          <a:ln w="0">
            <a:noFill/>
          </a:ln>
        </p:spPr>
      </p:pic>
      <p:sp>
        <p:nvSpPr>
          <p:cNvPr id="359" name=""/>
          <p:cNvSpPr txBox="1"/>
          <p:nvPr/>
        </p:nvSpPr>
        <p:spPr>
          <a:xfrm>
            <a:off x="1218960" y="1447920"/>
            <a:ext cx="6629400" cy="4876560"/>
          </a:xfrm>
          <a:prstGeom prst="rect">
            <a:avLst/>
          </a:prstGeom>
          <a:noFill/>
          <a:ln w="0">
            <a:noFill/>
          </a:ln>
        </p:spPr>
        <p:txBody>
          <a:bodyPr anchor="t">
            <a:normAutofit/>
          </a:bodyPr>
          <a:p>
            <a:pPr marL="568440" indent="-5684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Communauté de pratiques  sur l’évaluation du changement et de l’évolution climatiques</a:t>
            </a:r>
            <a:endParaRPr b="0" lang="en-US" sz="2100" spc="-1" strike="noStrike">
              <a:solidFill>
                <a:srgbClr val="000000"/>
              </a:solidFill>
              <a:latin typeface="Calibri"/>
            </a:endParaRPr>
          </a:p>
          <a:p>
            <a:pPr marL="568440" indent="-5684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568440" indent="-5684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Échange des meilleures pratiques en matière d’évaluation du changement climatique et du développement</a:t>
            </a:r>
            <a:endParaRPr b="0" lang="en-US" sz="2100" spc="-1" strike="noStrike">
              <a:solidFill>
                <a:srgbClr val="000000"/>
              </a:solidFill>
              <a:latin typeface="Calibri"/>
            </a:endParaRPr>
          </a:p>
          <a:p>
            <a:pPr marL="568440" indent="-5684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568440" indent="-5684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Plus de 700 membres</a:t>
            </a:r>
            <a:endParaRPr b="0" lang="en-US" sz="2100" spc="-1" strike="noStrike">
              <a:solidFill>
                <a:srgbClr val="000000"/>
              </a:solidFill>
              <a:latin typeface="Calibri"/>
            </a:endParaRPr>
          </a:p>
          <a:p>
            <a:pPr marL="568440" indent="-5684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568440" indent="-5684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568440" indent="-5684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Outils de participation en ligne :</a:t>
            </a:r>
            <a:endParaRPr b="0" lang="en-US" sz="2100" spc="-1" strike="noStrike">
              <a:solidFill>
                <a:srgbClr val="000000"/>
              </a:solidFill>
              <a:latin typeface="Calibri"/>
            </a:endParaRPr>
          </a:p>
          <a:p>
            <a:pPr lvl="1" marL="968400" indent="-568440">
              <a:lnSpc>
                <a:spcPct val="80000"/>
              </a:lnSpc>
              <a:spcBef>
                <a:spcPts val="400"/>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00"/>
                </a:solidFill>
                <a:latin typeface="Calibri"/>
              </a:rPr>
              <a:t>Site web : </a:t>
            </a:r>
            <a:r>
              <a:rPr b="0" lang="fr-FR" sz="1600" spc="-1" strike="noStrike" u="sng">
                <a:solidFill>
                  <a:srgbClr val="0000ff"/>
                </a:solidFill>
                <a:uFillTx/>
                <a:latin typeface="Calibri"/>
                <a:hlinkClick r:id="rId2"/>
              </a:rPr>
              <a:t>www.climate-eval.org</a:t>
            </a:r>
            <a:endParaRPr b="0" lang="en-US" sz="1600" spc="-1" strike="noStrike">
              <a:solidFill>
                <a:srgbClr val="000000"/>
              </a:solidFill>
              <a:latin typeface="Calibri"/>
            </a:endParaRPr>
          </a:p>
          <a:p>
            <a:pPr lvl="1" marL="968400" indent="-568440">
              <a:lnSpc>
                <a:spcPct val="80000"/>
              </a:lnSpc>
              <a:spcBef>
                <a:spcPts val="451"/>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00"/>
                </a:solidFill>
                <a:latin typeface="Calibri"/>
              </a:rPr>
              <a:t>Groupe Linkedin</a:t>
            </a:r>
            <a:endParaRPr b="0" lang="en-US" sz="1800" spc="-1" strike="noStrike">
              <a:solidFill>
                <a:srgbClr val="000000"/>
              </a:solidFill>
              <a:latin typeface="Calibri"/>
            </a:endParaRPr>
          </a:p>
          <a:p>
            <a:pPr lvl="1" marL="968400" indent="-568440">
              <a:lnSpc>
                <a:spcPct val="80000"/>
              </a:lnSpc>
              <a:spcBef>
                <a:spcPts val="451"/>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00"/>
                </a:solidFill>
                <a:latin typeface="Calibri"/>
              </a:rPr>
              <a:t>Réseaux sociaux</a:t>
            </a:r>
            <a:endParaRPr b="0" lang="en-US" sz="1800" spc="-1" strike="noStrike">
              <a:solidFill>
                <a:srgbClr val="000000"/>
              </a:solidFill>
              <a:latin typeface="Calibri"/>
            </a:endParaRPr>
          </a:p>
          <a:p>
            <a:pPr lvl="1" marL="968400" indent="-568440">
              <a:lnSpc>
                <a:spcPct val="80000"/>
              </a:lnSpc>
              <a:spcBef>
                <a:spcPts val="451"/>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00"/>
                </a:solidFill>
                <a:latin typeface="Calibri"/>
              </a:rPr>
              <a:t>Bulletin d’information</a:t>
            </a:r>
            <a:endParaRPr b="0" lang="en-US" sz="1800" spc="-1" strike="noStrike">
              <a:solidFill>
                <a:srgbClr val="000000"/>
              </a:solidFill>
              <a:latin typeface="Calibri"/>
            </a:endParaRPr>
          </a:p>
          <a:p>
            <a:pPr lvl="1" marL="968400" indent="-568440">
              <a:lnSpc>
                <a:spcPct val="80000"/>
              </a:lnSpc>
              <a:spcBef>
                <a:spcPts val="451"/>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00"/>
                </a:solidFill>
                <a:latin typeface="Calibri"/>
              </a:rPr>
              <a:t>Blog</a:t>
            </a:r>
            <a:endParaRPr b="0" lang="en-US" sz="1800" spc="-1" strike="noStrike">
              <a:solidFill>
                <a:srgbClr val="000000"/>
              </a:solidFill>
              <a:latin typeface="Calibri"/>
            </a:endParaRPr>
          </a:p>
          <a:p>
            <a:pPr lvl="1" marL="968400" indent="-56844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995F7-4E7F-49C4-9EA3-5A749F7EFA01}"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pic>
        <p:nvPicPr>
          <p:cNvPr id="361" name="Picture 1" descr=""/>
          <p:cNvPicPr/>
          <p:nvPr/>
        </p:nvPicPr>
        <p:blipFill>
          <a:blip r:embed="rId3"/>
          <a:stretch/>
        </p:blipFill>
        <p:spPr>
          <a:xfrm>
            <a:off x="7772400" y="380880"/>
            <a:ext cx="1036800" cy="1024200"/>
          </a:xfrm>
          <a:prstGeom prst="rect">
            <a:avLst/>
          </a:prstGeom>
          <a:ln w="0">
            <a:noFill/>
          </a:ln>
        </p:spPr>
      </p:pic>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Title 1" descr=""/>
          <p:cNvPicPr/>
          <p:nvPr/>
        </p:nvPicPr>
        <p:blipFill>
          <a:blip r:embed="rId1"/>
          <a:stretch/>
        </p:blipFill>
        <p:spPr>
          <a:xfrm>
            <a:off x="1212840" y="244440"/>
            <a:ext cx="7937640" cy="828720"/>
          </a:xfrm>
          <a:prstGeom prst="rect">
            <a:avLst/>
          </a:prstGeom>
          <a:ln w="0">
            <a:noFill/>
          </a:ln>
        </p:spPr>
      </p:pic>
      <p:sp>
        <p:nvSpPr>
          <p:cNvPr id="363" name=""/>
          <p:cNvSpPr txBox="1"/>
          <p:nvPr/>
        </p:nvSpPr>
        <p:spPr>
          <a:xfrm>
            <a:off x="1218960" y="1143000"/>
            <a:ext cx="7924680" cy="5410080"/>
          </a:xfrm>
          <a:prstGeom prst="rect">
            <a:avLst/>
          </a:prstGeom>
          <a:noFill/>
          <a:ln w="0">
            <a:noFill/>
          </a:ln>
        </p:spPr>
        <p:txBody>
          <a:bodyPr anchor="t">
            <a:normAutofit/>
          </a:bodyPr>
          <a:p>
            <a:pPr marL="568440" indent="-568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national Conference in Alexandria in 2008</a:t>
            </a:r>
            <a:endParaRPr b="0" lang="en-US" sz="2400" spc="-1" strike="noStrike">
              <a:solidFill>
                <a:srgbClr val="000000"/>
              </a:solidFill>
              <a:latin typeface="Calibri"/>
            </a:endParaRPr>
          </a:p>
          <a:p>
            <a:pPr marL="568440" indent="-568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ld Bank publication (book)</a:t>
            </a:r>
            <a:endParaRPr b="0" lang="en-US" sz="2400" spc="-1" strike="noStrike">
              <a:solidFill>
                <a:srgbClr val="000000"/>
              </a:solidFill>
              <a:latin typeface="Calibri"/>
            </a:endParaRPr>
          </a:p>
          <a:p>
            <a:pPr lvl="1" marL="968400" indent="-568440">
              <a:lnSpc>
                <a:spcPct val="90000"/>
              </a:lnSpc>
              <a:spcBef>
                <a:spcPts val="499"/>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Calibri"/>
              </a:rPr>
              <a:t>Evaluating Climate Change and Development</a:t>
            </a:r>
            <a:r>
              <a:rPr b="0" lang="en-US" sz="2000" spc="-1" strike="noStrike">
                <a:solidFill>
                  <a:srgbClr val="006600"/>
                </a:solidFill>
                <a:latin typeface="Calibri"/>
              </a:rPr>
              <a:t> (van den Berg and Feinstein, 2009)</a:t>
            </a:r>
            <a:endParaRPr b="0" lang="en-US" sz="2000" spc="-1" strike="noStrike">
              <a:solidFill>
                <a:srgbClr val="000000"/>
              </a:solidFill>
              <a:latin typeface="Calibri"/>
            </a:endParaRPr>
          </a:p>
          <a:p>
            <a:pPr marL="568440" indent="-568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ectronic library (400+ reports)</a:t>
            </a:r>
            <a:endParaRPr b="0" lang="en-US" sz="2400" spc="-1" strike="noStrike">
              <a:solidFill>
                <a:srgbClr val="000000"/>
              </a:solidFill>
              <a:latin typeface="Calibri"/>
            </a:endParaRPr>
          </a:p>
          <a:p>
            <a:pPr marL="568440" indent="-568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binars</a:t>
            </a:r>
            <a:endParaRPr b="0" lang="en-US" sz="2400" spc="-1" strike="noStrike">
              <a:solidFill>
                <a:srgbClr val="000000"/>
              </a:solidFill>
              <a:latin typeface="Calibri"/>
            </a:endParaRPr>
          </a:p>
          <a:p>
            <a:pPr marL="568440" indent="-568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ies</a:t>
            </a:r>
            <a:endParaRPr b="0" lang="en-US" sz="2400" spc="-1" strike="noStrike">
              <a:solidFill>
                <a:srgbClr val="000000"/>
              </a:solidFill>
              <a:latin typeface="Calibri"/>
            </a:endParaRPr>
          </a:p>
          <a:p>
            <a:pPr lvl="1" marL="968400" indent="-568440">
              <a:lnSpc>
                <a:spcPct val="90000"/>
              </a:lnSpc>
              <a:spcBef>
                <a:spcPts val="601"/>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alibri"/>
              </a:rPr>
              <a:t>Meta-Evaluation of Mitigation Studies</a:t>
            </a:r>
            <a:endParaRPr b="0" lang="en-US" sz="2400" spc="-1" strike="noStrike">
              <a:solidFill>
                <a:srgbClr val="000000"/>
              </a:solidFill>
              <a:latin typeface="Calibri"/>
            </a:endParaRPr>
          </a:p>
          <a:p>
            <a:pPr lvl="1" marL="968400" indent="-568440">
              <a:lnSpc>
                <a:spcPct val="90000"/>
              </a:lnSpc>
              <a:spcBef>
                <a:spcPts val="601"/>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alibri"/>
              </a:rPr>
              <a:t>Adaptation Framework for M&amp;E</a:t>
            </a:r>
            <a:endParaRPr b="0" lang="en-US" sz="2400" spc="-1" strike="noStrike">
              <a:solidFill>
                <a:srgbClr val="000000"/>
              </a:solidFill>
              <a:latin typeface="Calibri"/>
            </a:endParaRPr>
          </a:p>
          <a:p>
            <a:pPr lvl="1" marL="968400" indent="-568440">
              <a:lnSpc>
                <a:spcPct val="90000"/>
              </a:lnSpc>
              <a:spcBef>
                <a:spcPts val="601"/>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alibri"/>
              </a:rPr>
              <a:t>3 more underway</a:t>
            </a:r>
            <a:endParaRPr b="0" lang="en-US" sz="2400" spc="-1" strike="noStrike">
              <a:solidFill>
                <a:srgbClr val="000000"/>
              </a:solidFill>
              <a:latin typeface="Calibri"/>
            </a:endParaRPr>
          </a:p>
          <a:p>
            <a:pPr marL="568440" indent="-568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tnership – SEA Change , IDEAS</a:t>
            </a:r>
            <a:endParaRPr b="0" lang="en-US" sz="2400" spc="-1" strike="noStrike">
              <a:solidFill>
                <a:srgbClr val="000000"/>
              </a:solidFill>
              <a:latin typeface="Calibri"/>
            </a:endParaRPr>
          </a:p>
          <a:p>
            <a:pPr marL="568440" indent="-568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ers</a:t>
            </a:r>
            <a:endParaRPr b="0" lang="en-US" sz="2400" spc="-1" strike="noStrike">
              <a:solidFill>
                <a:srgbClr val="000000"/>
              </a:solidFill>
              <a:latin typeface="Calibri"/>
            </a:endParaRPr>
          </a:p>
          <a:p>
            <a:pPr lvl="1" marL="968400" indent="-568440">
              <a:lnSpc>
                <a:spcPct val="90000"/>
              </a:lnSpc>
              <a:spcBef>
                <a:spcPts val="499"/>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alibri"/>
              </a:rPr>
              <a:t>SIDA, FOEN, GEFEO</a:t>
            </a:r>
            <a:endParaRPr b="0" lang="en-US" sz="2000" spc="-1" strike="noStrike">
              <a:solidFill>
                <a:srgbClr val="000000"/>
              </a:solidFill>
              <a:latin typeface="Calibri"/>
            </a:endParaRPr>
          </a:p>
        </p:txBody>
      </p:sp>
      <p:sp>
        <p:nvSpPr>
          <p:cNvPr id="364"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DCE9E-7969-4EAA-A31D-13A8E1B59727}"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pic>
        <p:nvPicPr>
          <p:cNvPr id="365" name="Picture 1" descr=""/>
          <p:cNvPicPr/>
          <p:nvPr/>
        </p:nvPicPr>
        <p:blipFill>
          <a:blip r:embed="rId2"/>
          <a:stretch/>
        </p:blipFill>
        <p:spPr>
          <a:xfrm>
            <a:off x="7772400" y="380880"/>
            <a:ext cx="1036800" cy="1024200"/>
          </a:xfrm>
          <a:prstGeom prst="rect">
            <a:avLst/>
          </a:prstGeom>
          <a:ln w="0">
            <a:noFill/>
          </a:ln>
        </p:spPr>
      </p:pic>
      <p:pic>
        <p:nvPicPr>
          <p:cNvPr id="366" name="Picture 2" descr=""/>
          <p:cNvPicPr/>
          <p:nvPr/>
        </p:nvPicPr>
        <p:blipFill>
          <a:blip r:embed="rId3"/>
          <a:stretch/>
        </p:blipFill>
        <p:spPr>
          <a:xfrm>
            <a:off x="0" y="0"/>
            <a:ext cx="9344160" cy="7172280"/>
          </a:xfrm>
          <a:prstGeom prst="rect">
            <a:avLst/>
          </a:prstGeom>
          <a:ln w="0">
            <a:noFill/>
          </a:ln>
        </p:spPr>
      </p:pic>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0" y="1371240"/>
            <a:ext cx="9144000" cy="251460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1859c"/>
                </a:solidFill>
                <a:latin typeface="Calibri"/>
              </a:rPr>
              <a:t>Merci de votre attention !</a:t>
            </a:r>
            <a:endParaRPr b="0" lang="en-US" sz="40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ff"/>
                </a:solidFill>
                <a:uFillTx/>
                <a:latin typeface="Calibri"/>
                <a:hlinkClick r:id="rId1"/>
              </a:rPr>
              <a:t>www.gefeo.org</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8" name="Slide Number Placeholder 5"/>
          <p:cNvSpPr/>
          <p:nvPr/>
        </p:nvSpPr>
        <p:spPr>
          <a:xfrm>
            <a:off x="84240" y="6357960"/>
            <a:ext cx="587160" cy="474480"/>
          </a:xfrm>
          <a:prstGeom prst="rect">
            <a:avLst/>
          </a:prstGeom>
          <a:noFill/>
          <a:ln w="0">
            <a:noFill/>
          </a:ln>
        </p:spPr>
        <p:style>
          <a:lnRef idx="0"/>
          <a:fillRef idx="0"/>
          <a:effectRef idx="0"/>
          <a:fontRef idx="minor"/>
        </p:style>
        <p:txBody>
          <a:bodyPr lIns="86400" rIns="864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B9279-DA37-4C5D-B531-3B0AFB91D584}"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74D22-5A8F-4052-9D07-11A24EB0FB07}"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pic>
        <p:nvPicPr>
          <p:cNvPr id="145" name="Picture 2" descr=""/>
          <p:cNvPicPr/>
          <p:nvPr/>
        </p:nvPicPr>
        <p:blipFill>
          <a:blip r:embed="rId1"/>
          <a:stretch/>
        </p:blipFill>
        <p:spPr>
          <a:xfrm>
            <a:off x="0" y="6321600"/>
            <a:ext cx="1219320" cy="536400"/>
          </a:xfrm>
          <a:prstGeom prst="rect">
            <a:avLst/>
          </a:prstGeom>
          <a:ln w="0">
            <a:noFill/>
          </a:ln>
        </p:spPr>
      </p:pic>
      <p:pic>
        <p:nvPicPr>
          <p:cNvPr id="146" name="Title 1" descr=""/>
          <p:cNvPicPr/>
          <p:nvPr/>
        </p:nvPicPr>
        <p:blipFill>
          <a:blip r:embed="rId2"/>
          <a:stretch/>
        </p:blipFill>
        <p:spPr>
          <a:xfrm>
            <a:off x="1219320" y="122400"/>
            <a:ext cx="7931160" cy="950760"/>
          </a:xfrm>
          <a:prstGeom prst="rect">
            <a:avLst/>
          </a:prstGeom>
          <a:ln w="0">
            <a:noFill/>
          </a:ln>
        </p:spPr>
      </p:pic>
      <p:sp>
        <p:nvSpPr>
          <p:cNvPr id="147" name="Content Placeholder 2"/>
          <p:cNvSpPr/>
          <p:nvPr/>
        </p:nvSpPr>
        <p:spPr>
          <a:xfrm>
            <a:off x="1219320" y="1440000"/>
            <a:ext cx="6858000" cy="487656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Calibri"/>
                <a:ea typeface="Verdana"/>
              </a:rPr>
              <a:t>La gestion à objectifs de résultats(GOR) – Définition des buts et objectifs, suivi, apprentissage et prise de décisions. </a:t>
            </a: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Verdana"/>
              </a:rPr>
              <a:t>L’évaluation  est destinée à vérifier la « réalité » de la GOR.</a:t>
            </a: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Verdana"/>
              </a:rPr>
              <a:t>La GOR, et en particulier le suivi, indiquent si l’organisation est </a:t>
            </a:r>
            <a:r>
              <a:rPr b="1" lang="fr-FR" sz="2000" spc="-1" strike="noStrike">
                <a:solidFill>
                  <a:srgbClr val="31859c"/>
                </a:solidFill>
                <a:latin typeface="Calibri"/>
                <a:ea typeface="Verdana"/>
              </a:rPr>
              <a:t>« bien engagée ».</a:t>
            </a: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Verdana"/>
              </a:rPr>
              <a:t>L’évaluation peut indiquer si l’organisation est </a:t>
            </a:r>
            <a:r>
              <a:rPr b="1" lang="fr-FR" sz="2000" spc="-1" strike="noStrike">
                <a:solidFill>
                  <a:srgbClr val="31859c"/>
                </a:solidFill>
                <a:latin typeface="Calibri"/>
                <a:ea typeface="Verdana"/>
              </a:rPr>
              <a:t>« sur la bonne voie »</a:t>
            </a:r>
            <a:r>
              <a:rPr b="0" lang="fr-FR" sz="2000" spc="-1" strike="noStrike">
                <a:solidFill>
                  <a:srgbClr val="000000"/>
                </a:solidFill>
                <a:latin typeface="Calibri"/>
                <a:ea typeface="Verdana"/>
              </a:rPr>
              <a:t>.</a:t>
            </a:r>
            <a:endParaRPr b="0" lang="en-US" sz="20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Title 1" descr=""/>
          <p:cNvPicPr/>
          <p:nvPr/>
        </p:nvPicPr>
        <p:blipFill>
          <a:blip r:embed="rId1"/>
          <a:stretch/>
        </p:blipFill>
        <p:spPr>
          <a:xfrm>
            <a:off x="1212840" y="195120"/>
            <a:ext cx="7937640" cy="878040"/>
          </a:xfrm>
          <a:prstGeom prst="rect">
            <a:avLst/>
          </a:prstGeom>
          <a:ln w="0">
            <a:noFill/>
          </a:ln>
        </p:spPr>
      </p:pic>
      <p:sp>
        <p:nvSpPr>
          <p:cNvPr id="149" name=""/>
          <p:cNvSpPr txBox="1"/>
          <p:nvPr/>
        </p:nvSpPr>
        <p:spPr>
          <a:xfrm>
            <a:off x="1219320" y="1440000"/>
            <a:ext cx="6858000" cy="5410080"/>
          </a:xfrm>
          <a:prstGeom prst="rect">
            <a:avLst/>
          </a:prstGeom>
          <a:noFill/>
          <a:ln w="0">
            <a:noFill/>
          </a:ln>
        </p:spPr>
        <p:txBody>
          <a:bodyPr anchor="t">
            <a:normAutofit/>
          </a:bodyPr>
          <a:p>
            <a:pPr marL="343080" indent="-343080">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31859c"/>
                </a:solidFill>
                <a:latin typeface="Calibri"/>
              </a:rPr>
              <a:t>Deux objectifs primordiaux :</a:t>
            </a:r>
            <a:endParaRPr b="0" lang="en-US" sz="26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romouvoir la </a:t>
            </a:r>
            <a:r>
              <a:rPr b="1" lang="fr-FR" sz="2000" spc="-1" strike="noStrike">
                <a:solidFill>
                  <a:srgbClr val="000000"/>
                </a:solidFill>
                <a:latin typeface="Calibri"/>
              </a:rPr>
              <a:t>responsabilisation </a:t>
            </a:r>
            <a:r>
              <a:rPr b="0" lang="fr-FR" sz="2000" spc="-1" strike="noStrike">
                <a:solidFill>
                  <a:srgbClr val="000000"/>
                </a:solidFill>
                <a:latin typeface="Calibri"/>
              </a:rPr>
              <a:t>en vue d’atteindre les objectifs du FEM grâce à l’évaluation des</a:t>
            </a:r>
            <a:r>
              <a:rPr b="1" lang="fr-FR" sz="2000" spc="-1" strike="noStrike">
                <a:solidFill>
                  <a:srgbClr val="31859c"/>
                </a:solidFill>
                <a:latin typeface="Calibri"/>
              </a:rPr>
              <a:t> résultats, </a:t>
            </a:r>
            <a:r>
              <a:rPr b="0" lang="fr-FR" sz="2000" spc="-1" strike="noStrike">
                <a:solidFill>
                  <a:srgbClr val="000000"/>
                </a:solidFill>
                <a:latin typeface="Calibri"/>
              </a:rPr>
              <a:t>de</a:t>
            </a:r>
            <a:r>
              <a:rPr b="1" lang="fr-FR" sz="2000" spc="-1" strike="noStrike">
                <a:solidFill>
                  <a:srgbClr val="31859c"/>
                </a:solidFill>
                <a:latin typeface="Calibri"/>
              </a:rPr>
              <a:t> l’efficacité, </a:t>
            </a:r>
            <a:r>
              <a:rPr b="0" lang="fr-FR" sz="2000" spc="-1" strike="noStrike">
                <a:solidFill>
                  <a:srgbClr val="000000"/>
                </a:solidFill>
                <a:latin typeface="Calibri"/>
              </a:rPr>
              <a:t>des</a:t>
            </a:r>
            <a:r>
              <a:rPr b="1" lang="fr-FR" sz="2000" spc="-1" strike="noStrike">
                <a:solidFill>
                  <a:srgbClr val="31859c"/>
                </a:solidFill>
                <a:latin typeface="Calibri"/>
              </a:rPr>
              <a:t> processus </a:t>
            </a:r>
            <a:r>
              <a:rPr b="0" lang="fr-FR" sz="2000" spc="-1" strike="noStrike">
                <a:solidFill>
                  <a:srgbClr val="000000"/>
                </a:solidFill>
                <a:latin typeface="Calibri"/>
              </a:rPr>
              <a:t>et de </a:t>
            </a:r>
            <a:r>
              <a:rPr b="1" lang="fr-FR" sz="2000" spc="-1" strike="noStrike">
                <a:solidFill>
                  <a:srgbClr val="31859c"/>
                </a:solidFill>
                <a:latin typeface="Calibri"/>
              </a:rPr>
              <a:t>la performance </a:t>
            </a:r>
            <a:r>
              <a:rPr b="0" lang="fr-FR" sz="2000" spc="-1" strike="noStrike">
                <a:solidFill>
                  <a:srgbClr val="000000"/>
                </a:solidFill>
                <a:latin typeface="Calibri"/>
              </a:rPr>
              <a:t>des partenaires qui prennent part aux activités </a:t>
            </a:r>
            <a:r>
              <a:rPr b="0" lang="fr-FR" sz="2000" spc="-1" strike="noStrike">
                <a:solidFill>
                  <a:srgbClr val="502800"/>
                </a:solidFill>
                <a:latin typeface="Calibri"/>
              </a:rPr>
              <a:t>du FEM</a:t>
            </a:r>
            <a:r>
              <a:rPr b="0" lang="fr-FR" sz="2000" spc="-1" strike="noStrike">
                <a:solidFill>
                  <a:srgbClr val="000000"/>
                </a:solidFill>
                <a:latin typeface="Calibri"/>
              </a:rPr>
              <a:t>. </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romouvoir </a:t>
            </a:r>
            <a:r>
              <a:rPr b="1" lang="fr-FR" sz="2000" spc="-1" strike="noStrike">
                <a:solidFill>
                  <a:srgbClr val="000000"/>
                </a:solidFill>
                <a:latin typeface="Calibri"/>
              </a:rPr>
              <a:t>l’apprentissage</a:t>
            </a:r>
            <a:r>
              <a:rPr b="0" lang="fr-FR" sz="2000" spc="-1" strike="noStrike">
                <a:solidFill>
                  <a:srgbClr val="000000"/>
                </a:solidFill>
                <a:latin typeface="Calibri"/>
              </a:rPr>
              <a:t>, </a:t>
            </a:r>
            <a:r>
              <a:rPr b="1" lang="fr-FR" sz="2000" spc="-1" strike="noStrike">
                <a:solidFill>
                  <a:srgbClr val="000000"/>
                </a:solidFill>
                <a:latin typeface="Calibri"/>
              </a:rPr>
              <a:t>la rétroaction</a:t>
            </a:r>
            <a:r>
              <a:rPr b="0" lang="fr-FR" sz="2000" spc="-1" strike="noStrike">
                <a:solidFill>
                  <a:srgbClr val="000000"/>
                </a:solidFill>
                <a:latin typeface="Calibri"/>
              </a:rPr>
              <a:t> et </a:t>
            </a:r>
            <a:r>
              <a:rPr b="1" lang="fr-FR" sz="2000" spc="-1" strike="noStrike">
                <a:solidFill>
                  <a:srgbClr val="000000"/>
                </a:solidFill>
                <a:latin typeface="Calibri"/>
              </a:rPr>
              <a:t>l’échange de connaissances </a:t>
            </a:r>
            <a:r>
              <a:rPr b="0" lang="fr-FR" sz="2000" spc="-1" strike="noStrike">
                <a:solidFill>
                  <a:srgbClr val="000000"/>
                </a:solidFill>
                <a:latin typeface="Calibri"/>
              </a:rPr>
              <a:t>sur les résultats et les enseignements tirés entre le FEM et ses partenaires, comme fondement de la prise de décisions sur les politiques, les stratégies, la gestion des programmes et les projets, et pour améliorer les </a:t>
            </a:r>
            <a:r>
              <a:rPr b="1" lang="fr-FR" sz="2000" spc="-1" strike="noStrike">
                <a:solidFill>
                  <a:srgbClr val="000000"/>
                </a:solidFill>
                <a:latin typeface="Calibri"/>
              </a:rPr>
              <a:t>connaissances </a:t>
            </a:r>
            <a:r>
              <a:rPr b="0" lang="fr-FR" sz="2000" spc="-1" strike="noStrike">
                <a:solidFill>
                  <a:srgbClr val="000000"/>
                </a:solidFill>
                <a:latin typeface="Calibri"/>
              </a:rPr>
              <a:t>et la </a:t>
            </a:r>
            <a:r>
              <a:rPr b="1" lang="fr-FR" sz="2000" spc="-1" strike="noStrike">
                <a:solidFill>
                  <a:srgbClr val="000000"/>
                </a:solidFill>
                <a:latin typeface="Calibri"/>
              </a:rPr>
              <a:t>performance.</a:t>
            </a:r>
            <a:endParaRPr b="0" lang="en-US" sz="2000" spc="-1" strike="noStrike">
              <a:solidFill>
                <a:srgbClr val="000000"/>
              </a:solidFill>
              <a:latin typeface="Calibri"/>
            </a:endParaRPr>
          </a:p>
        </p:txBody>
      </p:sp>
      <p:sp>
        <p:nvSpPr>
          <p:cNvPr id="150"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9CEF2-F345-4D6A-BD3E-F2B0C239DA73}"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Espace réservé du numéro de diapositive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17217-7CA7-4C69-A6BD-C811F3270D32}"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
        <p:nvSpPr>
          <p:cNvPr id="152"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itle 1"/>
          <p:cNvSpPr/>
          <p:nvPr/>
        </p:nvSpPr>
        <p:spPr>
          <a:xfrm>
            <a:off x="1254240" y="173160"/>
            <a:ext cx="7924680" cy="792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700" spc="-1" strike="noStrike">
                <a:solidFill>
                  <a:srgbClr val="000000"/>
                </a:solidFill>
                <a:latin typeface="Calibri"/>
              </a:rPr>
              <a:t>Niveaux de S&amp;E et entités responsables</a:t>
            </a:r>
            <a:endParaRPr b="0" lang="en-US" sz="3700" spc="-1" strike="noStrike">
              <a:solidFill>
                <a:srgbClr val="000000"/>
              </a:solidFill>
              <a:latin typeface="Arial"/>
            </a:endParaRPr>
          </a:p>
        </p:txBody>
      </p:sp>
      <p:sp>
        <p:nvSpPr>
          <p:cNvPr id="154" name="AutoShape 120"/>
          <p:cNvSpPr/>
          <p:nvPr/>
        </p:nvSpPr>
        <p:spPr>
          <a:xfrm>
            <a:off x="1693800" y="965160"/>
            <a:ext cx="6051600" cy="4683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Rectangle 119"/>
          <p:cNvSpPr/>
          <p:nvPr/>
        </p:nvSpPr>
        <p:spPr>
          <a:xfrm>
            <a:off x="4946400" y="130968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sp>
        <p:nvSpPr>
          <p:cNvPr id="156" name="Rectangle 118"/>
          <p:cNvSpPr/>
          <p:nvPr/>
        </p:nvSpPr>
        <p:spPr>
          <a:xfrm>
            <a:off x="7657560" y="544032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pic>
        <p:nvPicPr>
          <p:cNvPr id="157" name="Picture 117" descr=""/>
          <p:cNvPicPr/>
          <p:nvPr/>
        </p:nvPicPr>
        <p:blipFill>
          <a:blip r:embed="rId1"/>
          <a:stretch/>
        </p:blipFill>
        <p:spPr>
          <a:xfrm>
            <a:off x="2157480" y="1546200"/>
            <a:ext cx="5506920" cy="3836880"/>
          </a:xfrm>
          <a:prstGeom prst="rect">
            <a:avLst/>
          </a:prstGeom>
          <a:ln w="0">
            <a:noFill/>
          </a:ln>
        </p:spPr>
      </p:pic>
      <p:pic>
        <p:nvPicPr>
          <p:cNvPr id="158" name="Picture 116" descr=""/>
          <p:cNvPicPr/>
          <p:nvPr/>
        </p:nvPicPr>
        <p:blipFill>
          <a:blip r:embed="rId2"/>
          <a:stretch/>
        </p:blipFill>
        <p:spPr>
          <a:xfrm>
            <a:off x="2627280" y="1917720"/>
            <a:ext cx="5057640" cy="3522600"/>
          </a:xfrm>
          <a:prstGeom prst="rect">
            <a:avLst/>
          </a:prstGeom>
          <a:ln w="0">
            <a:noFill/>
          </a:ln>
        </p:spPr>
      </p:pic>
      <p:grpSp>
        <p:nvGrpSpPr>
          <p:cNvPr id="159" name="Group 113"/>
          <p:cNvGrpSpPr/>
          <p:nvPr/>
        </p:nvGrpSpPr>
        <p:grpSpPr>
          <a:xfrm>
            <a:off x="6205680" y="2840040"/>
            <a:ext cx="501480" cy="206280"/>
            <a:chOff x="6205680" y="2840040"/>
            <a:chExt cx="501480" cy="206280"/>
          </a:xfrm>
        </p:grpSpPr>
        <p:sp>
          <p:nvSpPr>
            <p:cNvPr id="160" name="Rectangle 115"/>
            <p:cNvSpPr/>
            <p:nvPr/>
          </p:nvSpPr>
          <p:spPr>
            <a:xfrm>
              <a:off x="6205680" y="2840040"/>
              <a:ext cx="5014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14"/>
            <p:cNvSpPr/>
            <p:nvPr/>
          </p:nvSpPr>
          <p:spPr>
            <a:xfrm>
              <a:off x="6205680" y="2840040"/>
              <a:ext cx="501480" cy="206280"/>
            </a:xfrm>
            <a:prstGeom prst="rect">
              <a:avLst/>
            </a:prstGeom>
            <a:noFill/>
            <a:ln cap="rnd"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2" name="Rectangle 112"/>
          <p:cNvSpPr/>
          <p:nvPr/>
        </p:nvSpPr>
        <p:spPr>
          <a:xfrm>
            <a:off x="6113520" y="2870280"/>
            <a:ext cx="536400" cy="122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Conseils</a:t>
            </a:r>
            <a:endParaRPr b="0" lang="en-US" sz="800" spc="-1" strike="noStrike">
              <a:solidFill>
                <a:srgbClr val="000000"/>
              </a:solidFill>
              <a:latin typeface="Arial"/>
            </a:endParaRPr>
          </a:p>
        </p:txBody>
      </p:sp>
      <p:sp>
        <p:nvSpPr>
          <p:cNvPr id="163" name="Rectangle 111"/>
          <p:cNvSpPr/>
          <p:nvPr/>
        </p:nvSpPr>
        <p:spPr>
          <a:xfrm>
            <a:off x="6606720" y="287964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 </a:t>
            </a:r>
            <a:endParaRPr b="0" lang="en-US" sz="800" spc="-1" strike="noStrike">
              <a:solidFill>
                <a:srgbClr val="000000"/>
              </a:solidFill>
              <a:latin typeface="Arial"/>
            </a:endParaRPr>
          </a:p>
        </p:txBody>
      </p:sp>
      <p:grpSp>
        <p:nvGrpSpPr>
          <p:cNvPr id="164" name="Group 108"/>
          <p:cNvGrpSpPr/>
          <p:nvPr/>
        </p:nvGrpSpPr>
        <p:grpSpPr>
          <a:xfrm>
            <a:off x="3016080" y="1573200"/>
            <a:ext cx="633600" cy="206280"/>
            <a:chOff x="3016080" y="1573200"/>
            <a:chExt cx="633600" cy="206280"/>
          </a:xfrm>
        </p:grpSpPr>
        <p:sp>
          <p:nvSpPr>
            <p:cNvPr id="165" name="Rectangle 110"/>
            <p:cNvSpPr/>
            <p:nvPr/>
          </p:nvSpPr>
          <p:spPr>
            <a:xfrm>
              <a:off x="3016080" y="1573200"/>
              <a:ext cx="6336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09"/>
            <p:cNvSpPr/>
            <p:nvPr/>
          </p:nvSpPr>
          <p:spPr>
            <a:xfrm>
              <a:off x="3016080" y="1573200"/>
              <a:ext cx="633600" cy="206280"/>
            </a:xfrm>
            <a:prstGeom prst="rect">
              <a:avLst/>
            </a:prstGeom>
            <a:noFill/>
            <a:ln cap="rnd"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Rectangle 107"/>
          <p:cNvSpPr/>
          <p:nvPr/>
        </p:nvSpPr>
        <p:spPr>
          <a:xfrm>
            <a:off x="2554560" y="1650960"/>
            <a:ext cx="602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Surveillance</a:t>
            </a:r>
            <a:endParaRPr b="0" lang="en-US" sz="800" spc="-1" strike="noStrike">
              <a:solidFill>
                <a:srgbClr val="000000"/>
              </a:solidFill>
              <a:latin typeface="Arial"/>
            </a:endParaRPr>
          </a:p>
        </p:txBody>
      </p:sp>
      <p:sp>
        <p:nvSpPr>
          <p:cNvPr id="168" name="Rectangle 105"/>
          <p:cNvSpPr/>
          <p:nvPr/>
        </p:nvSpPr>
        <p:spPr>
          <a:xfrm>
            <a:off x="3549960" y="16128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grpSp>
        <p:nvGrpSpPr>
          <p:cNvPr id="169" name="Group 102"/>
          <p:cNvGrpSpPr/>
          <p:nvPr/>
        </p:nvGrpSpPr>
        <p:grpSpPr>
          <a:xfrm>
            <a:off x="4191120" y="1093680"/>
            <a:ext cx="699840" cy="192240"/>
            <a:chOff x="4191120" y="1093680"/>
            <a:chExt cx="699840" cy="192240"/>
          </a:xfrm>
        </p:grpSpPr>
        <p:sp>
          <p:nvSpPr>
            <p:cNvPr id="170" name="Rectangle 104"/>
            <p:cNvSpPr/>
            <p:nvPr/>
          </p:nvSpPr>
          <p:spPr>
            <a:xfrm>
              <a:off x="4191120" y="1093680"/>
              <a:ext cx="699840" cy="1922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103"/>
            <p:cNvSpPr/>
            <p:nvPr/>
          </p:nvSpPr>
          <p:spPr>
            <a:xfrm>
              <a:off x="4191120" y="1093680"/>
              <a:ext cx="699840" cy="192240"/>
            </a:xfrm>
            <a:prstGeom prst="rect">
              <a:avLst/>
            </a:prstGeom>
            <a:noFill/>
            <a:ln cap="rnd"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2" name="Rectangle 101"/>
          <p:cNvSpPr/>
          <p:nvPr/>
        </p:nvSpPr>
        <p:spPr>
          <a:xfrm>
            <a:off x="4550760" y="1171440"/>
            <a:ext cx="820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Politique de S&amp;E</a:t>
            </a:r>
            <a:endParaRPr b="0" lang="en-US" sz="800" spc="-1" strike="noStrike">
              <a:solidFill>
                <a:srgbClr val="000000"/>
              </a:solidFill>
              <a:latin typeface="Arial"/>
            </a:endParaRPr>
          </a:p>
        </p:txBody>
      </p:sp>
      <p:sp>
        <p:nvSpPr>
          <p:cNvPr id="173" name="Rectangle 100"/>
          <p:cNvSpPr/>
          <p:nvPr/>
        </p:nvSpPr>
        <p:spPr>
          <a:xfrm>
            <a:off x="4798440" y="113508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 </a:t>
            </a:r>
            <a:endParaRPr b="0" lang="en-US" sz="800" spc="-1" strike="noStrike">
              <a:solidFill>
                <a:srgbClr val="000000"/>
              </a:solidFill>
              <a:latin typeface="Arial"/>
            </a:endParaRPr>
          </a:p>
        </p:txBody>
      </p:sp>
      <p:sp>
        <p:nvSpPr>
          <p:cNvPr id="174" name="Oval 99"/>
          <p:cNvSpPr/>
          <p:nvPr/>
        </p:nvSpPr>
        <p:spPr>
          <a:xfrm>
            <a:off x="5295960" y="2971800"/>
            <a:ext cx="876240" cy="819000"/>
          </a:xfrm>
          <a:prstGeom prst="ellipse">
            <a:avLst/>
          </a:prstGeom>
          <a:solidFill>
            <a:srgbClr val="62b28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94"/>
          <p:cNvSpPr/>
          <p:nvPr/>
        </p:nvSpPr>
        <p:spPr>
          <a:xfrm>
            <a:off x="5405760" y="2948040"/>
            <a:ext cx="768960" cy="608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Bureau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de  l’évaluation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du FE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artenaire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 l’évaluation</a:t>
            </a:r>
            <a:endParaRPr b="0" lang="en-US" sz="800" spc="-1" strike="noStrike">
              <a:solidFill>
                <a:srgbClr val="000000"/>
              </a:solidFill>
              <a:latin typeface="Arial"/>
            </a:endParaRPr>
          </a:p>
        </p:txBody>
      </p:sp>
      <p:sp>
        <p:nvSpPr>
          <p:cNvPr id="176" name="Rectangle 89"/>
          <p:cNvSpPr/>
          <p:nvPr/>
        </p:nvSpPr>
        <p:spPr>
          <a:xfrm>
            <a:off x="3278160" y="1012680"/>
            <a:ext cx="1316160" cy="71640"/>
          </a:xfrm>
          <a:prstGeom prst="rect">
            <a:avLst/>
          </a:prstGeom>
          <a:solidFill>
            <a:srgbClr val="ffffff"/>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41"/>
          <p:cNvSpPr/>
          <p:nvPr/>
        </p:nvSpPr>
        <p:spPr>
          <a:xfrm>
            <a:off x="3936960" y="1254240"/>
            <a:ext cx="8280" cy="30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ea typeface="Times New Roman"/>
              </a:rPr>
              <a:t> </a:t>
            </a:r>
            <a:endParaRPr b="0" lang="en-US" sz="200" spc="-1" strike="noStrike">
              <a:solidFill>
                <a:srgbClr val="000000"/>
              </a:solidFill>
              <a:latin typeface="Arial"/>
            </a:endParaRPr>
          </a:p>
        </p:txBody>
      </p:sp>
      <p:sp>
        <p:nvSpPr>
          <p:cNvPr id="178" name="Freeform 38"/>
          <p:cNvSpPr/>
          <p:nvPr/>
        </p:nvSpPr>
        <p:spPr>
          <a:xfrm>
            <a:off x="2832120" y="965160"/>
            <a:ext cx="822240" cy="335160"/>
          </a:xfrm>
          <a:custGeom>
            <a:avLst/>
            <a:gdLst>
              <a:gd name="textAreaLeft" fmla="*/ 0 w 822240"/>
              <a:gd name="textAreaRight" fmla="*/ 822600 w 822240"/>
              <a:gd name="textAreaTop" fmla="*/ 0 h 335160"/>
              <a:gd name="textAreaBottom" fmla="*/ 335520 h 335160"/>
            </a:gdLst>
            <a:ahLst/>
            <a:rect l="textAreaLeft" t="textAreaTop" r="textAreaRight" b="textAreaBottom"/>
            <a:pathLst>
              <a:path w="10000" h="4553">
                <a:moveTo>
                  <a:pt x="9850" y="100"/>
                </a:moveTo>
                <a:lnTo>
                  <a:pt x="9850" y="100"/>
                </a:lnTo>
                <a:cubicBezTo>
                  <a:pt x="9823" y="100"/>
                  <a:pt x="9800" y="77"/>
                  <a:pt x="9800" y="50"/>
                </a:cubicBezTo>
                <a:cubicBezTo>
                  <a:pt x="9800" y="22"/>
                  <a:pt x="9823" y="0"/>
                  <a:pt x="9850" y="0"/>
                </a:cubicBezTo>
                <a:lnTo>
                  <a:pt x="9850" y="0"/>
                </a:lnTo>
                <a:cubicBezTo>
                  <a:pt x="9878" y="0"/>
                  <a:pt x="9900" y="22"/>
                  <a:pt x="9900" y="50"/>
                </a:cubicBezTo>
                <a:cubicBezTo>
                  <a:pt x="9900" y="77"/>
                  <a:pt x="9878" y="100"/>
                  <a:pt x="9850" y="100"/>
                </a:cubicBezTo>
                <a:close/>
                <a:moveTo>
                  <a:pt x="9650" y="100"/>
                </a:moveTo>
                <a:lnTo>
                  <a:pt x="9650" y="100"/>
                </a:lnTo>
                <a:cubicBezTo>
                  <a:pt x="9623" y="100"/>
                  <a:pt x="9600" y="77"/>
                  <a:pt x="9600" y="50"/>
                </a:cubicBezTo>
                <a:cubicBezTo>
                  <a:pt x="9600" y="22"/>
                  <a:pt x="9623" y="0"/>
                  <a:pt x="9650" y="0"/>
                </a:cubicBezTo>
                <a:lnTo>
                  <a:pt x="9650" y="0"/>
                </a:lnTo>
                <a:cubicBezTo>
                  <a:pt x="9678" y="0"/>
                  <a:pt x="9700" y="22"/>
                  <a:pt x="9700" y="50"/>
                </a:cubicBezTo>
                <a:cubicBezTo>
                  <a:pt x="9700" y="77"/>
                  <a:pt x="9678" y="100"/>
                  <a:pt x="9650" y="100"/>
                </a:cubicBezTo>
                <a:close/>
                <a:moveTo>
                  <a:pt x="9450" y="100"/>
                </a:moveTo>
                <a:lnTo>
                  <a:pt x="9450" y="100"/>
                </a:lnTo>
                <a:cubicBezTo>
                  <a:pt x="9423" y="100"/>
                  <a:pt x="9400" y="77"/>
                  <a:pt x="9400" y="50"/>
                </a:cubicBezTo>
                <a:cubicBezTo>
                  <a:pt x="9400" y="22"/>
                  <a:pt x="9423" y="0"/>
                  <a:pt x="9450" y="0"/>
                </a:cubicBezTo>
                <a:lnTo>
                  <a:pt x="9450" y="0"/>
                </a:lnTo>
                <a:cubicBezTo>
                  <a:pt x="9478" y="0"/>
                  <a:pt x="9500" y="22"/>
                  <a:pt x="9500" y="50"/>
                </a:cubicBezTo>
                <a:cubicBezTo>
                  <a:pt x="9500" y="77"/>
                  <a:pt x="9478" y="100"/>
                  <a:pt x="9450" y="100"/>
                </a:cubicBezTo>
                <a:close/>
                <a:moveTo>
                  <a:pt x="9250" y="100"/>
                </a:moveTo>
                <a:lnTo>
                  <a:pt x="9250" y="100"/>
                </a:lnTo>
                <a:cubicBezTo>
                  <a:pt x="9222" y="100"/>
                  <a:pt x="9200" y="77"/>
                  <a:pt x="9200" y="50"/>
                </a:cubicBezTo>
                <a:cubicBezTo>
                  <a:pt x="9200" y="22"/>
                  <a:pt x="9222" y="0"/>
                  <a:pt x="9250" y="0"/>
                </a:cubicBezTo>
                <a:lnTo>
                  <a:pt x="9250" y="0"/>
                </a:lnTo>
                <a:cubicBezTo>
                  <a:pt x="9278" y="0"/>
                  <a:pt x="9300" y="22"/>
                  <a:pt x="9300" y="50"/>
                </a:cubicBezTo>
                <a:cubicBezTo>
                  <a:pt x="9300" y="77"/>
                  <a:pt x="9278" y="100"/>
                  <a:pt x="9250" y="100"/>
                </a:cubicBezTo>
                <a:close/>
                <a:moveTo>
                  <a:pt x="9050" y="100"/>
                </a:moveTo>
                <a:lnTo>
                  <a:pt x="9050" y="100"/>
                </a:lnTo>
                <a:cubicBezTo>
                  <a:pt x="9022" y="100"/>
                  <a:pt x="9000" y="77"/>
                  <a:pt x="9000" y="50"/>
                </a:cubicBezTo>
                <a:cubicBezTo>
                  <a:pt x="9000" y="22"/>
                  <a:pt x="9022" y="0"/>
                  <a:pt x="9050" y="0"/>
                </a:cubicBezTo>
                <a:lnTo>
                  <a:pt x="9050" y="0"/>
                </a:lnTo>
                <a:cubicBezTo>
                  <a:pt x="9078" y="0"/>
                  <a:pt x="9100" y="22"/>
                  <a:pt x="9100" y="50"/>
                </a:cubicBezTo>
                <a:cubicBezTo>
                  <a:pt x="9100" y="77"/>
                  <a:pt x="9078" y="100"/>
                  <a:pt x="9050" y="100"/>
                </a:cubicBezTo>
                <a:close/>
                <a:moveTo>
                  <a:pt x="8850" y="100"/>
                </a:moveTo>
                <a:lnTo>
                  <a:pt x="8850" y="100"/>
                </a:lnTo>
                <a:cubicBezTo>
                  <a:pt x="8822" y="100"/>
                  <a:pt x="8800" y="77"/>
                  <a:pt x="8800" y="50"/>
                </a:cubicBezTo>
                <a:cubicBezTo>
                  <a:pt x="8800" y="22"/>
                  <a:pt x="8822" y="0"/>
                  <a:pt x="8850" y="0"/>
                </a:cubicBezTo>
                <a:lnTo>
                  <a:pt x="8850" y="0"/>
                </a:lnTo>
                <a:cubicBezTo>
                  <a:pt x="8878" y="0"/>
                  <a:pt x="8900" y="22"/>
                  <a:pt x="8900" y="50"/>
                </a:cubicBezTo>
                <a:cubicBezTo>
                  <a:pt x="8900" y="77"/>
                  <a:pt x="8878" y="100"/>
                  <a:pt x="8850" y="100"/>
                </a:cubicBezTo>
                <a:close/>
                <a:moveTo>
                  <a:pt x="8650" y="100"/>
                </a:moveTo>
                <a:lnTo>
                  <a:pt x="8650" y="100"/>
                </a:lnTo>
                <a:cubicBezTo>
                  <a:pt x="8622" y="100"/>
                  <a:pt x="8600" y="77"/>
                  <a:pt x="8600" y="50"/>
                </a:cubicBezTo>
                <a:cubicBezTo>
                  <a:pt x="8600" y="22"/>
                  <a:pt x="8622" y="0"/>
                  <a:pt x="8650" y="0"/>
                </a:cubicBezTo>
                <a:lnTo>
                  <a:pt x="8650" y="0"/>
                </a:lnTo>
                <a:cubicBezTo>
                  <a:pt x="8677" y="0"/>
                  <a:pt x="8700" y="22"/>
                  <a:pt x="8700" y="50"/>
                </a:cubicBezTo>
                <a:cubicBezTo>
                  <a:pt x="8700" y="77"/>
                  <a:pt x="8677" y="100"/>
                  <a:pt x="8650" y="100"/>
                </a:cubicBezTo>
                <a:close/>
                <a:moveTo>
                  <a:pt x="8450" y="100"/>
                </a:moveTo>
                <a:lnTo>
                  <a:pt x="8450" y="100"/>
                </a:lnTo>
                <a:cubicBezTo>
                  <a:pt x="8422" y="100"/>
                  <a:pt x="8400" y="77"/>
                  <a:pt x="8400" y="50"/>
                </a:cubicBezTo>
                <a:cubicBezTo>
                  <a:pt x="8400" y="22"/>
                  <a:pt x="8422" y="0"/>
                  <a:pt x="8450" y="0"/>
                </a:cubicBezTo>
                <a:lnTo>
                  <a:pt x="8450" y="0"/>
                </a:lnTo>
                <a:cubicBezTo>
                  <a:pt x="8477" y="0"/>
                  <a:pt x="8500" y="22"/>
                  <a:pt x="8500" y="50"/>
                </a:cubicBezTo>
                <a:cubicBezTo>
                  <a:pt x="8500" y="77"/>
                  <a:pt x="8477" y="100"/>
                  <a:pt x="8450" y="100"/>
                </a:cubicBezTo>
                <a:close/>
                <a:moveTo>
                  <a:pt x="8250" y="100"/>
                </a:moveTo>
                <a:lnTo>
                  <a:pt x="8250" y="100"/>
                </a:lnTo>
                <a:cubicBezTo>
                  <a:pt x="8222" y="100"/>
                  <a:pt x="8200" y="77"/>
                  <a:pt x="8200" y="50"/>
                </a:cubicBezTo>
                <a:cubicBezTo>
                  <a:pt x="8200" y="22"/>
                  <a:pt x="8222" y="0"/>
                  <a:pt x="8250" y="0"/>
                </a:cubicBezTo>
                <a:lnTo>
                  <a:pt x="8250" y="0"/>
                </a:lnTo>
                <a:cubicBezTo>
                  <a:pt x="8277" y="0"/>
                  <a:pt x="8300" y="22"/>
                  <a:pt x="8300" y="50"/>
                </a:cubicBezTo>
                <a:cubicBezTo>
                  <a:pt x="8300" y="77"/>
                  <a:pt x="8277" y="100"/>
                  <a:pt x="8250" y="100"/>
                </a:cubicBezTo>
                <a:close/>
                <a:moveTo>
                  <a:pt x="8050" y="100"/>
                </a:moveTo>
                <a:lnTo>
                  <a:pt x="8049" y="100"/>
                </a:lnTo>
                <a:cubicBezTo>
                  <a:pt x="8022" y="100"/>
                  <a:pt x="7999" y="77"/>
                  <a:pt x="7999" y="50"/>
                </a:cubicBezTo>
                <a:cubicBezTo>
                  <a:pt x="7999" y="22"/>
                  <a:pt x="8022" y="0"/>
                  <a:pt x="8049" y="0"/>
                </a:cubicBezTo>
                <a:lnTo>
                  <a:pt x="8050" y="0"/>
                </a:lnTo>
                <a:cubicBezTo>
                  <a:pt x="8077" y="0"/>
                  <a:pt x="8100" y="22"/>
                  <a:pt x="8100" y="50"/>
                </a:cubicBezTo>
                <a:cubicBezTo>
                  <a:pt x="8100" y="77"/>
                  <a:pt x="8077" y="100"/>
                  <a:pt x="8050" y="100"/>
                </a:cubicBezTo>
                <a:close/>
                <a:moveTo>
                  <a:pt x="7849" y="100"/>
                </a:moveTo>
                <a:lnTo>
                  <a:pt x="7849" y="100"/>
                </a:lnTo>
                <a:cubicBezTo>
                  <a:pt x="7822" y="100"/>
                  <a:pt x="7799" y="77"/>
                  <a:pt x="7799" y="50"/>
                </a:cubicBezTo>
                <a:cubicBezTo>
                  <a:pt x="7799" y="22"/>
                  <a:pt x="7822" y="0"/>
                  <a:pt x="7849" y="0"/>
                </a:cubicBezTo>
                <a:lnTo>
                  <a:pt x="7849" y="0"/>
                </a:lnTo>
                <a:cubicBezTo>
                  <a:pt x="7877" y="0"/>
                  <a:pt x="7899" y="22"/>
                  <a:pt x="7899" y="50"/>
                </a:cubicBezTo>
                <a:cubicBezTo>
                  <a:pt x="7899" y="77"/>
                  <a:pt x="7877" y="100"/>
                  <a:pt x="7849" y="100"/>
                </a:cubicBezTo>
                <a:close/>
                <a:moveTo>
                  <a:pt x="7649" y="100"/>
                </a:moveTo>
                <a:lnTo>
                  <a:pt x="7649" y="100"/>
                </a:lnTo>
                <a:cubicBezTo>
                  <a:pt x="7622" y="100"/>
                  <a:pt x="7599" y="77"/>
                  <a:pt x="7599" y="50"/>
                </a:cubicBezTo>
                <a:cubicBezTo>
                  <a:pt x="7599" y="22"/>
                  <a:pt x="7622" y="0"/>
                  <a:pt x="7649" y="0"/>
                </a:cubicBezTo>
                <a:lnTo>
                  <a:pt x="7649" y="0"/>
                </a:lnTo>
                <a:cubicBezTo>
                  <a:pt x="7677" y="0"/>
                  <a:pt x="7699" y="22"/>
                  <a:pt x="7699" y="50"/>
                </a:cubicBezTo>
                <a:cubicBezTo>
                  <a:pt x="7699" y="77"/>
                  <a:pt x="7677" y="100"/>
                  <a:pt x="7649" y="100"/>
                </a:cubicBezTo>
                <a:close/>
                <a:moveTo>
                  <a:pt x="7449" y="100"/>
                </a:moveTo>
                <a:lnTo>
                  <a:pt x="7449" y="100"/>
                </a:lnTo>
                <a:cubicBezTo>
                  <a:pt x="7422" y="100"/>
                  <a:pt x="7399" y="77"/>
                  <a:pt x="7399" y="50"/>
                </a:cubicBezTo>
                <a:cubicBezTo>
                  <a:pt x="7399" y="22"/>
                  <a:pt x="7422" y="0"/>
                  <a:pt x="7449" y="0"/>
                </a:cubicBezTo>
                <a:lnTo>
                  <a:pt x="7449" y="0"/>
                </a:lnTo>
                <a:cubicBezTo>
                  <a:pt x="7477" y="0"/>
                  <a:pt x="7499" y="22"/>
                  <a:pt x="7499" y="50"/>
                </a:cubicBezTo>
                <a:cubicBezTo>
                  <a:pt x="7499" y="77"/>
                  <a:pt x="7477" y="100"/>
                  <a:pt x="7449" y="100"/>
                </a:cubicBezTo>
                <a:close/>
                <a:moveTo>
                  <a:pt x="7249" y="100"/>
                </a:moveTo>
                <a:lnTo>
                  <a:pt x="7249" y="100"/>
                </a:lnTo>
                <a:cubicBezTo>
                  <a:pt x="7221" y="100"/>
                  <a:pt x="7199" y="77"/>
                  <a:pt x="7199" y="50"/>
                </a:cubicBezTo>
                <a:cubicBezTo>
                  <a:pt x="7199" y="22"/>
                  <a:pt x="7221" y="0"/>
                  <a:pt x="7249" y="0"/>
                </a:cubicBezTo>
                <a:lnTo>
                  <a:pt x="7249" y="0"/>
                </a:lnTo>
                <a:cubicBezTo>
                  <a:pt x="7277" y="0"/>
                  <a:pt x="7299" y="22"/>
                  <a:pt x="7299" y="50"/>
                </a:cubicBezTo>
                <a:cubicBezTo>
                  <a:pt x="7299" y="77"/>
                  <a:pt x="7277" y="100"/>
                  <a:pt x="7249" y="100"/>
                </a:cubicBezTo>
                <a:close/>
                <a:moveTo>
                  <a:pt x="7049" y="100"/>
                </a:moveTo>
                <a:lnTo>
                  <a:pt x="7049" y="100"/>
                </a:lnTo>
                <a:cubicBezTo>
                  <a:pt x="7021" y="100"/>
                  <a:pt x="6999" y="77"/>
                  <a:pt x="6999" y="50"/>
                </a:cubicBezTo>
                <a:cubicBezTo>
                  <a:pt x="6999" y="22"/>
                  <a:pt x="7021" y="0"/>
                  <a:pt x="7049" y="0"/>
                </a:cubicBezTo>
                <a:lnTo>
                  <a:pt x="7049" y="0"/>
                </a:lnTo>
                <a:cubicBezTo>
                  <a:pt x="7077" y="0"/>
                  <a:pt x="7099" y="22"/>
                  <a:pt x="7099" y="50"/>
                </a:cubicBezTo>
                <a:cubicBezTo>
                  <a:pt x="7099" y="77"/>
                  <a:pt x="7077" y="100"/>
                  <a:pt x="7049" y="100"/>
                </a:cubicBezTo>
                <a:close/>
                <a:moveTo>
                  <a:pt x="6849" y="100"/>
                </a:moveTo>
                <a:lnTo>
                  <a:pt x="6849" y="100"/>
                </a:lnTo>
                <a:cubicBezTo>
                  <a:pt x="6821" y="100"/>
                  <a:pt x="6799" y="77"/>
                  <a:pt x="6799" y="50"/>
                </a:cubicBezTo>
                <a:cubicBezTo>
                  <a:pt x="6799" y="22"/>
                  <a:pt x="6821" y="0"/>
                  <a:pt x="6849" y="0"/>
                </a:cubicBezTo>
                <a:lnTo>
                  <a:pt x="6849" y="0"/>
                </a:lnTo>
                <a:cubicBezTo>
                  <a:pt x="6877" y="0"/>
                  <a:pt x="6899" y="22"/>
                  <a:pt x="6899" y="50"/>
                </a:cubicBezTo>
                <a:cubicBezTo>
                  <a:pt x="6899" y="77"/>
                  <a:pt x="6877" y="100"/>
                  <a:pt x="6849" y="100"/>
                </a:cubicBezTo>
                <a:close/>
                <a:moveTo>
                  <a:pt x="6649" y="100"/>
                </a:moveTo>
                <a:lnTo>
                  <a:pt x="6649" y="100"/>
                </a:lnTo>
                <a:cubicBezTo>
                  <a:pt x="6621" y="100"/>
                  <a:pt x="6599" y="77"/>
                  <a:pt x="6599" y="50"/>
                </a:cubicBezTo>
                <a:cubicBezTo>
                  <a:pt x="6599" y="22"/>
                  <a:pt x="6621" y="0"/>
                  <a:pt x="6649" y="0"/>
                </a:cubicBezTo>
                <a:lnTo>
                  <a:pt x="6649" y="0"/>
                </a:lnTo>
                <a:cubicBezTo>
                  <a:pt x="6676" y="0"/>
                  <a:pt x="6699" y="22"/>
                  <a:pt x="6699" y="50"/>
                </a:cubicBezTo>
                <a:cubicBezTo>
                  <a:pt x="6699" y="77"/>
                  <a:pt x="6676" y="100"/>
                  <a:pt x="6649" y="100"/>
                </a:cubicBezTo>
                <a:close/>
                <a:moveTo>
                  <a:pt x="6449" y="100"/>
                </a:moveTo>
                <a:lnTo>
                  <a:pt x="6449" y="100"/>
                </a:lnTo>
                <a:cubicBezTo>
                  <a:pt x="6421" y="100"/>
                  <a:pt x="6399" y="77"/>
                  <a:pt x="6399" y="50"/>
                </a:cubicBezTo>
                <a:cubicBezTo>
                  <a:pt x="6399" y="22"/>
                  <a:pt x="6421" y="0"/>
                  <a:pt x="6449" y="0"/>
                </a:cubicBezTo>
                <a:lnTo>
                  <a:pt x="6449" y="0"/>
                </a:lnTo>
                <a:cubicBezTo>
                  <a:pt x="6476" y="0"/>
                  <a:pt x="6499" y="22"/>
                  <a:pt x="6499" y="50"/>
                </a:cubicBezTo>
                <a:cubicBezTo>
                  <a:pt x="6499" y="77"/>
                  <a:pt x="6476" y="100"/>
                  <a:pt x="6449" y="100"/>
                </a:cubicBezTo>
                <a:close/>
                <a:moveTo>
                  <a:pt x="6249" y="100"/>
                </a:moveTo>
                <a:lnTo>
                  <a:pt x="6249" y="100"/>
                </a:lnTo>
                <a:cubicBezTo>
                  <a:pt x="6221" y="100"/>
                  <a:pt x="6199" y="77"/>
                  <a:pt x="6199" y="50"/>
                </a:cubicBezTo>
                <a:cubicBezTo>
                  <a:pt x="6199" y="22"/>
                  <a:pt x="6221" y="0"/>
                  <a:pt x="6249" y="0"/>
                </a:cubicBezTo>
                <a:lnTo>
                  <a:pt x="6249" y="0"/>
                </a:lnTo>
                <a:cubicBezTo>
                  <a:pt x="6276" y="0"/>
                  <a:pt x="6299" y="22"/>
                  <a:pt x="6299" y="50"/>
                </a:cubicBezTo>
                <a:cubicBezTo>
                  <a:pt x="6299" y="77"/>
                  <a:pt x="6276" y="100"/>
                  <a:pt x="6249" y="100"/>
                </a:cubicBezTo>
                <a:close/>
                <a:moveTo>
                  <a:pt x="6049" y="100"/>
                </a:moveTo>
                <a:lnTo>
                  <a:pt x="6048" y="100"/>
                </a:lnTo>
                <a:cubicBezTo>
                  <a:pt x="6021" y="100"/>
                  <a:pt x="5998" y="77"/>
                  <a:pt x="5998" y="50"/>
                </a:cubicBezTo>
                <a:cubicBezTo>
                  <a:pt x="5998" y="22"/>
                  <a:pt x="6021" y="0"/>
                  <a:pt x="6048" y="0"/>
                </a:cubicBezTo>
                <a:lnTo>
                  <a:pt x="6049" y="0"/>
                </a:lnTo>
                <a:cubicBezTo>
                  <a:pt x="6076" y="0"/>
                  <a:pt x="6099" y="22"/>
                  <a:pt x="6099" y="50"/>
                </a:cubicBezTo>
                <a:cubicBezTo>
                  <a:pt x="6099" y="77"/>
                  <a:pt x="6076" y="100"/>
                  <a:pt x="6049" y="100"/>
                </a:cubicBezTo>
                <a:close/>
                <a:moveTo>
                  <a:pt x="5848" y="100"/>
                </a:moveTo>
                <a:lnTo>
                  <a:pt x="5848" y="100"/>
                </a:lnTo>
                <a:cubicBezTo>
                  <a:pt x="5821" y="100"/>
                  <a:pt x="5798" y="77"/>
                  <a:pt x="5798" y="50"/>
                </a:cubicBezTo>
                <a:cubicBezTo>
                  <a:pt x="5798" y="22"/>
                  <a:pt x="5821" y="0"/>
                  <a:pt x="5848" y="0"/>
                </a:cubicBezTo>
                <a:lnTo>
                  <a:pt x="5848" y="0"/>
                </a:lnTo>
                <a:cubicBezTo>
                  <a:pt x="5876" y="0"/>
                  <a:pt x="5898" y="22"/>
                  <a:pt x="5898" y="50"/>
                </a:cubicBezTo>
                <a:cubicBezTo>
                  <a:pt x="5898" y="77"/>
                  <a:pt x="5876" y="100"/>
                  <a:pt x="5848" y="100"/>
                </a:cubicBezTo>
                <a:close/>
                <a:moveTo>
                  <a:pt x="5648" y="100"/>
                </a:moveTo>
                <a:lnTo>
                  <a:pt x="5648" y="100"/>
                </a:lnTo>
                <a:cubicBezTo>
                  <a:pt x="5621" y="100"/>
                  <a:pt x="5598" y="77"/>
                  <a:pt x="5598" y="50"/>
                </a:cubicBezTo>
                <a:cubicBezTo>
                  <a:pt x="5598" y="22"/>
                  <a:pt x="5621" y="0"/>
                  <a:pt x="5648" y="0"/>
                </a:cubicBezTo>
                <a:lnTo>
                  <a:pt x="5648" y="0"/>
                </a:lnTo>
                <a:cubicBezTo>
                  <a:pt x="5676" y="0"/>
                  <a:pt x="5698" y="22"/>
                  <a:pt x="5698" y="50"/>
                </a:cubicBezTo>
                <a:cubicBezTo>
                  <a:pt x="5698" y="77"/>
                  <a:pt x="5676" y="100"/>
                  <a:pt x="5648" y="100"/>
                </a:cubicBezTo>
                <a:close/>
                <a:moveTo>
                  <a:pt x="5448" y="100"/>
                </a:moveTo>
                <a:lnTo>
                  <a:pt x="5448" y="100"/>
                </a:lnTo>
                <a:cubicBezTo>
                  <a:pt x="5421" y="100"/>
                  <a:pt x="5398" y="77"/>
                  <a:pt x="5398" y="50"/>
                </a:cubicBezTo>
                <a:cubicBezTo>
                  <a:pt x="5398" y="22"/>
                  <a:pt x="5421" y="0"/>
                  <a:pt x="5448" y="0"/>
                </a:cubicBezTo>
                <a:lnTo>
                  <a:pt x="5448" y="0"/>
                </a:lnTo>
                <a:cubicBezTo>
                  <a:pt x="5476" y="0"/>
                  <a:pt x="5498" y="22"/>
                  <a:pt x="5498" y="50"/>
                </a:cubicBezTo>
                <a:cubicBezTo>
                  <a:pt x="5498" y="77"/>
                  <a:pt x="5476" y="100"/>
                  <a:pt x="5448" y="100"/>
                </a:cubicBezTo>
                <a:close/>
                <a:moveTo>
                  <a:pt x="5248" y="100"/>
                </a:moveTo>
                <a:lnTo>
                  <a:pt x="5248" y="100"/>
                </a:lnTo>
                <a:cubicBezTo>
                  <a:pt x="5220" y="100"/>
                  <a:pt x="5198" y="77"/>
                  <a:pt x="5198" y="50"/>
                </a:cubicBezTo>
                <a:cubicBezTo>
                  <a:pt x="5198" y="22"/>
                  <a:pt x="5220" y="0"/>
                  <a:pt x="5248" y="0"/>
                </a:cubicBezTo>
                <a:lnTo>
                  <a:pt x="5248" y="0"/>
                </a:lnTo>
                <a:cubicBezTo>
                  <a:pt x="5276" y="0"/>
                  <a:pt x="5298" y="22"/>
                  <a:pt x="5298" y="50"/>
                </a:cubicBezTo>
                <a:cubicBezTo>
                  <a:pt x="5298" y="77"/>
                  <a:pt x="5276" y="100"/>
                  <a:pt x="5248" y="100"/>
                </a:cubicBezTo>
                <a:close/>
                <a:moveTo>
                  <a:pt x="5048" y="100"/>
                </a:moveTo>
                <a:lnTo>
                  <a:pt x="5048" y="100"/>
                </a:lnTo>
                <a:cubicBezTo>
                  <a:pt x="5020" y="100"/>
                  <a:pt x="4998" y="77"/>
                  <a:pt x="4998" y="50"/>
                </a:cubicBezTo>
                <a:cubicBezTo>
                  <a:pt x="4998" y="22"/>
                  <a:pt x="5020" y="0"/>
                  <a:pt x="5048" y="0"/>
                </a:cubicBezTo>
                <a:lnTo>
                  <a:pt x="5048" y="0"/>
                </a:lnTo>
                <a:cubicBezTo>
                  <a:pt x="5076" y="0"/>
                  <a:pt x="5098" y="22"/>
                  <a:pt x="5098" y="50"/>
                </a:cubicBezTo>
                <a:cubicBezTo>
                  <a:pt x="5098" y="77"/>
                  <a:pt x="5076" y="100"/>
                  <a:pt x="5048" y="100"/>
                </a:cubicBezTo>
                <a:close/>
                <a:moveTo>
                  <a:pt x="4848" y="100"/>
                </a:moveTo>
                <a:lnTo>
                  <a:pt x="4848" y="100"/>
                </a:lnTo>
                <a:cubicBezTo>
                  <a:pt x="4820" y="100"/>
                  <a:pt x="4798" y="77"/>
                  <a:pt x="4798" y="50"/>
                </a:cubicBezTo>
                <a:cubicBezTo>
                  <a:pt x="4798" y="22"/>
                  <a:pt x="4820" y="0"/>
                  <a:pt x="4848" y="0"/>
                </a:cubicBezTo>
                <a:lnTo>
                  <a:pt x="4848" y="0"/>
                </a:lnTo>
                <a:cubicBezTo>
                  <a:pt x="4876" y="0"/>
                  <a:pt x="4898" y="22"/>
                  <a:pt x="4898" y="50"/>
                </a:cubicBezTo>
                <a:cubicBezTo>
                  <a:pt x="4898" y="77"/>
                  <a:pt x="4876" y="100"/>
                  <a:pt x="4848" y="100"/>
                </a:cubicBezTo>
                <a:close/>
                <a:moveTo>
                  <a:pt x="4648" y="100"/>
                </a:moveTo>
                <a:lnTo>
                  <a:pt x="4648" y="100"/>
                </a:lnTo>
                <a:cubicBezTo>
                  <a:pt x="4620" y="100"/>
                  <a:pt x="4598" y="77"/>
                  <a:pt x="4598" y="50"/>
                </a:cubicBezTo>
                <a:cubicBezTo>
                  <a:pt x="4598" y="22"/>
                  <a:pt x="4620" y="0"/>
                  <a:pt x="4648" y="0"/>
                </a:cubicBezTo>
                <a:lnTo>
                  <a:pt x="4648" y="0"/>
                </a:lnTo>
                <a:cubicBezTo>
                  <a:pt x="4675" y="0"/>
                  <a:pt x="4698" y="22"/>
                  <a:pt x="4698" y="50"/>
                </a:cubicBezTo>
                <a:cubicBezTo>
                  <a:pt x="4698" y="77"/>
                  <a:pt x="4675" y="100"/>
                  <a:pt x="4648" y="100"/>
                </a:cubicBezTo>
                <a:close/>
                <a:moveTo>
                  <a:pt x="4448" y="100"/>
                </a:moveTo>
                <a:lnTo>
                  <a:pt x="4448" y="100"/>
                </a:lnTo>
                <a:cubicBezTo>
                  <a:pt x="4420" y="100"/>
                  <a:pt x="4398" y="77"/>
                  <a:pt x="4398" y="50"/>
                </a:cubicBezTo>
                <a:cubicBezTo>
                  <a:pt x="4398" y="22"/>
                  <a:pt x="4420" y="0"/>
                  <a:pt x="4448" y="0"/>
                </a:cubicBezTo>
                <a:lnTo>
                  <a:pt x="4448" y="0"/>
                </a:lnTo>
                <a:cubicBezTo>
                  <a:pt x="4475" y="0"/>
                  <a:pt x="4498" y="22"/>
                  <a:pt x="4498" y="50"/>
                </a:cubicBezTo>
                <a:cubicBezTo>
                  <a:pt x="4498" y="77"/>
                  <a:pt x="4475" y="100"/>
                  <a:pt x="4448" y="100"/>
                </a:cubicBezTo>
                <a:close/>
                <a:moveTo>
                  <a:pt x="4248" y="100"/>
                </a:moveTo>
                <a:lnTo>
                  <a:pt x="4248" y="100"/>
                </a:lnTo>
                <a:cubicBezTo>
                  <a:pt x="4220" y="100"/>
                  <a:pt x="4198" y="77"/>
                  <a:pt x="4198" y="50"/>
                </a:cubicBezTo>
                <a:cubicBezTo>
                  <a:pt x="4198" y="22"/>
                  <a:pt x="4220" y="0"/>
                  <a:pt x="4248" y="0"/>
                </a:cubicBezTo>
                <a:lnTo>
                  <a:pt x="4248" y="0"/>
                </a:lnTo>
                <a:cubicBezTo>
                  <a:pt x="4275" y="0"/>
                  <a:pt x="4298" y="22"/>
                  <a:pt x="4298" y="50"/>
                </a:cubicBezTo>
                <a:cubicBezTo>
                  <a:pt x="4298" y="77"/>
                  <a:pt x="4275" y="100"/>
                  <a:pt x="4248" y="100"/>
                </a:cubicBezTo>
                <a:close/>
                <a:moveTo>
                  <a:pt x="4048" y="100"/>
                </a:moveTo>
                <a:lnTo>
                  <a:pt x="4047" y="100"/>
                </a:lnTo>
                <a:cubicBezTo>
                  <a:pt x="4020" y="100"/>
                  <a:pt x="3997" y="77"/>
                  <a:pt x="3997" y="50"/>
                </a:cubicBezTo>
                <a:cubicBezTo>
                  <a:pt x="3997" y="22"/>
                  <a:pt x="4020" y="0"/>
                  <a:pt x="4047" y="0"/>
                </a:cubicBezTo>
                <a:lnTo>
                  <a:pt x="4048" y="0"/>
                </a:lnTo>
                <a:cubicBezTo>
                  <a:pt x="4075" y="0"/>
                  <a:pt x="4098" y="22"/>
                  <a:pt x="4098" y="50"/>
                </a:cubicBezTo>
                <a:cubicBezTo>
                  <a:pt x="4098" y="77"/>
                  <a:pt x="4075" y="100"/>
                  <a:pt x="4048" y="100"/>
                </a:cubicBezTo>
                <a:close/>
                <a:moveTo>
                  <a:pt x="3847" y="100"/>
                </a:moveTo>
                <a:lnTo>
                  <a:pt x="3847" y="100"/>
                </a:lnTo>
                <a:cubicBezTo>
                  <a:pt x="3820" y="100"/>
                  <a:pt x="3797" y="77"/>
                  <a:pt x="3797" y="50"/>
                </a:cubicBezTo>
                <a:cubicBezTo>
                  <a:pt x="3797" y="22"/>
                  <a:pt x="3820" y="0"/>
                  <a:pt x="3847" y="0"/>
                </a:cubicBezTo>
                <a:lnTo>
                  <a:pt x="3847" y="0"/>
                </a:lnTo>
                <a:cubicBezTo>
                  <a:pt x="3875" y="0"/>
                  <a:pt x="3897" y="22"/>
                  <a:pt x="3897" y="50"/>
                </a:cubicBezTo>
                <a:cubicBezTo>
                  <a:pt x="3897" y="77"/>
                  <a:pt x="3875" y="100"/>
                  <a:pt x="3847" y="100"/>
                </a:cubicBezTo>
                <a:close/>
                <a:moveTo>
                  <a:pt x="3647" y="100"/>
                </a:moveTo>
                <a:lnTo>
                  <a:pt x="3647" y="100"/>
                </a:lnTo>
                <a:cubicBezTo>
                  <a:pt x="3620" y="100"/>
                  <a:pt x="3597" y="77"/>
                  <a:pt x="3597" y="50"/>
                </a:cubicBezTo>
                <a:cubicBezTo>
                  <a:pt x="3597" y="22"/>
                  <a:pt x="3620" y="0"/>
                  <a:pt x="3647" y="0"/>
                </a:cubicBezTo>
                <a:lnTo>
                  <a:pt x="3647" y="0"/>
                </a:lnTo>
                <a:cubicBezTo>
                  <a:pt x="3675" y="0"/>
                  <a:pt x="3697" y="22"/>
                  <a:pt x="3697" y="50"/>
                </a:cubicBezTo>
                <a:cubicBezTo>
                  <a:pt x="3697" y="77"/>
                  <a:pt x="3675" y="100"/>
                  <a:pt x="3647" y="100"/>
                </a:cubicBezTo>
                <a:close/>
                <a:moveTo>
                  <a:pt x="3447" y="100"/>
                </a:moveTo>
                <a:lnTo>
                  <a:pt x="3447" y="100"/>
                </a:lnTo>
                <a:cubicBezTo>
                  <a:pt x="3420" y="100"/>
                  <a:pt x="3397" y="77"/>
                  <a:pt x="3397" y="50"/>
                </a:cubicBezTo>
                <a:cubicBezTo>
                  <a:pt x="3397" y="22"/>
                  <a:pt x="3420" y="0"/>
                  <a:pt x="3447" y="0"/>
                </a:cubicBezTo>
                <a:lnTo>
                  <a:pt x="3447" y="0"/>
                </a:lnTo>
                <a:cubicBezTo>
                  <a:pt x="3475" y="0"/>
                  <a:pt x="3497" y="22"/>
                  <a:pt x="3497" y="50"/>
                </a:cubicBezTo>
                <a:cubicBezTo>
                  <a:pt x="3497" y="77"/>
                  <a:pt x="3475" y="100"/>
                  <a:pt x="3447" y="100"/>
                </a:cubicBezTo>
                <a:close/>
                <a:moveTo>
                  <a:pt x="3247" y="100"/>
                </a:moveTo>
                <a:lnTo>
                  <a:pt x="3247" y="100"/>
                </a:lnTo>
                <a:cubicBezTo>
                  <a:pt x="3219" y="100"/>
                  <a:pt x="3197" y="77"/>
                  <a:pt x="3197" y="50"/>
                </a:cubicBezTo>
                <a:cubicBezTo>
                  <a:pt x="3197" y="22"/>
                  <a:pt x="3219" y="0"/>
                  <a:pt x="3247" y="0"/>
                </a:cubicBezTo>
                <a:lnTo>
                  <a:pt x="3247" y="0"/>
                </a:lnTo>
                <a:cubicBezTo>
                  <a:pt x="3275" y="0"/>
                  <a:pt x="3297" y="22"/>
                  <a:pt x="3297" y="50"/>
                </a:cubicBezTo>
                <a:cubicBezTo>
                  <a:pt x="3297" y="77"/>
                  <a:pt x="3275" y="100"/>
                  <a:pt x="3247" y="100"/>
                </a:cubicBezTo>
                <a:close/>
                <a:moveTo>
                  <a:pt x="3047" y="100"/>
                </a:moveTo>
                <a:lnTo>
                  <a:pt x="3047" y="100"/>
                </a:lnTo>
                <a:cubicBezTo>
                  <a:pt x="3019" y="100"/>
                  <a:pt x="2997" y="77"/>
                  <a:pt x="2997" y="50"/>
                </a:cubicBezTo>
                <a:cubicBezTo>
                  <a:pt x="2997" y="22"/>
                  <a:pt x="3019" y="0"/>
                  <a:pt x="3047" y="0"/>
                </a:cubicBezTo>
                <a:lnTo>
                  <a:pt x="3047" y="0"/>
                </a:lnTo>
                <a:cubicBezTo>
                  <a:pt x="3075" y="0"/>
                  <a:pt x="3097" y="22"/>
                  <a:pt x="3097" y="50"/>
                </a:cubicBezTo>
                <a:cubicBezTo>
                  <a:pt x="3097" y="77"/>
                  <a:pt x="3075" y="100"/>
                  <a:pt x="3047" y="100"/>
                </a:cubicBezTo>
                <a:close/>
                <a:moveTo>
                  <a:pt x="2847" y="100"/>
                </a:moveTo>
                <a:lnTo>
                  <a:pt x="2847" y="100"/>
                </a:lnTo>
                <a:cubicBezTo>
                  <a:pt x="2819" y="100"/>
                  <a:pt x="2797" y="77"/>
                  <a:pt x="2797" y="50"/>
                </a:cubicBezTo>
                <a:cubicBezTo>
                  <a:pt x="2797" y="22"/>
                  <a:pt x="2819" y="0"/>
                  <a:pt x="2847" y="0"/>
                </a:cubicBezTo>
                <a:lnTo>
                  <a:pt x="2847" y="0"/>
                </a:lnTo>
                <a:cubicBezTo>
                  <a:pt x="2875" y="0"/>
                  <a:pt x="2897" y="22"/>
                  <a:pt x="2897" y="50"/>
                </a:cubicBezTo>
                <a:cubicBezTo>
                  <a:pt x="2897" y="77"/>
                  <a:pt x="2875" y="100"/>
                  <a:pt x="2847" y="100"/>
                </a:cubicBezTo>
                <a:close/>
                <a:moveTo>
                  <a:pt x="2647" y="100"/>
                </a:moveTo>
                <a:lnTo>
                  <a:pt x="2647" y="100"/>
                </a:lnTo>
                <a:cubicBezTo>
                  <a:pt x="2619" y="100"/>
                  <a:pt x="2597" y="77"/>
                  <a:pt x="2597" y="50"/>
                </a:cubicBezTo>
                <a:cubicBezTo>
                  <a:pt x="2597" y="22"/>
                  <a:pt x="2619" y="0"/>
                  <a:pt x="2647" y="0"/>
                </a:cubicBezTo>
                <a:lnTo>
                  <a:pt x="2647" y="0"/>
                </a:lnTo>
                <a:cubicBezTo>
                  <a:pt x="2674" y="0"/>
                  <a:pt x="2697" y="22"/>
                  <a:pt x="2697" y="50"/>
                </a:cubicBezTo>
                <a:cubicBezTo>
                  <a:pt x="2697" y="77"/>
                  <a:pt x="2674" y="100"/>
                  <a:pt x="2647" y="100"/>
                </a:cubicBezTo>
                <a:close/>
                <a:moveTo>
                  <a:pt x="2447" y="100"/>
                </a:moveTo>
                <a:lnTo>
                  <a:pt x="2447" y="100"/>
                </a:lnTo>
                <a:cubicBezTo>
                  <a:pt x="2419" y="100"/>
                  <a:pt x="2397" y="77"/>
                  <a:pt x="2397" y="50"/>
                </a:cubicBezTo>
                <a:cubicBezTo>
                  <a:pt x="2397" y="22"/>
                  <a:pt x="2419" y="0"/>
                  <a:pt x="2447" y="0"/>
                </a:cubicBezTo>
                <a:lnTo>
                  <a:pt x="2447" y="0"/>
                </a:lnTo>
                <a:cubicBezTo>
                  <a:pt x="2474" y="0"/>
                  <a:pt x="2497" y="22"/>
                  <a:pt x="2497" y="50"/>
                </a:cubicBezTo>
                <a:cubicBezTo>
                  <a:pt x="2497" y="77"/>
                  <a:pt x="2474" y="100"/>
                  <a:pt x="2447" y="100"/>
                </a:cubicBezTo>
                <a:close/>
                <a:moveTo>
                  <a:pt x="2247" y="100"/>
                </a:moveTo>
                <a:lnTo>
                  <a:pt x="2247" y="100"/>
                </a:lnTo>
                <a:cubicBezTo>
                  <a:pt x="2219" y="100"/>
                  <a:pt x="2197" y="77"/>
                  <a:pt x="2197" y="50"/>
                </a:cubicBezTo>
                <a:cubicBezTo>
                  <a:pt x="2197" y="22"/>
                  <a:pt x="2219" y="0"/>
                  <a:pt x="2247" y="0"/>
                </a:cubicBezTo>
                <a:lnTo>
                  <a:pt x="2247" y="0"/>
                </a:lnTo>
                <a:cubicBezTo>
                  <a:pt x="2274" y="0"/>
                  <a:pt x="2297" y="22"/>
                  <a:pt x="2297" y="50"/>
                </a:cubicBezTo>
                <a:cubicBezTo>
                  <a:pt x="2297" y="77"/>
                  <a:pt x="2274" y="100"/>
                  <a:pt x="2247" y="100"/>
                </a:cubicBezTo>
                <a:close/>
                <a:moveTo>
                  <a:pt x="2047" y="100"/>
                </a:moveTo>
                <a:lnTo>
                  <a:pt x="2046" y="100"/>
                </a:lnTo>
                <a:cubicBezTo>
                  <a:pt x="2019" y="100"/>
                  <a:pt x="1996" y="77"/>
                  <a:pt x="1996" y="50"/>
                </a:cubicBezTo>
                <a:cubicBezTo>
                  <a:pt x="1996" y="22"/>
                  <a:pt x="2019" y="0"/>
                  <a:pt x="2046" y="0"/>
                </a:cubicBezTo>
                <a:lnTo>
                  <a:pt x="2047" y="0"/>
                </a:lnTo>
                <a:cubicBezTo>
                  <a:pt x="2074" y="0"/>
                  <a:pt x="2097" y="22"/>
                  <a:pt x="2097" y="50"/>
                </a:cubicBezTo>
                <a:cubicBezTo>
                  <a:pt x="2097" y="77"/>
                  <a:pt x="2074" y="100"/>
                  <a:pt x="2047" y="100"/>
                </a:cubicBezTo>
                <a:close/>
                <a:moveTo>
                  <a:pt x="1846" y="100"/>
                </a:moveTo>
                <a:lnTo>
                  <a:pt x="1846" y="100"/>
                </a:lnTo>
                <a:cubicBezTo>
                  <a:pt x="1819" y="100"/>
                  <a:pt x="1796" y="77"/>
                  <a:pt x="1796" y="50"/>
                </a:cubicBezTo>
                <a:cubicBezTo>
                  <a:pt x="1796" y="22"/>
                  <a:pt x="1819" y="0"/>
                  <a:pt x="1846" y="0"/>
                </a:cubicBezTo>
                <a:lnTo>
                  <a:pt x="1846" y="0"/>
                </a:lnTo>
                <a:cubicBezTo>
                  <a:pt x="1874" y="0"/>
                  <a:pt x="1896" y="22"/>
                  <a:pt x="1896" y="50"/>
                </a:cubicBezTo>
                <a:cubicBezTo>
                  <a:pt x="1896" y="77"/>
                  <a:pt x="1874" y="100"/>
                  <a:pt x="1846" y="100"/>
                </a:cubicBezTo>
                <a:close/>
                <a:moveTo>
                  <a:pt x="1646" y="100"/>
                </a:moveTo>
                <a:lnTo>
                  <a:pt x="1646" y="100"/>
                </a:lnTo>
                <a:cubicBezTo>
                  <a:pt x="1619" y="100"/>
                  <a:pt x="1596" y="77"/>
                  <a:pt x="1596" y="50"/>
                </a:cubicBezTo>
                <a:cubicBezTo>
                  <a:pt x="1596" y="22"/>
                  <a:pt x="1619" y="0"/>
                  <a:pt x="1646" y="0"/>
                </a:cubicBezTo>
                <a:lnTo>
                  <a:pt x="1646" y="0"/>
                </a:lnTo>
                <a:cubicBezTo>
                  <a:pt x="1674" y="0"/>
                  <a:pt x="1696" y="22"/>
                  <a:pt x="1696" y="50"/>
                </a:cubicBezTo>
                <a:cubicBezTo>
                  <a:pt x="1696" y="77"/>
                  <a:pt x="1674" y="100"/>
                  <a:pt x="1646" y="100"/>
                </a:cubicBezTo>
                <a:close/>
                <a:moveTo>
                  <a:pt x="1446" y="100"/>
                </a:moveTo>
                <a:lnTo>
                  <a:pt x="1446" y="100"/>
                </a:lnTo>
                <a:cubicBezTo>
                  <a:pt x="1419" y="100"/>
                  <a:pt x="1396" y="77"/>
                  <a:pt x="1396" y="50"/>
                </a:cubicBezTo>
                <a:cubicBezTo>
                  <a:pt x="1396" y="22"/>
                  <a:pt x="1419" y="0"/>
                  <a:pt x="1446" y="0"/>
                </a:cubicBezTo>
                <a:lnTo>
                  <a:pt x="1446" y="0"/>
                </a:lnTo>
                <a:cubicBezTo>
                  <a:pt x="1474" y="0"/>
                  <a:pt x="1496" y="22"/>
                  <a:pt x="1496" y="50"/>
                </a:cubicBezTo>
                <a:cubicBezTo>
                  <a:pt x="1496" y="77"/>
                  <a:pt x="1474" y="100"/>
                  <a:pt x="1446" y="100"/>
                </a:cubicBezTo>
                <a:close/>
                <a:moveTo>
                  <a:pt x="1246" y="100"/>
                </a:moveTo>
                <a:lnTo>
                  <a:pt x="1246" y="100"/>
                </a:lnTo>
                <a:cubicBezTo>
                  <a:pt x="1218" y="100"/>
                  <a:pt x="1196" y="77"/>
                  <a:pt x="1196" y="50"/>
                </a:cubicBezTo>
                <a:cubicBezTo>
                  <a:pt x="1196" y="22"/>
                  <a:pt x="1218" y="0"/>
                  <a:pt x="1246" y="0"/>
                </a:cubicBezTo>
                <a:lnTo>
                  <a:pt x="1246" y="0"/>
                </a:lnTo>
                <a:cubicBezTo>
                  <a:pt x="1274" y="0"/>
                  <a:pt x="1296" y="22"/>
                  <a:pt x="1296" y="50"/>
                </a:cubicBezTo>
                <a:cubicBezTo>
                  <a:pt x="1296" y="77"/>
                  <a:pt x="1274" y="100"/>
                  <a:pt x="1246" y="100"/>
                </a:cubicBezTo>
                <a:close/>
                <a:moveTo>
                  <a:pt x="1046" y="100"/>
                </a:moveTo>
                <a:lnTo>
                  <a:pt x="1046" y="100"/>
                </a:lnTo>
                <a:cubicBezTo>
                  <a:pt x="1018" y="100"/>
                  <a:pt x="996" y="77"/>
                  <a:pt x="996" y="50"/>
                </a:cubicBezTo>
                <a:cubicBezTo>
                  <a:pt x="996" y="22"/>
                  <a:pt x="1018" y="0"/>
                  <a:pt x="1046" y="0"/>
                </a:cubicBezTo>
                <a:lnTo>
                  <a:pt x="1046" y="0"/>
                </a:lnTo>
                <a:cubicBezTo>
                  <a:pt x="1074" y="0"/>
                  <a:pt x="1096" y="22"/>
                  <a:pt x="1096" y="50"/>
                </a:cubicBezTo>
                <a:cubicBezTo>
                  <a:pt x="1096" y="77"/>
                  <a:pt x="1074" y="100"/>
                  <a:pt x="1046" y="100"/>
                </a:cubicBezTo>
                <a:close/>
                <a:moveTo>
                  <a:pt x="846" y="100"/>
                </a:moveTo>
                <a:lnTo>
                  <a:pt x="846" y="100"/>
                </a:lnTo>
                <a:cubicBezTo>
                  <a:pt x="818" y="100"/>
                  <a:pt x="796" y="77"/>
                  <a:pt x="796" y="50"/>
                </a:cubicBezTo>
                <a:cubicBezTo>
                  <a:pt x="796" y="22"/>
                  <a:pt x="818" y="0"/>
                  <a:pt x="846" y="0"/>
                </a:cubicBezTo>
                <a:lnTo>
                  <a:pt x="846" y="0"/>
                </a:lnTo>
                <a:cubicBezTo>
                  <a:pt x="874" y="0"/>
                  <a:pt x="896" y="22"/>
                  <a:pt x="896" y="50"/>
                </a:cubicBezTo>
                <a:cubicBezTo>
                  <a:pt x="896" y="77"/>
                  <a:pt x="874" y="100"/>
                  <a:pt x="846" y="100"/>
                </a:cubicBezTo>
                <a:close/>
                <a:moveTo>
                  <a:pt x="646" y="100"/>
                </a:moveTo>
                <a:lnTo>
                  <a:pt x="646" y="100"/>
                </a:lnTo>
                <a:cubicBezTo>
                  <a:pt x="618" y="100"/>
                  <a:pt x="596" y="77"/>
                  <a:pt x="596" y="50"/>
                </a:cubicBezTo>
                <a:cubicBezTo>
                  <a:pt x="596" y="22"/>
                  <a:pt x="618" y="0"/>
                  <a:pt x="646" y="0"/>
                </a:cubicBezTo>
                <a:lnTo>
                  <a:pt x="646" y="0"/>
                </a:lnTo>
                <a:cubicBezTo>
                  <a:pt x="673" y="0"/>
                  <a:pt x="696" y="22"/>
                  <a:pt x="696" y="50"/>
                </a:cubicBezTo>
                <a:cubicBezTo>
                  <a:pt x="696" y="77"/>
                  <a:pt x="673" y="100"/>
                  <a:pt x="646" y="100"/>
                </a:cubicBezTo>
                <a:close/>
                <a:moveTo>
                  <a:pt x="446" y="100"/>
                </a:moveTo>
                <a:lnTo>
                  <a:pt x="446" y="100"/>
                </a:lnTo>
                <a:cubicBezTo>
                  <a:pt x="418" y="100"/>
                  <a:pt x="396" y="77"/>
                  <a:pt x="396" y="50"/>
                </a:cubicBezTo>
                <a:cubicBezTo>
                  <a:pt x="396" y="22"/>
                  <a:pt x="418" y="0"/>
                  <a:pt x="446" y="0"/>
                </a:cubicBezTo>
                <a:lnTo>
                  <a:pt x="446" y="0"/>
                </a:lnTo>
                <a:cubicBezTo>
                  <a:pt x="473" y="0"/>
                  <a:pt x="496" y="22"/>
                  <a:pt x="496" y="50"/>
                </a:cubicBezTo>
                <a:cubicBezTo>
                  <a:pt x="496" y="77"/>
                  <a:pt x="473" y="100"/>
                  <a:pt x="446" y="100"/>
                </a:cubicBezTo>
                <a:close/>
                <a:moveTo>
                  <a:pt x="246" y="100"/>
                </a:moveTo>
                <a:lnTo>
                  <a:pt x="246" y="100"/>
                </a:lnTo>
                <a:cubicBezTo>
                  <a:pt x="218" y="100"/>
                  <a:pt x="196" y="77"/>
                  <a:pt x="196" y="50"/>
                </a:cubicBezTo>
                <a:cubicBezTo>
                  <a:pt x="196" y="22"/>
                  <a:pt x="218" y="0"/>
                  <a:pt x="246" y="0"/>
                </a:cubicBezTo>
                <a:lnTo>
                  <a:pt x="246" y="0"/>
                </a:lnTo>
                <a:cubicBezTo>
                  <a:pt x="273" y="0"/>
                  <a:pt x="296" y="22"/>
                  <a:pt x="296" y="50"/>
                </a:cubicBezTo>
                <a:cubicBezTo>
                  <a:pt x="296" y="77"/>
                  <a:pt x="273" y="100"/>
                  <a:pt x="246" y="100"/>
                </a:cubicBezTo>
                <a:close/>
                <a:moveTo>
                  <a:pt x="100" y="55"/>
                </a:moveTo>
                <a:lnTo>
                  <a:pt x="100" y="55"/>
                </a:lnTo>
                <a:cubicBezTo>
                  <a:pt x="100" y="82"/>
                  <a:pt x="78" y="105"/>
                  <a:pt x="50" y="105"/>
                </a:cubicBezTo>
                <a:cubicBezTo>
                  <a:pt x="23" y="105"/>
                  <a:pt x="0" y="82"/>
                  <a:pt x="0" y="55"/>
                </a:cubicBezTo>
                <a:lnTo>
                  <a:pt x="0" y="55"/>
                </a:lnTo>
                <a:cubicBezTo>
                  <a:pt x="0" y="27"/>
                  <a:pt x="23" y="5"/>
                  <a:pt x="50" y="5"/>
                </a:cubicBezTo>
                <a:cubicBezTo>
                  <a:pt x="78" y="5"/>
                  <a:pt x="100" y="27"/>
                  <a:pt x="100" y="55"/>
                </a:cubicBezTo>
                <a:close/>
                <a:moveTo>
                  <a:pt x="100" y="255"/>
                </a:moveTo>
                <a:lnTo>
                  <a:pt x="100" y="255"/>
                </a:lnTo>
                <a:cubicBezTo>
                  <a:pt x="100" y="283"/>
                  <a:pt x="78" y="305"/>
                  <a:pt x="50" y="305"/>
                </a:cubicBezTo>
                <a:cubicBezTo>
                  <a:pt x="23" y="305"/>
                  <a:pt x="0" y="283"/>
                  <a:pt x="0" y="255"/>
                </a:cubicBezTo>
                <a:lnTo>
                  <a:pt x="0" y="255"/>
                </a:lnTo>
                <a:cubicBezTo>
                  <a:pt x="0" y="227"/>
                  <a:pt x="23" y="205"/>
                  <a:pt x="50" y="205"/>
                </a:cubicBezTo>
                <a:cubicBezTo>
                  <a:pt x="78" y="205"/>
                  <a:pt x="100" y="227"/>
                  <a:pt x="100" y="255"/>
                </a:cubicBezTo>
                <a:close/>
                <a:moveTo>
                  <a:pt x="100" y="455"/>
                </a:moveTo>
                <a:lnTo>
                  <a:pt x="100" y="455"/>
                </a:lnTo>
                <a:cubicBezTo>
                  <a:pt x="100" y="483"/>
                  <a:pt x="78" y="505"/>
                  <a:pt x="50" y="505"/>
                </a:cubicBezTo>
                <a:cubicBezTo>
                  <a:pt x="23" y="505"/>
                  <a:pt x="0" y="483"/>
                  <a:pt x="0" y="455"/>
                </a:cubicBezTo>
                <a:lnTo>
                  <a:pt x="0" y="455"/>
                </a:lnTo>
                <a:cubicBezTo>
                  <a:pt x="0" y="427"/>
                  <a:pt x="23" y="405"/>
                  <a:pt x="50" y="405"/>
                </a:cubicBezTo>
                <a:cubicBezTo>
                  <a:pt x="78" y="405"/>
                  <a:pt x="100" y="427"/>
                  <a:pt x="100" y="455"/>
                </a:cubicBezTo>
                <a:close/>
                <a:moveTo>
                  <a:pt x="100" y="655"/>
                </a:moveTo>
                <a:lnTo>
                  <a:pt x="100" y="655"/>
                </a:lnTo>
                <a:cubicBezTo>
                  <a:pt x="100" y="683"/>
                  <a:pt x="78" y="705"/>
                  <a:pt x="50" y="705"/>
                </a:cubicBezTo>
                <a:cubicBezTo>
                  <a:pt x="23" y="705"/>
                  <a:pt x="0" y="683"/>
                  <a:pt x="0" y="655"/>
                </a:cubicBezTo>
                <a:lnTo>
                  <a:pt x="0" y="655"/>
                </a:lnTo>
                <a:cubicBezTo>
                  <a:pt x="0" y="627"/>
                  <a:pt x="23" y="605"/>
                  <a:pt x="50" y="605"/>
                </a:cubicBezTo>
                <a:cubicBezTo>
                  <a:pt x="78" y="605"/>
                  <a:pt x="100" y="627"/>
                  <a:pt x="100" y="655"/>
                </a:cubicBezTo>
                <a:close/>
                <a:moveTo>
                  <a:pt x="100" y="855"/>
                </a:moveTo>
                <a:lnTo>
                  <a:pt x="100" y="855"/>
                </a:lnTo>
                <a:cubicBezTo>
                  <a:pt x="100" y="883"/>
                  <a:pt x="78" y="905"/>
                  <a:pt x="50" y="905"/>
                </a:cubicBezTo>
                <a:cubicBezTo>
                  <a:pt x="23" y="905"/>
                  <a:pt x="0" y="883"/>
                  <a:pt x="0" y="855"/>
                </a:cubicBezTo>
                <a:lnTo>
                  <a:pt x="0" y="855"/>
                </a:lnTo>
                <a:cubicBezTo>
                  <a:pt x="0" y="827"/>
                  <a:pt x="23" y="805"/>
                  <a:pt x="50" y="805"/>
                </a:cubicBezTo>
                <a:cubicBezTo>
                  <a:pt x="78" y="805"/>
                  <a:pt x="100" y="827"/>
                  <a:pt x="100" y="855"/>
                </a:cubicBezTo>
                <a:close/>
                <a:moveTo>
                  <a:pt x="100" y="1055"/>
                </a:moveTo>
                <a:lnTo>
                  <a:pt x="100" y="1055"/>
                </a:lnTo>
                <a:cubicBezTo>
                  <a:pt x="100" y="1083"/>
                  <a:pt x="78" y="1105"/>
                  <a:pt x="50" y="1105"/>
                </a:cubicBezTo>
                <a:cubicBezTo>
                  <a:pt x="23" y="1105"/>
                  <a:pt x="0" y="1083"/>
                  <a:pt x="0" y="1055"/>
                </a:cubicBezTo>
                <a:lnTo>
                  <a:pt x="0" y="1055"/>
                </a:lnTo>
                <a:cubicBezTo>
                  <a:pt x="0" y="1028"/>
                  <a:pt x="23" y="1005"/>
                  <a:pt x="50" y="1005"/>
                </a:cubicBezTo>
                <a:cubicBezTo>
                  <a:pt x="78" y="1005"/>
                  <a:pt x="100" y="1028"/>
                  <a:pt x="100" y="1055"/>
                </a:cubicBezTo>
                <a:close/>
                <a:moveTo>
                  <a:pt x="100" y="1255"/>
                </a:moveTo>
                <a:lnTo>
                  <a:pt x="100" y="1255"/>
                </a:lnTo>
                <a:cubicBezTo>
                  <a:pt x="100" y="1283"/>
                  <a:pt x="78" y="1305"/>
                  <a:pt x="50" y="1305"/>
                </a:cubicBezTo>
                <a:cubicBezTo>
                  <a:pt x="23" y="1305"/>
                  <a:pt x="0" y="1283"/>
                  <a:pt x="0" y="1255"/>
                </a:cubicBezTo>
                <a:lnTo>
                  <a:pt x="0" y="1255"/>
                </a:lnTo>
                <a:cubicBezTo>
                  <a:pt x="0" y="1228"/>
                  <a:pt x="23" y="1205"/>
                  <a:pt x="50" y="1205"/>
                </a:cubicBezTo>
                <a:cubicBezTo>
                  <a:pt x="78" y="1205"/>
                  <a:pt x="100" y="1228"/>
                  <a:pt x="100" y="1255"/>
                </a:cubicBezTo>
                <a:close/>
                <a:moveTo>
                  <a:pt x="100" y="1455"/>
                </a:moveTo>
                <a:lnTo>
                  <a:pt x="100" y="1456"/>
                </a:lnTo>
                <a:cubicBezTo>
                  <a:pt x="100" y="1483"/>
                  <a:pt x="78" y="1506"/>
                  <a:pt x="50" y="1506"/>
                </a:cubicBezTo>
                <a:cubicBezTo>
                  <a:pt x="23" y="1506"/>
                  <a:pt x="0" y="1483"/>
                  <a:pt x="0" y="1456"/>
                </a:cubicBezTo>
                <a:lnTo>
                  <a:pt x="0" y="1455"/>
                </a:lnTo>
                <a:cubicBezTo>
                  <a:pt x="0" y="1428"/>
                  <a:pt x="23" y="1405"/>
                  <a:pt x="50" y="1405"/>
                </a:cubicBezTo>
                <a:cubicBezTo>
                  <a:pt x="78" y="1405"/>
                  <a:pt x="100" y="1428"/>
                  <a:pt x="100" y="1455"/>
                </a:cubicBezTo>
                <a:close/>
                <a:moveTo>
                  <a:pt x="100" y="1656"/>
                </a:moveTo>
                <a:lnTo>
                  <a:pt x="100" y="1656"/>
                </a:lnTo>
                <a:cubicBezTo>
                  <a:pt x="100" y="1683"/>
                  <a:pt x="78" y="1706"/>
                  <a:pt x="50" y="1706"/>
                </a:cubicBezTo>
                <a:cubicBezTo>
                  <a:pt x="23" y="1706"/>
                  <a:pt x="0" y="1683"/>
                  <a:pt x="0" y="1656"/>
                </a:cubicBezTo>
                <a:lnTo>
                  <a:pt x="0" y="1656"/>
                </a:lnTo>
                <a:cubicBezTo>
                  <a:pt x="0" y="1628"/>
                  <a:pt x="23" y="1606"/>
                  <a:pt x="50" y="1606"/>
                </a:cubicBezTo>
                <a:cubicBezTo>
                  <a:pt x="78" y="1606"/>
                  <a:pt x="100" y="1628"/>
                  <a:pt x="100" y="1656"/>
                </a:cubicBezTo>
                <a:close/>
                <a:moveTo>
                  <a:pt x="100" y="1856"/>
                </a:moveTo>
                <a:lnTo>
                  <a:pt x="100" y="1856"/>
                </a:lnTo>
                <a:cubicBezTo>
                  <a:pt x="100" y="1883"/>
                  <a:pt x="78" y="1906"/>
                  <a:pt x="50" y="1906"/>
                </a:cubicBezTo>
                <a:cubicBezTo>
                  <a:pt x="23" y="1906"/>
                  <a:pt x="0" y="1883"/>
                  <a:pt x="0" y="1856"/>
                </a:cubicBezTo>
                <a:lnTo>
                  <a:pt x="0" y="1856"/>
                </a:lnTo>
                <a:cubicBezTo>
                  <a:pt x="0" y="1828"/>
                  <a:pt x="23" y="1806"/>
                  <a:pt x="50" y="1806"/>
                </a:cubicBezTo>
                <a:cubicBezTo>
                  <a:pt x="78" y="1806"/>
                  <a:pt x="100" y="1828"/>
                  <a:pt x="100" y="1856"/>
                </a:cubicBezTo>
                <a:close/>
                <a:moveTo>
                  <a:pt x="100" y="2056"/>
                </a:moveTo>
                <a:lnTo>
                  <a:pt x="100" y="2056"/>
                </a:lnTo>
                <a:cubicBezTo>
                  <a:pt x="100" y="2083"/>
                  <a:pt x="78" y="2106"/>
                  <a:pt x="50" y="2106"/>
                </a:cubicBezTo>
                <a:cubicBezTo>
                  <a:pt x="23" y="2106"/>
                  <a:pt x="0" y="2083"/>
                  <a:pt x="0" y="2056"/>
                </a:cubicBezTo>
                <a:lnTo>
                  <a:pt x="0" y="2056"/>
                </a:lnTo>
                <a:cubicBezTo>
                  <a:pt x="0" y="2028"/>
                  <a:pt x="23" y="2006"/>
                  <a:pt x="50" y="2006"/>
                </a:cubicBezTo>
                <a:cubicBezTo>
                  <a:pt x="78" y="2006"/>
                  <a:pt x="100" y="2028"/>
                  <a:pt x="100" y="2056"/>
                </a:cubicBezTo>
                <a:close/>
                <a:moveTo>
                  <a:pt x="100" y="2256"/>
                </a:moveTo>
                <a:lnTo>
                  <a:pt x="100" y="2256"/>
                </a:lnTo>
                <a:cubicBezTo>
                  <a:pt x="100" y="2284"/>
                  <a:pt x="78" y="2306"/>
                  <a:pt x="50" y="2306"/>
                </a:cubicBezTo>
                <a:cubicBezTo>
                  <a:pt x="23" y="2306"/>
                  <a:pt x="0" y="2284"/>
                  <a:pt x="0" y="2256"/>
                </a:cubicBezTo>
                <a:lnTo>
                  <a:pt x="0" y="2256"/>
                </a:lnTo>
                <a:cubicBezTo>
                  <a:pt x="0" y="2228"/>
                  <a:pt x="23" y="2206"/>
                  <a:pt x="50" y="2206"/>
                </a:cubicBezTo>
                <a:cubicBezTo>
                  <a:pt x="78" y="2206"/>
                  <a:pt x="100" y="2228"/>
                  <a:pt x="100" y="2256"/>
                </a:cubicBezTo>
                <a:close/>
                <a:moveTo>
                  <a:pt x="100" y="2456"/>
                </a:moveTo>
                <a:lnTo>
                  <a:pt x="100" y="2456"/>
                </a:lnTo>
                <a:cubicBezTo>
                  <a:pt x="100" y="2484"/>
                  <a:pt x="78" y="2506"/>
                  <a:pt x="50" y="2506"/>
                </a:cubicBezTo>
                <a:cubicBezTo>
                  <a:pt x="23" y="2506"/>
                  <a:pt x="0" y="2484"/>
                  <a:pt x="0" y="2456"/>
                </a:cubicBezTo>
                <a:lnTo>
                  <a:pt x="0" y="2456"/>
                </a:lnTo>
                <a:cubicBezTo>
                  <a:pt x="0" y="2428"/>
                  <a:pt x="23" y="2406"/>
                  <a:pt x="50" y="2406"/>
                </a:cubicBezTo>
                <a:cubicBezTo>
                  <a:pt x="78" y="2406"/>
                  <a:pt x="100" y="2428"/>
                  <a:pt x="100" y="2456"/>
                </a:cubicBezTo>
                <a:close/>
                <a:moveTo>
                  <a:pt x="100" y="2656"/>
                </a:moveTo>
                <a:lnTo>
                  <a:pt x="100" y="2656"/>
                </a:lnTo>
                <a:cubicBezTo>
                  <a:pt x="100" y="2684"/>
                  <a:pt x="78" y="2706"/>
                  <a:pt x="50" y="2706"/>
                </a:cubicBezTo>
                <a:cubicBezTo>
                  <a:pt x="23" y="2706"/>
                  <a:pt x="0" y="2684"/>
                  <a:pt x="0" y="2656"/>
                </a:cubicBezTo>
                <a:lnTo>
                  <a:pt x="0" y="2656"/>
                </a:lnTo>
                <a:cubicBezTo>
                  <a:pt x="0" y="2628"/>
                  <a:pt x="23" y="2606"/>
                  <a:pt x="50" y="2606"/>
                </a:cubicBezTo>
                <a:cubicBezTo>
                  <a:pt x="78" y="2606"/>
                  <a:pt x="100" y="2628"/>
                  <a:pt x="100" y="2656"/>
                </a:cubicBezTo>
                <a:close/>
                <a:moveTo>
                  <a:pt x="100" y="2856"/>
                </a:moveTo>
                <a:lnTo>
                  <a:pt x="100" y="2856"/>
                </a:lnTo>
                <a:cubicBezTo>
                  <a:pt x="100" y="2884"/>
                  <a:pt x="78" y="2906"/>
                  <a:pt x="50" y="2906"/>
                </a:cubicBezTo>
                <a:cubicBezTo>
                  <a:pt x="23" y="2906"/>
                  <a:pt x="0" y="2884"/>
                  <a:pt x="0" y="2856"/>
                </a:cubicBezTo>
                <a:lnTo>
                  <a:pt x="0" y="2856"/>
                </a:lnTo>
                <a:cubicBezTo>
                  <a:pt x="0" y="2828"/>
                  <a:pt x="23" y="2806"/>
                  <a:pt x="50" y="2806"/>
                </a:cubicBezTo>
                <a:cubicBezTo>
                  <a:pt x="78" y="2806"/>
                  <a:pt x="100" y="2828"/>
                  <a:pt x="100" y="2856"/>
                </a:cubicBezTo>
                <a:close/>
                <a:moveTo>
                  <a:pt x="100" y="3056"/>
                </a:moveTo>
                <a:lnTo>
                  <a:pt x="100" y="3056"/>
                </a:lnTo>
                <a:cubicBezTo>
                  <a:pt x="100" y="3084"/>
                  <a:pt x="78" y="3106"/>
                  <a:pt x="50" y="3106"/>
                </a:cubicBezTo>
                <a:cubicBezTo>
                  <a:pt x="23" y="3106"/>
                  <a:pt x="0" y="3084"/>
                  <a:pt x="0" y="3056"/>
                </a:cubicBezTo>
                <a:lnTo>
                  <a:pt x="0" y="3056"/>
                </a:lnTo>
                <a:cubicBezTo>
                  <a:pt x="0" y="3029"/>
                  <a:pt x="23" y="3006"/>
                  <a:pt x="50" y="3006"/>
                </a:cubicBezTo>
                <a:cubicBezTo>
                  <a:pt x="78" y="3006"/>
                  <a:pt x="100" y="3029"/>
                  <a:pt x="100" y="3056"/>
                </a:cubicBezTo>
                <a:close/>
                <a:moveTo>
                  <a:pt x="100" y="3256"/>
                </a:moveTo>
                <a:lnTo>
                  <a:pt x="100" y="3256"/>
                </a:lnTo>
                <a:cubicBezTo>
                  <a:pt x="100" y="3284"/>
                  <a:pt x="78" y="3306"/>
                  <a:pt x="50" y="3306"/>
                </a:cubicBezTo>
                <a:cubicBezTo>
                  <a:pt x="23" y="3306"/>
                  <a:pt x="0" y="3284"/>
                  <a:pt x="0" y="3256"/>
                </a:cubicBezTo>
                <a:lnTo>
                  <a:pt x="0" y="3256"/>
                </a:lnTo>
                <a:cubicBezTo>
                  <a:pt x="0" y="3229"/>
                  <a:pt x="23" y="3206"/>
                  <a:pt x="50" y="3206"/>
                </a:cubicBezTo>
                <a:cubicBezTo>
                  <a:pt x="78" y="3206"/>
                  <a:pt x="100" y="3229"/>
                  <a:pt x="100" y="3256"/>
                </a:cubicBezTo>
                <a:close/>
                <a:moveTo>
                  <a:pt x="100" y="3456"/>
                </a:moveTo>
                <a:lnTo>
                  <a:pt x="100" y="3457"/>
                </a:lnTo>
                <a:cubicBezTo>
                  <a:pt x="100" y="3484"/>
                  <a:pt x="78" y="3507"/>
                  <a:pt x="50" y="3507"/>
                </a:cubicBezTo>
                <a:cubicBezTo>
                  <a:pt x="23" y="3507"/>
                  <a:pt x="0" y="3484"/>
                  <a:pt x="0" y="3457"/>
                </a:cubicBezTo>
                <a:lnTo>
                  <a:pt x="0" y="3456"/>
                </a:lnTo>
                <a:cubicBezTo>
                  <a:pt x="0" y="3429"/>
                  <a:pt x="23" y="3406"/>
                  <a:pt x="50" y="3406"/>
                </a:cubicBezTo>
                <a:cubicBezTo>
                  <a:pt x="78" y="3406"/>
                  <a:pt x="100" y="3429"/>
                  <a:pt x="100" y="3456"/>
                </a:cubicBezTo>
                <a:close/>
                <a:moveTo>
                  <a:pt x="100" y="3657"/>
                </a:moveTo>
                <a:lnTo>
                  <a:pt x="100" y="3657"/>
                </a:lnTo>
                <a:cubicBezTo>
                  <a:pt x="100" y="3684"/>
                  <a:pt x="78" y="3707"/>
                  <a:pt x="50" y="3707"/>
                </a:cubicBezTo>
                <a:cubicBezTo>
                  <a:pt x="23" y="3707"/>
                  <a:pt x="0" y="3684"/>
                  <a:pt x="0" y="3657"/>
                </a:cubicBezTo>
                <a:lnTo>
                  <a:pt x="0" y="3657"/>
                </a:lnTo>
                <a:cubicBezTo>
                  <a:pt x="0" y="3629"/>
                  <a:pt x="23" y="3607"/>
                  <a:pt x="50" y="3607"/>
                </a:cubicBezTo>
                <a:cubicBezTo>
                  <a:pt x="78" y="3607"/>
                  <a:pt x="100" y="3629"/>
                  <a:pt x="100" y="3657"/>
                </a:cubicBezTo>
                <a:close/>
                <a:moveTo>
                  <a:pt x="100" y="3857"/>
                </a:moveTo>
                <a:lnTo>
                  <a:pt x="100" y="3857"/>
                </a:lnTo>
                <a:cubicBezTo>
                  <a:pt x="100" y="3884"/>
                  <a:pt x="78" y="3907"/>
                  <a:pt x="50" y="3907"/>
                </a:cubicBezTo>
                <a:cubicBezTo>
                  <a:pt x="23" y="3907"/>
                  <a:pt x="0" y="3884"/>
                  <a:pt x="0" y="3857"/>
                </a:cubicBezTo>
                <a:lnTo>
                  <a:pt x="0" y="3857"/>
                </a:lnTo>
                <a:cubicBezTo>
                  <a:pt x="0" y="3829"/>
                  <a:pt x="23" y="3807"/>
                  <a:pt x="50" y="3807"/>
                </a:cubicBezTo>
                <a:cubicBezTo>
                  <a:pt x="78" y="3807"/>
                  <a:pt x="100" y="3829"/>
                  <a:pt x="100" y="3857"/>
                </a:cubicBezTo>
                <a:close/>
                <a:moveTo>
                  <a:pt x="100" y="4057"/>
                </a:moveTo>
                <a:lnTo>
                  <a:pt x="100" y="4057"/>
                </a:lnTo>
                <a:cubicBezTo>
                  <a:pt x="100" y="4084"/>
                  <a:pt x="78" y="4107"/>
                  <a:pt x="50" y="4107"/>
                </a:cubicBezTo>
                <a:cubicBezTo>
                  <a:pt x="23" y="4107"/>
                  <a:pt x="0" y="4084"/>
                  <a:pt x="0" y="4057"/>
                </a:cubicBezTo>
                <a:lnTo>
                  <a:pt x="0" y="4057"/>
                </a:lnTo>
                <a:cubicBezTo>
                  <a:pt x="0" y="4029"/>
                  <a:pt x="23" y="4007"/>
                  <a:pt x="50" y="4007"/>
                </a:cubicBezTo>
                <a:cubicBezTo>
                  <a:pt x="78" y="4007"/>
                  <a:pt x="100" y="4029"/>
                  <a:pt x="100" y="4057"/>
                </a:cubicBezTo>
                <a:close/>
                <a:moveTo>
                  <a:pt x="100" y="4257"/>
                </a:moveTo>
                <a:lnTo>
                  <a:pt x="100" y="4257"/>
                </a:lnTo>
                <a:cubicBezTo>
                  <a:pt x="100" y="4285"/>
                  <a:pt x="78" y="4307"/>
                  <a:pt x="50" y="4307"/>
                </a:cubicBezTo>
                <a:cubicBezTo>
                  <a:pt x="23" y="4307"/>
                  <a:pt x="0" y="4285"/>
                  <a:pt x="0" y="4257"/>
                </a:cubicBezTo>
                <a:lnTo>
                  <a:pt x="0" y="4257"/>
                </a:lnTo>
                <a:cubicBezTo>
                  <a:pt x="0" y="4229"/>
                  <a:pt x="23" y="4207"/>
                  <a:pt x="50" y="4207"/>
                </a:cubicBezTo>
                <a:cubicBezTo>
                  <a:pt x="78" y="4207"/>
                  <a:pt x="100" y="4229"/>
                  <a:pt x="100" y="4257"/>
                </a:cubicBezTo>
                <a:close/>
                <a:moveTo>
                  <a:pt x="100" y="4457"/>
                </a:moveTo>
                <a:lnTo>
                  <a:pt x="100" y="4457"/>
                </a:lnTo>
                <a:cubicBezTo>
                  <a:pt x="100" y="4485"/>
                  <a:pt x="78" y="4507"/>
                  <a:pt x="50" y="4507"/>
                </a:cubicBezTo>
                <a:cubicBezTo>
                  <a:pt x="23" y="4507"/>
                  <a:pt x="0" y="4485"/>
                  <a:pt x="0" y="4457"/>
                </a:cubicBezTo>
                <a:lnTo>
                  <a:pt x="0" y="4457"/>
                </a:lnTo>
                <a:cubicBezTo>
                  <a:pt x="0" y="4429"/>
                  <a:pt x="23" y="4407"/>
                  <a:pt x="50" y="4407"/>
                </a:cubicBezTo>
                <a:cubicBezTo>
                  <a:pt x="78" y="4407"/>
                  <a:pt x="100" y="4429"/>
                  <a:pt x="100" y="4457"/>
                </a:cubicBezTo>
                <a:close/>
                <a:moveTo>
                  <a:pt x="204" y="4453"/>
                </a:moveTo>
                <a:lnTo>
                  <a:pt x="204" y="4453"/>
                </a:lnTo>
                <a:cubicBezTo>
                  <a:pt x="232" y="4453"/>
                  <a:pt x="254" y="4476"/>
                  <a:pt x="254" y="4503"/>
                </a:cubicBezTo>
                <a:cubicBezTo>
                  <a:pt x="254" y="4531"/>
                  <a:pt x="232" y="4553"/>
                  <a:pt x="204" y="4553"/>
                </a:cubicBezTo>
                <a:lnTo>
                  <a:pt x="204" y="4553"/>
                </a:lnTo>
                <a:cubicBezTo>
                  <a:pt x="177" y="4553"/>
                  <a:pt x="154" y="4531"/>
                  <a:pt x="154" y="4503"/>
                </a:cubicBezTo>
                <a:cubicBezTo>
                  <a:pt x="154" y="4476"/>
                  <a:pt x="177" y="4453"/>
                  <a:pt x="204" y="4453"/>
                </a:cubicBezTo>
                <a:close/>
                <a:moveTo>
                  <a:pt x="404" y="4453"/>
                </a:moveTo>
                <a:lnTo>
                  <a:pt x="405" y="4453"/>
                </a:lnTo>
                <a:cubicBezTo>
                  <a:pt x="432" y="4453"/>
                  <a:pt x="455" y="4476"/>
                  <a:pt x="455" y="4503"/>
                </a:cubicBezTo>
                <a:cubicBezTo>
                  <a:pt x="455" y="4531"/>
                  <a:pt x="432" y="4553"/>
                  <a:pt x="405" y="4553"/>
                </a:cubicBezTo>
                <a:lnTo>
                  <a:pt x="404" y="4553"/>
                </a:lnTo>
                <a:cubicBezTo>
                  <a:pt x="377" y="4553"/>
                  <a:pt x="354" y="4531"/>
                  <a:pt x="354" y="4503"/>
                </a:cubicBezTo>
                <a:cubicBezTo>
                  <a:pt x="354" y="4476"/>
                  <a:pt x="377" y="4453"/>
                  <a:pt x="404" y="4453"/>
                </a:cubicBezTo>
                <a:close/>
                <a:moveTo>
                  <a:pt x="605" y="4453"/>
                </a:moveTo>
                <a:lnTo>
                  <a:pt x="605" y="4453"/>
                </a:lnTo>
                <a:cubicBezTo>
                  <a:pt x="632" y="4453"/>
                  <a:pt x="655" y="4476"/>
                  <a:pt x="655" y="4503"/>
                </a:cubicBezTo>
                <a:cubicBezTo>
                  <a:pt x="655" y="4531"/>
                  <a:pt x="632" y="4553"/>
                  <a:pt x="605" y="4553"/>
                </a:cubicBezTo>
                <a:lnTo>
                  <a:pt x="605" y="4553"/>
                </a:lnTo>
                <a:cubicBezTo>
                  <a:pt x="577" y="4553"/>
                  <a:pt x="555" y="4531"/>
                  <a:pt x="555" y="4503"/>
                </a:cubicBezTo>
                <a:cubicBezTo>
                  <a:pt x="555" y="4476"/>
                  <a:pt x="577" y="4453"/>
                  <a:pt x="605" y="4453"/>
                </a:cubicBezTo>
                <a:close/>
                <a:moveTo>
                  <a:pt x="805" y="4453"/>
                </a:moveTo>
                <a:lnTo>
                  <a:pt x="805" y="4453"/>
                </a:lnTo>
                <a:cubicBezTo>
                  <a:pt x="832" y="4453"/>
                  <a:pt x="855" y="4476"/>
                  <a:pt x="855" y="4503"/>
                </a:cubicBezTo>
                <a:cubicBezTo>
                  <a:pt x="855" y="4531"/>
                  <a:pt x="832" y="4553"/>
                  <a:pt x="805" y="4553"/>
                </a:cubicBezTo>
                <a:lnTo>
                  <a:pt x="805" y="4553"/>
                </a:lnTo>
                <a:cubicBezTo>
                  <a:pt x="777" y="4553"/>
                  <a:pt x="755" y="4531"/>
                  <a:pt x="755" y="4503"/>
                </a:cubicBezTo>
                <a:cubicBezTo>
                  <a:pt x="755" y="4476"/>
                  <a:pt x="777" y="4453"/>
                  <a:pt x="805" y="4453"/>
                </a:cubicBezTo>
                <a:close/>
                <a:moveTo>
                  <a:pt x="1005" y="4453"/>
                </a:moveTo>
                <a:lnTo>
                  <a:pt x="1005" y="4453"/>
                </a:lnTo>
                <a:cubicBezTo>
                  <a:pt x="1032" y="4453"/>
                  <a:pt x="1055" y="4476"/>
                  <a:pt x="1055" y="4503"/>
                </a:cubicBezTo>
                <a:cubicBezTo>
                  <a:pt x="1055" y="4531"/>
                  <a:pt x="1032" y="4553"/>
                  <a:pt x="1005" y="4553"/>
                </a:cubicBezTo>
                <a:lnTo>
                  <a:pt x="1005" y="4553"/>
                </a:lnTo>
                <a:cubicBezTo>
                  <a:pt x="977" y="4553"/>
                  <a:pt x="955" y="4531"/>
                  <a:pt x="955" y="4503"/>
                </a:cubicBezTo>
                <a:cubicBezTo>
                  <a:pt x="955" y="4476"/>
                  <a:pt x="977" y="4453"/>
                  <a:pt x="1005" y="4453"/>
                </a:cubicBezTo>
                <a:close/>
                <a:moveTo>
                  <a:pt x="1205" y="4453"/>
                </a:moveTo>
                <a:lnTo>
                  <a:pt x="1205" y="4453"/>
                </a:lnTo>
                <a:cubicBezTo>
                  <a:pt x="1233" y="4453"/>
                  <a:pt x="1255" y="4476"/>
                  <a:pt x="1255" y="4503"/>
                </a:cubicBezTo>
                <a:cubicBezTo>
                  <a:pt x="1255" y="4531"/>
                  <a:pt x="1233" y="4553"/>
                  <a:pt x="1205" y="4553"/>
                </a:cubicBezTo>
                <a:lnTo>
                  <a:pt x="1205" y="4553"/>
                </a:lnTo>
                <a:cubicBezTo>
                  <a:pt x="1177" y="4553"/>
                  <a:pt x="1155" y="4531"/>
                  <a:pt x="1155" y="4503"/>
                </a:cubicBezTo>
                <a:cubicBezTo>
                  <a:pt x="1155" y="4476"/>
                  <a:pt x="1177" y="4453"/>
                  <a:pt x="1205" y="4453"/>
                </a:cubicBezTo>
                <a:close/>
                <a:moveTo>
                  <a:pt x="1405" y="4453"/>
                </a:moveTo>
                <a:lnTo>
                  <a:pt x="1405" y="4453"/>
                </a:lnTo>
                <a:cubicBezTo>
                  <a:pt x="1433" y="4453"/>
                  <a:pt x="1455" y="4476"/>
                  <a:pt x="1455" y="4503"/>
                </a:cubicBezTo>
                <a:cubicBezTo>
                  <a:pt x="1455" y="4531"/>
                  <a:pt x="1433" y="4553"/>
                  <a:pt x="1405" y="4553"/>
                </a:cubicBezTo>
                <a:lnTo>
                  <a:pt x="1405" y="4553"/>
                </a:lnTo>
                <a:cubicBezTo>
                  <a:pt x="1377" y="4553"/>
                  <a:pt x="1355" y="4531"/>
                  <a:pt x="1355" y="4503"/>
                </a:cubicBezTo>
                <a:cubicBezTo>
                  <a:pt x="1355" y="4476"/>
                  <a:pt x="1377" y="4453"/>
                  <a:pt x="1405" y="4453"/>
                </a:cubicBezTo>
                <a:close/>
                <a:moveTo>
                  <a:pt x="1605" y="4453"/>
                </a:moveTo>
                <a:lnTo>
                  <a:pt x="1605" y="4453"/>
                </a:lnTo>
                <a:cubicBezTo>
                  <a:pt x="1633" y="4453"/>
                  <a:pt x="1655" y="4476"/>
                  <a:pt x="1655" y="4503"/>
                </a:cubicBezTo>
                <a:cubicBezTo>
                  <a:pt x="1655" y="4531"/>
                  <a:pt x="1633" y="4553"/>
                  <a:pt x="1605" y="4553"/>
                </a:cubicBezTo>
                <a:lnTo>
                  <a:pt x="1605" y="4553"/>
                </a:lnTo>
                <a:cubicBezTo>
                  <a:pt x="1577" y="4553"/>
                  <a:pt x="1555" y="4531"/>
                  <a:pt x="1555" y="4503"/>
                </a:cubicBezTo>
                <a:cubicBezTo>
                  <a:pt x="1555" y="4476"/>
                  <a:pt x="1577" y="4453"/>
                  <a:pt x="1605" y="4453"/>
                </a:cubicBezTo>
                <a:close/>
                <a:moveTo>
                  <a:pt x="1805" y="4453"/>
                </a:moveTo>
                <a:lnTo>
                  <a:pt x="1805" y="4453"/>
                </a:lnTo>
                <a:cubicBezTo>
                  <a:pt x="1833" y="4453"/>
                  <a:pt x="1855" y="4476"/>
                  <a:pt x="1855" y="4503"/>
                </a:cubicBezTo>
                <a:cubicBezTo>
                  <a:pt x="1855" y="4531"/>
                  <a:pt x="1833" y="4553"/>
                  <a:pt x="1805" y="4553"/>
                </a:cubicBezTo>
                <a:lnTo>
                  <a:pt x="1805" y="4553"/>
                </a:lnTo>
                <a:cubicBezTo>
                  <a:pt x="1778" y="4553"/>
                  <a:pt x="1755" y="4531"/>
                  <a:pt x="1755" y="4503"/>
                </a:cubicBezTo>
                <a:cubicBezTo>
                  <a:pt x="1755" y="4476"/>
                  <a:pt x="1778" y="4453"/>
                  <a:pt x="1805" y="4453"/>
                </a:cubicBezTo>
                <a:close/>
                <a:moveTo>
                  <a:pt x="2005" y="4453"/>
                </a:moveTo>
                <a:lnTo>
                  <a:pt x="2005" y="4453"/>
                </a:lnTo>
                <a:cubicBezTo>
                  <a:pt x="2033" y="4453"/>
                  <a:pt x="2055" y="4476"/>
                  <a:pt x="2055" y="4503"/>
                </a:cubicBezTo>
                <a:cubicBezTo>
                  <a:pt x="2055" y="4531"/>
                  <a:pt x="2033" y="4553"/>
                  <a:pt x="2005" y="4553"/>
                </a:cubicBezTo>
                <a:lnTo>
                  <a:pt x="2005" y="4553"/>
                </a:lnTo>
                <a:cubicBezTo>
                  <a:pt x="1978" y="4553"/>
                  <a:pt x="1955" y="4531"/>
                  <a:pt x="1955" y="4503"/>
                </a:cubicBezTo>
                <a:cubicBezTo>
                  <a:pt x="1955" y="4476"/>
                  <a:pt x="1978" y="4453"/>
                  <a:pt x="2005" y="4453"/>
                </a:cubicBezTo>
                <a:close/>
                <a:moveTo>
                  <a:pt x="2205" y="4453"/>
                </a:moveTo>
                <a:lnTo>
                  <a:pt x="2205" y="4453"/>
                </a:lnTo>
                <a:cubicBezTo>
                  <a:pt x="2233" y="4453"/>
                  <a:pt x="2255" y="4476"/>
                  <a:pt x="2255" y="4503"/>
                </a:cubicBezTo>
                <a:cubicBezTo>
                  <a:pt x="2255" y="4531"/>
                  <a:pt x="2233" y="4553"/>
                  <a:pt x="2205" y="4553"/>
                </a:cubicBezTo>
                <a:lnTo>
                  <a:pt x="2205" y="4553"/>
                </a:lnTo>
                <a:cubicBezTo>
                  <a:pt x="2178" y="4553"/>
                  <a:pt x="2155" y="4531"/>
                  <a:pt x="2155" y="4503"/>
                </a:cubicBezTo>
                <a:cubicBezTo>
                  <a:pt x="2155" y="4476"/>
                  <a:pt x="2178" y="4453"/>
                  <a:pt x="2205" y="4453"/>
                </a:cubicBezTo>
                <a:close/>
                <a:moveTo>
                  <a:pt x="2405" y="4453"/>
                </a:moveTo>
                <a:lnTo>
                  <a:pt x="2406" y="4453"/>
                </a:lnTo>
                <a:cubicBezTo>
                  <a:pt x="2433" y="4453"/>
                  <a:pt x="2456" y="4476"/>
                  <a:pt x="2456" y="4503"/>
                </a:cubicBezTo>
                <a:cubicBezTo>
                  <a:pt x="2456" y="4531"/>
                  <a:pt x="2433" y="4553"/>
                  <a:pt x="2406" y="4553"/>
                </a:cubicBezTo>
                <a:lnTo>
                  <a:pt x="2405" y="4553"/>
                </a:lnTo>
                <a:cubicBezTo>
                  <a:pt x="2378" y="4553"/>
                  <a:pt x="2355" y="4531"/>
                  <a:pt x="2355" y="4503"/>
                </a:cubicBezTo>
                <a:cubicBezTo>
                  <a:pt x="2355" y="4476"/>
                  <a:pt x="2378" y="4453"/>
                  <a:pt x="2405" y="4453"/>
                </a:cubicBezTo>
                <a:close/>
                <a:moveTo>
                  <a:pt x="2606" y="4453"/>
                </a:moveTo>
                <a:lnTo>
                  <a:pt x="2606" y="4453"/>
                </a:lnTo>
                <a:cubicBezTo>
                  <a:pt x="2633" y="4453"/>
                  <a:pt x="2656" y="4476"/>
                  <a:pt x="2656" y="4503"/>
                </a:cubicBezTo>
                <a:cubicBezTo>
                  <a:pt x="2656" y="4531"/>
                  <a:pt x="2633" y="4553"/>
                  <a:pt x="2606" y="4553"/>
                </a:cubicBezTo>
                <a:lnTo>
                  <a:pt x="2606" y="4553"/>
                </a:lnTo>
                <a:cubicBezTo>
                  <a:pt x="2578" y="4553"/>
                  <a:pt x="2556" y="4531"/>
                  <a:pt x="2556" y="4503"/>
                </a:cubicBezTo>
                <a:cubicBezTo>
                  <a:pt x="2556" y="4476"/>
                  <a:pt x="2578" y="4453"/>
                  <a:pt x="2606" y="4453"/>
                </a:cubicBezTo>
                <a:close/>
                <a:moveTo>
                  <a:pt x="2806" y="4453"/>
                </a:moveTo>
                <a:lnTo>
                  <a:pt x="2806" y="4453"/>
                </a:lnTo>
                <a:cubicBezTo>
                  <a:pt x="2833" y="4453"/>
                  <a:pt x="2856" y="4476"/>
                  <a:pt x="2856" y="4503"/>
                </a:cubicBezTo>
                <a:cubicBezTo>
                  <a:pt x="2856" y="4531"/>
                  <a:pt x="2833" y="4553"/>
                  <a:pt x="2806" y="4553"/>
                </a:cubicBezTo>
                <a:lnTo>
                  <a:pt x="2806" y="4553"/>
                </a:lnTo>
                <a:cubicBezTo>
                  <a:pt x="2778" y="4553"/>
                  <a:pt x="2756" y="4531"/>
                  <a:pt x="2756" y="4503"/>
                </a:cubicBezTo>
                <a:cubicBezTo>
                  <a:pt x="2756" y="4476"/>
                  <a:pt x="2778" y="4453"/>
                  <a:pt x="2806" y="4453"/>
                </a:cubicBezTo>
                <a:close/>
                <a:moveTo>
                  <a:pt x="3006" y="4453"/>
                </a:moveTo>
                <a:lnTo>
                  <a:pt x="3006" y="4453"/>
                </a:lnTo>
                <a:cubicBezTo>
                  <a:pt x="3033" y="4453"/>
                  <a:pt x="3056" y="4476"/>
                  <a:pt x="3056" y="4503"/>
                </a:cubicBezTo>
                <a:cubicBezTo>
                  <a:pt x="3056" y="4531"/>
                  <a:pt x="3033" y="4553"/>
                  <a:pt x="3006" y="4553"/>
                </a:cubicBezTo>
                <a:lnTo>
                  <a:pt x="3006" y="4553"/>
                </a:lnTo>
                <a:cubicBezTo>
                  <a:pt x="2978" y="4553"/>
                  <a:pt x="2956" y="4531"/>
                  <a:pt x="2956" y="4503"/>
                </a:cubicBezTo>
                <a:cubicBezTo>
                  <a:pt x="2956" y="4476"/>
                  <a:pt x="2978" y="4453"/>
                  <a:pt x="3006" y="4453"/>
                </a:cubicBezTo>
                <a:close/>
                <a:moveTo>
                  <a:pt x="3206" y="4453"/>
                </a:moveTo>
                <a:lnTo>
                  <a:pt x="3206" y="4453"/>
                </a:lnTo>
                <a:cubicBezTo>
                  <a:pt x="3234" y="4453"/>
                  <a:pt x="3256" y="4476"/>
                  <a:pt x="3256" y="4503"/>
                </a:cubicBezTo>
                <a:cubicBezTo>
                  <a:pt x="3256" y="4531"/>
                  <a:pt x="3234" y="4553"/>
                  <a:pt x="3206" y="4553"/>
                </a:cubicBezTo>
                <a:lnTo>
                  <a:pt x="3206" y="4553"/>
                </a:lnTo>
                <a:cubicBezTo>
                  <a:pt x="3178" y="4553"/>
                  <a:pt x="3156" y="4531"/>
                  <a:pt x="3156" y="4503"/>
                </a:cubicBezTo>
                <a:cubicBezTo>
                  <a:pt x="3156" y="4476"/>
                  <a:pt x="3178" y="4453"/>
                  <a:pt x="3206" y="4453"/>
                </a:cubicBezTo>
                <a:close/>
                <a:moveTo>
                  <a:pt x="3406" y="4453"/>
                </a:moveTo>
                <a:lnTo>
                  <a:pt x="3406" y="4453"/>
                </a:lnTo>
                <a:cubicBezTo>
                  <a:pt x="3434" y="4453"/>
                  <a:pt x="3456" y="4476"/>
                  <a:pt x="3456" y="4503"/>
                </a:cubicBezTo>
                <a:cubicBezTo>
                  <a:pt x="3456" y="4531"/>
                  <a:pt x="3434" y="4553"/>
                  <a:pt x="3406" y="4553"/>
                </a:cubicBezTo>
                <a:lnTo>
                  <a:pt x="3406" y="4553"/>
                </a:lnTo>
                <a:cubicBezTo>
                  <a:pt x="3378" y="4553"/>
                  <a:pt x="3356" y="4531"/>
                  <a:pt x="3356" y="4503"/>
                </a:cubicBezTo>
                <a:cubicBezTo>
                  <a:pt x="3356" y="4476"/>
                  <a:pt x="3378" y="4453"/>
                  <a:pt x="3406" y="4453"/>
                </a:cubicBezTo>
                <a:close/>
                <a:moveTo>
                  <a:pt x="3606" y="4453"/>
                </a:moveTo>
                <a:lnTo>
                  <a:pt x="3606" y="4453"/>
                </a:lnTo>
                <a:cubicBezTo>
                  <a:pt x="3634" y="4453"/>
                  <a:pt x="3656" y="4476"/>
                  <a:pt x="3656" y="4503"/>
                </a:cubicBezTo>
                <a:cubicBezTo>
                  <a:pt x="3656" y="4531"/>
                  <a:pt x="3634" y="4553"/>
                  <a:pt x="3606" y="4553"/>
                </a:cubicBezTo>
                <a:lnTo>
                  <a:pt x="3606" y="4553"/>
                </a:lnTo>
                <a:cubicBezTo>
                  <a:pt x="3578" y="4553"/>
                  <a:pt x="3556" y="4531"/>
                  <a:pt x="3556" y="4503"/>
                </a:cubicBezTo>
                <a:cubicBezTo>
                  <a:pt x="3556" y="4476"/>
                  <a:pt x="3578" y="4453"/>
                  <a:pt x="3606" y="4453"/>
                </a:cubicBezTo>
                <a:close/>
                <a:moveTo>
                  <a:pt x="3806" y="4453"/>
                </a:moveTo>
                <a:lnTo>
                  <a:pt x="3806" y="4453"/>
                </a:lnTo>
                <a:cubicBezTo>
                  <a:pt x="3834" y="4453"/>
                  <a:pt x="3856" y="4476"/>
                  <a:pt x="3856" y="4503"/>
                </a:cubicBezTo>
                <a:cubicBezTo>
                  <a:pt x="3856" y="4531"/>
                  <a:pt x="3834" y="4553"/>
                  <a:pt x="3806" y="4553"/>
                </a:cubicBezTo>
                <a:lnTo>
                  <a:pt x="3806" y="4553"/>
                </a:lnTo>
                <a:cubicBezTo>
                  <a:pt x="3779" y="4553"/>
                  <a:pt x="3756" y="4531"/>
                  <a:pt x="3756" y="4503"/>
                </a:cubicBezTo>
                <a:cubicBezTo>
                  <a:pt x="3756" y="4476"/>
                  <a:pt x="3779" y="4453"/>
                  <a:pt x="3806" y="4453"/>
                </a:cubicBezTo>
                <a:close/>
                <a:moveTo>
                  <a:pt x="4006" y="4453"/>
                </a:moveTo>
                <a:lnTo>
                  <a:pt x="4006" y="4453"/>
                </a:lnTo>
                <a:cubicBezTo>
                  <a:pt x="4034" y="4453"/>
                  <a:pt x="4056" y="4476"/>
                  <a:pt x="4056" y="4503"/>
                </a:cubicBezTo>
                <a:cubicBezTo>
                  <a:pt x="4056" y="4531"/>
                  <a:pt x="4034" y="4553"/>
                  <a:pt x="4006" y="4553"/>
                </a:cubicBezTo>
                <a:lnTo>
                  <a:pt x="4006" y="4553"/>
                </a:lnTo>
                <a:cubicBezTo>
                  <a:pt x="3979" y="4553"/>
                  <a:pt x="3956" y="4531"/>
                  <a:pt x="3956" y="4503"/>
                </a:cubicBezTo>
                <a:cubicBezTo>
                  <a:pt x="3956" y="4476"/>
                  <a:pt x="3979" y="4453"/>
                  <a:pt x="4006" y="4453"/>
                </a:cubicBezTo>
                <a:close/>
                <a:moveTo>
                  <a:pt x="4206" y="4453"/>
                </a:moveTo>
                <a:lnTo>
                  <a:pt x="4206" y="4453"/>
                </a:lnTo>
                <a:cubicBezTo>
                  <a:pt x="4234" y="4453"/>
                  <a:pt x="4256" y="4476"/>
                  <a:pt x="4256" y="4503"/>
                </a:cubicBezTo>
                <a:cubicBezTo>
                  <a:pt x="4256" y="4531"/>
                  <a:pt x="4234" y="4553"/>
                  <a:pt x="4206" y="4553"/>
                </a:cubicBezTo>
                <a:lnTo>
                  <a:pt x="4206" y="4553"/>
                </a:lnTo>
                <a:cubicBezTo>
                  <a:pt x="4179" y="4553"/>
                  <a:pt x="4156" y="4531"/>
                  <a:pt x="4156" y="4503"/>
                </a:cubicBezTo>
                <a:cubicBezTo>
                  <a:pt x="4156" y="4476"/>
                  <a:pt x="4179" y="4453"/>
                  <a:pt x="4206" y="4453"/>
                </a:cubicBezTo>
                <a:close/>
                <a:moveTo>
                  <a:pt x="4406" y="4453"/>
                </a:moveTo>
                <a:lnTo>
                  <a:pt x="4407" y="4453"/>
                </a:lnTo>
                <a:cubicBezTo>
                  <a:pt x="4434" y="4453"/>
                  <a:pt x="4457" y="4476"/>
                  <a:pt x="4457" y="4503"/>
                </a:cubicBezTo>
                <a:cubicBezTo>
                  <a:pt x="4457" y="4531"/>
                  <a:pt x="4434" y="4553"/>
                  <a:pt x="4407" y="4553"/>
                </a:cubicBezTo>
                <a:lnTo>
                  <a:pt x="4406" y="4553"/>
                </a:lnTo>
                <a:cubicBezTo>
                  <a:pt x="4379" y="4553"/>
                  <a:pt x="4356" y="4531"/>
                  <a:pt x="4356" y="4503"/>
                </a:cubicBezTo>
                <a:cubicBezTo>
                  <a:pt x="4356" y="4476"/>
                  <a:pt x="4379" y="4453"/>
                  <a:pt x="4406" y="4453"/>
                </a:cubicBezTo>
                <a:close/>
                <a:moveTo>
                  <a:pt x="4607" y="4453"/>
                </a:moveTo>
                <a:lnTo>
                  <a:pt x="4607" y="4453"/>
                </a:lnTo>
                <a:cubicBezTo>
                  <a:pt x="4634" y="4453"/>
                  <a:pt x="4657" y="4476"/>
                  <a:pt x="4657" y="4503"/>
                </a:cubicBezTo>
                <a:cubicBezTo>
                  <a:pt x="4657" y="4531"/>
                  <a:pt x="4634" y="4553"/>
                  <a:pt x="4607" y="4553"/>
                </a:cubicBezTo>
                <a:lnTo>
                  <a:pt x="4607" y="4553"/>
                </a:lnTo>
                <a:cubicBezTo>
                  <a:pt x="4579" y="4553"/>
                  <a:pt x="4557" y="4531"/>
                  <a:pt x="4557" y="4503"/>
                </a:cubicBezTo>
                <a:cubicBezTo>
                  <a:pt x="4557" y="4476"/>
                  <a:pt x="4579" y="4453"/>
                  <a:pt x="4607" y="4453"/>
                </a:cubicBezTo>
                <a:close/>
                <a:moveTo>
                  <a:pt x="4807" y="4453"/>
                </a:moveTo>
                <a:lnTo>
                  <a:pt x="4807" y="4453"/>
                </a:lnTo>
                <a:cubicBezTo>
                  <a:pt x="4834" y="4453"/>
                  <a:pt x="4857" y="4476"/>
                  <a:pt x="4857" y="4503"/>
                </a:cubicBezTo>
                <a:cubicBezTo>
                  <a:pt x="4857" y="4531"/>
                  <a:pt x="4834" y="4553"/>
                  <a:pt x="4807" y="4553"/>
                </a:cubicBezTo>
                <a:lnTo>
                  <a:pt x="4807" y="4553"/>
                </a:lnTo>
                <a:cubicBezTo>
                  <a:pt x="4779" y="4553"/>
                  <a:pt x="4757" y="4531"/>
                  <a:pt x="4757" y="4503"/>
                </a:cubicBezTo>
                <a:cubicBezTo>
                  <a:pt x="4757" y="4476"/>
                  <a:pt x="4779" y="4453"/>
                  <a:pt x="4807" y="4453"/>
                </a:cubicBezTo>
                <a:close/>
                <a:moveTo>
                  <a:pt x="5007" y="4453"/>
                </a:moveTo>
                <a:lnTo>
                  <a:pt x="5007" y="4453"/>
                </a:lnTo>
                <a:cubicBezTo>
                  <a:pt x="5034" y="4453"/>
                  <a:pt x="5057" y="4476"/>
                  <a:pt x="5057" y="4503"/>
                </a:cubicBezTo>
                <a:cubicBezTo>
                  <a:pt x="5057" y="4531"/>
                  <a:pt x="5034" y="4553"/>
                  <a:pt x="5007" y="4553"/>
                </a:cubicBezTo>
                <a:lnTo>
                  <a:pt x="5007" y="4553"/>
                </a:lnTo>
                <a:cubicBezTo>
                  <a:pt x="4979" y="4553"/>
                  <a:pt x="4957" y="4531"/>
                  <a:pt x="4957" y="4503"/>
                </a:cubicBezTo>
                <a:cubicBezTo>
                  <a:pt x="4957" y="4476"/>
                  <a:pt x="4979" y="4453"/>
                  <a:pt x="5007" y="4453"/>
                </a:cubicBezTo>
                <a:close/>
                <a:moveTo>
                  <a:pt x="5207" y="4453"/>
                </a:moveTo>
                <a:lnTo>
                  <a:pt x="5207" y="4453"/>
                </a:lnTo>
                <a:cubicBezTo>
                  <a:pt x="5235" y="4453"/>
                  <a:pt x="5257" y="4476"/>
                  <a:pt x="5257" y="4503"/>
                </a:cubicBezTo>
                <a:cubicBezTo>
                  <a:pt x="5257" y="4531"/>
                  <a:pt x="5235" y="4553"/>
                  <a:pt x="5207" y="4553"/>
                </a:cubicBezTo>
                <a:lnTo>
                  <a:pt x="5207" y="4553"/>
                </a:lnTo>
                <a:cubicBezTo>
                  <a:pt x="5179" y="4553"/>
                  <a:pt x="5157" y="4531"/>
                  <a:pt x="5157" y="4503"/>
                </a:cubicBezTo>
                <a:cubicBezTo>
                  <a:pt x="5157" y="4476"/>
                  <a:pt x="5179" y="4453"/>
                  <a:pt x="5207" y="4453"/>
                </a:cubicBezTo>
                <a:close/>
                <a:moveTo>
                  <a:pt x="5407" y="4453"/>
                </a:moveTo>
                <a:lnTo>
                  <a:pt x="5407" y="4453"/>
                </a:lnTo>
                <a:cubicBezTo>
                  <a:pt x="5435" y="4453"/>
                  <a:pt x="5457" y="4476"/>
                  <a:pt x="5457" y="4503"/>
                </a:cubicBezTo>
                <a:cubicBezTo>
                  <a:pt x="5457" y="4531"/>
                  <a:pt x="5435" y="4553"/>
                  <a:pt x="5407" y="4553"/>
                </a:cubicBezTo>
                <a:lnTo>
                  <a:pt x="5407" y="4553"/>
                </a:lnTo>
                <a:cubicBezTo>
                  <a:pt x="5379" y="4553"/>
                  <a:pt x="5357" y="4531"/>
                  <a:pt x="5357" y="4503"/>
                </a:cubicBezTo>
                <a:cubicBezTo>
                  <a:pt x="5357" y="4476"/>
                  <a:pt x="5379" y="4453"/>
                  <a:pt x="5407" y="4453"/>
                </a:cubicBezTo>
                <a:close/>
                <a:moveTo>
                  <a:pt x="5607" y="4453"/>
                </a:moveTo>
                <a:lnTo>
                  <a:pt x="5607" y="4453"/>
                </a:lnTo>
                <a:cubicBezTo>
                  <a:pt x="5635" y="4453"/>
                  <a:pt x="5657" y="4476"/>
                  <a:pt x="5657" y="4503"/>
                </a:cubicBezTo>
                <a:cubicBezTo>
                  <a:pt x="5657" y="4531"/>
                  <a:pt x="5635" y="4553"/>
                  <a:pt x="5607" y="4553"/>
                </a:cubicBezTo>
                <a:lnTo>
                  <a:pt x="5607" y="4553"/>
                </a:lnTo>
                <a:cubicBezTo>
                  <a:pt x="5579" y="4553"/>
                  <a:pt x="5557" y="4531"/>
                  <a:pt x="5557" y="4503"/>
                </a:cubicBezTo>
                <a:cubicBezTo>
                  <a:pt x="5557" y="4476"/>
                  <a:pt x="5579" y="4453"/>
                  <a:pt x="5607" y="4453"/>
                </a:cubicBezTo>
                <a:close/>
                <a:moveTo>
                  <a:pt x="5807" y="4453"/>
                </a:moveTo>
                <a:lnTo>
                  <a:pt x="5807" y="4453"/>
                </a:lnTo>
                <a:cubicBezTo>
                  <a:pt x="5835" y="4453"/>
                  <a:pt x="5857" y="4476"/>
                  <a:pt x="5857" y="4503"/>
                </a:cubicBezTo>
                <a:cubicBezTo>
                  <a:pt x="5857" y="4531"/>
                  <a:pt x="5835" y="4553"/>
                  <a:pt x="5807" y="4553"/>
                </a:cubicBezTo>
                <a:lnTo>
                  <a:pt x="5807" y="4553"/>
                </a:lnTo>
                <a:cubicBezTo>
                  <a:pt x="5780" y="4553"/>
                  <a:pt x="5757" y="4531"/>
                  <a:pt x="5757" y="4503"/>
                </a:cubicBezTo>
                <a:cubicBezTo>
                  <a:pt x="5757" y="4476"/>
                  <a:pt x="5780" y="4453"/>
                  <a:pt x="5807" y="4453"/>
                </a:cubicBezTo>
                <a:close/>
                <a:moveTo>
                  <a:pt x="6007" y="4453"/>
                </a:moveTo>
                <a:lnTo>
                  <a:pt x="6007" y="4453"/>
                </a:lnTo>
                <a:cubicBezTo>
                  <a:pt x="6035" y="4453"/>
                  <a:pt x="6057" y="4476"/>
                  <a:pt x="6057" y="4503"/>
                </a:cubicBezTo>
                <a:cubicBezTo>
                  <a:pt x="6057" y="4531"/>
                  <a:pt x="6035" y="4553"/>
                  <a:pt x="6007" y="4553"/>
                </a:cubicBezTo>
                <a:lnTo>
                  <a:pt x="6007" y="4553"/>
                </a:lnTo>
                <a:cubicBezTo>
                  <a:pt x="5980" y="4553"/>
                  <a:pt x="5957" y="4531"/>
                  <a:pt x="5957" y="4503"/>
                </a:cubicBezTo>
                <a:cubicBezTo>
                  <a:pt x="5957" y="4476"/>
                  <a:pt x="5980" y="4453"/>
                  <a:pt x="6007" y="4453"/>
                </a:cubicBezTo>
                <a:close/>
                <a:moveTo>
                  <a:pt x="6207" y="4453"/>
                </a:moveTo>
                <a:lnTo>
                  <a:pt x="6207" y="4453"/>
                </a:lnTo>
                <a:cubicBezTo>
                  <a:pt x="6235" y="4453"/>
                  <a:pt x="6257" y="4476"/>
                  <a:pt x="6257" y="4503"/>
                </a:cubicBezTo>
                <a:cubicBezTo>
                  <a:pt x="6257" y="4531"/>
                  <a:pt x="6235" y="4553"/>
                  <a:pt x="6207" y="4553"/>
                </a:cubicBezTo>
                <a:lnTo>
                  <a:pt x="6207" y="4553"/>
                </a:lnTo>
                <a:cubicBezTo>
                  <a:pt x="6180" y="4553"/>
                  <a:pt x="6157" y="4531"/>
                  <a:pt x="6157" y="4503"/>
                </a:cubicBezTo>
                <a:cubicBezTo>
                  <a:pt x="6157" y="4476"/>
                  <a:pt x="6180" y="4453"/>
                  <a:pt x="6207" y="4453"/>
                </a:cubicBezTo>
                <a:close/>
                <a:moveTo>
                  <a:pt x="6407" y="4453"/>
                </a:moveTo>
                <a:lnTo>
                  <a:pt x="6408" y="4453"/>
                </a:lnTo>
                <a:cubicBezTo>
                  <a:pt x="6435" y="4453"/>
                  <a:pt x="6458" y="4476"/>
                  <a:pt x="6458" y="4503"/>
                </a:cubicBezTo>
                <a:cubicBezTo>
                  <a:pt x="6458" y="4531"/>
                  <a:pt x="6435" y="4553"/>
                  <a:pt x="6408" y="4553"/>
                </a:cubicBezTo>
                <a:lnTo>
                  <a:pt x="6407" y="4553"/>
                </a:lnTo>
                <a:cubicBezTo>
                  <a:pt x="6380" y="4553"/>
                  <a:pt x="6357" y="4531"/>
                  <a:pt x="6357" y="4503"/>
                </a:cubicBezTo>
                <a:cubicBezTo>
                  <a:pt x="6357" y="4476"/>
                  <a:pt x="6380" y="4453"/>
                  <a:pt x="6407" y="4453"/>
                </a:cubicBezTo>
                <a:close/>
                <a:moveTo>
                  <a:pt x="6608" y="4453"/>
                </a:moveTo>
                <a:lnTo>
                  <a:pt x="6608" y="4453"/>
                </a:lnTo>
                <a:cubicBezTo>
                  <a:pt x="6635" y="4453"/>
                  <a:pt x="6658" y="4476"/>
                  <a:pt x="6658" y="4503"/>
                </a:cubicBezTo>
                <a:cubicBezTo>
                  <a:pt x="6658" y="4531"/>
                  <a:pt x="6635" y="4553"/>
                  <a:pt x="6608" y="4553"/>
                </a:cubicBezTo>
                <a:lnTo>
                  <a:pt x="6608" y="4553"/>
                </a:lnTo>
                <a:cubicBezTo>
                  <a:pt x="6580" y="4553"/>
                  <a:pt x="6558" y="4531"/>
                  <a:pt x="6558" y="4503"/>
                </a:cubicBezTo>
                <a:cubicBezTo>
                  <a:pt x="6558" y="4476"/>
                  <a:pt x="6580" y="4453"/>
                  <a:pt x="6608" y="4453"/>
                </a:cubicBezTo>
                <a:close/>
                <a:moveTo>
                  <a:pt x="6808" y="4453"/>
                </a:moveTo>
                <a:lnTo>
                  <a:pt x="6808" y="4453"/>
                </a:lnTo>
                <a:cubicBezTo>
                  <a:pt x="6835" y="4453"/>
                  <a:pt x="6858" y="4476"/>
                  <a:pt x="6858" y="4503"/>
                </a:cubicBezTo>
                <a:cubicBezTo>
                  <a:pt x="6858" y="4531"/>
                  <a:pt x="6835" y="4553"/>
                  <a:pt x="6808" y="4553"/>
                </a:cubicBezTo>
                <a:lnTo>
                  <a:pt x="6808" y="4553"/>
                </a:lnTo>
                <a:cubicBezTo>
                  <a:pt x="6780" y="4553"/>
                  <a:pt x="6758" y="4531"/>
                  <a:pt x="6758" y="4503"/>
                </a:cubicBezTo>
                <a:cubicBezTo>
                  <a:pt x="6758" y="4476"/>
                  <a:pt x="6780" y="4453"/>
                  <a:pt x="6808" y="4453"/>
                </a:cubicBezTo>
                <a:close/>
                <a:moveTo>
                  <a:pt x="7008" y="4453"/>
                </a:moveTo>
                <a:lnTo>
                  <a:pt x="7008" y="4453"/>
                </a:lnTo>
                <a:cubicBezTo>
                  <a:pt x="7035" y="4453"/>
                  <a:pt x="7058" y="4476"/>
                  <a:pt x="7058" y="4503"/>
                </a:cubicBezTo>
                <a:cubicBezTo>
                  <a:pt x="7058" y="4531"/>
                  <a:pt x="7035" y="4553"/>
                  <a:pt x="7008" y="4553"/>
                </a:cubicBezTo>
                <a:lnTo>
                  <a:pt x="7008" y="4553"/>
                </a:lnTo>
                <a:cubicBezTo>
                  <a:pt x="6980" y="4553"/>
                  <a:pt x="6958" y="4531"/>
                  <a:pt x="6958" y="4503"/>
                </a:cubicBezTo>
                <a:cubicBezTo>
                  <a:pt x="6958" y="4476"/>
                  <a:pt x="6980" y="4453"/>
                  <a:pt x="7008" y="4453"/>
                </a:cubicBezTo>
                <a:close/>
                <a:moveTo>
                  <a:pt x="7208" y="4453"/>
                </a:moveTo>
                <a:lnTo>
                  <a:pt x="7208" y="4453"/>
                </a:lnTo>
                <a:cubicBezTo>
                  <a:pt x="7236" y="4453"/>
                  <a:pt x="7258" y="4476"/>
                  <a:pt x="7258" y="4503"/>
                </a:cubicBezTo>
                <a:cubicBezTo>
                  <a:pt x="7258" y="4531"/>
                  <a:pt x="7236" y="4553"/>
                  <a:pt x="7208" y="4553"/>
                </a:cubicBezTo>
                <a:lnTo>
                  <a:pt x="7208" y="4553"/>
                </a:lnTo>
                <a:cubicBezTo>
                  <a:pt x="7180" y="4553"/>
                  <a:pt x="7158" y="4531"/>
                  <a:pt x="7158" y="4503"/>
                </a:cubicBezTo>
                <a:cubicBezTo>
                  <a:pt x="7158" y="4476"/>
                  <a:pt x="7180" y="4453"/>
                  <a:pt x="7208" y="4453"/>
                </a:cubicBezTo>
                <a:close/>
                <a:moveTo>
                  <a:pt x="7408" y="4453"/>
                </a:moveTo>
                <a:lnTo>
                  <a:pt x="7408" y="4453"/>
                </a:lnTo>
                <a:cubicBezTo>
                  <a:pt x="7436" y="4453"/>
                  <a:pt x="7458" y="4476"/>
                  <a:pt x="7458" y="4503"/>
                </a:cubicBezTo>
                <a:cubicBezTo>
                  <a:pt x="7458" y="4531"/>
                  <a:pt x="7436" y="4553"/>
                  <a:pt x="7408" y="4553"/>
                </a:cubicBezTo>
                <a:lnTo>
                  <a:pt x="7408" y="4553"/>
                </a:lnTo>
                <a:cubicBezTo>
                  <a:pt x="7380" y="4553"/>
                  <a:pt x="7358" y="4531"/>
                  <a:pt x="7358" y="4503"/>
                </a:cubicBezTo>
                <a:cubicBezTo>
                  <a:pt x="7358" y="4476"/>
                  <a:pt x="7380" y="4453"/>
                  <a:pt x="7408" y="4453"/>
                </a:cubicBezTo>
                <a:close/>
                <a:moveTo>
                  <a:pt x="7608" y="4453"/>
                </a:moveTo>
                <a:lnTo>
                  <a:pt x="7608" y="4453"/>
                </a:lnTo>
                <a:cubicBezTo>
                  <a:pt x="7636" y="4453"/>
                  <a:pt x="7658" y="4476"/>
                  <a:pt x="7658" y="4503"/>
                </a:cubicBezTo>
                <a:cubicBezTo>
                  <a:pt x="7658" y="4531"/>
                  <a:pt x="7636" y="4553"/>
                  <a:pt x="7608" y="4553"/>
                </a:cubicBezTo>
                <a:lnTo>
                  <a:pt x="7608" y="4553"/>
                </a:lnTo>
                <a:cubicBezTo>
                  <a:pt x="7580" y="4553"/>
                  <a:pt x="7558" y="4531"/>
                  <a:pt x="7558" y="4503"/>
                </a:cubicBezTo>
                <a:cubicBezTo>
                  <a:pt x="7558" y="4476"/>
                  <a:pt x="7580" y="4453"/>
                  <a:pt x="7608" y="4453"/>
                </a:cubicBezTo>
                <a:close/>
                <a:moveTo>
                  <a:pt x="7808" y="4453"/>
                </a:moveTo>
                <a:lnTo>
                  <a:pt x="7808" y="4453"/>
                </a:lnTo>
                <a:cubicBezTo>
                  <a:pt x="7836" y="4453"/>
                  <a:pt x="7858" y="4476"/>
                  <a:pt x="7858" y="4503"/>
                </a:cubicBezTo>
                <a:cubicBezTo>
                  <a:pt x="7858" y="4531"/>
                  <a:pt x="7836" y="4553"/>
                  <a:pt x="7808" y="4553"/>
                </a:cubicBezTo>
                <a:lnTo>
                  <a:pt x="7808" y="4553"/>
                </a:lnTo>
                <a:cubicBezTo>
                  <a:pt x="7781" y="4553"/>
                  <a:pt x="7758" y="4531"/>
                  <a:pt x="7758" y="4503"/>
                </a:cubicBezTo>
                <a:cubicBezTo>
                  <a:pt x="7758" y="4476"/>
                  <a:pt x="7781" y="4453"/>
                  <a:pt x="7808" y="4453"/>
                </a:cubicBezTo>
                <a:close/>
                <a:moveTo>
                  <a:pt x="8008" y="4453"/>
                </a:moveTo>
                <a:lnTo>
                  <a:pt x="8008" y="4453"/>
                </a:lnTo>
                <a:cubicBezTo>
                  <a:pt x="8036" y="4453"/>
                  <a:pt x="8058" y="4476"/>
                  <a:pt x="8058" y="4503"/>
                </a:cubicBezTo>
                <a:cubicBezTo>
                  <a:pt x="8058" y="4531"/>
                  <a:pt x="8036" y="4553"/>
                  <a:pt x="8008" y="4553"/>
                </a:cubicBezTo>
                <a:lnTo>
                  <a:pt x="8008" y="4553"/>
                </a:lnTo>
                <a:cubicBezTo>
                  <a:pt x="7981" y="4553"/>
                  <a:pt x="7958" y="4531"/>
                  <a:pt x="7958" y="4503"/>
                </a:cubicBezTo>
                <a:cubicBezTo>
                  <a:pt x="7958" y="4476"/>
                  <a:pt x="7981" y="4453"/>
                  <a:pt x="8008" y="4453"/>
                </a:cubicBezTo>
                <a:close/>
                <a:moveTo>
                  <a:pt x="8208" y="4453"/>
                </a:moveTo>
                <a:lnTo>
                  <a:pt x="8208" y="4453"/>
                </a:lnTo>
                <a:cubicBezTo>
                  <a:pt x="8236" y="4453"/>
                  <a:pt x="8258" y="4476"/>
                  <a:pt x="8258" y="4503"/>
                </a:cubicBezTo>
                <a:cubicBezTo>
                  <a:pt x="8258" y="4531"/>
                  <a:pt x="8236" y="4553"/>
                  <a:pt x="8208" y="4553"/>
                </a:cubicBezTo>
                <a:lnTo>
                  <a:pt x="8208" y="4553"/>
                </a:lnTo>
                <a:cubicBezTo>
                  <a:pt x="8181" y="4553"/>
                  <a:pt x="8158" y="4531"/>
                  <a:pt x="8158" y="4503"/>
                </a:cubicBezTo>
                <a:cubicBezTo>
                  <a:pt x="8158" y="4476"/>
                  <a:pt x="8181" y="4453"/>
                  <a:pt x="8208" y="4453"/>
                </a:cubicBezTo>
                <a:close/>
                <a:moveTo>
                  <a:pt x="8408" y="4453"/>
                </a:moveTo>
                <a:lnTo>
                  <a:pt x="8409" y="4453"/>
                </a:lnTo>
                <a:cubicBezTo>
                  <a:pt x="8436" y="4453"/>
                  <a:pt x="8459" y="4476"/>
                  <a:pt x="8459" y="4503"/>
                </a:cubicBezTo>
                <a:cubicBezTo>
                  <a:pt x="8459" y="4531"/>
                  <a:pt x="8436" y="4553"/>
                  <a:pt x="8409" y="4553"/>
                </a:cubicBezTo>
                <a:lnTo>
                  <a:pt x="8408" y="4553"/>
                </a:lnTo>
                <a:cubicBezTo>
                  <a:pt x="8381" y="4553"/>
                  <a:pt x="8358" y="4531"/>
                  <a:pt x="8358" y="4503"/>
                </a:cubicBezTo>
                <a:cubicBezTo>
                  <a:pt x="8358" y="4476"/>
                  <a:pt x="8381" y="4453"/>
                  <a:pt x="8408" y="4453"/>
                </a:cubicBezTo>
                <a:close/>
                <a:moveTo>
                  <a:pt x="8609" y="4453"/>
                </a:moveTo>
                <a:lnTo>
                  <a:pt x="8609" y="4453"/>
                </a:lnTo>
                <a:cubicBezTo>
                  <a:pt x="8636" y="4453"/>
                  <a:pt x="8659" y="4476"/>
                  <a:pt x="8659" y="4503"/>
                </a:cubicBezTo>
                <a:cubicBezTo>
                  <a:pt x="8659" y="4531"/>
                  <a:pt x="8636" y="4553"/>
                  <a:pt x="8609" y="4553"/>
                </a:cubicBezTo>
                <a:lnTo>
                  <a:pt x="8609" y="4553"/>
                </a:lnTo>
                <a:cubicBezTo>
                  <a:pt x="8581" y="4553"/>
                  <a:pt x="8559" y="4531"/>
                  <a:pt x="8559" y="4503"/>
                </a:cubicBezTo>
                <a:cubicBezTo>
                  <a:pt x="8559" y="4476"/>
                  <a:pt x="8581" y="4453"/>
                  <a:pt x="8609" y="4453"/>
                </a:cubicBezTo>
                <a:close/>
                <a:moveTo>
                  <a:pt x="8809" y="4453"/>
                </a:moveTo>
                <a:lnTo>
                  <a:pt x="8809" y="4453"/>
                </a:lnTo>
                <a:cubicBezTo>
                  <a:pt x="8836" y="4453"/>
                  <a:pt x="8859" y="4476"/>
                  <a:pt x="8859" y="4503"/>
                </a:cubicBezTo>
                <a:cubicBezTo>
                  <a:pt x="8859" y="4531"/>
                  <a:pt x="8836" y="4553"/>
                  <a:pt x="8809" y="4553"/>
                </a:cubicBezTo>
                <a:lnTo>
                  <a:pt x="8809" y="4553"/>
                </a:lnTo>
                <a:cubicBezTo>
                  <a:pt x="8781" y="4553"/>
                  <a:pt x="8759" y="4531"/>
                  <a:pt x="8759" y="4503"/>
                </a:cubicBezTo>
                <a:cubicBezTo>
                  <a:pt x="8759" y="4476"/>
                  <a:pt x="8781" y="4453"/>
                  <a:pt x="8809" y="4453"/>
                </a:cubicBezTo>
                <a:close/>
                <a:moveTo>
                  <a:pt x="9009" y="4453"/>
                </a:moveTo>
                <a:lnTo>
                  <a:pt x="9009" y="4453"/>
                </a:lnTo>
                <a:cubicBezTo>
                  <a:pt x="9036" y="4453"/>
                  <a:pt x="9059" y="4476"/>
                  <a:pt x="9059" y="4503"/>
                </a:cubicBezTo>
                <a:cubicBezTo>
                  <a:pt x="9059" y="4531"/>
                  <a:pt x="9036" y="4553"/>
                  <a:pt x="9009" y="4553"/>
                </a:cubicBezTo>
                <a:lnTo>
                  <a:pt x="9009" y="4553"/>
                </a:lnTo>
                <a:cubicBezTo>
                  <a:pt x="8981" y="4553"/>
                  <a:pt x="8959" y="4531"/>
                  <a:pt x="8959" y="4503"/>
                </a:cubicBezTo>
                <a:cubicBezTo>
                  <a:pt x="8959" y="4476"/>
                  <a:pt x="8981" y="4453"/>
                  <a:pt x="9009" y="4453"/>
                </a:cubicBezTo>
                <a:close/>
                <a:moveTo>
                  <a:pt x="9209" y="4453"/>
                </a:moveTo>
                <a:lnTo>
                  <a:pt x="9209" y="4453"/>
                </a:lnTo>
                <a:cubicBezTo>
                  <a:pt x="9237" y="4453"/>
                  <a:pt x="9259" y="4476"/>
                  <a:pt x="9259" y="4503"/>
                </a:cubicBezTo>
                <a:cubicBezTo>
                  <a:pt x="9259" y="4531"/>
                  <a:pt x="9237" y="4553"/>
                  <a:pt x="9209" y="4553"/>
                </a:cubicBezTo>
                <a:lnTo>
                  <a:pt x="9209" y="4553"/>
                </a:lnTo>
                <a:cubicBezTo>
                  <a:pt x="9181" y="4553"/>
                  <a:pt x="9159" y="4531"/>
                  <a:pt x="9159" y="4503"/>
                </a:cubicBezTo>
                <a:cubicBezTo>
                  <a:pt x="9159" y="4476"/>
                  <a:pt x="9181" y="4453"/>
                  <a:pt x="9209" y="4453"/>
                </a:cubicBezTo>
                <a:close/>
                <a:moveTo>
                  <a:pt x="9409" y="4453"/>
                </a:moveTo>
                <a:lnTo>
                  <a:pt x="9409" y="4453"/>
                </a:lnTo>
                <a:cubicBezTo>
                  <a:pt x="9437" y="4453"/>
                  <a:pt x="9459" y="4476"/>
                  <a:pt x="9459" y="4503"/>
                </a:cubicBezTo>
                <a:cubicBezTo>
                  <a:pt x="9459" y="4531"/>
                  <a:pt x="9437" y="4553"/>
                  <a:pt x="9409" y="4553"/>
                </a:cubicBezTo>
                <a:lnTo>
                  <a:pt x="9409" y="4553"/>
                </a:lnTo>
                <a:cubicBezTo>
                  <a:pt x="9381" y="4553"/>
                  <a:pt x="9359" y="4531"/>
                  <a:pt x="9359" y="4503"/>
                </a:cubicBezTo>
                <a:cubicBezTo>
                  <a:pt x="9359" y="4476"/>
                  <a:pt x="9381" y="4453"/>
                  <a:pt x="9409" y="4453"/>
                </a:cubicBezTo>
                <a:close/>
                <a:moveTo>
                  <a:pt x="9609" y="4453"/>
                </a:moveTo>
                <a:lnTo>
                  <a:pt x="9609" y="4453"/>
                </a:lnTo>
                <a:cubicBezTo>
                  <a:pt x="9637" y="4453"/>
                  <a:pt x="9659" y="4476"/>
                  <a:pt x="9659" y="4503"/>
                </a:cubicBezTo>
                <a:cubicBezTo>
                  <a:pt x="9659" y="4531"/>
                  <a:pt x="9637" y="4553"/>
                  <a:pt x="9609" y="4553"/>
                </a:cubicBezTo>
                <a:lnTo>
                  <a:pt x="9609" y="4553"/>
                </a:lnTo>
                <a:cubicBezTo>
                  <a:pt x="9581" y="4553"/>
                  <a:pt x="9559" y="4531"/>
                  <a:pt x="9559" y="4503"/>
                </a:cubicBezTo>
                <a:cubicBezTo>
                  <a:pt x="9559" y="4476"/>
                  <a:pt x="9581" y="4453"/>
                  <a:pt x="9609" y="4453"/>
                </a:cubicBezTo>
                <a:close/>
                <a:moveTo>
                  <a:pt x="9809" y="4453"/>
                </a:moveTo>
                <a:lnTo>
                  <a:pt x="9809" y="4453"/>
                </a:lnTo>
                <a:cubicBezTo>
                  <a:pt x="9837" y="4453"/>
                  <a:pt x="9859" y="4476"/>
                  <a:pt x="9859" y="4503"/>
                </a:cubicBezTo>
                <a:cubicBezTo>
                  <a:pt x="9859" y="4531"/>
                  <a:pt x="9837" y="4553"/>
                  <a:pt x="9809" y="4553"/>
                </a:cubicBezTo>
                <a:lnTo>
                  <a:pt x="9809" y="4553"/>
                </a:lnTo>
                <a:cubicBezTo>
                  <a:pt x="9782" y="4553"/>
                  <a:pt x="9759" y="4531"/>
                  <a:pt x="9759" y="4503"/>
                </a:cubicBezTo>
                <a:cubicBezTo>
                  <a:pt x="9759" y="4476"/>
                  <a:pt x="9782" y="4453"/>
                  <a:pt x="9809" y="4453"/>
                </a:cubicBezTo>
                <a:close/>
                <a:moveTo>
                  <a:pt x="9900" y="4444"/>
                </a:moveTo>
                <a:lnTo>
                  <a:pt x="9900" y="4444"/>
                </a:lnTo>
                <a:cubicBezTo>
                  <a:pt x="9900" y="4417"/>
                  <a:pt x="9923" y="4394"/>
                  <a:pt x="9950" y="4394"/>
                </a:cubicBezTo>
                <a:cubicBezTo>
                  <a:pt x="9978" y="4394"/>
                  <a:pt x="10000" y="4417"/>
                  <a:pt x="10000" y="4444"/>
                </a:cubicBezTo>
                <a:lnTo>
                  <a:pt x="10000" y="4444"/>
                </a:lnTo>
                <a:cubicBezTo>
                  <a:pt x="10000" y="4472"/>
                  <a:pt x="9978" y="4494"/>
                  <a:pt x="9950" y="4494"/>
                </a:cubicBezTo>
                <a:cubicBezTo>
                  <a:pt x="9923" y="4494"/>
                  <a:pt x="9900" y="4472"/>
                  <a:pt x="9900" y="4444"/>
                </a:cubicBezTo>
                <a:close/>
                <a:moveTo>
                  <a:pt x="9900" y="4244"/>
                </a:moveTo>
                <a:lnTo>
                  <a:pt x="9900" y="4244"/>
                </a:lnTo>
                <a:cubicBezTo>
                  <a:pt x="9900" y="4217"/>
                  <a:pt x="9923" y="4194"/>
                  <a:pt x="9950" y="4194"/>
                </a:cubicBezTo>
                <a:cubicBezTo>
                  <a:pt x="9978" y="4194"/>
                  <a:pt x="10000" y="4217"/>
                  <a:pt x="10000" y="4244"/>
                </a:cubicBezTo>
                <a:lnTo>
                  <a:pt x="10000" y="4244"/>
                </a:lnTo>
                <a:cubicBezTo>
                  <a:pt x="10000" y="4272"/>
                  <a:pt x="9978" y="4294"/>
                  <a:pt x="9950" y="4294"/>
                </a:cubicBezTo>
                <a:cubicBezTo>
                  <a:pt x="9923" y="4294"/>
                  <a:pt x="9900" y="4272"/>
                  <a:pt x="9900" y="4244"/>
                </a:cubicBezTo>
                <a:close/>
                <a:moveTo>
                  <a:pt x="9900" y="4044"/>
                </a:moveTo>
                <a:lnTo>
                  <a:pt x="9900" y="4044"/>
                </a:lnTo>
                <a:cubicBezTo>
                  <a:pt x="9900" y="4016"/>
                  <a:pt x="9923" y="3994"/>
                  <a:pt x="9950" y="3994"/>
                </a:cubicBezTo>
                <a:cubicBezTo>
                  <a:pt x="9978" y="3994"/>
                  <a:pt x="10000" y="4016"/>
                  <a:pt x="10000" y="4044"/>
                </a:cubicBezTo>
                <a:lnTo>
                  <a:pt x="10000" y="4044"/>
                </a:lnTo>
                <a:cubicBezTo>
                  <a:pt x="10000" y="4072"/>
                  <a:pt x="9978" y="4094"/>
                  <a:pt x="9950" y="4094"/>
                </a:cubicBezTo>
                <a:cubicBezTo>
                  <a:pt x="9923" y="4094"/>
                  <a:pt x="9900" y="4072"/>
                  <a:pt x="9900" y="4044"/>
                </a:cubicBezTo>
                <a:close/>
                <a:moveTo>
                  <a:pt x="9900" y="3844"/>
                </a:moveTo>
                <a:lnTo>
                  <a:pt x="9900" y="3844"/>
                </a:lnTo>
                <a:cubicBezTo>
                  <a:pt x="9900" y="3816"/>
                  <a:pt x="9923" y="3794"/>
                  <a:pt x="9950" y="3794"/>
                </a:cubicBezTo>
                <a:cubicBezTo>
                  <a:pt x="9978" y="3794"/>
                  <a:pt x="10000" y="3816"/>
                  <a:pt x="10000" y="3844"/>
                </a:cubicBezTo>
                <a:lnTo>
                  <a:pt x="10000" y="3844"/>
                </a:lnTo>
                <a:cubicBezTo>
                  <a:pt x="10000" y="3872"/>
                  <a:pt x="9978" y="3894"/>
                  <a:pt x="9950" y="3894"/>
                </a:cubicBezTo>
                <a:cubicBezTo>
                  <a:pt x="9923" y="3894"/>
                  <a:pt x="9900" y="3872"/>
                  <a:pt x="9900" y="3844"/>
                </a:cubicBezTo>
                <a:close/>
                <a:moveTo>
                  <a:pt x="9900" y="3644"/>
                </a:moveTo>
                <a:lnTo>
                  <a:pt x="9900" y="3644"/>
                </a:lnTo>
                <a:cubicBezTo>
                  <a:pt x="9900" y="3616"/>
                  <a:pt x="9923" y="3594"/>
                  <a:pt x="9950" y="3594"/>
                </a:cubicBezTo>
                <a:cubicBezTo>
                  <a:pt x="9978" y="3594"/>
                  <a:pt x="10000" y="3616"/>
                  <a:pt x="10000" y="3644"/>
                </a:cubicBezTo>
                <a:lnTo>
                  <a:pt x="10000" y="3644"/>
                </a:lnTo>
                <a:cubicBezTo>
                  <a:pt x="10000" y="3672"/>
                  <a:pt x="9978" y="3694"/>
                  <a:pt x="9950" y="3694"/>
                </a:cubicBezTo>
                <a:cubicBezTo>
                  <a:pt x="9923" y="3694"/>
                  <a:pt x="9900" y="3672"/>
                  <a:pt x="9900" y="3644"/>
                </a:cubicBezTo>
                <a:close/>
                <a:moveTo>
                  <a:pt x="9900" y="3444"/>
                </a:moveTo>
                <a:lnTo>
                  <a:pt x="9900" y="3444"/>
                </a:lnTo>
                <a:cubicBezTo>
                  <a:pt x="9900" y="3416"/>
                  <a:pt x="9923" y="3394"/>
                  <a:pt x="9950" y="3394"/>
                </a:cubicBezTo>
                <a:cubicBezTo>
                  <a:pt x="9978" y="3394"/>
                  <a:pt x="10000" y="3416"/>
                  <a:pt x="10000" y="3444"/>
                </a:cubicBezTo>
                <a:lnTo>
                  <a:pt x="10000" y="3444"/>
                </a:lnTo>
                <a:cubicBezTo>
                  <a:pt x="10000" y="3471"/>
                  <a:pt x="9978" y="3494"/>
                  <a:pt x="9950" y="3494"/>
                </a:cubicBezTo>
                <a:cubicBezTo>
                  <a:pt x="9923" y="3494"/>
                  <a:pt x="9900" y="3471"/>
                  <a:pt x="9900" y="3444"/>
                </a:cubicBezTo>
                <a:close/>
                <a:moveTo>
                  <a:pt x="9900" y="3244"/>
                </a:moveTo>
                <a:lnTo>
                  <a:pt x="9900" y="3244"/>
                </a:lnTo>
                <a:cubicBezTo>
                  <a:pt x="9900" y="3216"/>
                  <a:pt x="9923" y="3194"/>
                  <a:pt x="9950" y="3194"/>
                </a:cubicBezTo>
                <a:cubicBezTo>
                  <a:pt x="9978" y="3194"/>
                  <a:pt x="10000" y="3216"/>
                  <a:pt x="10000" y="3244"/>
                </a:cubicBezTo>
                <a:lnTo>
                  <a:pt x="10000" y="3244"/>
                </a:lnTo>
                <a:cubicBezTo>
                  <a:pt x="10000" y="3271"/>
                  <a:pt x="9978" y="3294"/>
                  <a:pt x="9950" y="3294"/>
                </a:cubicBezTo>
                <a:cubicBezTo>
                  <a:pt x="9923" y="3294"/>
                  <a:pt x="9900" y="3271"/>
                  <a:pt x="9900" y="3244"/>
                </a:cubicBezTo>
                <a:close/>
                <a:moveTo>
                  <a:pt x="9900" y="3044"/>
                </a:moveTo>
                <a:lnTo>
                  <a:pt x="9900" y="3044"/>
                </a:lnTo>
                <a:cubicBezTo>
                  <a:pt x="9900" y="3016"/>
                  <a:pt x="9923" y="2994"/>
                  <a:pt x="9950" y="2994"/>
                </a:cubicBezTo>
                <a:cubicBezTo>
                  <a:pt x="9978" y="2994"/>
                  <a:pt x="10000" y="3016"/>
                  <a:pt x="10000" y="3044"/>
                </a:cubicBezTo>
                <a:lnTo>
                  <a:pt x="10000" y="3044"/>
                </a:lnTo>
                <a:cubicBezTo>
                  <a:pt x="10000" y="3071"/>
                  <a:pt x="9978" y="3094"/>
                  <a:pt x="9950" y="3094"/>
                </a:cubicBezTo>
                <a:cubicBezTo>
                  <a:pt x="9923" y="3094"/>
                  <a:pt x="9900" y="3071"/>
                  <a:pt x="9900" y="3044"/>
                </a:cubicBezTo>
                <a:close/>
                <a:moveTo>
                  <a:pt x="9900" y="2844"/>
                </a:moveTo>
                <a:lnTo>
                  <a:pt x="9900" y="2843"/>
                </a:lnTo>
                <a:cubicBezTo>
                  <a:pt x="9900" y="2816"/>
                  <a:pt x="9923" y="2793"/>
                  <a:pt x="9950" y="2793"/>
                </a:cubicBezTo>
                <a:cubicBezTo>
                  <a:pt x="9978" y="2793"/>
                  <a:pt x="10000" y="2816"/>
                  <a:pt x="10000" y="2843"/>
                </a:cubicBezTo>
                <a:lnTo>
                  <a:pt x="10000" y="2844"/>
                </a:lnTo>
                <a:cubicBezTo>
                  <a:pt x="10000" y="2871"/>
                  <a:pt x="9978" y="2894"/>
                  <a:pt x="9950" y="2894"/>
                </a:cubicBezTo>
                <a:cubicBezTo>
                  <a:pt x="9923" y="2894"/>
                  <a:pt x="9900" y="2871"/>
                  <a:pt x="9900" y="2844"/>
                </a:cubicBezTo>
                <a:close/>
                <a:moveTo>
                  <a:pt x="9900" y="2643"/>
                </a:moveTo>
                <a:lnTo>
                  <a:pt x="9900" y="2643"/>
                </a:lnTo>
                <a:cubicBezTo>
                  <a:pt x="9900" y="2616"/>
                  <a:pt x="9923" y="2593"/>
                  <a:pt x="9950" y="2593"/>
                </a:cubicBezTo>
                <a:cubicBezTo>
                  <a:pt x="9978" y="2593"/>
                  <a:pt x="10000" y="2616"/>
                  <a:pt x="10000" y="2643"/>
                </a:cubicBezTo>
                <a:lnTo>
                  <a:pt x="10000" y="2643"/>
                </a:lnTo>
                <a:cubicBezTo>
                  <a:pt x="10000" y="2671"/>
                  <a:pt x="9978" y="2693"/>
                  <a:pt x="9950" y="2693"/>
                </a:cubicBezTo>
                <a:cubicBezTo>
                  <a:pt x="9923" y="2693"/>
                  <a:pt x="9900" y="2671"/>
                  <a:pt x="9900" y="2643"/>
                </a:cubicBezTo>
                <a:close/>
                <a:moveTo>
                  <a:pt x="9900" y="2443"/>
                </a:moveTo>
                <a:lnTo>
                  <a:pt x="9900" y="2443"/>
                </a:lnTo>
                <a:cubicBezTo>
                  <a:pt x="9900" y="2416"/>
                  <a:pt x="9923" y="2393"/>
                  <a:pt x="9950" y="2393"/>
                </a:cubicBezTo>
                <a:cubicBezTo>
                  <a:pt x="9978" y="2393"/>
                  <a:pt x="10000" y="2416"/>
                  <a:pt x="10000" y="2443"/>
                </a:cubicBezTo>
                <a:lnTo>
                  <a:pt x="10000" y="2443"/>
                </a:lnTo>
                <a:cubicBezTo>
                  <a:pt x="10000" y="2471"/>
                  <a:pt x="9978" y="2493"/>
                  <a:pt x="9950" y="2493"/>
                </a:cubicBezTo>
                <a:cubicBezTo>
                  <a:pt x="9923" y="2493"/>
                  <a:pt x="9900" y="2471"/>
                  <a:pt x="9900" y="2443"/>
                </a:cubicBezTo>
                <a:close/>
                <a:moveTo>
                  <a:pt x="9900" y="2243"/>
                </a:moveTo>
                <a:lnTo>
                  <a:pt x="9900" y="2243"/>
                </a:lnTo>
                <a:cubicBezTo>
                  <a:pt x="9900" y="2216"/>
                  <a:pt x="9923" y="2193"/>
                  <a:pt x="9950" y="2193"/>
                </a:cubicBezTo>
                <a:cubicBezTo>
                  <a:pt x="9978" y="2193"/>
                  <a:pt x="10000" y="2216"/>
                  <a:pt x="10000" y="2243"/>
                </a:cubicBezTo>
                <a:lnTo>
                  <a:pt x="10000" y="2243"/>
                </a:lnTo>
                <a:cubicBezTo>
                  <a:pt x="10000" y="2271"/>
                  <a:pt x="9978" y="2293"/>
                  <a:pt x="9950" y="2293"/>
                </a:cubicBezTo>
                <a:cubicBezTo>
                  <a:pt x="9923" y="2293"/>
                  <a:pt x="9900" y="2271"/>
                  <a:pt x="9900" y="2243"/>
                </a:cubicBezTo>
                <a:close/>
                <a:moveTo>
                  <a:pt x="9900" y="2043"/>
                </a:moveTo>
                <a:lnTo>
                  <a:pt x="9900" y="2043"/>
                </a:lnTo>
                <a:cubicBezTo>
                  <a:pt x="9900" y="2015"/>
                  <a:pt x="9923" y="1993"/>
                  <a:pt x="9950" y="1993"/>
                </a:cubicBezTo>
                <a:cubicBezTo>
                  <a:pt x="9978" y="1993"/>
                  <a:pt x="10000" y="2015"/>
                  <a:pt x="10000" y="2043"/>
                </a:cubicBezTo>
                <a:lnTo>
                  <a:pt x="10000" y="2043"/>
                </a:lnTo>
                <a:cubicBezTo>
                  <a:pt x="10000" y="2071"/>
                  <a:pt x="9978" y="2093"/>
                  <a:pt x="9950" y="2093"/>
                </a:cubicBezTo>
                <a:cubicBezTo>
                  <a:pt x="9923" y="2093"/>
                  <a:pt x="9900" y="2071"/>
                  <a:pt x="9900" y="2043"/>
                </a:cubicBezTo>
                <a:close/>
                <a:moveTo>
                  <a:pt x="9900" y="1843"/>
                </a:moveTo>
                <a:lnTo>
                  <a:pt x="9900" y="1843"/>
                </a:lnTo>
                <a:cubicBezTo>
                  <a:pt x="9900" y="1815"/>
                  <a:pt x="9923" y="1793"/>
                  <a:pt x="9950" y="1793"/>
                </a:cubicBezTo>
                <a:cubicBezTo>
                  <a:pt x="9978" y="1793"/>
                  <a:pt x="10000" y="1815"/>
                  <a:pt x="10000" y="1843"/>
                </a:cubicBezTo>
                <a:lnTo>
                  <a:pt x="10000" y="1843"/>
                </a:lnTo>
                <a:cubicBezTo>
                  <a:pt x="10000" y="1871"/>
                  <a:pt x="9978" y="1893"/>
                  <a:pt x="9950" y="1893"/>
                </a:cubicBezTo>
                <a:cubicBezTo>
                  <a:pt x="9923" y="1893"/>
                  <a:pt x="9900" y="1871"/>
                  <a:pt x="9900" y="1843"/>
                </a:cubicBezTo>
                <a:close/>
                <a:moveTo>
                  <a:pt x="9900" y="1643"/>
                </a:moveTo>
                <a:lnTo>
                  <a:pt x="9900" y="1643"/>
                </a:lnTo>
                <a:cubicBezTo>
                  <a:pt x="9900" y="1615"/>
                  <a:pt x="9923" y="1593"/>
                  <a:pt x="9950" y="1593"/>
                </a:cubicBezTo>
                <a:cubicBezTo>
                  <a:pt x="9978" y="1593"/>
                  <a:pt x="10000" y="1615"/>
                  <a:pt x="10000" y="1643"/>
                </a:cubicBezTo>
                <a:lnTo>
                  <a:pt x="10000" y="1643"/>
                </a:lnTo>
                <a:cubicBezTo>
                  <a:pt x="10000" y="1671"/>
                  <a:pt x="9978" y="1693"/>
                  <a:pt x="9950" y="1693"/>
                </a:cubicBezTo>
                <a:cubicBezTo>
                  <a:pt x="9923" y="1693"/>
                  <a:pt x="9900" y="1671"/>
                  <a:pt x="9900" y="1643"/>
                </a:cubicBezTo>
                <a:close/>
                <a:moveTo>
                  <a:pt x="9900" y="1443"/>
                </a:moveTo>
                <a:lnTo>
                  <a:pt x="9900" y="1443"/>
                </a:lnTo>
                <a:cubicBezTo>
                  <a:pt x="9900" y="1415"/>
                  <a:pt x="9923" y="1393"/>
                  <a:pt x="9950" y="1393"/>
                </a:cubicBezTo>
                <a:cubicBezTo>
                  <a:pt x="9978" y="1393"/>
                  <a:pt x="10000" y="1415"/>
                  <a:pt x="10000" y="1443"/>
                </a:cubicBezTo>
                <a:lnTo>
                  <a:pt x="10000" y="1443"/>
                </a:lnTo>
                <a:cubicBezTo>
                  <a:pt x="10000" y="1470"/>
                  <a:pt x="9978" y="1493"/>
                  <a:pt x="9950" y="1493"/>
                </a:cubicBezTo>
                <a:cubicBezTo>
                  <a:pt x="9923" y="1493"/>
                  <a:pt x="9900" y="1470"/>
                  <a:pt x="9900" y="1443"/>
                </a:cubicBezTo>
                <a:close/>
                <a:moveTo>
                  <a:pt x="9900" y="1243"/>
                </a:moveTo>
                <a:lnTo>
                  <a:pt x="9900" y="1243"/>
                </a:lnTo>
                <a:cubicBezTo>
                  <a:pt x="9900" y="1215"/>
                  <a:pt x="9923" y="1193"/>
                  <a:pt x="9950" y="1193"/>
                </a:cubicBezTo>
                <a:cubicBezTo>
                  <a:pt x="9978" y="1193"/>
                  <a:pt x="10000" y="1215"/>
                  <a:pt x="10000" y="1243"/>
                </a:cubicBezTo>
                <a:lnTo>
                  <a:pt x="10000" y="1243"/>
                </a:lnTo>
                <a:cubicBezTo>
                  <a:pt x="10000" y="1270"/>
                  <a:pt x="9978" y="1293"/>
                  <a:pt x="9950" y="1293"/>
                </a:cubicBezTo>
                <a:cubicBezTo>
                  <a:pt x="9923" y="1293"/>
                  <a:pt x="9900" y="1270"/>
                  <a:pt x="9900" y="1243"/>
                </a:cubicBezTo>
                <a:close/>
                <a:moveTo>
                  <a:pt x="9900" y="1043"/>
                </a:moveTo>
                <a:lnTo>
                  <a:pt x="9900" y="1043"/>
                </a:lnTo>
                <a:cubicBezTo>
                  <a:pt x="9900" y="1015"/>
                  <a:pt x="9923" y="993"/>
                  <a:pt x="9950" y="993"/>
                </a:cubicBezTo>
                <a:cubicBezTo>
                  <a:pt x="9978" y="993"/>
                  <a:pt x="10000" y="1015"/>
                  <a:pt x="10000" y="1043"/>
                </a:cubicBezTo>
                <a:lnTo>
                  <a:pt x="10000" y="1043"/>
                </a:lnTo>
                <a:cubicBezTo>
                  <a:pt x="10000" y="1070"/>
                  <a:pt x="9978" y="1093"/>
                  <a:pt x="9950" y="1093"/>
                </a:cubicBezTo>
                <a:cubicBezTo>
                  <a:pt x="9923" y="1093"/>
                  <a:pt x="9900" y="1070"/>
                  <a:pt x="9900" y="1043"/>
                </a:cubicBezTo>
                <a:close/>
                <a:moveTo>
                  <a:pt x="9900" y="843"/>
                </a:moveTo>
                <a:lnTo>
                  <a:pt x="9900" y="842"/>
                </a:lnTo>
                <a:cubicBezTo>
                  <a:pt x="9900" y="815"/>
                  <a:pt x="9923" y="792"/>
                  <a:pt x="9950" y="792"/>
                </a:cubicBezTo>
                <a:cubicBezTo>
                  <a:pt x="9978" y="792"/>
                  <a:pt x="10000" y="815"/>
                  <a:pt x="10000" y="842"/>
                </a:cubicBezTo>
                <a:lnTo>
                  <a:pt x="10000" y="843"/>
                </a:lnTo>
                <a:cubicBezTo>
                  <a:pt x="10000" y="870"/>
                  <a:pt x="9978" y="893"/>
                  <a:pt x="9950" y="893"/>
                </a:cubicBezTo>
                <a:cubicBezTo>
                  <a:pt x="9923" y="893"/>
                  <a:pt x="9900" y="870"/>
                  <a:pt x="9900" y="843"/>
                </a:cubicBezTo>
                <a:close/>
                <a:moveTo>
                  <a:pt x="9900" y="642"/>
                </a:moveTo>
                <a:lnTo>
                  <a:pt x="9900" y="642"/>
                </a:lnTo>
                <a:cubicBezTo>
                  <a:pt x="9900" y="615"/>
                  <a:pt x="9923" y="592"/>
                  <a:pt x="9950" y="592"/>
                </a:cubicBezTo>
                <a:cubicBezTo>
                  <a:pt x="9978" y="592"/>
                  <a:pt x="10000" y="615"/>
                  <a:pt x="10000" y="642"/>
                </a:cubicBezTo>
                <a:lnTo>
                  <a:pt x="10000" y="642"/>
                </a:lnTo>
                <a:cubicBezTo>
                  <a:pt x="10000" y="670"/>
                  <a:pt x="9978" y="692"/>
                  <a:pt x="9950" y="692"/>
                </a:cubicBezTo>
                <a:cubicBezTo>
                  <a:pt x="9923" y="692"/>
                  <a:pt x="9900" y="670"/>
                  <a:pt x="9900" y="642"/>
                </a:cubicBezTo>
                <a:close/>
                <a:moveTo>
                  <a:pt x="9900" y="442"/>
                </a:moveTo>
                <a:lnTo>
                  <a:pt x="9900" y="442"/>
                </a:lnTo>
                <a:cubicBezTo>
                  <a:pt x="9900" y="415"/>
                  <a:pt x="9923" y="392"/>
                  <a:pt x="9950" y="392"/>
                </a:cubicBezTo>
                <a:cubicBezTo>
                  <a:pt x="9978" y="392"/>
                  <a:pt x="10000" y="415"/>
                  <a:pt x="10000" y="442"/>
                </a:cubicBezTo>
                <a:lnTo>
                  <a:pt x="10000" y="442"/>
                </a:lnTo>
                <a:cubicBezTo>
                  <a:pt x="10000" y="470"/>
                  <a:pt x="9978" y="492"/>
                  <a:pt x="9950" y="492"/>
                </a:cubicBezTo>
                <a:cubicBezTo>
                  <a:pt x="9923" y="492"/>
                  <a:pt x="9900" y="470"/>
                  <a:pt x="9900" y="442"/>
                </a:cubicBezTo>
                <a:close/>
                <a:moveTo>
                  <a:pt x="9900" y="242"/>
                </a:moveTo>
                <a:lnTo>
                  <a:pt x="9900" y="242"/>
                </a:lnTo>
                <a:cubicBezTo>
                  <a:pt x="9900" y="215"/>
                  <a:pt x="9923" y="192"/>
                  <a:pt x="9950" y="192"/>
                </a:cubicBezTo>
                <a:cubicBezTo>
                  <a:pt x="9978" y="192"/>
                  <a:pt x="10000" y="215"/>
                  <a:pt x="10000" y="242"/>
                </a:cubicBezTo>
                <a:lnTo>
                  <a:pt x="10000" y="242"/>
                </a:lnTo>
                <a:cubicBezTo>
                  <a:pt x="10000" y="270"/>
                  <a:pt x="9978" y="292"/>
                  <a:pt x="9950" y="292"/>
                </a:cubicBezTo>
                <a:cubicBezTo>
                  <a:pt x="9923" y="292"/>
                  <a:pt x="9900" y="270"/>
                  <a:pt x="9900" y="242"/>
                </a:cubicBezTo>
                <a:close/>
              </a:path>
            </a:pathLst>
          </a:custGeom>
          <a:solidFill>
            <a:srgbClr val="ffffff"/>
          </a:solid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79" name="Rectangle 37"/>
          <p:cNvSpPr/>
          <p:nvPr/>
        </p:nvSpPr>
        <p:spPr>
          <a:xfrm>
            <a:off x="2885400" y="1012680"/>
            <a:ext cx="773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Environnement </a:t>
            </a:r>
            <a:endParaRPr b="0" lang="en-US" sz="800" spc="-1" strike="noStrike">
              <a:solidFill>
                <a:srgbClr val="000000"/>
              </a:solidFill>
              <a:latin typeface="Arial"/>
            </a:endParaRPr>
          </a:p>
        </p:txBody>
      </p:sp>
      <p:sp>
        <p:nvSpPr>
          <p:cNvPr id="180" name="Rectangle 36"/>
          <p:cNvSpPr/>
          <p:nvPr/>
        </p:nvSpPr>
        <p:spPr>
          <a:xfrm>
            <a:off x="2916000" y="1147680"/>
            <a:ext cx="453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favorable</a:t>
            </a:r>
            <a:endParaRPr b="0" lang="en-US" sz="800" spc="-1" strike="noStrike">
              <a:solidFill>
                <a:srgbClr val="000000"/>
              </a:solidFill>
              <a:latin typeface="Arial"/>
            </a:endParaRPr>
          </a:p>
        </p:txBody>
      </p:sp>
      <p:sp>
        <p:nvSpPr>
          <p:cNvPr id="181" name="Rectangle 35"/>
          <p:cNvSpPr/>
          <p:nvPr/>
        </p:nvSpPr>
        <p:spPr>
          <a:xfrm>
            <a:off x="3534120" y="114768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 </a:t>
            </a:r>
            <a:endParaRPr b="0" lang="en-US" sz="800" spc="-1" strike="noStrike">
              <a:solidFill>
                <a:srgbClr val="000000"/>
              </a:solidFill>
              <a:latin typeface="Arial"/>
            </a:endParaRPr>
          </a:p>
        </p:txBody>
      </p:sp>
      <p:grpSp>
        <p:nvGrpSpPr>
          <p:cNvPr id="182" name="Group 29"/>
          <p:cNvGrpSpPr/>
          <p:nvPr/>
        </p:nvGrpSpPr>
        <p:grpSpPr>
          <a:xfrm>
            <a:off x="6707160" y="2647800"/>
            <a:ext cx="677880" cy="605160"/>
            <a:chOff x="6707160" y="2647800"/>
            <a:chExt cx="677880" cy="605160"/>
          </a:xfrm>
        </p:grpSpPr>
        <p:sp>
          <p:nvSpPr>
            <p:cNvPr id="183" name="Rectangle 34"/>
            <p:cNvSpPr/>
            <p:nvPr/>
          </p:nvSpPr>
          <p:spPr>
            <a:xfrm>
              <a:off x="6717240" y="2666880"/>
              <a:ext cx="667800" cy="586080"/>
            </a:xfrm>
            <a:prstGeom prst="rect">
              <a:avLst/>
            </a:prstGeom>
            <a:solidFill>
              <a:srgbClr val="243f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 name="Picture 33" descr=""/>
            <p:cNvPicPr/>
            <p:nvPr/>
          </p:nvPicPr>
          <p:blipFill>
            <a:blip r:embed="rId3"/>
            <a:stretch/>
          </p:blipFill>
          <p:spPr>
            <a:xfrm>
              <a:off x="6717960" y="2667240"/>
              <a:ext cx="666360" cy="585360"/>
            </a:xfrm>
            <a:prstGeom prst="rect">
              <a:avLst/>
            </a:prstGeom>
            <a:ln w="0">
              <a:noFill/>
            </a:ln>
          </p:spPr>
        </p:pic>
        <p:sp>
          <p:nvSpPr>
            <p:cNvPr id="185" name="Rectangle 32"/>
            <p:cNvSpPr/>
            <p:nvPr/>
          </p:nvSpPr>
          <p:spPr>
            <a:xfrm>
              <a:off x="6717240" y="2666880"/>
              <a:ext cx="667800" cy="586080"/>
            </a:xfrm>
            <a:prstGeom prst="rect">
              <a:avLst/>
            </a:prstGeom>
            <a:solidFill>
              <a:srgbClr val="243f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Picture 31" descr=""/>
            <p:cNvPicPr/>
            <p:nvPr/>
          </p:nvPicPr>
          <p:blipFill>
            <a:blip r:embed="rId4"/>
            <a:stretch/>
          </p:blipFill>
          <p:spPr>
            <a:xfrm>
              <a:off x="6707160" y="2647800"/>
              <a:ext cx="667080" cy="585000"/>
            </a:xfrm>
            <a:prstGeom prst="rect">
              <a:avLst/>
            </a:prstGeom>
            <a:ln w="0">
              <a:noFill/>
            </a:ln>
          </p:spPr>
        </p:pic>
        <p:sp>
          <p:nvSpPr>
            <p:cNvPr id="187" name="Rectangle 30"/>
            <p:cNvSpPr/>
            <p:nvPr/>
          </p:nvSpPr>
          <p:spPr>
            <a:xfrm>
              <a:off x="6707160" y="2648160"/>
              <a:ext cx="666000" cy="585000"/>
            </a:xfrm>
            <a:prstGeom prst="rect">
              <a:avLst/>
            </a:prstGeom>
            <a:noFill/>
            <a:ln cap="rnd" w="0">
              <a:solidFill>
                <a:srgbClr val="95b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8" name="Rectangle 28"/>
          <p:cNvSpPr/>
          <p:nvPr/>
        </p:nvSpPr>
        <p:spPr>
          <a:xfrm>
            <a:off x="7039080" y="269064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Times New Roman"/>
              </a:rPr>
              <a:t> </a:t>
            </a:r>
            <a:endParaRPr b="0" lang="en-US" sz="500" spc="-1" strike="noStrike">
              <a:solidFill>
                <a:srgbClr val="000000"/>
              </a:solidFill>
              <a:latin typeface="Arial"/>
            </a:endParaRPr>
          </a:p>
        </p:txBody>
      </p:sp>
      <p:sp>
        <p:nvSpPr>
          <p:cNvPr id="189" name="Rectangle 27"/>
          <p:cNvSpPr/>
          <p:nvPr/>
        </p:nvSpPr>
        <p:spPr>
          <a:xfrm>
            <a:off x="6891840" y="2868480"/>
            <a:ext cx="2736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STAP</a:t>
            </a:r>
            <a:endParaRPr b="0" lang="en-US" sz="800" spc="-1" strike="noStrike">
              <a:solidFill>
                <a:srgbClr val="000000"/>
              </a:solidFill>
              <a:latin typeface="Arial"/>
            </a:endParaRPr>
          </a:p>
        </p:txBody>
      </p:sp>
      <p:sp>
        <p:nvSpPr>
          <p:cNvPr id="190" name="Rectangle 26"/>
          <p:cNvSpPr/>
          <p:nvPr/>
        </p:nvSpPr>
        <p:spPr>
          <a:xfrm>
            <a:off x="7153560" y="286848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sp>
        <p:nvSpPr>
          <p:cNvPr id="191" name="Rectangle 23"/>
          <p:cNvSpPr/>
          <p:nvPr/>
        </p:nvSpPr>
        <p:spPr>
          <a:xfrm>
            <a:off x="4727880" y="2357280"/>
            <a:ext cx="69732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Times New Roman"/>
              </a:rPr>
              <a:t>Bureau de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Times New Roman"/>
              </a:rPr>
              <a:t> </a:t>
            </a:r>
            <a:r>
              <a:rPr b="1" lang="en-US" sz="900" spc="-1" strike="noStrike">
                <a:solidFill>
                  <a:srgbClr val="ffffff"/>
                </a:solidFill>
                <a:latin typeface="Arial"/>
                <a:ea typeface="Times New Roman"/>
              </a:rPr>
              <a:t>l’évaluation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Times New Roman"/>
              </a:rPr>
              <a:t> </a:t>
            </a:r>
            <a:r>
              <a:rPr b="1" lang="en-US" sz="900" spc="-1" strike="noStrike">
                <a:solidFill>
                  <a:srgbClr val="ffffff"/>
                </a:solidFill>
                <a:latin typeface="Arial"/>
                <a:ea typeface="Times New Roman"/>
              </a:rPr>
              <a:t>du FEM</a:t>
            </a:r>
            <a:endParaRPr b="0" lang="en-US" sz="900" spc="-1" strike="noStrike">
              <a:solidFill>
                <a:srgbClr val="000000"/>
              </a:solidFill>
              <a:latin typeface="Arial"/>
            </a:endParaRPr>
          </a:p>
        </p:txBody>
      </p:sp>
      <p:sp>
        <p:nvSpPr>
          <p:cNvPr id="192" name="Rectangle 21"/>
          <p:cNvSpPr/>
          <p:nvPr/>
        </p:nvSpPr>
        <p:spPr>
          <a:xfrm>
            <a:off x="4979520" y="22986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 </a:t>
            </a:r>
            <a:endParaRPr b="0" lang="en-US" sz="800" spc="-1" strike="noStrike">
              <a:solidFill>
                <a:srgbClr val="000000"/>
              </a:solidFill>
              <a:latin typeface="Arial"/>
            </a:endParaRPr>
          </a:p>
        </p:txBody>
      </p:sp>
      <p:sp>
        <p:nvSpPr>
          <p:cNvPr id="193" name="Rectangle 20"/>
          <p:cNvSpPr/>
          <p:nvPr/>
        </p:nvSpPr>
        <p:spPr>
          <a:xfrm>
            <a:off x="6145200" y="3619440"/>
            <a:ext cx="60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9"/>
          <p:cNvSpPr/>
          <p:nvPr/>
        </p:nvSpPr>
        <p:spPr>
          <a:xfrm>
            <a:off x="6073200" y="3716280"/>
            <a:ext cx="596520" cy="608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Secrétaria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du FEM,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 </a:t>
            </a:r>
            <a:r>
              <a:rPr b="1" lang="en-US" sz="800" spc="-1" strike="noStrike">
                <a:solidFill>
                  <a:srgbClr val="ffffff"/>
                </a:solidFill>
                <a:latin typeface="Arial"/>
                <a:ea typeface="Times New Roman"/>
              </a:rPr>
              <a:t>Entité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d’exécution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du FEM</a:t>
            </a:r>
            <a:endParaRPr b="0" lang="en-US" sz="800" spc="-1" strike="noStrike">
              <a:solidFill>
                <a:srgbClr val="000000"/>
              </a:solidFill>
              <a:latin typeface="Arial"/>
            </a:endParaRPr>
          </a:p>
        </p:txBody>
      </p:sp>
      <p:sp>
        <p:nvSpPr>
          <p:cNvPr id="195" name="Rectangle 17"/>
          <p:cNvSpPr/>
          <p:nvPr/>
        </p:nvSpPr>
        <p:spPr>
          <a:xfrm>
            <a:off x="5905440" y="3976560"/>
            <a:ext cx="360" cy="276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6"/>
          <p:cNvSpPr/>
          <p:nvPr/>
        </p:nvSpPr>
        <p:spPr>
          <a:xfrm>
            <a:off x="6430680" y="39798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 </a:t>
            </a:r>
            <a:endParaRPr b="0" lang="en-US" sz="800" spc="-1" strike="noStrike">
              <a:solidFill>
                <a:srgbClr val="000000"/>
              </a:solidFill>
              <a:latin typeface="Arial"/>
            </a:endParaRPr>
          </a:p>
        </p:txBody>
      </p:sp>
      <p:sp>
        <p:nvSpPr>
          <p:cNvPr id="197" name="Rectangle 15"/>
          <p:cNvSpPr/>
          <p:nvPr/>
        </p:nvSpPr>
        <p:spPr>
          <a:xfrm>
            <a:off x="6227280" y="41004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sp>
        <p:nvSpPr>
          <p:cNvPr id="198" name="Rectangle 13"/>
          <p:cNvSpPr/>
          <p:nvPr/>
        </p:nvSpPr>
        <p:spPr>
          <a:xfrm>
            <a:off x="6717600" y="4419720"/>
            <a:ext cx="63468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Pay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partenaire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NG,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secteur privé</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population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locales</a:t>
            </a:r>
            <a:endParaRPr b="0" lang="en-US" sz="800" spc="-1" strike="noStrike">
              <a:solidFill>
                <a:srgbClr val="000000"/>
              </a:solidFill>
              <a:latin typeface="Arial"/>
            </a:endParaRPr>
          </a:p>
        </p:txBody>
      </p:sp>
      <p:sp>
        <p:nvSpPr>
          <p:cNvPr id="199" name="Rectangle 12"/>
          <p:cNvSpPr/>
          <p:nvPr/>
        </p:nvSpPr>
        <p:spPr>
          <a:xfrm>
            <a:off x="6678720" y="4441680"/>
            <a:ext cx="360" cy="27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11"/>
          <p:cNvSpPr/>
          <p:nvPr/>
        </p:nvSpPr>
        <p:spPr>
          <a:xfrm>
            <a:off x="6595920" y="4562640"/>
            <a:ext cx="360" cy="27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10"/>
          <p:cNvSpPr/>
          <p:nvPr/>
        </p:nvSpPr>
        <p:spPr>
          <a:xfrm>
            <a:off x="6754680" y="4681440"/>
            <a:ext cx="360" cy="27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8"/>
          <p:cNvSpPr/>
          <p:nvPr/>
        </p:nvSpPr>
        <p:spPr>
          <a:xfrm>
            <a:off x="6611760" y="4802040"/>
            <a:ext cx="360" cy="27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7"/>
          <p:cNvSpPr/>
          <p:nvPr/>
        </p:nvSpPr>
        <p:spPr>
          <a:xfrm>
            <a:off x="7211520" y="480204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 </a:t>
            </a:r>
            <a:endParaRPr b="0" lang="en-US" sz="800" spc="-1" strike="noStrike">
              <a:solidFill>
                <a:srgbClr val="000000"/>
              </a:solidFill>
              <a:latin typeface="Arial"/>
            </a:endParaRPr>
          </a:p>
        </p:txBody>
      </p:sp>
      <p:sp>
        <p:nvSpPr>
          <p:cNvPr id="204" name="Rectangle 6"/>
          <p:cNvSpPr/>
          <p:nvPr/>
        </p:nvSpPr>
        <p:spPr>
          <a:xfrm>
            <a:off x="6909120" y="49230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grpSp>
        <p:nvGrpSpPr>
          <p:cNvPr id="205" name="Flowchart: Decision 121"/>
          <p:cNvGrpSpPr/>
          <p:nvPr/>
        </p:nvGrpSpPr>
        <p:grpSpPr>
          <a:xfrm>
            <a:off x="3432240" y="1060560"/>
            <a:ext cx="1365120" cy="981000"/>
            <a:chOff x="3432240" y="1060560"/>
            <a:chExt cx="1365120" cy="981000"/>
          </a:xfrm>
        </p:grpSpPr>
        <p:pic>
          <p:nvPicPr>
            <p:cNvPr id="206" name="Flowchart: Decision 121" descr=""/>
            <p:cNvPicPr/>
            <p:nvPr/>
          </p:nvPicPr>
          <p:blipFill>
            <a:blip r:embed="rId5"/>
            <a:stretch/>
          </p:blipFill>
          <p:spPr>
            <a:xfrm>
              <a:off x="3432240" y="1060560"/>
              <a:ext cx="1365120" cy="981000"/>
            </a:xfrm>
            <a:prstGeom prst="rect">
              <a:avLst/>
            </a:prstGeom>
            <a:ln w="0">
              <a:noFill/>
            </a:ln>
          </p:spPr>
        </p:pic>
        <p:sp>
          <p:nvSpPr>
            <p:cNvPr id="207" name=""/>
            <p:cNvSpPr/>
            <p:nvPr/>
          </p:nvSpPr>
          <p:spPr>
            <a:xfrm>
              <a:off x="3809880" y="1293840"/>
              <a:ext cx="609840" cy="41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CONSEIL</a:t>
              </a:r>
              <a:endParaRPr b="0" lang="en-US" sz="1100" spc="-1" strike="noStrike">
                <a:solidFill>
                  <a:srgbClr val="000000"/>
                </a:solidFill>
                <a:latin typeface="Arial"/>
              </a:endParaRPr>
            </a:p>
          </p:txBody>
        </p:sp>
      </p:grpSp>
      <p:sp>
        <p:nvSpPr>
          <p:cNvPr id="208" name="TextBox 124"/>
          <p:cNvSpPr/>
          <p:nvPr/>
        </p:nvSpPr>
        <p:spPr>
          <a:xfrm>
            <a:off x="4235400" y="2786040"/>
            <a:ext cx="424080" cy="200520"/>
          </a:xfrm>
          <a:prstGeom prst="rect">
            <a:avLst/>
          </a:prstGeom>
          <a:solidFill>
            <a:srgbClr val="9cbb5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Bilan </a:t>
            </a:r>
            <a:endParaRPr b="0" lang="en-US" sz="700" spc="-1" strike="noStrike">
              <a:solidFill>
                <a:srgbClr val="000000"/>
              </a:solidFill>
              <a:latin typeface="Arial"/>
            </a:endParaRPr>
          </a:p>
        </p:txBody>
      </p:sp>
      <p:sp>
        <p:nvSpPr>
          <p:cNvPr id="209" name="TextBox 125"/>
          <p:cNvSpPr/>
          <p:nvPr/>
        </p:nvSpPr>
        <p:spPr>
          <a:xfrm>
            <a:off x="3852720" y="3498840"/>
            <a:ext cx="1405080" cy="413640"/>
          </a:xfrm>
          <a:prstGeom prst="rect">
            <a:avLst/>
          </a:prstGeom>
          <a:solidFill>
            <a:srgbClr val="48b67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700" spc="-1" strike="noStrike">
                <a:solidFill>
                  <a:srgbClr val="000000"/>
                </a:solidFill>
                <a:latin typeface="Calibri"/>
                <a:ea typeface="Times New Roman"/>
              </a:rPr>
              <a:t>portefeuille-pays, thématiques, transversales, d’impacts, de  processus et de performance</a:t>
            </a:r>
            <a:endParaRPr b="0" lang="en-US" sz="700" spc="-1" strike="noStrike">
              <a:solidFill>
                <a:srgbClr val="000000"/>
              </a:solidFill>
              <a:latin typeface="Arial"/>
            </a:endParaRPr>
          </a:p>
        </p:txBody>
      </p:sp>
      <p:sp>
        <p:nvSpPr>
          <p:cNvPr id="210" name="TextBox 126"/>
          <p:cNvSpPr/>
          <p:nvPr/>
        </p:nvSpPr>
        <p:spPr>
          <a:xfrm>
            <a:off x="4038480" y="3233880"/>
            <a:ext cx="1219320" cy="307080"/>
          </a:xfrm>
          <a:prstGeom prst="rect">
            <a:avLst/>
          </a:prstGeom>
          <a:solidFill>
            <a:srgbClr val="48b67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700" spc="-1" strike="noStrike">
                <a:solidFill>
                  <a:srgbClr val="000000"/>
                </a:solidFill>
                <a:latin typeface="Calibri"/>
                <a:ea typeface="Times New Roman"/>
              </a:rPr>
              <a:t>Évaluations de projets, de programmes, du</a:t>
            </a:r>
            <a:endParaRPr b="0" lang="en-US" sz="700" spc="-1" strike="noStrike">
              <a:solidFill>
                <a:srgbClr val="000000"/>
              </a:solidFill>
              <a:latin typeface="Arial"/>
            </a:endParaRPr>
          </a:p>
        </p:txBody>
      </p:sp>
      <p:sp>
        <p:nvSpPr>
          <p:cNvPr id="211" name="TextBox 127"/>
          <p:cNvSpPr/>
          <p:nvPr/>
        </p:nvSpPr>
        <p:spPr>
          <a:xfrm>
            <a:off x="4162320" y="2949480"/>
            <a:ext cx="609840" cy="200520"/>
          </a:xfrm>
          <a:prstGeom prst="rect">
            <a:avLst/>
          </a:prstGeom>
          <a:solidFill>
            <a:srgbClr val="9cbb5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global</a:t>
            </a:r>
            <a:endParaRPr b="0" lang="en-US" sz="700" spc="-1" strike="noStrike">
              <a:solidFill>
                <a:srgbClr val="000000"/>
              </a:solidFill>
              <a:latin typeface="Arial"/>
            </a:endParaRPr>
          </a:p>
        </p:txBody>
      </p:sp>
      <p:sp>
        <p:nvSpPr>
          <p:cNvPr id="212" name="TextBox 128"/>
          <p:cNvSpPr/>
          <p:nvPr/>
        </p:nvSpPr>
        <p:spPr>
          <a:xfrm>
            <a:off x="3657600" y="4005360"/>
            <a:ext cx="2057400" cy="642600"/>
          </a:xfrm>
          <a:prstGeom prst="rect">
            <a:avLst/>
          </a:prstGeom>
          <a:solidFill>
            <a:srgbClr val="6d94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900" spc="-1" strike="noStrike">
                <a:solidFill>
                  <a:srgbClr val="000000"/>
                </a:solidFill>
                <a:latin typeface="Calibri"/>
                <a:ea typeface="Times New Roman"/>
              </a:rPr>
              <a:t>Examens de portefeuilles et de programmes, rapports annuels d’exécution de projets, suivi annuel, outils de suivi, examens à mi-parcours</a:t>
            </a:r>
            <a:endParaRPr b="0" lang="en-US" sz="900" spc="-1" strike="noStrike">
              <a:solidFill>
                <a:srgbClr val="000000"/>
              </a:solidFill>
              <a:latin typeface="Arial"/>
            </a:endParaRPr>
          </a:p>
        </p:txBody>
      </p:sp>
      <p:sp>
        <p:nvSpPr>
          <p:cNvPr id="213" name="TextBox 129"/>
          <p:cNvSpPr/>
          <p:nvPr/>
        </p:nvSpPr>
        <p:spPr>
          <a:xfrm>
            <a:off x="3341520" y="4803840"/>
            <a:ext cx="2971800" cy="368280"/>
          </a:xfrm>
          <a:prstGeom prst="rect">
            <a:avLst/>
          </a:prstGeom>
          <a:solidFill>
            <a:srgbClr val="8166a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900" spc="-1" strike="noStrike">
                <a:solidFill>
                  <a:srgbClr val="000000"/>
                </a:solidFill>
                <a:latin typeface="Calibri"/>
                <a:ea typeface="Times New Roman"/>
              </a:rPr>
              <a:t>Indicateurs de projets, suivi, collecte de données, </a:t>
            </a:r>
            <a:br>
              <a:rPr sz="900"/>
            </a:br>
            <a:r>
              <a:rPr b="0" lang="fr-CH" sz="900" spc="-1" strike="noStrike">
                <a:solidFill>
                  <a:srgbClr val="000000"/>
                </a:solidFill>
                <a:latin typeface="Calibri"/>
                <a:ea typeface="Times New Roman"/>
              </a:rPr>
              <a:t>fourniture d’informations</a:t>
            </a:r>
            <a:endParaRPr b="0" lang="en-US" sz="9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1" descr=""/>
          <p:cNvPicPr/>
          <p:nvPr/>
        </p:nvPicPr>
        <p:blipFill>
          <a:blip r:embed="rId1"/>
          <a:stretch/>
        </p:blipFill>
        <p:spPr>
          <a:xfrm>
            <a:off x="1212840" y="195120"/>
            <a:ext cx="7937640" cy="878040"/>
          </a:xfrm>
          <a:prstGeom prst="rect">
            <a:avLst/>
          </a:prstGeom>
          <a:ln w="0">
            <a:noFill/>
          </a:ln>
        </p:spPr>
      </p:pic>
      <p:sp>
        <p:nvSpPr>
          <p:cNvPr id="215" name=""/>
          <p:cNvSpPr txBox="1"/>
          <p:nvPr/>
        </p:nvSpPr>
        <p:spPr>
          <a:xfrm>
            <a:off x="1219320" y="914040"/>
            <a:ext cx="7696080" cy="5707080"/>
          </a:xfrm>
          <a:prstGeom prst="rect">
            <a:avLst/>
          </a:prstGeom>
          <a:noFill/>
          <a:ln w="0">
            <a:noFill/>
          </a:ln>
        </p:spPr>
        <p:txBody>
          <a:bodyPr anchor="t">
            <a:normAutofit/>
          </a:bodyPr>
          <a:p>
            <a:pPr marL="341280" indent="-3412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Conception de plans de S&amp;E</a:t>
            </a:r>
            <a:endParaRPr b="0" lang="en-US" sz="1800" spc="-1" strike="noStrike">
              <a:solidFill>
                <a:srgbClr val="000000"/>
              </a:solidFill>
              <a:latin typeface="Calibri"/>
            </a:endParaRPr>
          </a:p>
          <a:p>
            <a:pPr lvl="1" marL="719280" indent="-28440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Établissement de plans de S&amp;E assortis de budgets détaillés en vue de l’obtention de l’agrément du directeur général (DG) du FEM dans le cas des projets de grande envergure, et de l’agrément du DG dans le cas des projets de moyenne envergure. </a:t>
            </a:r>
            <a:endParaRPr b="0" lang="en-US" sz="1800" spc="-1" strike="noStrike">
              <a:solidFill>
                <a:srgbClr val="000000"/>
              </a:solidFill>
              <a:latin typeface="Calibri"/>
            </a:endParaRPr>
          </a:p>
          <a:p>
            <a:pPr lvl="1" marL="719280" indent="-28440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matrices de planification des projets doivent s’aligner sur les cadres de résultats du domaine d’intervention du FEM inclus dans la gestion à objectifs de résultats de FEM-5. </a:t>
            </a:r>
            <a:endParaRPr b="0" lang="en-US" sz="1800" spc="-1" strike="noStrike">
              <a:solidFill>
                <a:srgbClr val="000000"/>
              </a:solidFill>
              <a:latin typeface="Calibri"/>
            </a:endParaRPr>
          </a:p>
          <a:p>
            <a:pPr lvl="1" marL="719280" indent="-2844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Mise en œuvre des plans de S&amp;E</a:t>
            </a:r>
            <a:endParaRPr b="0" lang="en-US" sz="1800" spc="-1" strike="noStrike">
              <a:solidFill>
                <a:srgbClr val="000000"/>
              </a:solidFill>
              <a:latin typeface="Calibri"/>
            </a:endParaRPr>
          </a:p>
          <a:p>
            <a:pPr lvl="1" marL="719280" indent="-284400">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 suivi et la supervision du projet/programme couvrent l’exécution du Plan de S&amp;E.</a:t>
            </a:r>
            <a:endParaRPr b="0" lang="en-US" sz="1800" spc="-1" strike="noStrike">
              <a:solidFill>
                <a:srgbClr val="000000"/>
              </a:solidFill>
              <a:latin typeface="Calibri"/>
            </a:endParaRPr>
          </a:p>
          <a:p>
            <a:pPr marL="341280" indent="-34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Évaluations de projets/programmes</a:t>
            </a:r>
            <a:endParaRPr b="0" lang="en-US" sz="1800" spc="-1" strike="noStrike">
              <a:solidFill>
                <a:srgbClr val="000000"/>
              </a:solidFill>
              <a:latin typeface="Calibri"/>
            </a:endParaRPr>
          </a:p>
          <a:p>
            <a:pPr lvl="1" marL="719280" indent="-28440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Tous les projets de grande et de moyenne envergure doivent être évalués.</a:t>
            </a:r>
            <a:endParaRPr b="0" lang="en-US" sz="1800" spc="-1" strike="noStrike">
              <a:solidFill>
                <a:srgbClr val="000000"/>
              </a:solidFill>
              <a:latin typeface="Calibri"/>
            </a:endParaRPr>
          </a:p>
          <a:p>
            <a:pPr lvl="1" marL="719280" indent="-28440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rapports doivent être transmis au Bureau de l’évaluation du FEM dans les 12 mois qui suivent l’achèvement du projet.</a:t>
            </a:r>
            <a:endParaRPr b="0" lang="en-US" sz="1800" spc="-1" strike="noStrike">
              <a:solidFill>
                <a:srgbClr val="000000"/>
              </a:solidFill>
              <a:latin typeface="Calibri"/>
            </a:endParaRPr>
          </a:p>
          <a:p>
            <a:pPr marL="341280" indent="-341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Participation des points focaux opérationnels</a:t>
            </a:r>
            <a:endParaRPr b="0" lang="en-US" sz="1800" spc="-1" strike="noStrike">
              <a:solidFill>
                <a:srgbClr val="000000"/>
              </a:solidFill>
              <a:latin typeface="Calibri"/>
            </a:endParaRPr>
          </a:p>
          <a:p>
            <a:pPr lvl="1" marL="719280" indent="-28440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plans de S&amp;E doivent expliquer comment les points focaux techniques participeront aux activités de S&amp;E.</a:t>
            </a:r>
            <a:endParaRPr b="0" lang="en-US" sz="1800" spc="-1" strike="noStrike">
              <a:solidFill>
                <a:srgbClr val="000000"/>
              </a:solidFill>
              <a:latin typeface="Calibri"/>
            </a:endParaRPr>
          </a:p>
        </p:txBody>
      </p:sp>
      <p:sp>
        <p:nvSpPr>
          <p:cNvPr id="216"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865D1-DF09-46B5-9BCD-3E870111E5BC}"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Title 1" descr=""/>
          <p:cNvPicPr/>
          <p:nvPr/>
        </p:nvPicPr>
        <p:blipFill>
          <a:blip r:embed="rId1"/>
          <a:stretch/>
        </p:blipFill>
        <p:spPr>
          <a:xfrm>
            <a:off x="1036800" y="244440"/>
            <a:ext cx="8283240" cy="828720"/>
          </a:xfrm>
          <a:prstGeom prst="rect">
            <a:avLst/>
          </a:prstGeom>
          <a:ln w="0">
            <a:noFill/>
          </a:ln>
        </p:spPr>
      </p:pic>
      <p:sp>
        <p:nvSpPr>
          <p:cNvPr id="218" name=""/>
          <p:cNvSpPr txBox="1"/>
          <p:nvPr/>
        </p:nvSpPr>
        <p:spPr>
          <a:xfrm>
            <a:off x="1219320" y="1440000"/>
            <a:ext cx="7772400" cy="5486400"/>
          </a:xfrm>
          <a:prstGeom prst="rect">
            <a:avLst/>
          </a:prstGeom>
          <a:noFill/>
          <a:ln w="0">
            <a:noFill/>
          </a:ln>
        </p:spPr>
        <p:txBody>
          <a:bodyPr anchor="t">
            <a:normAutofit/>
          </a:bodyPr>
          <a:p>
            <a:pPr marL="514440" indent="-51444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1859c"/>
                </a:solidFill>
                <a:latin typeface="Calibri"/>
              </a:rPr>
              <a:t>Participation des points focaux opérationnels (PFO)</a:t>
            </a:r>
            <a:endParaRPr b="0" lang="en-US" sz="2800" spc="-1" strike="noStrike">
              <a:solidFill>
                <a:srgbClr val="000000"/>
              </a:solidFill>
              <a:latin typeface="Calibri"/>
            </a:endParaRPr>
          </a:p>
          <a:p>
            <a:pPr lvl="1" marL="514440" indent="-5144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Calibri"/>
              </a:rPr>
              <a:t>Les plans de S&amp;E doivent indiquer les modalités de participation des PFO</a:t>
            </a:r>
            <a:endParaRPr b="0" lang="en-US" sz="2600" spc="-1" strike="noStrike">
              <a:solidFill>
                <a:srgbClr val="000000"/>
              </a:solidFill>
              <a:latin typeface="Calibri"/>
            </a:endParaRPr>
          </a:p>
          <a:p>
            <a:pPr lvl="1" marL="514440" indent="-5144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Calibri"/>
              </a:rPr>
              <a:t>Les PFO doivent être informés des activités de S&amp;E, examens à mi-parcours et évaluations finales y compris, et recevoir des versions préliminaires de ces documents pour observations ainsi que les rapports finals</a:t>
            </a:r>
            <a:endParaRPr b="0" lang="en-US" sz="2600" spc="-1" strike="noStrike">
              <a:solidFill>
                <a:srgbClr val="000000"/>
              </a:solidFill>
              <a:latin typeface="Calibri"/>
            </a:endParaRPr>
          </a:p>
          <a:p>
            <a:pPr lvl="1" marL="514440" indent="-5144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Calibri"/>
              </a:rPr>
              <a:t>Les PFO sont invités à contribuer à la réponse de la direction (le cas échéant)</a:t>
            </a:r>
            <a:endParaRPr b="0" lang="en-US" sz="2600" spc="-1" strike="noStrike">
              <a:solidFill>
                <a:srgbClr val="000000"/>
              </a:solidFill>
              <a:latin typeface="Calibri"/>
            </a:endParaRPr>
          </a:p>
          <a:p>
            <a:pPr lvl="1" marL="514440" indent="-5144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Calibri"/>
              </a:rPr>
              <a:t>Les Entités d’exécution du FEM prennent note de l’application de cette exigence dans les projets et programmes financés par le FEM</a:t>
            </a:r>
            <a:endParaRPr b="0" lang="en-US" sz="2600" spc="-1" strike="noStrike">
              <a:solidFill>
                <a:srgbClr val="000000"/>
              </a:solidFill>
              <a:latin typeface="Calibri"/>
            </a:endParaRPr>
          </a:p>
          <a:p>
            <a:pPr lvl="1" marL="514440" indent="-514440">
              <a:lnSpc>
                <a:spcPct val="90000"/>
              </a:lnSpc>
              <a:spcBef>
                <a:spcPts val="451"/>
              </a:spcBef>
              <a:buClr>
                <a:srgbClr val="2569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14440" indent="-5144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7A0E4-1024-44C3-829B-B22AD80C7BD1}"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Title 1" descr=""/>
          <p:cNvPicPr/>
          <p:nvPr/>
        </p:nvPicPr>
        <p:blipFill>
          <a:blip r:embed="rId1"/>
          <a:stretch/>
        </p:blipFill>
        <p:spPr>
          <a:xfrm>
            <a:off x="1212840" y="42840"/>
            <a:ext cx="7937640" cy="1127160"/>
          </a:xfrm>
          <a:prstGeom prst="rect">
            <a:avLst/>
          </a:prstGeom>
          <a:ln w="0">
            <a:noFill/>
          </a:ln>
        </p:spPr>
      </p:pic>
      <p:sp>
        <p:nvSpPr>
          <p:cNvPr id="221"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B2CF9-B8C4-4293-B932-1942B170AEC8}"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
        <p:nvSpPr>
          <p:cNvPr id="222" name="Rectangle 5"/>
          <p:cNvSpPr/>
          <p:nvPr/>
        </p:nvSpPr>
        <p:spPr>
          <a:xfrm>
            <a:off x="1371600" y="1219320"/>
            <a:ext cx="7772400" cy="520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Suivre l’évolution </a:t>
            </a:r>
            <a:r>
              <a:rPr b="0" lang="fr-FR" sz="2400" spc="-1" strike="noStrike">
                <a:solidFill>
                  <a:srgbClr val="000000"/>
                </a:solidFill>
                <a:latin typeface="Calibri"/>
              </a:rPr>
              <a:t>du soutien du FEM à l’échelon national.</a:t>
            </a:r>
            <a:endParaRPr b="0" lang="en-US" sz="2400" spc="-1" strike="noStrike">
              <a:solidFill>
                <a:srgbClr val="000000"/>
              </a:solidFill>
              <a:latin typeface="Arial"/>
            </a:endParaRPr>
          </a:p>
          <a:p>
            <a:pPr marL="343080" indent="-34308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Tenir les </a:t>
            </a:r>
            <a:r>
              <a:rPr b="1" lang="fr-FR" sz="2400" spc="-1" strike="noStrike">
                <a:solidFill>
                  <a:srgbClr val="000000"/>
                </a:solidFill>
                <a:latin typeface="Calibri"/>
              </a:rPr>
              <a:t>parties prenantes informées </a:t>
            </a:r>
            <a:r>
              <a:rPr b="0" lang="fr-FR" sz="2400" spc="-1" strike="noStrike">
                <a:solidFill>
                  <a:srgbClr val="000000"/>
                </a:solidFill>
                <a:latin typeface="Calibri"/>
              </a:rPr>
              <a:t>et les </a:t>
            </a:r>
            <a:r>
              <a:rPr b="1" lang="fr-FR" sz="2400" spc="-1" strike="noStrike">
                <a:solidFill>
                  <a:srgbClr val="000000"/>
                </a:solidFill>
                <a:latin typeface="Calibri"/>
              </a:rPr>
              <a:t>consulter</a:t>
            </a:r>
            <a:r>
              <a:rPr b="0" lang="fr-FR" sz="2400" spc="-1" strike="noStrike">
                <a:solidFill>
                  <a:srgbClr val="000000"/>
                </a:solidFill>
                <a:latin typeface="Calibri"/>
              </a:rPr>
              <a:t> sur les plans, l’exécution et les résultats des activités du FEM dans le pays.</a:t>
            </a:r>
            <a:endParaRPr b="0" lang="en-US" sz="2400" spc="-1" strike="noStrike">
              <a:solidFill>
                <a:srgbClr val="000000"/>
              </a:solidFill>
              <a:latin typeface="Arial"/>
            </a:endParaRPr>
          </a:p>
          <a:p>
            <a:pPr marL="343080" indent="-34308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Diffuser</a:t>
            </a:r>
            <a:r>
              <a:rPr b="0" lang="fr-FR" sz="2400" spc="-1" strike="noStrike">
                <a:solidFill>
                  <a:srgbClr val="000000"/>
                </a:solidFill>
                <a:latin typeface="Calibri"/>
              </a:rPr>
              <a:t> des informations sur le S&amp;E, promouvoir l’exécution des recommandations de l’évaluation et les </a:t>
            </a:r>
            <a:r>
              <a:rPr b="1" lang="fr-FR" sz="2400" spc="-1" strike="noStrike">
                <a:solidFill>
                  <a:srgbClr val="000000"/>
                </a:solidFill>
                <a:latin typeface="Calibri"/>
              </a:rPr>
              <a:t>enseignements tirés</a:t>
            </a:r>
            <a:r>
              <a:rPr b="0" lang="fr-FR"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ider le Bureau de l’évaluation</a:t>
            </a:r>
            <a:r>
              <a:rPr b="0" lang="fr-FR" sz="2400" spc="-1" strike="noStrike">
                <a:solidFill>
                  <a:srgbClr val="000000"/>
                </a:solidFill>
                <a:latin typeface="Calibri"/>
              </a:rPr>
              <a:t>, premier point d’entrée dans un pays, à :</a:t>
            </a:r>
            <a:endParaRPr b="0" lang="en-US" sz="2400" spc="-1" strike="noStrike">
              <a:solidFill>
                <a:srgbClr val="000000"/>
              </a:solidFill>
              <a:latin typeface="Arial"/>
            </a:endParaRPr>
          </a:p>
          <a:p>
            <a:pPr lvl="1" marL="743040" indent="-28584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1859c"/>
                </a:solidFill>
                <a:latin typeface="Calibri"/>
                <a:ea typeface="Arial"/>
              </a:rPr>
              <a:t>Identifier</a:t>
            </a:r>
            <a:r>
              <a:rPr b="0" lang="fr-FR" sz="2400" spc="-1" strike="noStrike">
                <a:solidFill>
                  <a:srgbClr val="006600"/>
                </a:solidFill>
                <a:latin typeface="Calibri"/>
                <a:ea typeface="Arial"/>
              </a:rPr>
              <a:t> </a:t>
            </a:r>
            <a:r>
              <a:rPr b="1" lang="fr-FR" sz="2000" spc="-1" strike="noStrike">
                <a:solidFill>
                  <a:srgbClr val="31859c"/>
                </a:solidFill>
                <a:latin typeface="Calibri"/>
                <a:ea typeface="Arial"/>
              </a:rPr>
              <a:t>les</a:t>
            </a:r>
            <a:r>
              <a:rPr b="0" lang="fr-FR" sz="2400" spc="-1" strike="noStrike">
                <a:solidFill>
                  <a:srgbClr val="006600"/>
                </a:solidFill>
                <a:latin typeface="Calibri"/>
                <a:ea typeface="Arial"/>
              </a:rPr>
              <a:t> </a:t>
            </a:r>
            <a:r>
              <a:rPr b="1" lang="fr-FR" sz="2000" spc="-1" strike="noStrike">
                <a:solidFill>
                  <a:srgbClr val="31859c"/>
                </a:solidFill>
                <a:latin typeface="Calibri"/>
                <a:ea typeface="Arial"/>
              </a:rPr>
              <a:t>principales</a:t>
            </a:r>
            <a:r>
              <a:rPr b="0" lang="fr-FR" sz="2400" spc="-1" strike="noStrike">
                <a:solidFill>
                  <a:srgbClr val="006600"/>
                </a:solidFill>
                <a:latin typeface="Calibri"/>
                <a:ea typeface="Arial"/>
              </a:rPr>
              <a:t> </a:t>
            </a:r>
            <a:r>
              <a:rPr b="1" lang="fr-FR" sz="2000" spc="-1" strike="noStrike">
                <a:solidFill>
                  <a:srgbClr val="31859c"/>
                </a:solidFill>
                <a:latin typeface="Calibri"/>
                <a:ea typeface="Arial"/>
              </a:rPr>
              <a:t>parties</a:t>
            </a:r>
            <a:r>
              <a:rPr b="0" lang="fr-FR" sz="2400" spc="-1" strike="noStrike">
                <a:solidFill>
                  <a:srgbClr val="006600"/>
                </a:solidFill>
                <a:latin typeface="Calibri"/>
                <a:ea typeface="Arial"/>
              </a:rPr>
              <a:t> </a:t>
            </a:r>
            <a:r>
              <a:rPr b="1" lang="fr-FR" sz="2000" spc="-1" strike="noStrike">
                <a:solidFill>
                  <a:srgbClr val="31859c"/>
                </a:solidFill>
                <a:latin typeface="Calibri"/>
                <a:ea typeface="Arial"/>
              </a:rPr>
              <a:t>prenantes</a:t>
            </a:r>
            <a:r>
              <a:rPr b="0" lang="fr-FR" sz="2400" spc="-1" strike="noStrike">
                <a:solidFill>
                  <a:srgbClr val="006600"/>
                </a:solidFill>
                <a:latin typeface="Calibri"/>
                <a:ea typeface="Arial"/>
              </a:rPr>
              <a:t> </a:t>
            </a:r>
            <a:r>
              <a:rPr b="1" lang="fr-FR" sz="2000" spc="-1" strike="noStrike">
                <a:solidFill>
                  <a:srgbClr val="31859c"/>
                </a:solidFill>
                <a:latin typeface="Calibri"/>
                <a:ea typeface="Arial"/>
              </a:rPr>
              <a:t>concernées,</a:t>
            </a:r>
            <a:endParaRPr b="0" lang="en-US" sz="2000" spc="-1" strike="noStrike">
              <a:solidFill>
                <a:srgbClr val="000000"/>
              </a:solidFill>
              <a:latin typeface="Arial"/>
            </a:endParaRPr>
          </a:p>
          <a:p>
            <a:pPr lvl="1" marL="743040" indent="-28584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1859c"/>
                </a:solidFill>
                <a:latin typeface="Calibri"/>
                <a:ea typeface="Arial"/>
              </a:rPr>
              <a:t>Coordonner les réunions, </a:t>
            </a:r>
            <a:endParaRPr b="0" lang="en-US" sz="2000" spc="-1" strike="noStrike">
              <a:solidFill>
                <a:srgbClr val="000000"/>
              </a:solidFill>
              <a:latin typeface="Arial"/>
            </a:endParaRPr>
          </a:p>
          <a:p>
            <a:pPr lvl="1" marL="743040" indent="-28584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1859c"/>
                </a:solidFill>
                <a:latin typeface="Calibri"/>
                <a:ea typeface="Arial"/>
              </a:rPr>
              <a:t>Établir </a:t>
            </a:r>
            <a:r>
              <a:rPr b="1" lang="fr-FR" sz="2000" spc="-1" strike="noStrike">
                <a:solidFill>
                  <a:srgbClr val="ff0000"/>
                </a:solidFill>
                <a:latin typeface="Calibri"/>
                <a:ea typeface="Arial"/>
              </a:rPr>
              <a:t>les ordres du jour</a:t>
            </a:r>
            <a:r>
              <a:rPr b="1" lang="fr-FR" sz="2000" spc="-1" strike="noStrike">
                <a:solidFill>
                  <a:srgbClr val="31859c"/>
                </a:solidFill>
                <a:latin typeface="Calibri"/>
                <a:ea typeface="Arial"/>
              </a:rPr>
              <a:t>,</a:t>
            </a:r>
            <a:endParaRPr b="0" lang="en-US" sz="2000" spc="-1" strike="noStrike">
              <a:solidFill>
                <a:srgbClr val="000000"/>
              </a:solidFill>
              <a:latin typeface="Arial"/>
            </a:endParaRPr>
          </a:p>
          <a:p>
            <a:pPr lvl="1" marL="743040" indent="-28584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1859c"/>
                </a:solidFill>
                <a:latin typeface="Calibri"/>
                <a:ea typeface="Arial"/>
              </a:rPr>
              <a:t>Coordonner les réponses des pays à ces évaluations.</a:t>
            </a:r>
            <a:endParaRPr b="0" lang="en-US" sz="20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Title 1" descr=""/>
          <p:cNvPicPr/>
          <p:nvPr/>
        </p:nvPicPr>
        <p:blipFill>
          <a:blip r:embed="rId1"/>
          <a:stretch/>
        </p:blipFill>
        <p:spPr>
          <a:xfrm>
            <a:off x="1212840" y="189000"/>
            <a:ext cx="7937640" cy="884160"/>
          </a:xfrm>
          <a:prstGeom prst="rect">
            <a:avLst/>
          </a:prstGeom>
          <a:ln w="0">
            <a:noFill/>
          </a:ln>
        </p:spPr>
      </p:pic>
      <p:sp>
        <p:nvSpPr>
          <p:cNvPr id="224" name=""/>
          <p:cNvSpPr txBox="1"/>
          <p:nvPr/>
        </p:nvSpPr>
        <p:spPr>
          <a:xfrm>
            <a:off x="1219320" y="1142640"/>
            <a:ext cx="7696080" cy="5257800"/>
          </a:xfrm>
          <a:prstGeom prst="rect">
            <a:avLst/>
          </a:prstGeom>
          <a:noFill/>
          <a:ln w="0">
            <a:noFill/>
          </a:ln>
        </p:spPr>
        <p:txBody>
          <a:bodyPr anchor="t">
            <a:normAutofit fontScale="97000"/>
          </a:bodyPr>
          <a:p>
            <a:pPr lvl="1" marL="346320" indent="-27720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inquième composante : Renforcer la capacité à surveiller et évaluer les impacts sur l'environnement et l'évolution de la situation en la matière ; doit avoir la priorité dans le </a:t>
            </a:r>
            <a:r>
              <a:rPr b="1" lang="fr-FR" sz="2400" spc="-1" strike="noStrike">
                <a:solidFill>
                  <a:srgbClr val="000000"/>
                </a:solidFill>
                <a:latin typeface="Calibri"/>
              </a:rPr>
              <a:t>plan d’auto-évaluation </a:t>
            </a:r>
            <a:r>
              <a:rPr b="0" lang="fr-FR" sz="2400" spc="-1" strike="noStrike">
                <a:solidFill>
                  <a:srgbClr val="000000"/>
                </a:solidFill>
                <a:latin typeface="Calibri"/>
              </a:rPr>
              <a:t>nationale des capacités à renforcer (ANCR</a:t>
            </a:r>
            <a:r>
              <a:rPr b="0" lang="en-US" sz="2400" spc="-1" strike="noStrike">
                <a:solidFill>
                  <a:srgbClr val="000000"/>
                </a:solidFill>
                <a:latin typeface="Calibri"/>
              </a:rPr>
              <a:t>)</a:t>
            </a:r>
            <a:endParaRPr b="0" lang="en-US" sz="2400" spc="-1" strike="noStrike">
              <a:solidFill>
                <a:srgbClr val="000000"/>
              </a:solidFill>
              <a:latin typeface="Calibri"/>
            </a:endParaRPr>
          </a:p>
          <a:p>
            <a:pPr lvl="1" marL="346320" indent="-27720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plan de renforcement</a:t>
            </a:r>
            <a:r>
              <a:rPr b="0" lang="fr-FR" sz="2800" spc="-1" strike="noStrike">
                <a:solidFill>
                  <a:srgbClr val="000000"/>
                </a:solidFill>
                <a:latin typeface="Calibri"/>
              </a:rPr>
              <a:t> </a:t>
            </a:r>
            <a:r>
              <a:rPr b="0" lang="fr-FR" sz="2400" spc="-1" strike="noStrike">
                <a:solidFill>
                  <a:srgbClr val="000000"/>
                </a:solidFill>
                <a:latin typeface="Calibri"/>
              </a:rPr>
              <a:t>des capacités doit être :</a:t>
            </a:r>
            <a:endParaRPr b="0" lang="en-US" sz="2400" spc="-1" strike="noStrike">
              <a:solidFill>
                <a:srgbClr val="000000"/>
              </a:solidFill>
              <a:latin typeface="Calibri"/>
            </a:endParaRPr>
          </a:p>
          <a:p>
            <a:pPr lvl="2" marL="776160" indent="-2214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formulé en tant que projet de moyenne envergure, </a:t>
            </a:r>
            <a:endParaRPr b="0" lang="en-US" sz="2000" spc="-1" strike="noStrike">
              <a:solidFill>
                <a:srgbClr val="000000"/>
              </a:solidFill>
              <a:latin typeface="Calibri"/>
            </a:endParaRPr>
          </a:p>
          <a:p>
            <a:pPr lvl="2" marL="776160" indent="-2214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ou intégré dans une proposition plus large, sous forme de projet de moyenne ou grande envergure (dans le cas d’un projet de moyenne envergure, le cofinancement doit être de 1:1) </a:t>
            </a:r>
            <a:endParaRPr b="0" lang="en-US" sz="2000" spc="-1" strike="noStrike">
              <a:solidFill>
                <a:srgbClr val="000000"/>
              </a:solidFill>
              <a:latin typeface="Calibri"/>
            </a:endParaRPr>
          </a:p>
          <a:p>
            <a:pPr lvl="1" marL="346320" indent="-27720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a formation de partenariats régionaux peut être envisagée.</a:t>
            </a:r>
            <a:endParaRPr b="0" lang="en-US" sz="2400" spc="-1" strike="noStrike">
              <a:solidFill>
                <a:srgbClr val="000000"/>
              </a:solidFill>
              <a:latin typeface="Calibri"/>
            </a:endParaRPr>
          </a:p>
          <a:p>
            <a:pPr lvl="1" marL="346320" indent="-27720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Financement à partir du montant de 44 millions de dollars réservé au renforcement des capacités. </a:t>
            </a:r>
            <a:endParaRPr b="0" lang="en-US" sz="2400" spc="-1" strike="noStrike">
              <a:solidFill>
                <a:srgbClr val="000000"/>
              </a:solidFill>
              <a:latin typeface="Calibri"/>
            </a:endParaRPr>
          </a:p>
        </p:txBody>
      </p:sp>
      <p:sp>
        <p:nvSpPr>
          <p:cNvPr id="225"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46DAB-BA6D-4127-B5BC-E6B8D9AA9900}"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8T20:45:39Z</dcterms:created>
  <dc:creator>Soledad</dc:creator>
  <dc:description/>
  <dc:language>en-US</dc:language>
  <cp:lastModifiedBy>wb350798</cp:lastModifiedBy>
  <dcterms:modified xsi:type="dcterms:W3CDTF">2012-06-06T15:13:14Z</dcterms:modified>
  <cp:revision>403</cp:revision>
  <dc:subject/>
  <dc:title>Slide 1</dc:title>
</cp:coreProperties>
</file>