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AD9-55D2-4437-A5C1-82E2D1542C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BB0-6954-431B-9DE7-75A21970D7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F39-E08E-4969-B9C7-6E19E285FA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F69-5CD7-4D87-9390-9EE0F72541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A8BA-F0A9-4C1E-94C7-523306AF36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68A-6DCF-4468-B422-CDBB339DF7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A9ED-7DD7-422B-954C-5946E2F31F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047-93C3-4B0D-B8E6-4D4C6EC92D27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979-2E89-4293-AC03-76ABF1A727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0E6-AF7D-48A6-A890-BCC3297D92A1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8B6-A8B6-4E2C-820D-6887C063D8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1F36-7FE8-4772-B203-A76A3E6960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6F8-88C8-4AC5-968F-7EAE9E9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974-92F1-48B2-AF00-565994B2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CE7-2C23-4EA2-8B02-2A4A36D5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F37-D97F-4C7B-BD61-EE02C07B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873-DDE5-43DF-AE04-2B95AB1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377-0853-4E39-BCD6-862D8CCA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8E5-4E2D-4908-9E02-70EA4D3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97D0-E707-476E-AB7B-548AC7F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7D4-33E2-4737-857E-DC7A304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DB4-08B9-492A-8A37-8E44953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5C5E-9E33-49B2-A69A-1DDB759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13C-0F3F-46D8-88BA-D3F212D4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2B07-3366-4A9B-AD23-0341CEA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A210-778F-4B6A-A870-61536F4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949-00D3-4FFB-B031-75C0FC3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E5E-066D-45D5-8A92-F75675DA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675-8487-40E0-A135-3F7C3F89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5E3DE-01D8-4D69-A04F-73D542726C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0325F-E8D6-47E7-A6F4-B8F2AE1B6B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51F50-6713-4AC3-B049-BDB5B2FB15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4669A-7B6A-4985-B346-3FD36CC3A3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3FD28-8E3A-4727-B425-7E9D2D5FE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80C-AFA3-45F4-9E99-79B23D4D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39258-0B93-46F5-983C-EC617E51B7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29DBA-28F9-4757-881C-400AF92964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D02D1-2A87-4639-A4D4-C47DAEF90E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55571-2648-4566-B373-EEF4B37A47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9302D-1165-47A4-9486-0F74FDEBA8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94486-BA6F-4AEC-AD74-BD7B46494F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71529-0385-4EB3-90D3-DD066803D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925-C348-4D63-8819-94B117D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FEF-9E2B-4793-A47F-5CA21100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EF8-70AA-42FF-8385-3CDEE60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C7D-4912-4A5C-B242-EF8F719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04F-6357-42CE-865B-719C244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EE5-1E89-4467-9274-0AA45A6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AC0-A348-4F0A-AB74-DF0E2346BB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9E05-1F5A-437D-84C7-D5A78A5D2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F0F3-BADF-467E-82DE-8935B62EE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F1D-CA6C-442A-AF54-0781F73FC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596E-F1DF-42A6-A975-D30AB2C10F47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401920"/>
            <a:ext cx="6334200" cy="3243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EE7E-92BC-4917-B87D-B08FBBE6981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C23B-7FBD-47B5-9BAD-277B73B03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917-5B99-4B28-BAE1-BB47D81D7AE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5DE-943B-4B64-934D-AF7912E3F45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4800" y="2908800"/>
                <a:ext cx="12034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604840" y="2902680"/>
              <a:ext cx="1823400" cy="546840"/>
              <a:chOff x="5604840" y="2902680"/>
              <a:chExt cx="182340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4840" y="2902680"/>
                <a:ext cx="1713240" cy="2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4320" y="3038040"/>
                <a:ext cx="146340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4840" y="3173400"/>
                <a:ext cx="1823400" cy="27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6600" y="27640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2200"/>
            <a:chOff x="3597120" y="3078000"/>
            <a:chExt cx="5370840" cy="176220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2960"/>
            <a:ext cx="5063760" cy="1201320"/>
            <a:chOff x="3998880" y="3522960"/>
            <a:chExt cx="5063760" cy="120132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93560" cy="1176120"/>
              <a:chOff x="3998880" y="3548160"/>
              <a:chExt cx="499356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935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6600" y="3478680"/>
                <a:ext cx="538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31640" y="3895920"/>
              <a:ext cx="32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7840" cy="378720"/>
              <a:chOff x="7148520" y="5266440"/>
              <a:chExt cx="35784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784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480" y="5335920"/>
                <a:ext cx="21564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8560" y="343296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30640" y="325764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8560" y="183564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30640" y="166032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58760" y="2004840"/>
            <a:ext cx="1268280" cy="811440"/>
            <a:chOff x="158760" y="2004840"/>
            <a:chExt cx="1268280" cy="81144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58760" y="2004840"/>
              <a:ext cx="12682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4440" y="3535200"/>
            <a:ext cx="1200240" cy="914400"/>
            <a:chOff x="244440" y="3535200"/>
            <a:chExt cx="120024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4440" y="3535200"/>
              <a:ext cx="1200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58840" y="3565440"/>
            <a:ext cx="1260360" cy="622440"/>
            <a:chOff x="1158840" y="3565440"/>
            <a:chExt cx="1260360" cy="62244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58840" y="3565440"/>
              <a:ext cx="1260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76400"/>
            <a:ext cx="451080" cy="446400"/>
            <a:chOff x="2298600" y="2876400"/>
            <a:chExt cx="451080" cy="44640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7640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20480" cy="414360"/>
            <a:chOff x="6205680" y="2359080"/>
            <a:chExt cx="420480" cy="41436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20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597120"/>
            <a:ext cx="414360" cy="395280"/>
            <a:chOff x="6278400" y="3597120"/>
            <a:chExt cx="414360" cy="39528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597120"/>
              <a:ext cx="414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85760" y="2004840"/>
            <a:ext cx="1408320" cy="811440"/>
            <a:chOff x="1085760" y="2004840"/>
            <a:chExt cx="1408320" cy="81144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85760" y="2004840"/>
              <a:ext cx="14083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9320"/>
              <a:chOff x="4989600" y="1177920"/>
              <a:chExt cx="2460960" cy="121932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9320"/>
                <a:chOff x="4989600" y="1177920"/>
                <a:chExt cx="2460960" cy="121932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93160" y="1375920"/>
                  <a:ext cx="166176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62480" y="1290240"/>
                <a:ext cx="19076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04720" y="1408680"/>
              <a:ext cx="1455480" cy="451080"/>
              <a:chOff x="5004720" y="1408680"/>
              <a:chExt cx="1455480" cy="4510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4720" y="1408680"/>
                <a:ext cx="14554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680" y="1497960"/>
                <a:ext cx="948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76360" y="1676880"/>
              <a:ext cx="1157400" cy="487800"/>
              <a:chOff x="5076360" y="1676880"/>
              <a:chExt cx="1157400" cy="48780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6360" y="1676880"/>
                <a:ext cx="11574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640" y="1766880"/>
                <a:ext cx="738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1240" y="1902600"/>
              <a:ext cx="1527120" cy="493920"/>
              <a:chOff x="5601240" y="1902600"/>
              <a:chExt cx="1527120" cy="49392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1240" y="1902600"/>
                <a:ext cx="152712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5840"/>
                <a:ext cx="1001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48720" y="1524600"/>
              <a:ext cx="1455480" cy="457200"/>
              <a:chOff x="6048720" y="1524600"/>
              <a:chExt cx="1455480" cy="4572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8720" y="1524600"/>
                <a:ext cx="1455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680" y="1609560"/>
                <a:ext cx="9489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85760" y="4005360"/>
            <a:ext cx="1121040" cy="547560"/>
            <a:chOff x="1085760" y="4005360"/>
            <a:chExt cx="1121040" cy="54756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85760" y="4005360"/>
              <a:ext cx="1121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94280" y="1927440"/>
                  <a:ext cx="154260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72960" y="1701360"/>
                <a:ext cx="17704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3840" y="2042280"/>
              <a:ext cx="1255680" cy="700920"/>
              <a:chOff x="2913840" y="2042280"/>
              <a:chExt cx="1255680" cy="70092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3840" y="2042280"/>
                <a:ext cx="1255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8840" y="216288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34640" y="2633760"/>
              <a:ext cx="1414440" cy="768240"/>
              <a:chOff x="2834640" y="2633760"/>
              <a:chExt cx="141444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34640" y="2633760"/>
                <a:ext cx="141444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49040" y="2176560"/>
              <a:ext cx="1341000" cy="981360"/>
              <a:chOff x="3749040" y="2176560"/>
              <a:chExt cx="134100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49040" y="2176560"/>
                <a:ext cx="13410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820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107-7065-4EA5-B0AC-DB4A7C6F61D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9823-3DF2-4BFD-9DDE-64AEF1BA022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2840" y="42840"/>
            <a:ext cx="79376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E7B-CAA0-4477-8585-0AB6FB853B5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2840" y="128520"/>
            <a:ext cx="793764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E80-4EDB-4A5B-A2AB-F4931200D9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EDC6-3D06-45DC-86D6-EB031AE6E7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750-3B20-4F33-A291-A483F857CC1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BE6-2665-4D4E-B8E9-A7FF76233D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577F-DF7C-47E4-B351-8D208C3FAAF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198-24EC-4D35-B185-0EED9897F71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A59-5EEF-4AF4-8900-4FF46D0D713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BDB-D89E-408C-A7F0-8214731DC55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50F9-87BB-4DB2-BF82-08DBF62433E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E64-60EF-4FE0-AD67-F62A69E666C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AAB-62BB-4CAD-B9E4-BEDA4F7BAFA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90E-FBF0-4EF1-8CA6-F48BDD0B918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24A7-F98D-4930-8990-7396AF11ACE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152360" y="268200"/>
            <a:ext cx="8052120" cy="80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470-5407-48B3-BBF6-C58715F73D0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6-06T14:57:19Z</dcterms:modified>
  <cp:revision>352</cp:revision>
  <dc:subject/>
  <dc:title>Slide 1</dc:title>
</cp:coreProperties>
</file>