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3.png" ContentType="image/png"/>
  <Override PartName="/ppt/media/image53.jpeg" ContentType="image/jpe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36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54.png" ContentType="image/png"/>
  <Override PartName="/ppt/media/image31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50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C4F1-194A-42B1-9DF8-7F677CACAA2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62DF-6C7D-49E9-86D5-A82D35B8FA1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4C34-1297-418E-89B1-C8A314DDB01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65D8-CF62-46F8-9B9A-B226EF1A8DB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9A4A-829D-4FE3-8AA5-BA9B1EC6FD3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FF0C-43E3-44B1-A89E-B9928ABDC54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114F-9696-4795-82B7-C78CD5F4E28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EDCB-3990-4E8E-82A7-58F0414BE82B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97B8-BF73-437D-8F52-CFF004FDA3A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FB84-F210-4B57-A73A-64A26B204BA6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29D1-701D-44A9-9383-970EC979A73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077E-BD55-4751-9F74-51E5E42AE31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E27E-A8C0-43DA-82CF-D20697A5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05E9-7499-46DE-821E-F4B124BC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C4AE-F8EE-4257-9B2A-8BF540EC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B354-2CBB-43EE-A2A2-1DDBF43B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5429-818A-447D-B7C5-E4812748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B1AB-FC75-4E73-9A0F-8B1F096D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420F-C03E-49C9-B01B-13C26551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D2CA-C23B-44CC-B6B2-35E9249E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27B5-1F14-40D5-B6D4-4DB49D84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600C-3570-439F-BAC3-8B346D17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CC46-8DAE-4395-B12A-8F4537C8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9CF-87D5-4C93-B389-FB6A48B9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440C-E1F4-4FA5-9EFE-52925070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DE27-4AD4-4B9E-A251-98545331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866D-9813-4B5B-A8E2-4167975B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BDB5-5CAD-4F61-9608-BC24B945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5F71-C30E-4414-B5E1-34E69661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1372D-07E5-4E3D-9206-0B7A904E5F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F59BC-0578-4B05-BBD8-495353DDD4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58191-5995-4355-8D2F-86D16D50DF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F9ADF-96BA-4D93-9E48-A106CB6E8F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DA8D2-58F0-43BF-B629-C6B72ACDC0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390-03D6-416E-B1D1-7736ABF5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B45C13-3E50-4089-8A48-346C4F0F8E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D1BDD-DFAA-4A9A-8B38-4055372BF3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058A3-F0FF-413D-80B9-DE067622A8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D753B-26C5-478A-9E80-326509A710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13E26-CC8C-4A4B-891B-3671CA2632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4AEE4-E6B4-4FBC-8AAB-A3B1D927A0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0BFD6-CBF1-4A5B-8B9F-B1C2C54AB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9C3-2A03-4558-8E11-DBE3CF1B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2F4D-85A6-4D40-8234-2AF43578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7AF-CCB8-4897-A292-C7C0C65E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D5B-594D-45AE-A5F1-72EB987D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E6AB-91C1-4AA1-8857-561B31BE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9C6-90B3-4861-B429-78BFE3B3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177D-3CF5-4230-8B93-540EB80F19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1A7D-5E47-42C5-9D07-30A6339AC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7F1A-4B79-465D-BCC2-1B460FF1EC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C0AF-3B5D-484D-9BAF-D03FCAE30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6E33-2DA0-4D95-9D79-5425EFF1D390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image" Target="../media/image40.png"/><Relationship Id="rId22" Type="http://schemas.openxmlformats.org/officeDocument/2006/relationships/image" Target="../media/image41.png"/><Relationship Id="rId23" Type="http://schemas.openxmlformats.org/officeDocument/2006/relationships/image" Target="../media/image42.png"/><Relationship Id="rId24" Type="http://schemas.openxmlformats.org/officeDocument/2006/relationships/image" Target="../media/image43.png"/><Relationship Id="rId25" Type="http://schemas.openxmlformats.org/officeDocument/2006/relationships/image" Target="../media/image44.png"/><Relationship Id="rId26" Type="http://schemas.openxmlformats.org/officeDocument/2006/relationships/image" Target="../media/image45.png"/><Relationship Id="rId2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3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0720" y="160020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1859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Subtitle 2" descr=""/>
          <p:cNvPicPr/>
          <p:nvPr/>
        </p:nvPicPr>
        <p:blipFill>
          <a:blip r:embed="rId2"/>
          <a:stretch/>
        </p:blipFill>
        <p:spPr>
          <a:xfrm>
            <a:off x="1444680" y="2401920"/>
            <a:ext cx="6334200" cy="32432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3"/>
          <a:stretch/>
        </p:blipFill>
        <p:spPr>
          <a:xfrm>
            <a:off x="5334120" y="233280"/>
            <a:ext cx="358128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anagement response is required for all evaluation reports presented to the GEF Council by the GEF 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untry Portfolio Evaluations countries have the opportunity to provide their perspective to Council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9F93-FABC-4660-9D18-40E6337B7E9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Fifth Overall Performance Study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(OPS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1006-5AED-4B44-8F18-784583200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21896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ssess the extent to which the GEF is achieving its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 laid down in the GEF Instrument and reviews by the Assemb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 developed and adopted by the GEF Council in operational policies and programs for GEF financed activ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nd to identify potential improv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D990-088A-476E-8ADD-DF6AA9BA373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up to 15 during GEF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ct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International Waters, Climate Change and other focal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PR continued and strengthened as well as independent process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atic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focal area strategies and adap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jor element of OPS5 will be a meta-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11EC-8540-4E10-832E-9F870EEF986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1122480" y="268200"/>
            <a:ext cx="8113680" cy="804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219320" y="114300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nd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upport for the creation of an environment that enables necessary changes to tak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And…require constant attention and adju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esting of approaches that are intended to lead to GEBs if adopted on a broader sc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roader implementation of results of foundational and demonstration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66"/>
          <p:cNvGrpSpPr/>
          <p:nvPr/>
        </p:nvGrpSpPr>
        <p:grpSpPr>
          <a:xfrm>
            <a:off x="5257800" y="2625840"/>
            <a:ext cx="2514600" cy="1108080"/>
            <a:chOff x="5257800" y="2625840"/>
            <a:chExt cx="2514600" cy="1108080"/>
          </a:xfrm>
        </p:grpSpPr>
        <p:grpSp>
          <p:nvGrpSpPr>
            <p:cNvPr id="180" name="Oval 45"/>
            <p:cNvGrpSpPr/>
            <p:nvPr/>
          </p:nvGrpSpPr>
          <p:grpSpPr>
            <a:xfrm>
              <a:off x="5257800" y="2625840"/>
              <a:ext cx="2514600" cy="1108080"/>
              <a:chOff x="5257800" y="2625840"/>
              <a:chExt cx="2514600" cy="1108080"/>
            </a:xfrm>
          </p:grpSpPr>
          <p:pic>
            <p:nvPicPr>
              <p:cNvPr id="181" name="Oval 45" descr=""/>
              <p:cNvPicPr/>
              <p:nvPr/>
            </p:nvPicPr>
            <p:blipFill>
              <a:blip r:embed="rId1"/>
              <a:stretch/>
            </p:blipFill>
            <p:spPr>
              <a:xfrm>
                <a:off x="5257800" y="2625840"/>
                <a:ext cx="2514600" cy="11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5914800" y="2908800"/>
                <a:ext cx="120348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33"/>
            <p:cNvGrpSpPr/>
            <p:nvPr/>
          </p:nvGrpSpPr>
          <p:grpSpPr>
            <a:xfrm>
              <a:off x="5604840" y="2902680"/>
              <a:ext cx="1823400" cy="546840"/>
              <a:chOff x="5604840" y="2902680"/>
              <a:chExt cx="1823400" cy="546840"/>
            </a:xfrm>
          </p:grpSpPr>
          <p:pic>
            <p:nvPicPr>
              <p:cNvPr id="184" name="Oval 7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4840" y="2902680"/>
                <a:ext cx="1713240" cy="28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4320" y="3038040"/>
                <a:ext cx="1463400" cy="27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Oval 7" descr=""/>
              <p:cNvPicPr/>
              <p:nvPr/>
            </p:nvPicPr>
            <p:blipFill>
              <a:blip r:embed="rId4"/>
              <a:stretch/>
            </p:blipFill>
            <p:spPr>
              <a:xfrm>
                <a:off x="5604840" y="3173400"/>
                <a:ext cx="1823400" cy="27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7" name="Rectangle 62"/>
            <p:cNvSpPr/>
            <p:nvPr/>
          </p:nvSpPr>
          <p:spPr>
            <a:xfrm>
              <a:off x="5646600" y="2764080"/>
              <a:ext cx="174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006600"/>
                  </a:solidFill>
                  <a:latin typeface="Arial"/>
                </a:rPr>
                <a:t>BEHAVIORAL 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Box 71"/>
          <p:cNvSpPr/>
          <p:nvPr/>
        </p:nvSpPr>
        <p:spPr>
          <a:xfrm>
            <a:off x="6553080" y="4938840"/>
            <a:ext cx="2362320" cy="27648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8"/>
          <p:cNvSpPr/>
          <p:nvPr/>
        </p:nvSpPr>
        <p:spPr>
          <a:xfrm>
            <a:off x="3465360" y="4818240"/>
            <a:ext cx="3316320" cy="552240"/>
          </a:xfrm>
          <a:prstGeom prst="rightArrow">
            <a:avLst>
              <a:gd name="adj1" fmla="val 50000"/>
              <a:gd name="adj2" fmla="val 49821"/>
            </a:avLst>
          </a:prstGeom>
          <a:solidFill>
            <a:srgbClr val="ffffff"/>
          </a:solidFill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NTERMEDIATE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75"/>
          <p:cNvSpPr/>
          <p:nvPr/>
        </p:nvSpPr>
        <p:spPr>
          <a:xfrm>
            <a:off x="152280" y="4818240"/>
            <a:ext cx="3886200" cy="552240"/>
          </a:xfrm>
          <a:prstGeom prst="rightArrow">
            <a:avLst>
              <a:gd name="adj1" fmla="val 50000"/>
              <a:gd name="adj2" fmla="val 49814"/>
            </a:avLst>
          </a:prstGeom>
          <a:solidFill>
            <a:srgbClr val="ffffff"/>
          </a:solidFill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NSTITUTION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Right Triangle 8"/>
          <p:cNvGrpSpPr/>
          <p:nvPr/>
        </p:nvGrpSpPr>
        <p:grpSpPr>
          <a:xfrm>
            <a:off x="3597120" y="3078000"/>
            <a:ext cx="5370840" cy="1762200"/>
            <a:chOff x="3597120" y="3078000"/>
            <a:chExt cx="5370840" cy="1762200"/>
          </a:xfrm>
        </p:grpSpPr>
        <p:pic>
          <p:nvPicPr>
            <p:cNvPr id="192" name="Right Triangle 8" descr=""/>
            <p:cNvPicPr/>
            <p:nvPr/>
          </p:nvPicPr>
          <p:blipFill>
            <a:blip r:embed="rId5"/>
            <a:stretch/>
          </p:blipFill>
          <p:spPr>
            <a:xfrm>
              <a:off x="3597120" y="3078000"/>
              <a:ext cx="537084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16200000">
              <a:off x="7196040" y="3344400"/>
              <a:ext cx="81756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38"/>
          <p:cNvSpPr/>
          <p:nvPr/>
        </p:nvSpPr>
        <p:spPr>
          <a:xfrm>
            <a:off x="457200" y="8730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FOUNDATIONA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9"/>
          <p:cNvSpPr/>
          <p:nvPr/>
        </p:nvSpPr>
        <p:spPr>
          <a:xfrm>
            <a:off x="2971800" y="8730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DEMONSTRA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4"/>
          <p:cNvSpPr/>
          <p:nvPr/>
        </p:nvSpPr>
        <p:spPr>
          <a:xfrm>
            <a:off x="5370480" y="873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INVESTMENT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646200" y="34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Calibri"/>
              </a:rPr>
              <a:t>Generic GEF Theory of Chan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2"/>
          <p:cNvSpPr/>
          <p:nvPr/>
        </p:nvSpPr>
        <p:spPr>
          <a:xfrm rot="20556600">
            <a:off x="5468400" y="3611160"/>
            <a:ext cx="359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31511f"/>
                </a:solidFill>
                <a:latin typeface="Calibri"/>
              </a:rPr>
              <a:t>Stres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66"/>
          <p:cNvGrpSpPr/>
          <p:nvPr/>
        </p:nvGrpSpPr>
        <p:grpSpPr>
          <a:xfrm>
            <a:off x="3998880" y="3522960"/>
            <a:ext cx="5063760" cy="1201320"/>
            <a:chOff x="3998880" y="3522960"/>
            <a:chExt cx="5063760" cy="1201320"/>
          </a:xfrm>
        </p:grpSpPr>
        <p:grpSp>
          <p:nvGrpSpPr>
            <p:cNvPr id="200" name="Right Triangle 21"/>
            <p:cNvGrpSpPr/>
            <p:nvPr/>
          </p:nvGrpSpPr>
          <p:grpSpPr>
            <a:xfrm>
              <a:off x="3998880" y="3548160"/>
              <a:ext cx="4993560" cy="1176120"/>
              <a:chOff x="3998880" y="3548160"/>
              <a:chExt cx="4993560" cy="1176120"/>
            </a:xfrm>
          </p:grpSpPr>
          <p:pic>
            <p:nvPicPr>
              <p:cNvPr id="201" name="Right Triangl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3998880" y="3548160"/>
                <a:ext cx="4993560" cy="11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rot="16200000">
                <a:off x="7446600" y="3478680"/>
                <a:ext cx="538200" cy="162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TextBox 105"/>
            <p:cNvSpPr/>
            <p:nvPr/>
          </p:nvSpPr>
          <p:spPr>
            <a:xfrm rot="20793000">
              <a:off x="5831640" y="3895920"/>
              <a:ext cx="324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Calibri"/>
                </a:rPr>
                <a:t>Change in environmental sta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69"/>
          <p:cNvGrpSpPr/>
          <p:nvPr/>
        </p:nvGrpSpPr>
        <p:grpSpPr>
          <a:xfrm>
            <a:off x="7148520" y="5257800"/>
            <a:ext cx="1700280" cy="387360"/>
            <a:chOff x="7148520" y="5257800"/>
            <a:chExt cx="1700280" cy="387360"/>
          </a:xfrm>
        </p:grpSpPr>
        <p:grpSp>
          <p:nvGrpSpPr>
            <p:cNvPr id="205" name="Straight Connector 5"/>
            <p:cNvGrpSpPr/>
            <p:nvPr/>
          </p:nvGrpSpPr>
          <p:grpSpPr>
            <a:xfrm>
              <a:off x="7148520" y="5266440"/>
              <a:ext cx="357840" cy="378720"/>
              <a:chOff x="7148520" y="5266440"/>
              <a:chExt cx="357840" cy="378720"/>
            </a:xfrm>
          </p:grpSpPr>
          <p:pic>
            <p:nvPicPr>
              <p:cNvPr id="206" name="Straight Connector 5" descr=""/>
              <p:cNvPicPr/>
              <p:nvPr/>
            </p:nvPicPr>
            <p:blipFill>
              <a:blip r:embed="rId7"/>
              <a:stretch/>
            </p:blipFill>
            <p:spPr>
              <a:xfrm>
                <a:off x="7148520" y="5266440"/>
                <a:ext cx="357840" cy="37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 rot="9339600">
                <a:off x="7224480" y="5335920"/>
                <a:ext cx="215640" cy="2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TextBox 78"/>
            <p:cNvSpPr/>
            <p:nvPr/>
          </p:nvSpPr>
          <p:spPr>
            <a:xfrm>
              <a:off x="7460640" y="5257800"/>
              <a:ext cx="138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Adaptive management / Learn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65"/>
          <p:cNvGrpSpPr/>
          <p:nvPr/>
        </p:nvGrpSpPr>
        <p:grpSpPr>
          <a:xfrm>
            <a:off x="4191120" y="4058280"/>
            <a:ext cx="4910040" cy="720720"/>
            <a:chOff x="4191120" y="4058280"/>
            <a:chExt cx="4910040" cy="720720"/>
          </a:xfrm>
        </p:grpSpPr>
        <p:sp>
          <p:nvSpPr>
            <p:cNvPr id="210" name="Right Triangle 33"/>
            <p:cNvSpPr/>
            <p:nvPr/>
          </p:nvSpPr>
          <p:spPr>
            <a:xfrm rot="16200000">
              <a:off x="6244200" y="2017080"/>
              <a:ext cx="653760" cy="4760280"/>
            </a:xfrm>
            <a:prstGeom prst="rtTriangl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90"/>
            <p:cNvSpPr/>
            <p:nvPr/>
          </p:nvSpPr>
          <p:spPr>
            <a:xfrm rot="21133200">
              <a:off x="5797080" y="4280040"/>
              <a:ext cx="330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Calibri"/>
                </a:rPr>
                <a:t>Environmentally sustainabl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3"/>
          <p:cNvGrpSpPr/>
          <p:nvPr/>
        </p:nvGrpSpPr>
        <p:grpSpPr>
          <a:xfrm>
            <a:off x="152280" y="3211560"/>
            <a:ext cx="2352960" cy="1395360"/>
            <a:chOff x="152280" y="3211560"/>
            <a:chExt cx="2352960" cy="1395360"/>
          </a:xfrm>
        </p:grpSpPr>
        <p:grpSp>
          <p:nvGrpSpPr>
            <p:cNvPr id="213" name="Oval 36"/>
            <p:cNvGrpSpPr/>
            <p:nvPr/>
          </p:nvGrpSpPr>
          <p:grpSpPr>
            <a:xfrm>
              <a:off x="152280" y="3211560"/>
              <a:ext cx="2352960" cy="1395360"/>
              <a:chOff x="152280" y="3211560"/>
              <a:chExt cx="2352960" cy="1395360"/>
            </a:xfrm>
          </p:grpSpPr>
          <p:pic>
            <p:nvPicPr>
              <p:cNvPr id="214" name="Oval 36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280" y="3211560"/>
                <a:ext cx="235296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538560" y="3432960"/>
                <a:ext cx="158580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Oval 4"/>
            <p:cNvSpPr/>
            <p:nvPr/>
          </p:nvSpPr>
          <p:spPr>
            <a:xfrm>
              <a:off x="530640" y="3257640"/>
              <a:ext cx="1585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KNOWLEDGE &amp; INFORM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4"/>
          <p:cNvGrpSpPr/>
          <p:nvPr/>
        </p:nvGrpSpPr>
        <p:grpSpPr>
          <a:xfrm>
            <a:off x="152280" y="1611360"/>
            <a:ext cx="2352960" cy="1395360"/>
            <a:chOff x="152280" y="1611360"/>
            <a:chExt cx="2352960" cy="1395360"/>
          </a:xfrm>
        </p:grpSpPr>
        <p:grpSp>
          <p:nvGrpSpPr>
            <p:cNvPr id="218" name="Oval 39"/>
            <p:cNvGrpSpPr/>
            <p:nvPr/>
          </p:nvGrpSpPr>
          <p:grpSpPr>
            <a:xfrm>
              <a:off x="152280" y="1611360"/>
              <a:ext cx="2352960" cy="1395360"/>
              <a:chOff x="152280" y="1611360"/>
              <a:chExt cx="2352960" cy="1395360"/>
            </a:xfrm>
          </p:grpSpPr>
          <p:pic>
            <p:nvPicPr>
              <p:cNvPr id="219" name="Oval 39" descr=""/>
              <p:cNvPicPr/>
              <p:nvPr/>
            </p:nvPicPr>
            <p:blipFill>
              <a:blip r:embed="rId9"/>
              <a:stretch/>
            </p:blipFill>
            <p:spPr>
              <a:xfrm>
                <a:off x="152280" y="1611360"/>
                <a:ext cx="235296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538560" y="1835640"/>
                <a:ext cx="158580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Oval 4"/>
            <p:cNvSpPr/>
            <p:nvPr/>
          </p:nvSpPr>
          <p:spPr>
            <a:xfrm>
              <a:off x="530640" y="1660320"/>
              <a:ext cx="1585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GOVERNANCE FRAMEWOR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Oval 41"/>
          <p:cNvGrpSpPr/>
          <p:nvPr/>
        </p:nvGrpSpPr>
        <p:grpSpPr>
          <a:xfrm>
            <a:off x="158760" y="2004840"/>
            <a:ext cx="1268280" cy="811440"/>
            <a:chOff x="158760" y="2004840"/>
            <a:chExt cx="1268280" cy="811440"/>
          </a:xfrm>
        </p:grpSpPr>
        <p:pic>
          <p:nvPicPr>
            <p:cNvPr id="223" name="Oval 41" descr=""/>
            <p:cNvPicPr/>
            <p:nvPr/>
          </p:nvPicPr>
          <p:blipFill>
            <a:blip r:embed="rId10"/>
            <a:stretch/>
          </p:blipFill>
          <p:spPr>
            <a:xfrm>
              <a:off x="158760" y="2004840"/>
              <a:ext cx="126828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388800" y="2144880"/>
              <a:ext cx="81468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Policy, legal &amp; regulatory framework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Oval 42"/>
          <p:cNvGrpSpPr/>
          <p:nvPr/>
        </p:nvGrpSpPr>
        <p:grpSpPr>
          <a:xfrm>
            <a:off x="244440" y="3535200"/>
            <a:ext cx="1200240" cy="914400"/>
            <a:chOff x="244440" y="3535200"/>
            <a:chExt cx="1200240" cy="914400"/>
          </a:xfrm>
        </p:grpSpPr>
        <p:pic>
          <p:nvPicPr>
            <p:cNvPr id="226" name="Oval 42" descr=""/>
            <p:cNvPicPr/>
            <p:nvPr/>
          </p:nvPicPr>
          <p:blipFill>
            <a:blip r:embed="rId11"/>
            <a:stretch/>
          </p:blipFill>
          <p:spPr>
            <a:xfrm>
              <a:off x="244440" y="3535200"/>
              <a:ext cx="12002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63680" y="3687840"/>
              <a:ext cx="766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Information-sharing &amp; 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Oval 43"/>
          <p:cNvGrpSpPr/>
          <p:nvPr/>
        </p:nvGrpSpPr>
        <p:grpSpPr>
          <a:xfrm>
            <a:off x="1158840" y="3565440"/>
            <a:ext cx="1260360" cy="622440"/>
            <a:chOff x="1158840" y="3565440"/>
            <a:chExt cx="1260360" cy="622440"/>
          </a:xfrm>
        </p:grpSpPr>
        <p:pic>
          <p:nvPicPr>
            <p:cNvPr id="229" name="Oval 43" descr=""/>
            <p:cNvPicPr/>
            <p:nvPr/>
          </p:nvPicPr>
          <p:blipFill>
            <a:blip r:embed="rId12"/>
            <a:stretch/>
          </p:blipFill>
          <p:spPr>
            <a:xfrm>
              <a:off x="1158840" y="3565440"/>
              <a:ext cx="12603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1386000" y="3676680"/>
              <a:ext cx="8096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Awareness-rais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Straight Connector 5"/>
          <p:cNvGrpSpPr/>
          <p:nvPr/>
        </p:nvGrpSpPr>
        <p:grpSpPr>
          <a:xfrm>
            <a:off x="2298600" y="2876400"/>
            <a:ext cx="451080" cy="446400"/>
            <a:chOff x="2298600" y="2876400"/>
            <a:chExt cx="451080" cy="446400"/>
          </a:xfrm>
        </p:grpSpPr>
        <p:pic>
          <p:nvPicPr>
            <p:cNvPr id="232" name="Straight Connector 5" descr=""/>
            <p:cNvPicPr/>
            <p:nvPr/>
          </p:nvPicPr>
          <p:blipFill>
            <a:blip r:embed="rId13"/>
            <a:stretch/>
          </p:blipFill>
          <p:spPr>
            <a:xfrm>
              <a:off x="2298600" y="2876400"/>
              <a:ext cx="45108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639000">
              <a:off x="2368440" y="2957400"/>
              <a:ext cx="25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Straight Connector 5"/>
          <p:cNvGrpSpPr/>
          <p:nvPr/>
        </p:nvGrpSpPr>
        <p:grpSpPr>
          <a:xfrm>
            <a:off x="6205680" y="2359080"/>
            <a:ext cx="420480" cy="414360"/>
            <a:chOff x="6205680" y="2359080"/>
            <a:chExt cx="420480" cy="414360"/>
          </a:xfrm>
        </p:grpSpPr>
        <p:pic>
          <p:nvPicPr>
            <p:cNvPr id="235" name="Straight Connector 5" descr=""/>
            <p:cNvPicPr/>
            <p:nvPr/>
          </p:nvPicPr>
          <p:blipFill>
            <a:blip r:embed="rId14"/>
            <a:stretch/>
          </p:blipFill>
          <p:spPr>
            <a:xfrm>
              <a:off x="6205680" y="2359080"/>
              <a:ext cx="4204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rot="9339600">
              <a:off x="6294240" y="2430360"/>
              <a:ext cx="2570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Straight Connector 5"/>
          <p:cNvGrpSpPr/>
          <p:nvPr/>
        </p:nvGrpSpPr>
        <p:grpSpPr>
          <a:xfrm>
            <a:off x="6278400" y="3597120"/>
            <a:ext cx="414360" cy="395280"/>
            <a:chOff x="6278400" y="3597120"/>
            <a:chExt cx="414360" cy="395280"/>
          </a:xfrm>
        </p:grpSpPr>
        <p:pic>
          <p:nvPicPr>
            <p:cNvPr id="238" name="Straight Connector 5" descr=""/>
            <p:cNvPicPr/>
            <p:nvPr/>
          </p:nvPicPr>
          <p:blipFill>
            <a:blip r:embed="rId15"/>
            <a:stretch/>
          </p:blipFill>
          <p:spPr>
            <a:xfrm>
              <a:off x="6278400" y="3597120"/>
              <a:ext cx="4143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rot="9339600">
              <a:off x="6364440" y="3669840"/>
              <a:ext cx="25704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Oval 58"/>
          <p:cNvGrpSpPr/>
          <p:nvPr/>
        </p:nvGrpSpPr>
        <p:grpSpPr>
          <a:xfrm>
            <a:off x="1085760" y="2004840"/>
            <a:ext cx="1408320" cy="811440"/>
            <a:chOff x="1085760" y="2004840"/>
            <a:chExt cx="1408320" cy="811440"/>
          </a:xfrm>
        </p:grpSpPr>
        <p:pic>
          <p:nvPicPr>
            <p:cNvPr id="241" name="Oval 58" descr=""/>
            <p:cNvPicPr/>
            <p:nvPr/>
          </p:nvPicPr>
          <p:blipFill>
            <a:blip r:embed="rId16"/>
            <a:stretch/>
          </p:blipFill>
          <p:spPr>
            <a:xfrm>
              <a:off x="1085760" y="2004840"/>
              <a:ext cx="140832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333440" y="2146320"/>
              <a:ext cx="9144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Administrative refor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65"/>
          <p:cNvGrpSpPr/>
          <p:nvPr/>
        </p:nvGrpSpPr>
        <p:grpSpPr>
          <a:xfrm>
            <a:off x="4989600" y="1177920"/>
            <a:ext cx="2514600" cy="1219320"/>
            <a:chOff x="4989600" y="1177920"/>
            <a:chExt cx="2514600" cy="1219320"/>
          </a:xfrm>
        </p:grpSpPr>
        <p:grpSp>
          <p:nvGrpSpPr>
            <p:cNvPr id="244" name="Group 29"/>
            <p:cNvGrpSpPr/>
            <p:nvPr/>
          </p:nvGrpSpPr>
          <p:grpSpPr>
            <a:xfrm>
              <a:off x="4989600" y="1177920"/>
              <a:ext cx="2460960" cy="1219320"/>
              <a:chOff x="4989600" y="1177920"/>
              <a:chExt cx="2460960" cy="1219320"/>
            </a:xfrm>
          </p:grpSpPr>
          <p:grpSp>
            <p:nvGrpSpPr>
              <p:cNvPr id="245" name="Oval 46"/>
              <p:cNvGrpSpPr/>
              <p:nvPr/>
            </p:nvGrpSpPr>
            <p:grpSpPr>
              <a:xfrm>
                <a:off x="4989600" y="1177920"/>
                <a:ext cx="2460960" cy="1219320"/>
                <a:chOff x="4989600" y="1177920"/>
                <a:chExt cx="2460960" cy="1219320"/>
              </a:xfrm>
            </p:grpSpPr>
            <p:pic>
              <p:nvPicPr>
                <p:cNvPr id="246" name="Oval 46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989600" y="1177920"/>
                  <a:ext cx="2460960" cy="121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>
                  <a:off x="5393160" y="1375920"/>
                  <a:ext cx="166176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Oval 4"/>
              <p:cNvSpPr/>
              <p:nvPr/>
            </p:nvSpPr>
            <p:spPr>
              <a:xfrm>
                <a:off x="5262480" y="1290240"/>
                <a:ext cx="190764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533520"/>
                    <a:tab algn="l" pos="1066680"/>
                    <a:tab algn="l" pos="1600200"/>
                    <a:tab algn="l" pos="2133720"/>
                    <a:tab algn="l" pos="2666880"/>
                    <a:tab algn="l" pos="3200400"/>
                    <a:tab algn="l" pos="3733920"/>
                    <a:tab algn="l" pos="4267080"/>
                    <a:tab algn="l" pos="4800600"/>
                    <a:tab algn="l" pos="5334120"/>
                    <a:tab algn="l" pos="5867280"/>
                    <a:tab algn="l" pos="6400800"/>
                    <a:tab algn="l" pos="6934320"/>
                    <a:tab algn="l" pos="7467480"/>
                    <a:tab algn="l" pos="8001000"/>
                    <a:tab algn="l" pos="8534520"/>
                    <a:tab algn="l" pos="9067680"/>
                    <a:tab algn="l" pos="9601200"/>
                    <a:tab algn="l" pos="101347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SCA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Oval 48"/>
            <p:cNvGrpSpPr/>
            <p:nvPr/>
          </p:nvGrpSpPr>
          <p:grpSpPr>
            <a:xfrm>
              <a:off x="5004720" y="1408680"/>
              <a:ext cx="1455480" cy="451080"/>
              <a:chOff x="5004720" y="1408680"/>
              <a:chExt cx="1455480" cy="451080"/>
            </a:xfrm>
          </p:grpSpPr>
          <p:pic>
            <p:nvPicPr>
              <p:cNvPr id="250" name="Oval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04720" y="1408680"/>
                <a:ext cx="14554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5260680" y="1497960"/>
                <a:ext cx="9489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Mainstream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Oval 49"/>
            <p:cNvGrpSpPr/>
            <p:nvPr/>
          </p:nvGrpSpPr>
          <p:grpSpPr>
            <a:xfrm>
              <a:off x="5076360" y="1676880"/>
              <a:ext cx="1157400" cy="487800"/>
              <a:chOff x="5076360" y="1676880"/>
              <a:chExt cx="1157400" cy="487800"/>
            </a:xfrm>
          </p:grpSpPr>
          <p:pic>
            <p:nvPicPr>
              <p:cNvPr id="253" name="Oval 49" descr=""/>
              <p:cNvPicPr/>
              <p:nvPr/>
            </p:nvPicPr>
            <p:blipFill>
              <a:blip r:embed="rId19"/>
              <a:stretch/>
            </p:blipFill>
            <p:spPr>
              <a:xfrm>
                <a:off x="5076360" y="1676880"/>
                <a:ext cx="1157400" cy="48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5291640" y="1766880"/>
                <a:ext cx="73836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Scaling-u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Oval 57"/>
            <p:cNvGrpSpPr/>
            <p:nvPr/>
          </p:nvGrpSpPr>
          <p:grpSpPr>
            <a:xfrm>
              <a:off x="5601240" y="1902600"/>
              <a:ext cx="1527120" cy="493920"/>
              <a:chOff x="5601240" y="1902600"/>
              <a:chExt cx="1527120" cy="493920"/>
            </a:xfrm>
          </p:grpSpPr>
          <p:pic>
            <p:nvPicPr>
              <p:cNvPr id="256" name="Oval 57" descr=""/>
              <p:cNvPicPr/>
              <p:nvPr/>
            </p:nvPicPr>
            <p:blipFill>
              <a:blip r:embed="rId20"/>
              <a:stretch/>
            </p:blipFill>
            <p:spPr>
              <a:xfrm>
                <a:off x="5601240" y="1902600"/>
                <a:ext cx="1527120" cy="49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5868000" y="1995840"/>
                <a:ext cx="10018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Market chan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Oval 60"/>
            <p:cNvGrpSpPr/>
            <p:nvPr/>
          </p:nvGrpSpPr>
          <p:grpSpPr>
            <a:xfrm>
              <a:off x="6048720" y="1524600"/>
              <a:ext cx="1455480" cy="457200"/>
              <a:chOff x="6048720" y="1524600"/>
              <a:chExt cx="1455480" cy="457200"/>
            </a:xfrm>
          </p:grpSpPr>
          <p:pic>
            <p:nvPicPr>
              <p:cNvPr id="259" name="Oval 60" descr=""/>
              <p:cNvPicPr/>
              <p:nvPr/>
            </p:nvPicPr>
            <p:blipFill>
              <a:blip r:embed="rId21"/>
              <a:stretch/>
            </p:blipFill>
            <p:spPr>
              <a:xfrm>
                <a:off x="6048720" y="1524600"/>
                <a:ext cx="14554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6304680" y="1609560"/>
                <a:ext cx="9489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Re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Oval 61"/>
          <p:cNvGrpSpPr/>
          <p:nvPr/>
        </p:nvGrpSpPr>
        <p:grpSpPr>
          <a:xfrm>
            <a:off x="1085760" y="4005360"/>
            <a:ext cx="1121040" cy="547560"/>
            <a:chOff x="1085760" y="4005360"/>
            <a:chExt cx="1121040" cy="547560"/>
          </a:xfrm>
        </p:grpSpPr>
        <p:pic>
          <p:nvPicPr>
            <p:cNvPr id="262" name="Oval 61" descr=""/>
            <p:cNvPicPr/>
            <p:nvPr/>
          </p:nvPicPr>
          <p:blipFill>
            <a:blip r:embed="rId22"/>
            <a:stretch/>
          </p:blipFill>
          <p:spPr>
            <a:xfrm>
              <a:off x="1085760" y="4005360"/>
              <a:ext cx="11210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290600" y="4103640"/>
              <a:ext cx="7128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Knowledge gene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69"/>
          <p:cNvGrpSpPr/>
          <p:nvPr/>
        </p:nvGrpSpPr>
        <p:grpSpPr>
          <a:xfrm>
            <a:off x="2819520" y="1447920"/>
            <a:ext cx="2286000" cy="3159000"/>
            <a:chOff x="2819520" y="1447920"/>
            <a:chExt cx="2286000" cy="3159000"/>
          </a:xfrm>
        </p:grpSpPr>
        <p:grpSp>
          <p:nvGrpSpPr>
            <p:cNvPr id="265" name="Group 8"/>
            <p:cNvGrpSpPr/>
            <p:nvPr/>
          </p:nvGrpSpPr>
          <p:grpSpPr>
            <a:xfrm>
              <a:off x="2819520" y="1447920"/>
              <a:ext cx="2286000" cy="3159000"/>
              <a:chOff x="2819520" y="1447920"/>
              <a:chExt cx="2286000" cy="3159000"/>
            </a:xfrm>
          </p:grpSpPr>
          <p:grpSp>
            <p:nvGrpSpPr>
              <p:cNvPr id="266" name="Oval 16"/>
              <p:cNvGrpSpPr/>
              <p:nvPr/>
            </p:nvGrpSpPr>
            <p:grpSpPr>
              <a:xfrm>
                <a:off x="2819520" y="1447920"/>
                <a:ext cx="2286000" cy="3159000"/>
                <a:chOff x="2819520" y="1447920"/>
                <a:chExt cx="2286000" cy="3159000"/>
              </a:xfrm>
            </p:grpSpPr>
            <p:pic>
              <p:nvPicPr>
                <p:cNvPr id="267" name="Oval 16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2819520" y="1447920"/>
                  <a:ext cx="2286000" cy="315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"/>
                <p:cNvSpPr/>
                <p:nvPr/>
              </p:nvSpPr>
              <p:spPr>
                <a:xfrm>
                  <a:off x="3194280" y="1927440"/>
                  <a:ext cx="1542600" cy="21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Oval 4"/>
              <p:cNvSpPr/>
              <p:nvPr/>
            </p:nvSpPr>
            <p:spPr>
              <a:xfrm>
                <a:off x="3072960" y="1701360"/>
                <a:ext cx="177048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476"/>
                  </a:spcAft>
                  <a:tabLst>
                    <a:tab algn="l" pos="0"/>
                    <a:tab algn="l" pos="533520"/>
                    <a:tab algn="l" pos="1066680"/>
                    <a:tab algn="l" pos="1600200"/>
                    <a:tab algn="l" pos="2133720"/>
                    <a:tab algn="l" pos="2666880"/>
                    <a:tab algn="l" pos="3200400"/>
                    <a:tab algn="l" pos="3733920"/>
                    <a:tab algn="l" pos="4267080"/>
                    <a:tab algn="l" pos="4800600"/>
                    <a:tab algn="l" pos="5334120"/>
                    <a:tab algn="l" pos="5867280"/>
                    <a:tab algn="l" pos="6400800"/>
                    <a:tab algn="l" pos="6934320"/>
                    <a:tab algn="l" pos="7467480"/>
                    <a:tab algn="l" pos="8001000"/>
                    <a:tab algn="l" pos="8534520"/>
                    <a:tab algn="l" pos="9067680"/>
                    <a:tab algn="l" pos="9601200"/>
                    <a:tab algn="l" pos="10134720"/>
                    <a:tab algn="l" pos="1066788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Calibri"/>
                  </a:rPr>
                  <a:t>IMPLEMENTING STRATEG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Oval 18"/>
            <p:cNvGrpSpPr/>
            <p:nvPr/>
          </p:nvGrpSpPr>
          <p:grpSpPr>
            <a:xfrm>
              <a:off x="2913840" y="2042280"/>
              <a:ext cx="1255680" cy="700920"/>
              <a:chOff x="2913840" y="2042280"/>
              <a:chExt cx="1255680" cy="700920"/>
            </a:xfrm>
          </p:grpSpPr>
          <p:pic>
            <p:nvPicPr>
              <p:cNvPr id="271" name="Oval 18" descr=""/>
              <p:cNvPicPr/>
              <p:nvPr/>
            </p:nvPicPr>
            <p:blipFill>
              <a:blip r:embed="rId24"/>
              <a:stretch/>
            </p:blipFill>
            <p:spPr>
              <a:xfrm>
                <a:off x="2913840" y="2042280"/>
                <a:ext cx="125568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>
                <a:off x="3138840" y="2162880"/>
                <a:ext cx="808200" cy="41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Technologies &amp; approach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Oval 23"/>
            <p:cNvGrpSpPr/>
            <p:nvPr/>
          </p:nvGrpSpPr>
          <p:grpSpPr>
            <a:xfrm>
              <a:off x="2834640" y="2633760"/>
              <a:ext cx="1414440" cy="768240"/>
              <a:chOff x="2834640" y="2633760"/>
              <a:chExt cx="1414440" cy="768240"/>
            </a:xfrm>
          </p:grpSpPr>
          <p:pic>
            <p:nvPicPr>
              <p:cNvPr id="274" name="Oval 23" descr=""/>
              <p:cNvPicPr/>
              <p:nvPr/>
            </p:nvPicPr>
            <p:blipFill>
              <a:blip r:embed="rId25"/>
              <a:stretch/>
            </p:blipFill>
            <p:spPr>
              <a:xfrm>
                <a:off x="2834640" y="2633760"/>
                <a:ext cx="1414440" cy="76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3085200" y="2764080"/>
                <a:ext cx="916200" cy="4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Organizational structures &amp; arrangement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Oval 59"/>
            <p:cNvGrpSpPr/>
            <p:nvPr/>
          </p:nvGrpSpPr>
          <p:grpSpPr>
            <a:xfrm>
              <a:off x="3749040" y="2176560"/>
              <a:ext cx="1341000" cy="981360"/>
              <a:chOff x="3749040" y="2176560"/>
              <a:chExt cx="1341000" cy="981360"/>
            </a:xfrm>
          </p:grpSpPr>
          <p:pic>
            <p:nvPicPr>
              <p:cNvPr id="277" name="Oval 59" descr=""/>
              <p:cNvPicPr/>
              <p:nvPr/>
            </p:nvPicPr>
            <p:blipFill>
              <a:blip r:embed="rId26"/>
              <a:stretch/>
            </p:blipFill>
            <p:spPr>
              <a:xfrm>
                <a:off x="3749040" y="2176560"/>
                <a:ext cx="1341000" cy="98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3989880" y="2338200"/>
                <a:ext cx="86832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Financial mechanisms for adoption &amp; sustainabili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Rectangle 68"/>
            <p:cNvSpPr/>
            <p:nvPr/>
          </p:nvSpPr>
          <p:spPr>
            <a:xfrm>
              <a:off x="3127320" y="3429360"/>
              <a:ext cx="18277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Promoting champ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Building on promising initiativ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Raising profile of initiativ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Removal of barri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Innov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quality assurance advi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Recognized experts from developed, newly emerging, and developing n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Ongoing advice and comments to the replenishment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erence grou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Formed by staff from the GEF Agencies independent evaluation off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o provide peer reviews of sub-studies and other deliver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ill provide time to allow for meaningful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A866-B3D4-4A55-80F8-86CAFB508A0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report: end of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 meta-evaluation approach, drawing on existing GEF evalu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l report: end of 2013 or early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al report will be tackled trough separate evalu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A39C-B5DF-46D6-A9BC-91824B2E283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1212840" y="42840"/>
            <a:ext cx="7937640" cy="1127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1219320" y="121932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ce of GEF to conventions gui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tings on outcomes and sustainability of finish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tings of progress toward impact of finish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catalytic role of GEF (foundation, demonstration and/or investment projec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ter understanding of GEF longer term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performance issues such as cofunding, management costs, quality at entry and superv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the implementation and achievements of the focal areas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FC3C-1F01-412D-A2C2-9E0F38A8CE6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1212840" y="128520"/>
            <a:ext cx="7937640" cy="11764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12189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global environmental problems and the relevance of GEF -- will include the emergence of new finan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ore in-depth look at focal area strategies and at the existing impact evid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vernance of the GEF, donor performance and resources mob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le of the private sector and civil socie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-cutting policies: gender, participation, safegurads, and knowledge sha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of the SGP evaluation (since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le of ST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06F9-ED34-49B4-8B65-E438B9AC7B0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219320" y="12189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BM, Monitoring &amp; Eval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in the GE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&amp;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vels and responsible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M&amp;E Poli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imum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the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ifth Overall Performance Study (OPS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 of the Overall Performance Stud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streams &amp; OPS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nt of OPS5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Knowledge Sharing and Community of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Questions &amp; Ans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2227-FD0B-4238-97F1-65F87BD936A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S5 audience inclu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replenishment particip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hrough the Assembly the members of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s will be shared with other GEF par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Secretari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T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GO 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Project proponents and 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E1D1-F300-414C-9D50-0D25407DF58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Evaluation reports should be subject to a dynamic dissemina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rpose of KM in the GE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Promotion of a culture of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Application of 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Feedback to new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1F5B-5794-4499-9D32-BB9A8CF45D5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1218960" y="1447920"/>
            <a:ext cx="662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of practice on evaluation of climate change and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ring best practices on climate change and development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00+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ine tools for particip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2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ebsite: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Linkedin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ocial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ews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lo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57CC-FB9A-43CB-B407-A8CA65B6DD4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774F-B580-4020-9EF9-0D1F81EA605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0" y="13712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76A2-86BB-4534-BBDF-2982C30254BA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718B-5613-40BF-A54B-D78847D830B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6" name="Title 1" descr=""/>
          <p:cNvPicPr/>
          <p:nvPr/>
        </p:nvPicPr>
        <p:blipFill>
          <a:blip r:embed="rId2"/>
          <a:stretch/>
        </p:blipFill>
        <p:spPr>
          <a:xfrm>
            <a:off x="1219320" y="195120"/>
            <a:ext cx="7931160" cy="878040"/>
          </a:xfrm>
          <a:prstGeom prst="rect">
            <a:avLst/>
          </a:prstGeom>
          <a:ln w="0">
            <a:noFill/>
          </a:ln>
        </p:spPr>
      </p:pic>
      <p:sp>
        <p:nvSpPr>
          <p:cNvPr id="147" name="Content Placeholder 2"/>
          <p:cNvSpPr/>
          <p:nvPr/>
        </p:nvSpPr>
        <p:spPr>
          <a:xfrm>
            <a:off x="1219320" y="1440000"/>
            <a:ext cx="6858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BM, especially monitoring, tell whether the organization is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he right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1859c"/>
                </a:solidFill>
                <a:latin typeface="Calibri"/>
              </a:rPr>
              <a:t>Two overarching obje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ectiv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ces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erformance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artners involved in GEF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42B8-CF24-41CF-A38D-710C784C081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C1EA-7617-4AF8-92CB-6742BAD4530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Content Placeholder 4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39152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219320" y="1294920"/>
            <a:ext cx="685800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 and fully budgeted M&amp;E plans by CEO endorsement for FSPs, and CEO approval for MS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log frames should align with GEF Focal Area result frameworks contained in the GEF-5 RB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/Program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FSPs and MSPs will be evalu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orts should be sent to the GEF EO within 12 months of project comple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explain how GEF OFPs will be engaged in M&amp;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ACC3-69BE-4A5A-A1AE-BE121E96517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&amp;E plans should include how OFPs will be enga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Ps will be informed on M&amp;E activities, including Mid-Term Reviews and Terminal Evaluations, receiving drafts for comments and final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Ps will be invited to contribute to the management response (where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B9B7-4AF8-43FA-9439-385583B2683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219320" y="1439640"/>
            <a:ext cx="6858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the first point of entry into a coun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Identify major relevant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mee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ssist with agen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country responses to these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0CAA-E1D0-40CC-AC0F-E5CE5D39C47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1152360" y="268200"/>
            <a:ext cx="8052120" cy="804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1219320" y="129492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component: enhancing capacities to monitor and evaluate environmental impacts and trends (should be identified as a priority in the NCSA capacity developmen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on pl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 plan should b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ulated as a Medium-Siz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integrated into a broader proposal that would be formulated as MSP or FSP (if MSP it should have 1:1 cofund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ding available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0FFC-20AB-4AF2-8DFC-631E2E82065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2-06-06T14:57:19Z</dcterms:modified>
  <cp:revision>352</cp:revision>
  <dc:subject/>
  <dc:title>Slide 1</dc:title>
</cp:coreProperties>
</file>