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3.png" ContentType="image/png"/>
  <Override PartName="/ppt/media/image53.jpeg" ContentType="image/jpe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36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54.png" ContentType="image/png"/>
  <Override PartName="/ppt/media/image31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50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7FDB-47A8-4605-B7ED-999304E0724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5B93-D629-41AA-8D37-FC1E4081C76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3075-7E96-409C-B51E-A72A001615B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3A91-1C5F-4841-8F7A-26C9B78DDDE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7097-D4A3-4755-9791-D90788A31D7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4FD9-807A-4C53-AB66-20F51DCED79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3994-5FFE-4131-B095-A78BCBDBE7D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53AE-5FF6-4C7D-817C-CF4AE54C547B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E5DC-253D-4057-87EB-A920175B985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103A-F64C-4709-938C-34304663944C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7F73-C9F4-4D97-B7E3-F8E7061ED57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7AF8-88FF-4C9E-91A9-6DA7657F570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52F-9209-4D2D-A58D-58096753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57D-67C2-4657-9085-1F601CB8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21A-2FEB-4FD8-A088-6B769F38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49F-32E8-4A64-9AF0-2D70A17F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1EF1-AE7E-4816-B225-77D4E4D7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C1D3-AFC1-44FE-A59F-F5A5EA21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66B6-4C6E-449F-BE8F-260C045D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655C-A458-49AB-BD65-43CB5503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AE11-85A9-412C-A918-D2B836E1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1528-0DC1-457E-AD1A-0235A4DC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202F-AD44-462E-A266-4BC62187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0D6-2DB1-45D8-8B98-458AD160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05FB-A89D-456C-9C03-DF743D38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0A79-2059-4834-9A30-5B8157CD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B6F1-5162-47F9-BE39-958A9551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02D4-0EDD-4D03-8264-1BA6E5B2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2CDC-D16C-4CCA-815B-FA217EB8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2EF5B-0F2F-41F6-B08D-5DAC85114C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C560E-E2B3-4E7E-B9C9-BB3C39A384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BE775-32DE-42A4-A175-00AADADD8C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A133D-8486-4D37-B362-27A1844E10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57341-2338-4A80-83F8-98A85D79A9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773-5AAB-413E-BB70-3E948B5E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E3404-F770-4BE8-AD47-0EA4C810CB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2EFC3-C10E-4737-A57F-2D9C555AFC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F2091-833C-46FA-9481-BCC6044FA1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BEA13-FCDC-48BB-A936-56D58CAFCB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9DD0B-5334-43A5-937D-F6941BA016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6DB87-CD0F-44EA-8401-0F92AD9B9B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603DE-BBA4-49FC-896B-E3AD89BB2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956-1F0C-4F16-BB2D-7E84FABC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62B-0231-4115-9F56-0A49F3B5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3BD-FABD-4D77-8184-F8F4A84E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A3A-DC54-4986-9F63-4B463C64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AD8-CD98-4E65-A803-7D53E46D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B2F-ED25-45ED-8E36-DA758A97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9505-39EC-4A05-A952-D11C259690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B781-1040-41F2-8664-4AC31975D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4C21-3F7E-46DF-979D-EBDAA641E2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189D-A8EC-46DF-AF9A-373B035BE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5C62-E99A-4B78-A1E8-DE4A1911A9FB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png"/><Relationship Id="rId22" Type="http://schemas.openxmlformats.org/officeDocument/2006/relationships/image" Target="../media/image41.png"/><Relationship Id="rId23" Type="http://schemas.openxmlformats.org/officeDocument/2006/relationships/image" Target="../media/image42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image" Target="../media/image45.png"/><Relationship Id="rId2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3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160020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1859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44680" y="2401920"/>
            <a:ext cx="6334200" cy="32432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untry Portfolio Evaluations countries have the opportunity to provide their perspective to Council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C2A0-CE49-408F-8233-EDAEED42A30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Fifth Overall Performance Study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(OPS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D054-3461-4F85-A41A-D27919620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2189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ssess the extent to which the GEF is achieving its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 laid down in the GEF Instrument and reviews by the Assemb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 developed and adopted by the GEF Council in operational policies and programs for GEF financed activ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nd to identify potential impr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505F-0E5E-48AB-975E-2E9CAA20A66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p to 15 during GEF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ct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ternational Waters, Climate Change and other focal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PR continued and strengthened as well as independent proces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atic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ocal area strategies an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element of OPS5 will be a meta-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2091-294A-4783-BC49-08C503DEC07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1122480" y="268200"/>
            <a:ext cx="8113680" cy="804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19320" y="114300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upport for the creation of an environment that enables necessary changes to tak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And…require constant attention and adju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esting of approaches that are intended to lead to GEBs if adopted on a broader sc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roader implementation of results of foundational and demonstration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66"/>
          <p:cNvGrpSpPr/>
          <p:nvPr/>
        </p:nvGrpSpPr>
        <p:grpSpPr>
          <a:xfrm>
            <a:off x="5257800" y="2625840"/>
            <a:ext cx="2514600" cy="1108080"/>
            <a:chOff x="5257800" y="2625840"/>
            <a:chExt cx="2514600" cy="1108080"/>
          </a:xfrm>
        </p:grpSpPr>
        <p:grpSp>
          <p:nvGrpSpPr>
            <p:cNvPr id="180" name="Oval 45"/>
            <p:cNvGrpSpPr/>
            <p:nvPr/>
          </p:nvGrpSpPr>
          <p:grpSpPr>
            <a:xfrm>
              <a:off x="5257800" y="2625840"/>
              <a:ext cx="2514600" cy="1108080"/>
              <a:chOff x="5257800" y="2625840"/>
              <a:chExt cx="2514600" cy="1108080"/>
            </a:xfrm>
          </p:grpSpPr>
          <p:pic>
            <p:nvPicPr>
              <p:cNvPr id="181" name="Oval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7800" y="2625840"/>
                <a:ext cx="2514600" cy="11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5914800" y="2908800"/>
                <a:ext cx="120348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33"/>
            <p:cNvGrpSpPr/>
            <p:nvPr/>
          </p:nvGrpSpPr>
          <p:grpSpPr>
            <a:xfrm>
              <a:off x="5604840" y="2902680"/>
              <a:ext cx="1823400" cy="546840"/>
              <a:chOff x="5604840" y="2902680"/>
              <a:chExt cx="1823400" cy="546840"/>
            </a:xfrm>
          </p:grpSpPr>
          <p:pic>
            <p:nvPicPr>
              <p:cNvPr id="184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4840" y="2902680"/>
                <a:ext cx="1713240" cy="28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4320" y="3038040"/>
                <a:ext cx="1463400" cy="27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Oval 7" descr=""/>
              <p:cNvPicPr/>
              <p:nvPr/>
            </p:nvPicPr>
            <p:blipFill>
              <a:blip r:embed="rId4"/>
              <a:stretch/>
            </p:blipFill>
            <p:spPr>
              <a:xfrm>
                <a:off x="5604840" y="3173400"/>
                <a:ext cx="1823400" cy="27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7" name="Rectangle 62"/>
            <p:cNvSpPr/>
            <p:nvPr/>
          </p:nvSpPr>
          <p:spPr>
            <a:xfrm>
              <a:off x="5646600" y="2764080"/>
              <a:ext cx="174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006600"/>
                  </a:solidFill>
                  <a:latin typeface="Arial"/>
                </a:rPr>
                <a:t>BEHAVIORAL 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71"/>
          <p:cNvSpPr/>
          <p:nvPr/>
        </p:nvSpPr>
        <p:spPr>
          <a:xfrm>
            <a:off x="6553080" y="4938840"/>
            <a:ext cx="2362320" cy="27648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8"/>
          <p:cNvSpPr/>
          <p:nvPr/>
        </p:nvSpPr>
        <p:spPr>
          <a:xfrm>
            <a:off x="3465360" y="4818240"/>
            <a:ext cx="3316320" cy="552240"/>
          </a:xfrm>
          <a:prstGeom prst="rightArrow">
            <a:avLst>
              <a:gd name="adj1" fmla="val 50000"/>
              <a:gd name="adj2" fmla="val 49821"/>
            </a:avLst>
          </a:prstGeom>
          <a:solidFill>
            <a:srgbClr val="ffff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NTERMEDIAT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75"/>
          <p:cNvSpPr/>
          <p:nvPr/>
        </p:nvSpPr>
        <p:spPr>
          <a:xfrm>
            <a:off x="152280" y="4818240"/>
            <a:ext cx="3886200" cy="552240"/>
          </a:xfrm>
          <a:prstGeom prst="rightArrow">
            <a:avLst>
              <a:gd name="adj1" fmla="val 50000"/>
              <a:gd name="adj2" fmla="val 49814"/>
            </a:avLst>
          </a:prstGeom>
          <a:solidFill>
            <a:srgbClr val="ffff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NSTITUTION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Right Triangle 8"/>
          <p:cNvGrpSpPr/>
          <p:nvPr/>
        </p:nvGrpSpPr>
        <p:grpSpPr>
          <a:xfrm>
            <a:off x="3597120" y="3078000"/>
            <a:ext cx="5370840" cy="1762200"/>
            <a:chOff x="3597120" y="3078000"/>
            <a:chExt cx="5370840" cy="1762200"/>
          </a:xfrm>
        </p:grpSpPr>
        <p:pic>
          <p:nvPicPr>
            <p:cNvPr id="192" name="Right Triangle 8" descr=""/>
            <p:cNvPicPr/>
            <p:nvPr/>
          </p:nvPicPr>
          <p:blipFill>
            <a:blip r:embed="rId5"/>
            <a:stretch/>
          </p:blipFill>
          <p:spPr>
            <a:xfrm>
              <a:off x="3597120" y="3078000"/>
              <a:ext cx="537084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16200000">
              <a:off x="7196040" y="3344400"/>
              <a:ext cx="81756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38"/>
          <p:cNvSpPr/>
          <p:nvPr/>
        </p:nvSpPr>
        <p:spPr>
          <a:xfrm>
            <a:off x="457200" y="8730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FOUNDA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9"/>
          <p:cNvSpPr/>
          <p:nvPr/>
        </p:nvSpPr>
        <p:spPr>
          <a:xfrm>
            <a:off x="2971800" y="8730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DEMONSTRA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4"/>
          <p:cNvSpPr/>
          <p:nvPr/>
        </p:nvSpPr>
        <p:spPr>
          <a:xfrm>
            <a:off x="5370480" y="873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INVESTMENT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646200" y="34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Generic GEF Theory of Chan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2"/>
          <p:cNvSpPr/>
          <p:nvPr/>
        </p:nvSpPr>
        <p:spPr>
          <a:xfrm rot="20556600">
            <a:off x="5468400" y="3611160"/>
            <a:ext cx="35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31511f"/>
                </a:solidFill>
                <a:latin typeface="Calibri"/>
              </a:rPr>
              <a:t>Stres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66"/>
          <p:cNvGrpSpPr/>
          <p:nvPr/>
        </p:nvGrpSpPr>
        <p:grpSpPr>
          <a:xfrm>
            <a:off x="3998880" y="3522960"/>
            <a:ext cx="5063760" cy="1201320"/>
            <a:chOff x="3998880" y="3522960"/>
            <a:chExt cx="5063760" cy="1201320"/>
          </a:xfrm>
        </p:grpSpPr>
        <p:grpSp>
          <p:nvGrpSpPr>
            <p:cNvPr id="200" name="Right Triangle 21"/>
            <p:cNvGrpSpPr/>
            <p:nvPr/>
          </p:nvGrpSpPr>
          <p:grpSpPr>
            <a:xfrm>
              <a:off x="3998880" y="3548160"/>
              <a:ext cx="4993560" cy="1176120"/>
              <a:chOff x="3998880" y="3548160"/>
              <a:chExt cx="4993560" cy="1176120"/>
            </a:xfrm>
          </p:grpSpPr>
          <p:pic>
            <p:nvPicPr>
              <p:cNvPr id="201" name="Right Triangl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3998880" y="3548160"/>
                <a:ext cx="499356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16200000">
                <a:off x="7446600" y="3478680"/>
                <a:ext cx="538200" cy="162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TextBox 105"/>
            <p:cNvSpPr/>
            <p:nvPr/>
          </p:nvSpPr>
          <p:spPr>
            <a:xfrm rot="20793000">
              <a:off x="5831640" y="3895920"/>
              <a:ext cx="32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Calibri"/>
                </a:rPr>
                <a:t>Change in environmental sta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69"/>
          <p:cNvGrpSpPr/>
          <p:nvPr/>
        </p:nvGrpSpPr>
        <p:grpSpPr>
          <a:xfrm>
            <a:off x="7148520" y="5257800"/>
            <a:ext cx="1700280" cy="387360"/>
            <a:chOff x="7148520" y="5257800"/>
            <a:chExt cx="1700280" cy="387360"/>
          </a:xfrm>
        </p:grpSpPr>
        <p:grpSp>
          <p:nvGrpSpPr>
            <p:cNvPr id="205" name="Straight Connector 5"/>
            <p:cNvGrpSpPr/>
            <p:nvPr/>
          </p:nvGrpSpPr>
          <p:grpSpPr>
            <a:xfrm>
              <a:off x="7148520" y="5266440"/>
              <a:ext cx="357840" cy="378720"/>
              <a:chOff x="7148520" y="5266440"/>
              <a:chExt cx="357840" cy="378720"/>
            </a:xfrm>
          </p:grpSpPr>
          <p:pic>
            <p:nvPicPr>
              <p:cNvPr id="206" name="Straight Connector 5" descr=""/>
              <p:cNvPicPr/>
              <p:nvPr/>
            </p:nvPicPr>
            <p:blipFill>
              <a:blip r:embed="rId7"/>
              <a:stretch/>
            </p:blipFill>
            <p:spPr>
              <a:xfrm>
                <a:off x="7148520" y="5266440"/>
                <a:ext cx="357840" cy="37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 rot="9339600">
                <a:off x="7224480" y="5335920"/>
                <a:ext cx="21564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Box 78"/>
            <p:cNvSpPr/>
            <p:nvPr/>
          </p:nvSpPr>
          <p:spPr>
            <a:xfrm>
              <a:off x="7460640" y="5257800"/>
              <a:ext cx="138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daptive management / Learn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65"/>
          <p:cNvGrpSpPr/>
          <p:nvPr/>
        </p:nvGrpSpPr>
        <p:grpSpPr>
          <a:xfrm>
            <a:off x="4191120" y="4058280"/>
            <a:ext cx="4910040" cy="720720"/>
            <a:chOff x="4191120" y="4058280"/>
            <a:chExt cx="4910040" cy="720720"/>
          </a:xfrm>
        </p:grpSpPr>
        <p:sp>
          <p:nvSpPr>
            <p:cNvPr id="210" name="Right Triangle 33"/>
            <p:cNvSpPr/>
            <p:nvPr/>
          </p:nvSpPr>
          <p:spPr>
            <a:xfrm rot="16200000">
              <a:off x="6244200" y="2017080"/>
              <a:ext cx="653760" cy="4760280"/>
            </a:xfrm>
            <a:prstGeom prst="rtTriangl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90"/>
            <p:cNvSpPr/>
            <p:nvPr/>
          </p:nvSpPr>
          <p:spPr>
            <a:xfrm rot="21133200">
              <a:off x="5797080" y="4280040"/>
              <a:ext cx="33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Calibri"/>
                </a:rPr>
                <a:t>Environmentally sustainabl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3"/>
          <p:cNvGrpSpPr/>
          <p:nvPr/>
        </p:nvGrpSpPr>
        <p:grpSpPr>
          <a:xfrm>
            <a:off x="152280" y="3211560"/>
            <a:ext cx="2352960" cy="1395360"/>
            <a:chOff x="152280" y="3211560"/>
            <a:chExt cx="2352960" cy="1395360"/>
          </a:xfrm>
        </p:grpSpPr>
        <p:grpSp>
          <p:nvGrpSpPr>
            <p:cNvPr id="213" name="Oval 36"/>
            <p:cNvGrpSpPr/>
            <p:nvPr/>
          </p:nvGrpSpPr>
          <p:grpSpPr>
            <a:xfrm>
              <a:off x="152280" y="3211560"/>
              <a:ext cx="2352960" cy="1395360"/>
              <a:chOff x="152280" y="3211560"/>
              <a:chExt cx="2352960" cy="1395360"/>
            </a:xfrm>
          </p:grpSpPr>
          <p:pic>
            <p:nvPicPr>
              <p:cNvPr id="214" name="Oval 36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280" y="3211560"/>
                <a:ext cx="235296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538560" y="3432960"/>
                <a:ext cx="158580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Oval 4"/>
            <p:cNvSpPr/>
            <p:nvPr/>
          </p:nvSpPr>
          <p:spPr>
            <a:xfrm>
              <a:off x="530640" y="3257640"/>
              <a:ext cx="1585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KNOWLEDGE &amp; INFORM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4"/>
          <p:cNvGrpSpPr/>
          <p:nvPr/>
        </p:nvGrpSpPr>
        <p:grpSpPr>
          <a:xfrm>
            <a:off x="152280" y="1611360"/>
            <a:ext cx="2352960" cy="1395360"/>
            <a:chOff x="152280" y="1611360"/>
            <a:chExt cx="2352960" cy="1395360"/>
          </a:xfrm>
        </p:grpSpPr>
        <p:grpSp>
          <p:nvGrpSpPr>
            <p:cNvPr id="218" name="Oval 39"/>
            <p:cNvGrpSpPr/>
            <p:nvPr/>
          </p:nvGrpSpPr>
          <p:grpSpPr>
            <a:xfrm>
              <a:off x="152280" y="1611360"/>
              <a:ext cx="2352960" cy="1395360"/>
              <a:chOff x="152280" y="1611360"/>
              <a:chExt cx="2352960" cy="1395360"/>
            </a:xfrm>
          </p:grpSpPr>
          <p:pic>
            <p:nvPicPr>
              <p:cNvPr id="219" name="Oval 39" descr=""/>
              <p:cNvPicPr/>
              <p:nvPr/>
            </p:nvPicPr>
            <p:blipFill>
              <a:blip r:embed="rId9"/>
              <a:stretch/>
            </p:blipFill>
            <p:spPr>
              <a:xfrm>
                <a:off x="152280" y="1611360"/>
                <a:ext cx="235296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538560" y="1835640"/>
                <a:ext cx="158580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Oval 4"/>
            <p:cNvSpPr/>
            <p:nvPr/>
          </p:nvSpPr>
          <p:spPr>
            <a:xfrm>
              <a:off x="530640" y="1660320"/>
              <a:ext cx="1585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GOVERNANCE FRAME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Oval 41"/>
          <p:cNvGrpSpPr/>
          <p:nvPr/>
        </p:nvGrpSpPr>
        <p:grpSpPr>
          <a:xfrm>
            <a:off x="158760" y="2004840"/>
            <a:ext cx="1268280" cy="811440"/>
            <a:chOff x="158760" y="2004840"/>
            <a:chExt cx="1268280" cy="811440"/>
          </a:xfrm>
        </p:grpSpPr>
        <p:pic>
          <p:nvPicPr>
            <p:cNvPr id="223" name="Oval 41" descr=""/>
            <p:cNvPicPr/>
            <p:nvPr/>
          </p:nvPicPr>
          <p:blipFill>
            <a:blip r:embed="rId10"/>
            <a:stretch/>
          </p:blipFill>
          <p:spPr>
            <a:xfrm>
              <a:off x="158760" y="2004840"/>
              <a:ext cx="126828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388800" y="2144880"/>
              <a:ext cx="8146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Policy, legal &amp; regulatory framewor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Oval 42"/>
          <p:cNvGrpSpPr/>
          <p:nvPr/>
        </p:nvGrpSpPr>
        <p:grpSpPr>
          <a:xfrm>
            <a:off x="244440" y="3535200"/>
            <a:ext cx="1200240" cy="914400"/>
            <a:chOff x="244440" y="3535200"/>
            <a:chExt cx="1200240" cy="914400"/>
          </a:xfrm>
        </p:grpSpPr>
        <p:pic>
          <p:nvPicPr>
            <p:cNvPr id="226" name="Oval 42" descr=""/>
            <p:cNvPicPr/>
            <p:nvPr/>
          </p:nvPicPr>
          <p:blipFill>
            <a:blip r:embed="rId11"/>
            <a:stretch/>
          </p:blipFill>
          <p:spPr>
            <a:xfrm>
              <a:off x="244440" y="3535200"/>
              <a:ext cx="1200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63680" y="3687840"/>
              <a:ext cx="766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Information-sharing &amp; 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Oval 43"/>
          <p:cNvGrpSpPr/>
          <p:nvPr/>
        </p:nvGrpSpPr>
        <p:grpSpPr>
          <a:xfrm>
            <a:off x="1158840" y="3565440"/>
            <a:ext cx="1260360" cy="622440"/>
            <a:chOff x="1158840" y="3565440"/>
            <a:chExt cx="1260360" cy="622440"/>
          </a:xfrm>
        </p:grpSpPr>
        <p:pic>
          <p:nvPicPr>
            <p:cNvPr id="229" name="Oval 43" descr=""/>
            <p:cNvPicPr/>
            <p:nvPr/>
          </p:nvPicPr>
          <p:blipFill>
            <a:blip r:embed="rId12"/>
            <a:stretch/>
          </p:blipFill>
          <p:spPr>
            <a:xfrm>
              <a:off x="1158840" y="3565440"/>
              <a:ext cx="1260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386000" y="3676680"/>
              <a:ext cx="8096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Awareness-rais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Straight Connector 5"/>
          <p:cNvGrpSpPr/>
          <p:nvPr/>
        </p:nvGrpSpPr>
        <p:grpSpPr>
          <a:xfrm>
            <a:off x="2298600" y="2876400"/>
            <a:ext cx="451080" cy="446400"/>
            <a:chOff x="2298600" y="2876400"/>
            <a:chExt cx="451080" cy="446400"/>
          </a:xfrm>
        </p:grpSpPr>
        <p:pic>
          <p:nvPicPr>
            <p:cNvPr id="232" name="Straight Connector 5" descr=""/>
            <p:cNvPicPr/>
            <p:nvPr/>
          </p:nvPicPr>
          <p:blipFill>
            <a:blip r:embed="rId13"/>
            <a:stretch/>
          </p:blipFill>
          <p:spPr>
            <a:xfrm>
              <a:off x="2298600" y="2876400"/>
              <a:ext cx="45108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639000">
              <a:off x="2368440" y="2957400"/>
              <a:ext cx="25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Straight Connector 5"/>
          <p:cNvGrpSpPr/>
          <p:nvPr/>
        </p:nvGrpSpPr>
        <p:grpSpPr>
          <a:xfrm>
            <a:off x="6205680" y="2359080"/>
            <a:ext cx="420480" cy="414360"/>
            <a:chOff x="6205680" y="2359080"/>
            <a:chExt cx="420480" cy="414360"/>
          </a:xfrm>
        </p:grpSpPr>
        <p:pic>
          <p:nvPicPr>
            <p:cNvPr id="235" name="Straight Connector 5" descr=""/>
            <p:cNvPicPr/>
            <p:nvPr/>
          </p:nvPicPr>
          <p:blipFill>
            <a:blip r:embed="rId14"/>
            <a:stretch/>
          </p:blipFill>
          <p:spPr>
            <a:xfrm>
              <a:off x="6205680" y="2359080"/>
              <a:ext cx="4204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9339600">
              <a:off x="6294240" y="2430360"/>
              <a:ext cx="2570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Straight Connector 5"/>
          <p:cNvGrpSpPr/>
          <p:nvPr/>
        </p:nvGrpSpPr>
        <p:grpSpPr>
          <a:xfrm>
            <a:off x="6278400" y="3597120"/>
            <a:ext cx="414360" cy="395280"/>
            <a:chOff x="6278400" y="3597120"/>
            <a:chExt cx="414360" cy="395280"/>
          </a:xfrm>
        </p:grpSpPr>
        <p:pic>
          <p:nvPicPr>
            <p:cNvPr id="238" name="Straight Connector 5" descr=""/>
            <p:cNvPicPr/>
            <p:nvPr/>
          </p:nvPicPr>
          <p:blipFill>
            <a:blip r:embed="rId15"/>
            <a:stretch/>
          </p:blipFill>
          <p:spPr>
            <a:xfrm>
              <a:off x="6278400" y="3597120"/>
              <a:ext cx="4143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rot="9339600">
              <a:off x="6364440" y="3669840"/>
              <a:ext cx="25704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Oval 58"/>
          <p:cNvGrpSpPr/>
          <p:nvPr/>
        </p:nvGrpSpPr>
        <p:grpSpPr>
          <a:xfrm>
            <a:off x="1085760" y="2004840"/>
            <a:ext cx="1408320" cy="811440"/>
            <a:chOff x="1085760" y="2004840"/>
            <a:chExt cx="1408320" cy="811440"/>
          </a:xfrm>
        </p:grpSpPr>
        <p:pic>
          <p:nvPicPr>
            <p:cNvPr id="241" name="Oval 58" descr=""/>
            <p:cNvPicPr/>
            <p:nvPr/>
          </p:nvPicPr>
          <p:blipFill>
            <a:blip r:embed="rId16"/>
            <a:stretch/>
          </p:blipFill>
          <p:spPr>
            <a:xfrm>
              <a:off x="1085760" y="2004840"/>
              <a:ext cx="140832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333440" y="2146320"/>
              <a:ext cx="9144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Administrative refor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65"/>
          <p:cNvGrpSpPr/>
          <p:nvPr/>
        </p:nvGrpSpPr>
        <p:grpSpPr>
          <a:xfrm>
            <a:off x="4989600" y="1177920"/>
            <a:ext cx="2514600" cy="1219320"/>
            <a:chOff x="4989600" y="1177920"/>
            <a:chExt cx="2514600" cy="1219320"/>
          </a:xfrm>
        </p:grpSpPr>
        <p:grpSp>
          <p:nvGrpSpPr>
            <p:cNvPr id="244" name="Group 29"/>
            <p:cNvGrpSpPr/>
            <p:nvPr/>
          </p:nvGrpSpPr>
          <p:grpSpPr>
            <a:xfrm>
              <a:off x="4989600" y="1177920"/>
              <a:ext cx="2460960" cy="1219320"/>
              <a:chOff x="4989600" y="1177920"/>
              <a:chExt cx="2460960" cy="1219320"/>
            </a:xfrm>
          </p:grpSpPr>
          <p:grpSp>
            <p:nvGrpSpPr>
              <p:cNvPr id="245" name="Oval 46"/>
              <p:cNvGrpSpPr/>
              <p:nvPr/>
            </p:nvGrpSpPr>
            <p:grpSpPr>
              <a:xfrm>
                <a:off x="4989600" y="1177920"/>
                <a:ext cx="2460960" cy="1219320"/>
                <a:chOff x="4989600" y="1177920"/>
                <a:chExt cx="2460960" cy="1219320"/>
              </a:xfrm>
            </p:grpSpPr>
            <p:pic>
              <p:nvPicPr>
                <p:cNvPr id="246" name="Oval 46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989600" y="1177920"/>
                  <a:ext cx="2460960" cy="121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5393160" y="1375920"/>
                  <a:ext cx="166176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Oval 4"/>
              <p:cNvSpPr/>
              <p:nvPr/>
            </p:nvSpPr>
            <p:spPr>
              <a:xfrm>
                <a:off x="5262480" y="1290240"/>
                <a:ext cx="190764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533520"/>
                    <a:tab algn="l" pos="1066680"/>
                    <a:tab algn="l" pos="1600200"/>
                    <a:tab algn="l" pos="2133720"/>
                    <a:tab algn="l" pos="2666880"/>
                    <a:tab algn="l" pos="3200400"/>
                    <a:tab algn="l" pos="3733920"/>
                    <a:tab algn="l" pos="4267080"/>
                    <a:tab algn="l" pos="4800600"/>
                    <a:tab algn="l" pos="5334120"/>
                    <a:tab algn="l" pos="5867280"/>
                    <a:tab algn="l" pos="6400800"/>
                    <a:tab algn="l" pos="6934320"/>
                    <a:tab algn="l" pos="7467480"/>
                    <a:tab algn="l" pos="8001000"/>
                    <a:tab algn="l" pos="8534520"/>
                    <a:tab algn="l" pos="9067680"/>
                    <a:tab algn="l" pos="9601200"/>
                    <a:tab algn="l" pos="101347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SCA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Oval 48"/>
            <p:cNvGrpSpPr/>
            <p:nvPr/>
          </p:nvGrpSpPr>
          <p:grpSpPr>
            <a:xfrm>
              <a:off x="5004720" y="1408680"/>
              <a:ext cx="1455480" cy="451080"/>
              <a:chOff x="5004720" y="1408680"/>
              <a:chExt cx="1455480" cy="451080"/>
            </a:xfrm>
          </p:grpSpPr>
          <p:pic>
            <p:nvPicPr>
              <p:cNvPr id="250" name="Oval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04720" y="1408680"/>
                <a:ext cx="14554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5260680" y="1497960"/>
                <a:ext cx="948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Mainstream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Oval 49"/>
            <p:cNvGrpSpPr/>
            <p:nvPr/>
          </p:nvGrpSpPr>
          <p:grpSpPr>
            <a:xfrm>
              <a:off x="5076360" y="1676880"/>
              <a:ext cx="1157400" cy="487800"/>
              <a:chOff x="5076360" y="1676880"/>
              <a:chExt cx="1157400" cy="487800"/>
            </a:xfrm>
          </p:grpSpPr>
          <p:pic>
            <p:nvPicPr>
              <p:cNvPr id="253" name="Oval 49" descr=""/>
              <p:cNvPicPr/>
              <p:nvPr/>
            </p:nvPicPr>
            <p:blipFill>
              <a:blip r:embed="rId19"/>
              <a:stretch/>
            </p:blipFill>
            <p:spPr>
              <a:xfrm>
                <a:off x="5076360" y="1676880"/>
                <a:ext cx="11574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291640" y="1766880"/>
                <a:ext cx="73836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Scaling-u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Oval 57"/>
            <p:cNvGrpSpPr/>
            <p:nvPr/>
          </p:nvGrpSpPr>
          <p:grpSpPr>
            <a:xfrm>
              <a:off x="5601240" y="1902600"/>
              <a:ext cx="1527120" cy="493920"/>
              <a:chOff x="5601240" y="1902600"/>
              <a:chExt cx="1527120" cy="493920"/>
            </a:xfrm>
          </p:grpSpPr>
          <p:pic>
            <p:nvPicPr>
              <p:cNvPr id="256" name="Oval 57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01240" y="1902600"/>
                <a:ext cx="1527120" cy="4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5868000" y="1995840"/>
                <a:ext cx="1001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Market chan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Oval 60"/>
            <p:cNvGrpSpPr/>
            <p:nvPr/>
          </p:nvGrpSpPr>
          <p:grpSpPr>
            <a:xfrm>
              <a:off x="6048720" y="1524600"/>
              <a:ext cx="1455480" cy="457200"/>
              <a:chOff x="6048720" y="1524600"/>
              <a:chExt cx="1455480" cy="457200"/>
            </a:xfrm>
          </p:grpSpPr>
          <p:pic>
            <p:nvPicPr>
              <p:cNvPr id="259" name="Oval 60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48720" y="1524600"/>
                <a:ext cx="14554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6304680" y="1609560"/>
                <a:ext cx="9489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Re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Oval 61"/>
          <p:cNvGrpSpPr/>
          <p:nvPr/>
        </p:nvGrpSpPr>
        <p:grpSpPr>
          <a:xfrm>
            <a:off x="1085760" y="4005360"/>
            <a:ext cx="1121040" cy="547560"/>
            <a:chOff x="1085760" y="4005360"/>
            <a:chExt cx="1121040" cy="547560"/>
          </a:xfrm>
        </p:grpSpPr>
        <p:pic>
          <p:nvPicPr>
            <p:cNvPr id="262" name="Oval 61" descr=""/>
            <p:cNvPicPr/>
            <p:nvPr/>
          </p:nvPicPr>
          <p:blipFill>
            <a:blip r:embed="rId22"/>
            <a:stretch/>
          </p:blipFill>
          <p:spPr>
            <a:xfrm>
              <a:off x="1085760" y="4005360"/>
              <a:ext cx="11210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290600" y="4103640"/>
              <a:ext cx="7128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Knowledge gene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69"/>
          <p:cNvGrpSpPr/>
          <p:nvPr/>
        </p:nvGrpSpPr>
        <p:grpSpPr>
          <a:xfrm>
            <a:off x="2819520" y="1447920"/>
            <a:ext cx="2286000" cy="3159000"/>
            <a:chOff x="2819520" y="1447920"/>
            <a:chExt cx="2286000" cy="3159000"/>
          </a:xfrm>
        </p:grpSpPr>
        <p:grpSp>
          <p:nvGrpSpPr>
            <p:cNvPr id="265" name="Group 8"/>
            <p:cNvGrpSpPr/>
            <p:nvPr/>
          </p:nvGrpSpPr>
          <p:grpSpPr>
            <a:xfrm>
              <a:off x="2819520" y="1447920"/>
              <a:ext cx="2286000" cy="3159000"/>
              <a:chOff x="2819520" y="1447920"/>
              <a:chExt cx="2286000" cy="3159000"/>
            </a:xfrm>
          </p:grpSpPr>
          <p:grpSp>
            <p:nvGrpSpPr>
              <p:cNvPr id="266" name="Oval 16"/>
              <p:cNvGrpSpPr/>
              <p:nvPr/>
            </p:nvGrpSpPr>
            <p:grpSpPr>
              <a:xfrm>
                <a:off x="2819520" y="1447920"/>
                <a:ext cx="2286000" cy="3159000"/>
                <a:chOff x="2819520" y="1447920"/>
                <a:chExt cx="2286000" cy="3159000"/>
              </a:xfrm>
            </p:grpSpPr>
            <p:pic>
              <p:nvPicPr>
                <p:cNvPr id="267" name="Oval 16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819520" y="1447920"/>
                  <a:ext cx="2286000" cy="315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>
                  <a:off x="3194280" y="1927440"/>
                  <a:ext cx="1542600" cy="21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Oval 4"/>
              <p:cNvSpPr/>
              <p:nvPr/>
            </p:nvSpPr>
            <p:spPr>
              <a:xfrm>
                <a:off x="3072960" y="1701360"/>
                <a:ext cx="177048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76"/>
                  </a:spcAft>
                  <a:tabLst>
                    <a:tab algn="l" pos="0"/>
                    <a:tab algn="l" pos="533520"/>
                    <a:tab algn="l" pos="1066680"/>
                    <a:tab algn="l" pos="1600200"/>
                    <a:tab algn="l" pos="2133720"/>
                    <a:tab algn="l" pos="2666880"/>
                    <a:tab algn="l" pos="3200400"/>
                    <a:tab algn="l" pos="3733920"/>
                    <a:tab algn="l" pos="4267080"/>
                    <a:tab algn="l" pos="4800600"/>
                    <a:tab algn="l" pos="5334120"/>
                    <a:tab algn="l" pos="5867280"/>
                    <a:tab algn="l" pos="6400800"/>
                    <a:tab algn="l" pos="6934320"/>
                    <a:tab algn="l" pos="7467480"/>
                    <a:tab algn="l" pos="8001000"/>
                    <a:tab algn="l" pos="8534520"/>
                    <a:tab algn="l" pos="9067680"/>
                    <a:tab algn="l" pos="9601200"/>
                    <a:tab algn="l" pos="10134720"/>
                    <a:tab algn="l" pos="1066788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</a:rPr>
                  <a:t>IMPLEMENTING STRATEG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Oval 18"/>
            <p:cNvGrpSpPr/>
            <p:nvPr/>
          </p:nvGrpSpPr>
          <p:grpSpPr>
            <a:xfrm>
              <a:off x="2913840" y="2042280"/>
              <a:ext cx="1255680" cy="700920"/>
              <a:chOff x="2913840" y="2042280"/>
              <a:chExt cx="1255680" cy="700920"/>
            </a:xfrm>
          </p:grpSpPr>
          <p:pic>
            <p:nvPicPr>
              <p:cNvPr id="271" name="Oval 18" descr=""/>
              <p:cNvPicPr/>
              <p:nvPr/>
            </p:nvPicPr>
            <p:blipFill>
              <a:blip r:embed="rId24"/>
              <a:stretch/>
            </p:blipFill>
            <p:spPr>
              <a:xfrm>
                <a:off x="2913840" y="2042280"/>
                <a:ext cx="125568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3138840" y="2162880"/>
                <a:ext cx="808200" cy="41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Technologies &amp; approach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Oval 23"/>
            <p:cNvGrpSpPr/>
            <p:nvPr/>
          </p:nvGrpSpPr>
          <p:grpSpPr>
            <a:xfrm>
              <a:off x="2834640" y="2633760"/>
              <a:ext cx="1414440" cy="768240"/>
              <a:chOff x="2834640" y="2633760"/>
              <a:chExt cx="1414440" cy="768240"/>
            </a:xfrm>
          </p:grpSpPr>
          <p:pic>
            <p:nvPicPr>
              <p:cNvPr id="274" name="Oval 23" descr=""/>
              <p:cNvPicPr/>
              <p:nvPr/>
            </p:nvPicPr>
            <p:blipFill>
              <a:blip r:embed="rId25"/>
              <a:stretch/>
            </p:blipFill>
            <p:spPr>
              <a:xfrm>
                <a:off x="2834640" y="2633760"/>
                <a:ext cx="1414440" cy="76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3085200" y="2764080"/>
                <a:ext cx="916200" cy="4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Organizational structures &amp; arrangement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Oval 59"/>
            <p:cNvGrpSpPr/>
            <p:nvPr/>
          </p:nvGrpSpPr>
          <p:grpSpPr>
            <a:xfrm>
              <a:off x="3749040" y="2176560"/>
              <a:ext cx="1341000" cy="981360"/>
              <a:chOff x="3749040" y="2176560"/>
              <a:chExt cx="1341000" cy="981360"/>
            </a:xfrm>
          </p:grpSpPr>
          <p:pic>
            <p:nvPicPr>
              <p:cNvPr id="277" name="Oval 59" descr=""/>
              <p:cNvPicPr/>
              <p:nvPr/>
            </p:nvPicPr>
            <p:blipFill>
              <a:blip r:embed="rId26"/>
              <a:stretch/>
            </p:blipFill>
            <p:spPr>
              <a:xfrm>
                <a:off x="3749040" y="2176560"/>
                <a:ext cx="1341000" cy="9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3989880" y="2338200"/>
                <a:ext cx="86832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Financial mechanisms for adoption &amp; sustainabili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Rectangle 68"/>
            <p:cNvSpPr/>
            <p:nvPr/>
          </p:nvSpPr>
          <p:spPr>
            <a:xfrm>
              <a:off x="3127320" y="3429360"/>
              <a:ext cx="1827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Promoting champ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Building on promising initia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Raising profile of initia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Removal of barri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Innov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quality assurance advi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Recognized experts from developed, newly emerging, and developing 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Ongoing advice and comments to the replenish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ence grou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Formed by staff from the GEF Agencies independent evaluation off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o provide peer reviews of sub-studies and other deliver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ill provide time to allow for meaningful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8A67-FE35-4CAD-B777-0A75E9B6E37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report: end of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 meta-evaluation approach, drawing on existing GEF eval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report: end of 2013 or early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al report will be tackled trough separate evalu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C159-1205-4FD1-890D-BDA78B98CB0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1212840" y="42840"/>
            <a:ext cx="7937640" cy="1127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1219320" y="121932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ce of GEF to conventions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ngs on outcomes and sustainability of finish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ngs of progress toward impact of finish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catalytic role of GEF (foundation, demonstration and/or investment projec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understanding of GEF longer term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performance issues such as cofunding, management costs, quality at entry and superv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the implementation and achievements of the focal areas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2E4B-F2F8-43B7-8C62-0BBA0C63AC7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1212840" y="128520"/>
            <a:ext cx="7937640" cy="1176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12189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global environmental problems and the relevance of GEF -- will include the emergence of new fina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ore in-depth look at focal area strategies and at the existing impact evid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vernance of the GEF, donor performance and resources mob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the private sector and civil socie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-cutting policies: gender, participation, safegurads, and knowledge sh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of the SGP evaluation (since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ST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1421-CAB1-48D0-90A1-7B60DD0F237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219320" y="12189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BM, Monitoring &amp; Eval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in the GE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&amp;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s and responsible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M&amp;E Poli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the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ifth Overall Performance Study (OPS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of the Overall Performance 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streams &amp; OPS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 of OPS5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Knowledge Sharing and Community of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Questions &amp; Ans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DDA0-C3A4-46B4-9C07-41F403556F2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S5 audience inclu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replenishment particip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hrough the Assembly the members of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s will be shared with other GEF par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T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GO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Project proponents and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F144-09E1-4E29-8592-6EEAF16EA42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Evaluation reports should be subject to a dynamic dissemin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rpose of KM in the GE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Promotion of a culture o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Application of 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Feedback to new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290B-8540-4BC9-8DF1-463FA3CD864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1218960" y="1447920"/>
            <a:ext cx="662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00+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ine tools for particip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A149-8123-4791-91A1-6ECD3F48FBF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DDE1-D0D7-42BE-A685-991554C5AF8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B82E-B91E-43AB-8EC1-18929D005E05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46B9-F068-4FA3-8B12-113511C1F7C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6" name="Title 1" descr=""/>
          <p:cNvPicPr/>
          <p:nvPr/>
        </p:nvPicPr>
        <p:blipFill>
          <a:blip r:embed="rId2"/>
          <a:stretch/>
        </p:blipFill>
        <p:spPr>
          <a:xfrm>
            <a:off x="1219320" y="195120"/>
            <a:ext cx="7931160" cy="87804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BM, especially monitoring, tell whether the organization is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he right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Two overarching obj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ec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erformance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artners involved in GE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2BFA-72BB-49D8-8964-51D7364263B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86D1-B5B0-44A6-BEDA-F2E3570E2F9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4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219320" y="1294920"/>
            <a:ext cx="685800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 and fully budgeted M&amp;E plans by CEO endorsement for FSPs, and CEO approval for MS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log frames should align with GEF Focal Area result frameworks contained in the GEF-5 RB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/Program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SPs and MSPs will be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orts should be sent to the GEF EO within 12 months of project comple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explain how GEF OFPs will be engaged in M&amp;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EDEC-8B45-41A1-88AF-985D2175A1A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&amp;E plans should include how OFPs will be eng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Ps will be informed on M&amp;E activities, including Mid-Term Reviews and Terminal Evaluations, receiving drafts for comments and fin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Ps will be invited to contribute to the management response (where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298E-FAB4-4930-8B2E-DE1BD7A3838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219320" y="14396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the first point of entry into a coun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Identify major relevant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ssist with agen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country responses to these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B094-1CB9-4BB3-8735-2EF513B4A6C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1152360" y="268200"/>
            <a:ext cx="8052120" cy="804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219320" y="129492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component: enhancing capacities to monitor and evaluate environmental impacts and trends (should be identified as a priority in the NCSA capacity developme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on pl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 plan should b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ulated as a Medium-Siz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integrated into a broader proposal that would be formulated as MSP or FSP (if MSP it should have 1:1 cofun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ding available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8A6A-E8A9-4211-9573-F91137911A8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2-06-06T14:57:19Z</dcterms:modified>
  <cp:revision>352</cp:revision>
  <dc:subject/>
  <dc:title>Slide 1</dc:title>
</cp:coreProperties>
</file>