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0D5B-F96C-4C5D-8963-F8F531FBA8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0C58-62AC-49C7-B5A8-0611937148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C9E-3A44-45F7-AB35-D5972CB8AA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D81E-F3BF-493D-8EDC-EDA3BE07EE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326-487D-41A0-BE9D-A3C87B7881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62E-4DB9-4903-BC01-95BD197AFA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DF87-8E5F-4825-A158-5D6152899F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AC1-9DCF-486C-A173-9D33B5E76C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B6A-CCBA-4E2B-B718-2475C98A0D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0C9B-3928-49BA-A3F7-1FA33724B9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61C-4356-4D0A-A4FF-63256F30AB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FDE-DE51-4883-8BA8-DCC716AF64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116-72B8-407D-BC7B-3902D498D0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779-D258-46C8-A75A-1EB66AD677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66C4-3447-426D-963E-F94B05B3F078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DF3-FD72-42C9-8C91-C32087DFF9D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CAD-92EA-40E0-8540-F0B3ADDCB883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9BF-1BE4-4158-9A00-5A23DD6786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AF7-E8BF-47AC-8DE2-646FB3A075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755-D45C-42B7-9794-7C9B76E1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BF3-3447-48FC-AC37-D845F70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636-81AE-4194-B0DC-BEA7100B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799-46F2-4516-A33F-9D75E6E3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4C7-9E28-43DD-A041-9E09CBB8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EE47-BB46-45D7-B1C9-2C1E90E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3B64-F867-4A97-B6F1-DE11385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104-535B-4FB4-9F06-21D5096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565F-22A2-4A65-A75F-DA894A61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AE6D-95F5-4947-A305-8595E81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2E7-BB2A-4EA9-AB9A-C08B5F0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6DE-F5F9-4E61-90DC-75D270E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4135-67DE-4E14-BE22-128BF5B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FCC-E029-48B6-8890-DA99F98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A1C-1910-4540-A43C-5FD2BFDF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B893-43EB-4B7A-B060-68C448E4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D08E-7ABB-46D9-9639-804FA4E6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0C5C6-F3AE-4834-B9E6-33B56CCCB4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D5F69-9146-48FE-969C-0511EE9FB6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311E-CFA7-44B1-A4EC-90E4AECF61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03CB5-2D98-4A6A-BEAA-2475156A92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F1AD7-61FA-4D8B-A5F9-78160AAC6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507-4840-4F5F-B7F9-CB0E332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DFA65-BA2B-4F5C-B95D-7BB81580D6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C7B89-6BB4-4379-8DC0-20A99C3FA2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514D8-8AF9-4FB1-BD56-13AEE1B526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0C9FB-629D-4ED1-A9A2-EF0EB4A3BB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5B503-0CFE-44CD-9F5A-B07B1276CC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067B4-6348-45FE-B6FF-D02245D557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938EB-DBC2-420E-AF0F-162D1674B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414-ABEE-46BF-B7CA-31B1112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F37-82DA-4B40-B73E-1E55E6EB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EFD-F354-4048-8FAF-6288C11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752-2E64-40EF-9D96-D9D077A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165-7D8C-4FC1-B12F-F3A96D2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DFD-C48A-4095-85CD-85EC6A7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1E09-4E8C-4C24-A933-567951FCE8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8CD-4461-4FDF-A5D3-E68A748BF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8DB-EC09-4AD0-9FDB-66236BD81F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2AD-21BF-4C22-A710-A6304045D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E9A-E367-4AF6-AB3D-2389749E6AB7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Мониторинг и оценка в ГЭФ 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50800" y="2786040"/>
            <a:ext cx="6626520" cy="3913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тчетам об оценках и о результативности работы, представляемым Совету ГЭФ Офисом по оценке ГЭФ, требуется официальная реакция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имая свои решения, Совет ГЭФ учитывает как результаты оценки, так и официальную реакцию руко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с по оценке ГЭФ ежегодно представляет отчет об исполнении решений (отчет о мерах, принятых руководст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оценки портфелей проектов, реализуемых в странах, страны также имеют возможность высказать свое мнение Со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C3F-06DA-41FC-B639-3E8C1DE436E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1562-1FD3-47F5-8D06-C6E03CF7F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37124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центре внимания оценок эффективности деятельности находя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е и процедурные вопросы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ыт осуществления стратегий и принципов политик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годовом отчете об эффективности деятельности  оцениваются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ойчивость итогов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мониторинга и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осуществления и исполнен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итоговой оценки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этот отчет также включаются периодические обзор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«на вход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а надз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ых аспектов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842-906E-4EED-858D-03228C232A0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продолжающиеся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д планеты Зем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ланированные обзо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вой отчет об эффективности деятельност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срочный обзор механизма прямого дост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33B8-F3B5-40F5-9436-617CDF4D2FE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оценки влияния оцениваются положительные и отрицательные, основные и вторичные долгосрочные результаты, произведенные деятельностью непосредственно или косвенно, преднамеренно или непреднамер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ученные темы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обеспечение воздействия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налы воздействия и факторы, влияющие на обеспечение воздействия в дальней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ГЭФ в изменение уровня нагрузки на окружающую сре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ния окружающей среды и социально-экономического по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A49-3DA6-4C27-83A3-CA1AD22ED7F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815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Недавно завершенные и продолжающиеся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оздействия на биоразнообразие в Пе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е вод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жно-Китайское м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ланируемые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оразнообразие и еще одна тематическая область (пока не определ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завершенных проектов по методик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«анализ трансформации итогов в влияние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16E-9475-4284-A9EC-0C0C01B2269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39640"/>
            <a:ext cx="6858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оценок программ на уровне страны проводится оценка помощи, оказываемой ГЭФ стране во всех тематических областя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сем организациям-исполнителя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всех 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ицей анализа является ст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этой оценки оцениваютс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ГЭФ на страновом уровне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ю установи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колько эффективны эти проекты с точки зрения формирова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кой мере эти результаты соотносятся с национальными программами охраны окружающей среды и устойчивого развития, а также с миссией ГЭФ по обеспечению глобальных благ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CF1-DB50-43F1-B639-F6AC883AB44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76960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два вида оценок на уровне 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в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ования портфеля проектов по стра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и мероприятия ограниченного масштаба направлены на дополнительный охват оценкой страновых портфелей в каждом географическом регионе, где ведёт рабо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уменьшить создаваемую оценками нагрузку на страны, Исследования проводятся параллельно и совместно с оценками деятельности в стране той или иной Организации-исполнителя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шенны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ущиеся и планируемые оценки странового уро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авно завершенные и ведущие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К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ьвадо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верше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мор-Леш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ри-Лан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ду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ланированные на 2013-2015 ф.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зия, Афр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В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F9B-B59C-4AFE-B8EF-863EF9FF9B7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72388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и по темам или межтематически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отраслевые и иные тематические вопросы и особые обз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о завершены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тратегического приоритета в области адаптации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Программы Самооценки национального потенциа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Н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Специального фонда для борьбы с изменением климата (СФБ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уются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ирующе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й для тематических обла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E180-0B71-4A91-B9B6-ED71A3AD6D0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ОАД-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550-FD10-4AD8-99B0-76D5435CE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Управление, ориентированное на результат (УОР), мониторинг и оценка (Ми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оценка 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ровни мониторинга и оценки и ответственные учрежд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олитика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инимальные требо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оль национальных координатор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Направления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и портфеля программ на уровне стран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Пятый общий анализ деятельности ГЭФ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Обмен знания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1859c"/>
                </a:solidFill>
                <a:latin typeface="Calibri"/>
              </a:rPr>
              <a:t>Вопросы и ответ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C3F9-95F8-4B5D-9D88-3EFB064E55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8764-50C1-49CA-BCEE-847DEECBF71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94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портфеля проектов по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иод ГЭФ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влия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Международные воды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зменение климата» и другие тематические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и эффективности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ение и совершенствование процесса годового отчета по эффективности деятельности, а также проведение независимых обзоров эффнк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ие оцен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и для тематических областей и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19240"/>
            <a:ext cx="7924680" cy="97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439640"/>
            <a:ext cx="77724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проверок и рейтинговых оценки итогов проектов и прогресса в направлении достижения долгосрочных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оцесса рефор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ый цикл ГЭФ и механиз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нк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ение внимания к каталитической рол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плане заинтересованного участия и ведущей роли стран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тенденций в сфере глобальных экологических проблем и актуальности деятельности ГЭФ для конвен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более глубокого анализа стратегий для тематических област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устойчивое лесополь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ижение более глубокого понимания характера долговременного воздействия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3A0F-9931-4306-A257-A9240452C11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проектного цикла: эффективность процесса принятия решений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ают ли расширенные семинары характер непрерывного процесса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ещё понадоби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аточно ли онлайнового анкетиров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ретные проблемы субрегионального масшта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773C-1B6D-4552-B771-63A5D527470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440000"/>
            <a:ext cx="685800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О способствует накоплению знаний и совершенствованию организационн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обеспечить целевой аудитории удобный доступ к выводам и уро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ледует разработать и осуществлять динамичную стратегию распространения отчетов об оцен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с выгодой использовать накопленный практически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Содействие формированию культур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именение накопленного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Учет опыта при разработке новых инициат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A49-D6CE-4C84-96AD-1EF3895808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0" y="384120"/>
            <a:ext cx="79246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26E-FACB-4F5E-B2BE-6799C565DFA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D03B-76C7-4BA0-9A1F-5BCCC354DF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</a:rPr>
              <a:t>Спасиб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6E5-277B-42FD-9210-E7C8EC11E7B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9F9-A5F7-41CD-BCEF-FFE043DF17F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25440" y="274680"/>
            <a:ext cx="7918560" cy="792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, ориентированное на результ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достижения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чет  наколпенного опыта при принятии управленческих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ОР в реаль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У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 особенно монитор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показывает, насколько 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продвинулась по пути решения поставленных задач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«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верным 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Verdana"/>
              </a:rPr>
              <a:t>ли курсом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Verdana"/>
              </a:rPr>
              <a:t>следует орган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Calibri"/>
              </a:rPr>
              <a:t>Две главные цели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тчет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стижении целей ГЭФ, оценивая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эффектив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тнеров, участвующих в деятельност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тную связ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мен знания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ГЭФ и его партнерами о результатах и накопленном опыте как основу для принятия решений относительно мер политики, стратегий, управления программами и проектами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 для пополн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шения результативности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C428-1234-4991-8109-6228D3ABAE1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89DB-C686-412D-9EBF-4770BD32B69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39760" y="2109960"/>
            <a:ext cx="7272360" cy="44560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4797000" y="1563120"/>
            <a:ext cx="4210200" cy="4950360"/>
            <a:chOff x="4797000" y="1563120"/>
            <a:chExt cx="4210200" cy="4950360"/>
          </a:xfrm>
        </p:grpSpPr>
        <p:sp>
          <p:nvSpPr>
            <p:cNvPr id="155" name="Rectangle 5"/>
            <p:cNvSpPr/>
            <p:nvPr/>
          </p:nvSpPr>
          <p:spPr>
            <a:xfrm rot="19314600">
              <a:off x="5105520" y="1715760"/>
              <a:ext cx="955440" cy="133092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 rot="19289400">
              <a:off x="5977440" y="2730600"/>
              <a:ext cx="945360" cy="1417680"/>
            </a:xfrm>
            <a:prstGeom prst="rect">
              <a:avLst/>
            </a:prstGeom>
            <a:solidFill>
              <a:srgbClr val="62b28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Отдел по оценке ГЭФ, партнеры по оце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19306800">
              <a:off x="6904440" y="3861720"/>
              <a:ext cx="923040" cy="1436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200" spc="-1" strike="noStrike">
                  <a:solidFill>
                    <a:srgbClr val="ffffff"/>
                  </a:solidFill>
                  <a:latin typeface="Calibri"/>
                </a:rPr>
                <a:t>Секрета-риат ГЭФ, Органи-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19343400">
              <a:off x="7772760" y="5000040"/>
              <a:ext cx="907560" cy="1379880"/>
            </a:xfrm>
            <a:prstGeom prst="rect">
              <a:avLst/>
            </a:prstGeom>
            <a:solidFill>
              <a:srgbClr val="885fa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</a:rPr>
                <a:t>Страны-партнеры, НПО, частный сектор, об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128"/>
          <p:cNvSpPr/>
          <p:nvPr/>
        </p:nvSpPr>
        <p:spPr>
          <a:xfrm>
            <a:off x="1295280" y="13539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Благоприятные усло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9"/>
          <p:cNvSpPr/>
          <p:nvPr/>
        </p:nvSpPr>
        <p:spPr>
          <a:xfrm>
            <a:off x="1905120" y="19810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Над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0"/>
          <p:cNvSpPr/>
          <p:nvPr/>
        </p:nvSpPr>
        <p:spPr>
          <a:xfrm>
            <a:off x="3276720" y="13539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Политика по М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2"/>
          <p:cNvSpPr/>
          <p:nvPr/>
        </p:nvSpPr>
        <p:spPr>
          <a:xfrm>
            <a:off x="6781680" y="27399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000" spc="-1" strike="noStrike">
                <a:solidFill>
                  <a:srgbClr val="008000"/>
                </a:solidFill>
                <a:latin typeface="Calibri"/>
              </a:rPr>
              <a:t>Консуль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295280" y="1066680"/>
            <a:ext cx="7391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7927920" y="2514600"/>
            <a:ext cx="824040" cy="725400"/>
            <a:chOff x="7927920" y="2514600"/>
            <a:chExt cx="824040" cy="725400"/>
          </a:xfrm>
        </p:grpSpPr>
        <p:pic>
          <p:nvPicPr>
            <p:cNvPr id="165" name="Picture 93" descr=""/>
            <p:cNvPicPr/>
            <p:nvPr/>
          </p:nvPicPr>
          <p:blipFill>
            <a:blip r:embed="rId3"/>
            <a:stretch/>
          </p:blipFill>
          <p:spPr>
            <a:xfrm>
              <a:off x="7927920" y="2514600"/>
              <a:ext cx="824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8"/>
            <p:cNvSpPr/>
            <p:nvPr/>
          </p:nvSpPr>
          <p:spPr>
            <a:xfrm>
              <a:off x="8079480" y="2724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ТК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81"/>
          <p:cNvSpPr/>
          <p:nvPr/>
        </p:nvSpPr>
        <p:spPr>
          <a:xfrm>
            <a:off x="2209680" y="1344600"/>
            <a:ext cx="1627200" cy="1093680"/>
          </a:xfrm>
          <a:custGeom>
            <a:avLst/>
            <a:gdLst/>
            <a:ahLst/>
            <a:rect l="l" t="t" r="r" b="b"/>
            <a:pathLst>
              <a:path w="1025" h="689">
                <a:moveTo>
                  <a:pt x="513" y="0"/>
                </a:moveTo>
                <a:lnTo>
                  <a:pt x="0" y="344"/>
                </a:lnTo>
                <a:lnTo>
                  <a:pt x="513" y="689"/>
                </a:lnTo>
                <a:lnTo>
                  <a:pt x="1025" y="344"/>
                </a:lnTo>
                <a:lnTo>
                  <a:pt x="513" y="0"/>
                </a:lnTo>
                <a:close/>
              </a:path>
            </a:pathLst>
          </a:custGeom>
          <a:solidFill>
            <a:srgbClr val="eccece"/>
          </a:solidFill>
          <a:ln cap="rnd" w="144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2694600" y="1752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400" spc="-1" strike="noStrike">
                <a:solidFill>
                  <a:srgbClr val="000000"/>
                </a:solidFill>
                <a:latin typeface="Calibri"/>
              </a:rPr>
              <a:t>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193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зработка планов по мониторингу и оцен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лныйплан МиО с полной сметой расходов одобряет (в случае ПМП) либо утверждает (в случае СМП) И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ет обеспечить корреляцию логических матриц проектов с матрицами результатов по тематическим областям ГЭФ, содержащимися в плане УОР ГЭФ-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существление планов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ниторинг и надзор за осуществлением проекта/программы включает осуществление плана по МИ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ценки проектов/програм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ценке подлежат все полномасштабные и среднемасштабные проекты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тчеты по оценке следует представлять в  Офис по оценке ГЭФ в течение 12 месяцев с момента завершения проект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ланах по МиО необходимо указать, каким образом оперативные координаторы будут участвовать в мероприятиях по мониторингу и оцен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94D-5557-4ADD-AA45-55C81719813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9320" y="244440"/>
            <a:ext cx="7924680" cy="951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1440000"/>
            <a:ext cx="6858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Участие оперативных координаторов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ланах по МиО следует указать, как оперативные координаторы будут участвовать в их ре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х координаторов надлежит информировать о мероприятиях по МиО, в том числе о среднесрочных обзорах и заключительных оценках, направлять им проекты отчетов для комментариев и итоговые версии отч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тивные координаторы приглашаются участвовать в подготовке официальной реакции менеджмента на оценку (если это применим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и ГЭФ следят за выполнением этого требования при осуществлении своих проектов и программ, финансируемых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B1EB-78EF-4249-83E7-454D0E25AA9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9320" y="231840"/>
            <a:ext cx="7924680" cy="96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932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леживать оказание помощи по лини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ировать заинтересованные сторон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ти консультации с ни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о планирования, осуществления и результатов мероприятий ГЭФ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ю о М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ть использование рекомендаций, сформулированных по итогам оценки,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леченных уро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учи первым должностным лицом в стране, с которым устанавливает контак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фис по оценке, оказывать последнему содейств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выявления соответствующих основных 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роведения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помощи в подготовке повестки дня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координации подготовки ответов страны на э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0183-486D-4745-A7DD-EFDAAABCBB2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023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19320" y="1440000"/>
            <a:ext cx="77724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компонент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потенциала мониторинга и оценки воздействия на окружающую среду и экологических тенденций.  РазвитСледует внести этот аспект в число приоритетных направлени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а дейст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наращиванию потенц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действий по наращиванию потенциала следует составить как среднесрочный проект, либо включить его в более широкое проектное предложение, которое будет разрабатываться как ПМП или СМП, причем для СМП следует предусмотреть паритетное софинанс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рассмотрена возможность формирования региональных партнер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4 млн. зарезервировано на цели наращивания потенц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E277-8369-4A61-8F38-85633F8C43E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3T01:37:57Z</dcterms:modified>
  <cp:revision>478</cp:revision>
  <dc:subject/>
  <dc:title>Slide 1</dc:title>
</cp:coreProperties>
</file>