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2686-B226-40A2-85DF-233282DB83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CCA-7815-4C18-8F31-F5EE42F2C8D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BD7B-BD3E-448D-BDC2-CAC8565E39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A2BE-8FBA-4E53-8BF1-A9E0113C92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57D-F04E-45C4-8A57-1402FD8C36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47FF-12C7-4E51-BABD-CEFDB06857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5603-DD19-44AE-A833-F54A98E62A8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1128-B672-4FD7-A69D-FD26B46D89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43F3-2C8C-42EE-B204-5F68B51765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F4A-F1D2-474F-9887-A887D12361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54F4-636E-430F-A25B-6C36199616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A8B-3A24-4BE8-922C-18EB50907E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83B5-9C32-42C3-8A23-41CC1DAF8C2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9E0C-B843-47E5-93B9-F00318F708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286-B2F6-4DDF-BC5F-245164E890BB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A54E-D649-4B15-A8B3-9AE22B15072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A63-0FBF-42C7-A7A1-C96D604EA4C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1B6-CB21-4AE6-9CA9-2E0E10493E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B62-7E42-4759-908F-4E09E42085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E2D-257B-488E-B071-218EB572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4AB-A296-41A3-BEBF-FB7934D3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D57-D45B-4B3B-A378-1613854A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FFC-914A-4FB9-BE81-E05DF677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69C9-B543-4A3B-A174-3B8CF67A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6703-A463-427D-99CB-A57286B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3A35-D55C-4FD6-BEDA-464DB8D4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AA0-6040-484B-BA9A-B533CBED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7375-5C6C-4014-AE37-0FB59233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7754-6BAD-4215-934D-1A104EA5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16B-6D1A-4FC3-A707-4EAD448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390-9D5E-4841-8F48-224A34D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57F5-3C57-4F82-BBE2-0BBA20C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E6E4-F9A1-4844-BC15-1E7AB318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4873-BCC8-42FC-B17C-7B232A7B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E58F-464B-4B2C-89BB-48C4F92F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8B10-54EF-427E-8DB3-090307E6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8A427-2489-4386-A5D7-6D84242E2F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A2D13-EB67-4B83-83D8-D3DC90F1ED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6B2E8-3F59-4F8C-8662-3651CE1503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BD0E4-3468-4A7B-AE57-D605D2ECCD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5913A-94C6-44BE-A4AB-AE4344817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F4D-3D76-4946-B443-80F99EBE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B2479-5132-4192-B1A8-BC4485D211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34263-6576-4AE8-8161-30FA50EA38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2B7AB-C10D-4DFB-822F-F6DA6EE3D9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3878C-2471-4453-9285-B1FE9AA0AA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8BF58-3936-495A-B9F2-B15025EB91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F457D-BDC9-4071-863B-F5FD7B6457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F972A-C5B6-4FF9-9D74-EC91C3C36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DD4-4ED0-4C39-8C78-42B5A558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DD3-0C2B-4AD0-BF71-1277AE95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B16-2E5E-44FE-ACA0-FDB09810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815-6832-4D87-877E-8DC3F75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4A4-9DDB-4C1D-8C54-3B31A265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B6E-73AF-4D63-87FC-0D34D0DD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0873-E241-402B-9814-24A6BAE3EB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2928-F2CD-43E9-9B24-F24276F0C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8AE7-6A43-4383-983A-B24C91F19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B605-852F-4DDC-9D30-E8F728B67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89E9-D5DD-49E2-B8C9-0556B7C96CFF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31859c"/>
                </a:solidFill>
                <a:latin typeface="Calibri"/>
              </a:rPr>
              <a:t>Мониторинг и оценка в ГЭФ 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786040"/>
            <a:ext cx="6626520" cy="3913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94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сем отчетам об оценках и о результативности работы, представляемым Совету ГЭФ Офисом по оценке ГЭФ, требуется официальная реакция руко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имая свои решения, Совет ГЭФ учитывает как результаты оценки, так и официальную реакцию руко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ис по оценке ГЭФ ежегодно представляет отчет об исполнении решений (отчет о мерах, принятых руководст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оценки портфелей проектов, реализуемых в странах, страны также имеют возможность высказать свое мнение Со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DF26-770E-45C1-81AE-8581CABC882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Calibri"/>
              </a:rPr>
              <a:t>Направления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924-75BA-414B-B57D-BE0214E6B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37124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центре внимания оценок эффективности деятельности находятс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циональные и процедурные вопросы во всех тематических областя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ыт осуществления стратегий и принципов политик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годовом отчете об эффективности деятельности  оцениваютс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ог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ойчивость итогов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мониторинга и оценк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осуществления и исполнения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итоговой оценк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этот отчет также включаются периодические обзоры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а «на вход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а надз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ых аспектов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86A-AF60-4514-8791-A58BEB19A41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о завершенные и продолжающиеся обзо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вой отчет об эффективности деятельности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нд планеты Зем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ланированные обзо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вой отчет об эффективности деятельности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срочный обзор СПР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срочный обзор механизма прямого досту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225-6DA3-48D2-88DB-1DCE6D8BE2E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оценки влияния оцениваются положительные и отрицательные, основные и вторичные долгосрочные результаты, произведенные деятельностью непосредственно или косвенно, преднамеренно или непреднамер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ученные темы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ГЭФ в обеспечение воздействия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налы воздействия и факторы, влияющие на обеспечение воздействия в дальнейш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ГЭФ в изменение уровня нагрузки на окружающую сре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ния окружающей среды и социально-экономического по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87B1-1904-4EDB-957A-37B4CB84CF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815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Недавно завершенные и продолжающиеся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оздействия на биоразнообразие в Пе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е вод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жно-Китайское мо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ланируемые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оразнообразие и еще одна тематическая область (пока не определ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завершенных проектов по методик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«анализ трансформации итогов в влияние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10EC-A3BD-4E5E-96DA-7BCD259B7FD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39640"/>
            <a:ext cx="6858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оценок программ на уровне страны проводится оценка помощи, оказываемой ГЭФ стране во всех тематических областя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сем организациям-исполнителя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всех 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ицей анализа является ст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этой оценки оцениваются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актуаль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ГЭФ на страновом уровне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ю установи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колько эффективны эти проекты с точки зрения формирования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кой мере эти результаты соотносятся с национальными программами охраны окружающей среды и устойчивого развития, а также с миссией ГЭФ по обеспечению глобальных благ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CC31-D9B6-4172-8ECD-4547D4CA220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769608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ет два вида оценок на уровне 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портфеля проектов в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ования портфеля проектов по стра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и мероприятия ограниченного масштаба направлены на дополнительный охват оценкой страновых портфелей в каждом географическом регионе, где ведёт рабо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уменьшить создаваемую оценками нагрузку на страны, Исследования проводятся параллельно и совместно с оценками деятельности в стране той или иной Организации-исполнителя 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ршенны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ущиеся и планируемые оценки странового уровн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авно завершенные и ведущие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карагу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К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львадо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верше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мор-Леш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ри-Лан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еду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ланированные на 2013-2015 ф.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зия, Афр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В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A8E9-EA01-48D0-BB41-D08072A95E3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72388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и по темам или межтематическим вопрос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и для тематических област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отраслевые и иные тематические вопросы и особые обз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о завершены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Стратегического приоритета в области адаптации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Программы Самооценки национального потенциа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Н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Специального фонда для борьбы с изменением климата (СФБИ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уются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ирующе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й для тематических обла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F3D-3470-488B-9345-AFCD5D3D58C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Пятый Общий анализ деятельности ГЭФ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ОАД-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9175-C0BE-46DD-893F-C3C4B2BB9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Управление, ориентированное на результат (УОР), мониторинг и оценка (МиО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ниторинг и оценка в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ровни мониторинга и оценки и ответственные учрежд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Политика по мониторингу и оцен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инимальные требова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оль национальных координатор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Направления оценк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эффективности деятельност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влия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портфеля программ на уровне стран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ематические оценк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Пятый общий анализ деятельности ГЭФ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Обмен знания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Вопросы и ответ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84CB-5022-4DFC-A9B4-6B56BC77C6F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AFDD-E0A4-4A24-B4C5-A4E5DD997DF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94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портфеля проектов по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ериод ГЭФ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влия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Международные воды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зменение климата» и другие тематические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эффективности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ение и совершенствование процесса годового отчета по эффективности деятельности, а также проведение независимых обзоров эффнктивности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ие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и для тематических областей и адап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19240"/>
            <a:ext cx="7924680" cy="97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439640"/>
            <a:ext cx="77724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проверок и рейтинговых оценки итогов проектов и прогресса в направлении достижения долгосрочных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процесса рефор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ый цикл ГЭФ и механиз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й досту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нк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иление внимания к каталитической рол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тенденций в плане заинтересованного участия и ведущей роли стран в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тенденций в сфере глобальных экологических проблем и актуальности деятельности ГЭФ для конвен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более глубокого анализа стратегий для тематических област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я устойчивое лесополь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ижение более глубокого понимания характера долговременного воздействия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212-828E-4661-A29B-3054B88B015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просы проектного цикла: эффективность процесса принятия решений в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ают ли расширенные семинары характер непрерывного процесса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ещё понадоби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аточно ли онлайнового анкетиров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кретные проблемы субрегионального масшта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33D-4CDE-4249-9A88-5D0946A1833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9320" y="1440000"/>
            <a:ext cx="685800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О способствует накоплению знаний и совершенствованию организационной структу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ледует обеспечить целевой аудитории удобный доступ к выводам и уро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ледует разработать и осуществлять динамичную стратегию распространения отчетов об оцен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с выгодой использовать накопленный практический опы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одействие формированию культур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рименение накопленного опы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Учет опыта при разработке новых инициати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3EA9-9205-4358-9649-E8D76A4262D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0" y="384120"/>
            <a:ext cx="79246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F2C-4F1D-4A21-B6BF-6773ECE8D83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18A7-F32C-482C-9F98-81633CB45A4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Спасиб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6C8A-186C-4E1F-A6A4-9CE07519EFB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8FD5-5E3B-41DE-8953-3043E11D0D5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, ориентированное на результ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достижения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чет  наколпенного опыта при принятии управленческих ре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ОР в реаль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 особенно монитор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показывает, насколько орган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«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продвинулась по пути решения поставленных задач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«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верным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ли курсом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следует орган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Calibri"/>
              </a:rPr>
              <a:t>Две главные цели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тчет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остижении целей ГЭФ, оценивая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эффектив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тнеров, участвующих в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тную связ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мен знания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ГЭФ и его партнерами о результатах и накопленном опыте как основу для принятия решений относительно мер политики, стратегий, управления программами и проектами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 для пополн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н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ышения результативности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CC9-6B89-4D7F-BBF2-865B2400BA5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47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3A93-3BA7-4F8F-B139-09DA1764C16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39760" y="2109960"/>
            <a:ext cx="7272360" cy="445608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4797000" y="1563120"/>
            <a:ext cx="4210200" cy="4950360"/>
            <a:chOff x="4797000" y="1563120"/>
            <a:chExt cx="4210200" cy="4950360"/>
          </a:xfrm>
        </p:grpSpPr>
        <p:sp>
          <p:nvSpPr>
            <p:cNvPr id="155" name="Rectangle 5"/>
            <p:cNvSpPr/>
            <p:nvPr/>
          </p:nvSpPr>
          <p:spPr>
            <a:xfrm rot="19314600">
              <a:off x="5105520" y="1715760"/>
              <a:ext cx="955440" cy="133092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Отдел по оценке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 rot="19289400">
              <a:off x="5977440" y="2730600"/>
              <a:ext cx="945360" cy="1417680"/>
            </a:xfrm>
            <a:prstGeom prst="rect">
              <a:avLst/>
            </a:prstGeom>
            <a:solidFill>
              <a:srgbClr val="62b28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Отдел по оценке ГЭФ, партнеры по оце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19306800">
              <a:off x="6904440" y="3861720"/>
              <a:ext cx="923040" cy="1436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200" spc="-1" strike="noStrike">
                  <a:solidFill>
                    <a:srgbClr val="ffffff"/>
                  </a:solidFill>
                  <a:latin typeface="Calibri"/>
                </a:rPr>
                <a:t>Секрета-риат ГЭФ, Органи-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19343400">
              <a:off x="7772760" y="5000040"/>
              <a:ext cx="907560" cy="1379880"/>
            </a:xfrm>
            <a:prstGeom prst="rect">
              <a:avLst/>
            </a:prstGeom>
            <a:solidFill>
              <a:srgbClr val="885fa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Страны-партнеры, НПО, частный сектор, об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128"/>
          <p:cNvSpPr/>
          <p:nvPr/>
        </p:nvSpPr>
        <p:spPr>
          <a:xfrm>
            <a:off x="1295280" y="13539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Благоприятные усло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9"/>
          <p:cNvSpPr/>
          <p:nvPr/>
        </p:nvSpPr>
        <p:spPr>
          <a:xfrm>
            <a:off x="1905120" y="19810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Над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0"/>
          <p:cNvSpPr/>
          <p:nvPr/>
        </p:nvSpPr>
        <p:spPr>
          <a:xfrm>
            <a:off x="3276720" y="13539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Политика по Ми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2"/>
          <p:cNvSpPr/>
          <p:nvPr/>
        </p:nvSpPr>
        <p:spPr>
          <a:xfrm>
            <a:off x="6781680" y="27399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Консульт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295280" y="1066680"/>
            <a:ext cx="73915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7927920" y="2514600"/>
            <a:ext cx="824040" cy="725400"/>
            <a:chOff x="7927920" y="2514600"/>
            <a:chExt cx="824040" cy="725400"/>
          </a:xfrm>
        </p:grpSpPr>
        <p:pic>
          <p:nvPicPr>
            <p:cNvPr id="165" name="Picture 93" descr=""/>
            <p:cNvPicPr/>
            <p:nvPr/>
          </p:nvPicPr>
          <p:blipFill>
            <a:blip r:embed="rId3"/>
            <a:stretch/>
          </p:blipFill>
          <p:spPr>
            <a:xfrm>
              <a:off x="7927920" y="2514600"/>
              <a:ext cx="824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8"/>
            <p:cNvSpPr/>
            <p:nvPr/>
          </p:nvSpPr>
          <p:spPr>
            <a:xfrm>
              <a:off x="8079480" y="27241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ТК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81"/>
          <p:cNvSpPr/>
          <p:nvPr/>
        </p:nvSpPr>
        <p:spPr>
          <a:xfrm>
            <a:off x="2209680" y="1344600"/>
            <a:ext cx="1627200" cy="1093680"/>
          </a:xfrm>
          <a:custGeom>
            <a:avLst/>
            <a:gdLst/>
            <a:ahLst/>
            <a:rect l="l" t="t" r="r" b="b"/>
            <a:pathLst>
              <a:path w="1025" h="689">
                <a:moveTo>
                  <a:pt x="513" y="0"/>
                </a:moveTo>
                <a:lnTo>
                  <a:pt x="0" y="344"/>
                </a:lnTo>
                <a:lnTo>
                  <a:pt x="513" y="689"/>
                </a:lnTo>
                <a:lnTo>
                  <a:pt x="1025" y="344"/>
                </a:lnTo>
                <a:lnTo>
                  <a:pt x="513" y="0"/>
                </a:lnTo>
                <a:close/>
              </a:path>
            </a:pathLst>
          </a:custGeom>
          <a:solidFill>
            <a:srgbClr val="eccece"/>
          </a:solidFill>
          <a:ln cap="rnd" w="144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2694600" y="17524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400" spc="-1" strike="noStrike">
                <a:solidFill>
                  <a:srgbClr val="000000"/>
                </a:solidFill>
                <a:latin typeface="Calibri"/>
              </a:rPr>
              <a:t>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2193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зработка планов по мониторингу и оцен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лныйплан МиО с полной сметой расходов одобряет (в случае ПМП) либо утверждает (в случае СМП) И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ледует обеспечить корреляцию логических матриц проектов с матрицами результатов по тематическим областям ГЭФ, содержащимися в плане УОР ГЭФ-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существление планов по Ми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ниторинг и надзор за осуществлением проекта/программы включает осуществление плана по МИ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ценки проектов/програм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е подлежат все полномасштабные и среднемасштаб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тчеты по оценке следует представлять в  Офис по оценке ГЭФ в течение 12 месяцев с момента завершения проект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планах по МиО необходимо указать, каким образом оперативные координаторы будут участвовать в мероприятиях по мониторингу и оценк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C9D5-6D2C-464B-9453-E36CAE7E1D7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9320" y="244440"/>
            <a:ext cx="7924680" cy="951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1440000"/>
            <a:ext cx="68580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Участие оперативных координаторов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ланах по МиО следует указать, как оперативные координаторы будут участвовать в их реал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тивных координаторов надлежит информировать о мероприятиях по МиО, в том числе о среднесрочных обзорах и заключительных оценках, направлять им проекты отчетов для комментариев и итоговые версии отч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тивные координаторы приглашаются участвовать в подготовке официальной реакции менеджмента на оценку (если это применим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и ГЭФ следят за выполнением этого требования при осуществлении своих проектов и программ, финансируемых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FBE-755D-47F8-AE29-7FD6F11E734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9320" y="231840"/>
            <a:ext cx="7924680" cy="963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9320" y="11426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слеживать оказание помощи по лини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ировать заинтересованные сторон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ти консультации с ни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о планирования, осуществления и результатов мероприятий ГЭФ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ю о Ми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ть использование рекомендаций, сформулированных по итогам оценки,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влеченных уро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учи первым должностным лицом в стране, с которым устанавливает контак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фис по оценке, оказывать последнему содейств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выявления соответствующих основных заинтересованных сто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координации проведения совещ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омощи в подготовке повестки дня меро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координации подготовки ответов страны на э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B6F-5C4F-419A-9A8D-DC0A2BFF923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023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19320" y="1440000"/>
            <a:ext cx="77724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компонент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потенциала мониторинга и оценки воздействия на окружающую среду и экологических тенденций.  РазвитСледует внести этот аспект в число приоритетных направлени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а действ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наращиванию потенц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действий по наращиванию потенциала следует составить как среднесрочный проект, либо включить его в более широкое проектное предложение, которое будет разрабатываться как ПМП или СМП, причем для СМП следует предусмотреть паритетное софинанс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рассмотрена возможность формирования региональных партнер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4 млн. зарезервировано на цели наращивания потенц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8F30-E487-41B9-9BE8-CB27EA63EE6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1:37:57Z</dcterms:modified>
  <cp:revision>478</cp:revision>
  <dc:subject/>
  <dc:title>Slide 1</dc:title>
</cp:coreProperties>
</file>