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4F84-1173-4402-A2E6-DB86E03D9EB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DHWA, Balji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7C78-2822-417F-899F-EA508391FF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2456-4B61-4B08-8E99-002AE96118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67AA-F18E-44BA-8266-BC6ED4675F6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CF14-6322-4651-AA16-06968CE66B8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5818-13E3-44AC-9453-609D41C1F2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BB26-AE84-4058-BAE1-E28BB0E27D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33D0-E7C7-4A6E-B7DC-69FAD1FD91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5F40-925F-4D63-A96C-74548389873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E6B2-1B87-4F7D-9ACA-5CF41F3D00F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A283-D9AC-4DA9-A338-C1DB755740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55FC-4F78-4723-AFE9-9AB9126EF71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2517-2C69-4784-909A-EB88A1DE9B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EE91-183D-4BCB-AC34-3CD9591750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6291-4F93-46B0-97C0-9108FDAA9D26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922E-6ACA-4ED9-AE44-9B20460159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64DC-F37B-47D7-923B-808C8175986D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1B0F-2E34-4899-9354-1F7D1469F9A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C4F2-B0A1-496E-9353-7B1EB548AB9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474-9F0A-4CD3-AAF0-EB891703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395-AD4E-4F4E-8A7E-D9250CBF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B73-4F15-4CA3-95C0-F9A2DBB4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BC7-4AA1-4287-86E4-9FB32BF3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5C21-4EE2-4A9B-83AF-DC71ECE9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C27F-2442-4FD7-A230-ADFC8899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198C-F86B-446A-A179-99B7F0C4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4DEE-9AA1-4BD8-A6F9-86CC375C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3F86-53B9-4C5C-AFFB-FDF8F21C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0CA9-3ADA-4C26-95ED-98E1CFE0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C6F5-D597-406E-90D4-C2CC13E8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BA1-659C-49D5-9ECC-BDA9C1FB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0B0B-69C0-4F7F-9F9A-CAFB43F4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2B24-F7DD-4EEE-884D-1BF1DC2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1279-6EA0-43BF-AC80-AECF0C1C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7C4B-94B7-4768-8C88-2DAE5663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A978-7F2D-4EAF-96CD-4D8C3F23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9E4A1-550E-44A9-9090-96D40A0129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BEDA3-5F61-40B3-B800-08295B7F04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73718-F21F-4B83-A8BC-CA18599490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A7341-E880-4376-9230-D599E08DF4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31267-8D12-4EB4-9FE8-5F2E75DF3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883-EE4C-4F0E-B6AC-E7B876D3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6252F-0D1D-4699-90A1-6AD9D6D97C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05784-9767-453C-9932-E3A362317B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43328-F1BD-47CB-A967-93F175C6DC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4F320-5704-4A6C-A302-A193775E94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F613B-8B1C-43B0-9FEA-7680169A6D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DBE3A-7415-47D8-A8CE-050D06F885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2FA6F-0B76-4DB4-B32D-59FB1AAFB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B15-647A-4F4B-A798-559A11CE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6B5-164F-4EF4-8993-810F1E90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BE4-898C-4D21-851B-770B3F6B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710-5A5D-4857-91A7-87E34F55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42B-F7A7-4D80-A3EC-E7A02796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412-E686-482F-9910-D3689D0E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C754-B627-4B0B-B21E-B7F4764E80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4DD5-83F5-48CC-A4B6-52CB766BB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3D14-C95A-4B46-9DED-C730005B4A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349A-3FB2-4B11-959B-932828E27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96E3-6BFC-4644-892F-6BCA5613B60D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31859c"/>
                </a:solidFill>
                <a:latin typeface="Calibri"/>
              </a:rPr>
              <a:t>Мониторинг и оценка в ГЭФ 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50800" y="2786040"/>
            <a:ext cx="6626520" cy="39132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944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всем отчетам об оценках и о результативности работы, представляемым Совету ГЭФ Офисом по оценке ГЭФ, требуется официальная реакция руково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имая свои решения, Совет ГЭФ учитывает как результаты оценки, так и официальную реакцию руково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ис по оценке ГЭФ ежегодно представляет отчет об исполнении решений (отчет о мерах, принятых руководств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оценки портфелей проектов, реализуемых в странах, страны также имеют возможность высказать свое мнение Сове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790E-3001-44F2-B852-B062F2E7D60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Calibri"/>
              </a:rPr>
              <a:t>Направления оце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ED5F-4E8C-473A-91DA-E49360684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371240" y="12193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центре внимания оценок эффективности деятельности находятся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итуциональные и процедурные вопросы во всех тематических областях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ыт осуществления стратегий и принципов политик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годовом отчете об эффективности деятельности  оцениваются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оги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ойчивость итогов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мониторинга и оценки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осуществления и исполнения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итоговой оценки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этот отчет также включаются периодические обзоры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а «на вход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а надз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финанс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ых аспектов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0C80-E229-48E4-9217-7F20C4B8626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1218960" y="1440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авно завершенные и продолжающиеся обзо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овой отчет об эффективности деятельности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нд планеты Зем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ланированные обзо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овой отчет об эффективности деятельности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срочный обзор СПР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срочный обзор механизма прямого досту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CA43-E4B7-4611-B70A-D8252BFAB00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оценки влияния оцениваются положительные и отрицательные, основные и вторичные долгосрочные результаты, произведенные деятельностью непосредственно или косвенно, преднамеренно или непреднамер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ученные темы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ад ГЭФ в обеспечение воздействия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налы воздействия и факторы, влияющие на обеспечение воздействия в дальнейш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ад ГЭФ в изменение уровня нагрузки на окружающую сре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ояния окружающей среды и социально-экономического пол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9C7B-3E38-41F6-9EA3-8357E19B59D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815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Недавно завершенные и продолжающиеся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воздействия на биоразнообразие в Пе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народные воды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Южно-Китайское мор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ланируемые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оразнообразие и еще одна тематическая область (пока не определе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завершенных проектов по методик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«анализ трансформации итогов в влияние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53F1-07AD-4932-A0B4-F9FCCBF00E4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219320" y="1439640"/>
            <a:ext cx="68580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оценок программ на уровне страны проводится оценка помощи, оказываемой ГЭФ стране во всех тематических областях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всем организациям-исполнителям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всех проектов и програ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диницей анализа является стр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этой оценки оцениваются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актуаль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ГЭФ на страновом уровне 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ю установи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колько эффективны эти проекты с точки зрения формирования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кой мере эти результаты соотносятся с национальными программами охраны окружающей среды и устойчивого развития, а также с миссией ГЭФ по обеспечению глобальных благ для окружающей сре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A680-8DE8-405D-9AD8-2CBC9E69F4F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9320" y="1440000"/>
            <a:ext cx="769608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ует два вида оценок на уровне стра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масштабны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портфеля проектов в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следования портфеля проектов по стра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эти мероприятия ограниченного масштаба направлены на дополнительный охват оценкой страновых портфелей в каждом географическом регионе, где ведёт работу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уменьшить создаваемую оценками нагрузку на страны, Исследования проводятся параллельно и совместно с оценками деятельности в стране той или иной Организации-исполнителя 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ершенны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ущиеся и планируемые оценки странового уровн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давно завершенные и ведущие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карагу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К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май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львадо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аверше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азил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мор-Леш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ри-Ланк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едут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ланированные на 2013-2015 ф.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зия, Афр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В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4062-2FFF-4D90-A7F2-C5CFD263EF8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1439640"/>
            <a:ext cx="72388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и по темам или межтематическим вопрос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и для тематических област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отраслевые и иные тематические вопросы и особые обз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авно завершены оцен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Стратегического приоритета в области адаптации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Программы Самооценки национального потенциал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Н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Специального фонда для борьбы с изменением климата (СФБИ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ируются оцен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мулирующе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й для тематических обла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B173-CF0E-4D6E-B7E1-D1B0306E355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Calibri"/>
              </a:rPr>
              <a:t>Пятый Общий анализ деятельности ГЭФ</a:t>
            </a:r>
            <a:br>
              <a:rPr sz="4000"/>
            </a:b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31859c"/>
                </a:solidFill>
                <a:latin typeface="Calibri"/>
              </a:rPr>
              <a:t>ОАД-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8364-4F34-49EC-80E5-F9BDF7955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Управление, ориентированное на результат (УОР), мониторинг и оценка (МиО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ониторинг и оценка в ГЭФ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ровни мониторинга и оценки и ответственные учрежде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Политика по мониторингу и оцен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инимальные требова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оль национальных координатор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Направления оценк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и эффективности деятельност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и влия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и портфеля программ на уровне стран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ематические оценк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Пятый общий анализ деятельности ГЭФ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Обмен знаниям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Вопросы и ответ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847C-119E-4937-821F-4CEF9E8B609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DF88-BFCB-44BF-891E-547AF4F1102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94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295280" y="1439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олидация и укрепление четырех направлений по оцен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портфеля проектов по 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ериод ГЭФ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влия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Международные воды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Изменение климата» и другие тематические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эффективности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олжение и совершенствование процесса годового отчета по эффективности деятельности, а также проведение независимых обзоров эффнктивности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ие оцен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и для тематических областей и адапт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19240"/>
            <a:ext cx="7924680" cy="976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219320" y="1439640"/>
            <a:ext cx="77724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проверок и рейтинговых оценки итогов проектов и прогресса в направлении достижения долгосрочных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процесса рефор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ный цикл ГЭФ и механиз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й досту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нк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иление внимания к каталитической рол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тенденций в плане заинтересованного участия и ведущей роли стран в деятельност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тенденций в сфере глобальных экологических проблем и актуальности деятельности ГЭФ для конвен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более глубокого анализа стратегий для тематических област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я устойчивое лесополь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ижение более глубокого понимания характера долговременного воздействия деятельност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3494-A79D-4A3B-AEBC-F981EF4BEE4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просы проектного цикла: эффективность процесса принятия решений в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ультации с заинтересованными сторона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ают ли расширенные семинары характер непрерывного процесса консульта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ещё понадобит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аточно ли онлайнового анкетирова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и региональные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кретные проблемы субрегионального масшта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F38B-2A5D-46DE-80A2-96C822E586B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219320" y="1440000"/>
            <a:ext cx="685800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О способствует накоплению знаний и совершенствованию организационной структу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Следует обеспечить целевой аудитории удобный доступ к выводам и урок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Следует разработать и осуществлять динамичную стратегию распространения отчетов об оцен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мен знаниями позволяет партнерам с выгодой использовать накопленный практический опы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 управления знаниями в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Содействие формированию культур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рименение накопленного опы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Учет опыта при разработке новых инициати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31DB-31DF-44E0-A185-8AAA8DD1319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0" y="384120"/>
            <a:ext cx="792468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изменений климата и развит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мен практиками в области оценки изменений климата и развит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0+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лен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струменты для участия он-лай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Вебсайт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Группа в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Социльные меди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Бюллет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1E98-2C0D-41EC-8122-73F3D35162B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3"/>
          <a:stretch/>
        </p:blipFill>
        <p:spPr>
          <a:xfrm>
            <a:off x="7848720" y="304920"/>
            <a:ext cx="1036440" cy="10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8503-DC16-4C73-BCDF-A7BD64545C9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Calibri"/>
              </a:rPr>
              <a:t>Спасиб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6A96-0E3E-41FC-936B-4A7094A7901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824-16BB-40B3-87B2-00157C38A61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25440" y="274680"/>
            <a:ext cx="7918560" cy="79200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Управление, ориентированное на результ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определение целей и зада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мониторинг достижения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учет  наколпенного опыта при принятии управленческих ре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– это проверка УОР в реаль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У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 особенно мониторин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показывает, насколько организац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«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продвинулась по пути решения поставленных задач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может показать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«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верным 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ли курсом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следует орган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Calibri"/>
              </a:rPr>
              <a:t>Две главные цели</a:t>
            </a:r>
            <a:r>
              <a:rPr b="0" lang="en-US" sz="26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отчет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остижении целей ГЭФ, оценивая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эффектив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деятель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тнеров, участвующих в деятельност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ощря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тную связ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мен знания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 ГЭФ и его партнерами о результатах и накопленном опыте как основу для принятия решений относительно мер политики, стратегий, управления программами и проектами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 для пополн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н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ышения результативности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D7A0-42A8-42B8-A7B9-3B6349AFE02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7924680" cy="8478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D430-4765-4D74-86BB-4AB296A05EC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39760" y="2109960"/>
            <a:ext cx="7272360" cy="445608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9"/>
          <p:cNvGrpSpPr/>
          <p:nvPr/>
        </p:nvGrpSpPr>
        <p:grpSpPr>
          <a:xfrm>
            <a:off x="4797000" y="1563120"/>
            <a:ext cx="4210200" cy="4950360"/>
            <a:chOff x="4797000" y="1563120"/>
            <a:chExt cx="4210200" cy="4950360"/>
          </a:xfrm>
        </p:grpSpPr>
        <p:sp>
          <p:nvSpPr>
            <p:cNvPr id="155" name="Rectangle 5"/>
            <p:cNvSpPr/>
            <p:nvPr/>
          </p:nvSpPr>
          <p:spPr>
            <a:xfrm rot="19314600">
              <a:off x="5105520" y="1715760"/>
              <a:ext cx="955440" cy="133092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Отдел по оценке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 rot="19289400">
              <a:off x="5977440" y="2730600"/>
              <a:ext cx="945360" cy="1417680"/>
            </a:xfrm>
            <a:prstGeom prst="rect">
              <a:avLst/>
            </a:prstGeom>
            <a:solidFill>
              <a:srgbClr val="62b28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Отдел по оценке ГЭФ, партнеры по оцен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 rot="19306800">
              <a:off x="6904440" y="3861720"/>
              <a:ext cx="923040" cy="1436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200" spc="-1" strike="noStrike">
                  <a:solidFill>
                    <a:srgbClr val="ffffff"/>
                  </a:solidFill>
                  <a:latin typeface="Calibri"/>
                </a:rPr>
                <a:t>Секрета-риат ГЭФ, Органи-зации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 rot="19343400">
              <a:off x="7772760" y="5000040"/>
              <a:ext cx="907560" cy="1379880"/>
            </a:xfrm>
            <a:prstGeom prst="rect">
              <a:avLst/>
            </a:prstGeom>
            <a:solidFill>
              <a:srgbClr val="885fa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Страны-партнеры, НПО, частный сектор, общ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128"/>
          <p:cNvSpPr/>
          <p:nvPr/>
        </p:nvSpPr>
        <p:spPr>
          <a:xfrm>
            <a:off x="1295280" y="13539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Благоприятные услов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9"/>
          <p:cNvSpPr/>
          <p:nvPr/>
        </p:nvSpPr>
        <p:spPr>
          <a:xfrm>
            <a:off x="1905120" y="19810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Надз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0"/>
          <p:cNvSpPr/>
          <p:nvPr/>
        </p:nvSpPr>
        <p:spPr>
          <a:xfrm>
            <a:off x="3276720" y="13539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Политика по Ми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2"/>
          <p:cNvSpPr/>
          <p:nvPr/>
        </p:nvSpPr>
        <p:spPr>
          <a:xfrm>
            <a:off x="6781680" y="27399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Консульт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295280" y="1066680"/>
            <a:ext cx="73915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9"/>
          <p:cNvGrpSpPr/>
          <p:nvPr/>
        </p:nvGrpSpPr>
        <p:grpSpPr>
          <a:xfrm>
            <a:off x="7927920" y="2514600"/>
            <a:ext cx="824040" cy="725400"/>
            <a:chOff x="7927920" y="2514600"/>
            <a:chExt cx="824040" cy="725400"/>
          </a:xfrm>
        </p:grpSpPr>
        <p:pic>
          <p:nvPicPr>
            <p:cNvPr id="165" name="Picture 93" descr=""/>
            <p:cNvPicPr/>
            <p:nvPr/>
          </p:nvPicPr>
          <p:blipFill>
            <a:blip r:embed="rId3"/>
            <a:stretch/>
          </p:blipFill>
          <p:spPr>
            <a:xfrm>
              <a:off x="7927920" y="2514600"/>
              <a:ext cx="8240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8"/>
            <p:cNvSpPr/>
            <p:nvPr/>
          </p:nvSpPr>
          <p:spPr>
            <a:xfrm>
              <a:off x="8079480" y="27241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ТК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reeform 81"/>
          <p:cNvSpPr/>
          <p:nvPr/>
        </p:nvSpPr>
        <p:spPr>
          <a:xfrm>
            <a:off x="2209680" y="1344600"/>
            <a:ext cx="1627200" cy="1093680"/>
          </a:xfrm>
          <a:custGeom>
            <a:avLst/>
            <a:gdLst/>
            <a:ahLst/>
            <a:rect l="l" t="t" r="r" b="b"/>
            <a:pathLst>
              <a:path w="1025" h="689">
                <a:moveTo>
                  <a:pt x="513" y="0"/>
                </a:moveTo>
                <a:lnTo>
                  <a:pt x="0" y="344"/>
                </a:lnTo>
                <a:lnTo>
                  <a:pt x="513" y="689"/>
                </a:lnTo>
                <a:lnTo>
                  <a:pt x="1025" y="344"/>
                </a:lnTo>
                <a:lnTo>
                  <a:pt x="513" y="0"/>
                </a:lnTo>
                <a:close/>
              </a:path>
            </a:pathLst>
          </a:custGeom>
          <a:solidFill>
            <a:srgbClr val="eccece"/>
          </a:solidFill>
          <a:ln cap="rnd" w="144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2"/>
          <p:cNvSpPr/>
          <p:nvPr/>
        </p:nvSpPr>
        <p:spPr>
          <a:xfrm>
            <a:off x="2694600" y="175248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400" spc="-1" strike="noStrike">
                <a:solidFill>
                  <a:srgbClr val="000000"/>
                </a:solidFill>
                <a:latin typeface="Calibri"/>
              </a:rPr>
              <a:t>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2193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зработка планов по мониторингу и оцен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лныйплан МиО с полной сметой расходов одобряет (в случае ПМП) либо утверждает (в случае СМП) ИД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ледует обеспечить корреляцию логических матриц проектов с матрицами результатов по тематическим областям ГЭФ, содержащимися в плане УОР ГЭФ-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существление планов по Ми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ониторинг и надзор за осуществлением проекта/программы включает осуществление плана по МИ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ценки проектов/програм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е подлежат все полномасштабные и среднемасштабные проекты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тчеты по оценке следует представлять в  Офис по оценке ГЭФ в течение 12 месяцев с момента завершения проект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Участие оперативных координаторов ГЭФ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планах по МиО необходимо указать, каким образом оперативные координаторы будут участвовать в мероприятиях по мониторингу и оценк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EC5E-FC27-4FCC-A8E5-0444DEFDB22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1"/>
          <a:stretch/>
        </p:blipFill>
        <p:spPr>
          <a:xfrm>
            <a:off x="1219320" y="244440"/>
            <a:ext cx="7924680" cy="951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219320" y="1440000"/>
            <a:ext cx="685800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Calibri"/>
              </a:rPr>
              <a:t>Участие оперативных координаторов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ланах по МиО следует указать, как оперативные координаторы будут участвовать в их реал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тивных координаторов надлежит информировать о мероприятиях по МиО, в том числе о среднесрочных обзорах и заключительных оценках, направлять им проекты отчетов для комментариев и итоговые версии отче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тивные координаторы приглашаются участвовать в подготовке официальной реакции менеджмента на оценку (если это применим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и ГЭФ следят за выполнением этого требования при осуществлении своих проектов и программ, финансируемых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1FC-778A-4C8C-AC77-B61FEAE8951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1219320" y="231840"/>
            <a:ext cx="7924680" cy="963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219320" y="11426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слеживать оказание помощи по лини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ациональном уро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ировать заинтересованные сторон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сти консультации с ни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о планирования, осуществления и результатов мероприятий ГЭФ в ст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пространя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ю о Ми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ощрять использование рекомендаций, сформулированных по итогам оценки,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влеченных уро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учи первым должностным лицом в стране, с которым устанавливает контак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фис по оценке, оказывать последнему содейств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выявления соответствующих основных заинтересованных стор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координации проведения совещ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омощи в подготовке повестки дня меро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координации подготовки ответов страны на эти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0D76-C53D-414D-AD53-20B9F7A0A0F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023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219320" y="1440000"/>
            <a:ext cx="77724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компонент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потенциала мониторинга и оценки воздействия на окружающую среду и экологических тенденций.  РазвитСледует внести этот аспект в число приоритетных направлени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а действ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наращиванию потенц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 действий по наращиванию потенциала следует составить как среднесрочный проект, либо включить его в более широкое проектное предложение, которое будет разрабатываться как ПМП или СМП, причем для СМП следует предусмотреть паритетное софинанс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быть рассмотрена возможность формирования региональных партнер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4 млн. зарезервировано на цели наращивания потенц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2BFB-8277-4AF4-95DF-BA4958FC4EE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3T01:37:57Z</dcterms:modified>
  <cp:revision>478</cp:revision>
  <dc:subject/>
  <dc:title>Slide 1</dc:title>
</cp:coreProperties>
</file>