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dt" idx="13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dc8e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14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 type="sldNum" idx="15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ar-SA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33A1199-0004-4C10-B65B-53A50D71D827}" type="slidenum">
              <a:rPr b="0" lang="ar-SA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4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rtl="1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AC59D85F-4D10-400C-8ED2-3BA99F534E63}" type="slidenum">
              <a:rPr b="0" lang="ar-SA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88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 rtl="1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ar-SA" sz="1300" spc="-1" strike="noStrike">
                <a:solidFill>
                  <a:srgbClr val="e4dcc4"/>
                </a:solidFill>
                <a:latin typeface="Arial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4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rtl="1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EC95B101-C2FD-4BAF-AB90-07168275415E}" type="slidenum">
              <a:rPr b="0" lang="ar-SA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92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 rtl="1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ar-SA" sz="1300" spc="-1" strike="noStrike">
                <a:solidFill>
                  <a:srgbClr val="e4dcc4"/>
                </a:solidFill>
                <a:latin typeface="Arial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4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rtl="1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D1EC53E8-7E84-4750-8660-D0DB9A6F57D3}" type="slidenum">
              <a:rPr b="0" lang="ar-SA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96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 rtl="1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ar-SA" sz="1300" spc="-1" strike="noStrike">
                <a:solidFill>
                  <a:srgbClr val="e4dcc4"/>
                </a:solidFill>
                <a:latin typeface="Arial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4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rtl="1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F0458A89-7C3D-47C7-8769-762C5B9B7C82}" type="slidenum">
              <a:rPr b="0" lang="ar-SA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00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 rtl="1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ar-SA" sz="1300" spc="-1" strike="noStrike">
                <a:solidFill>
                  <a:srgbClr val="e4dcc4"/>
                </a:solidFill>
                <a:latin typeface="Arial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4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rtl="1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65FA2C28-8AA5-4BF7-83C6-FDC1860A0E97}" type="slidenum">
              <a:rPr b="0" lang="ar-SA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04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 rtl="1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ar-SA" sz="1300" spc="-1" strike="noStrike">
                <a:solidFill>
                  <a:srgbClr val="e4dcc4"/>
                </a:solidFill>
                <a:latin typeface="Arial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2DA43-66B0-4C09-AE4F-C1C7112CACC5}" type="slidenum">
              <a:rPr b="0" lang="ar-SA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08" name="Slide Number Placeholder 5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rtl="1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B57AEA20-B23D-473B-AC00-160E508993B7}" type="slidenum">
              <a:rPr b="0" lang="ar-SA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09" name="Header Placeholder 7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 rtl="1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ar-SA" sz="1300" spc="-1" strike="noStrike">
                <a:solidFill>
                  <a:srgbClr val="e4dcc4"/>
                </a:solidFill>
                <a:latin typeface="Arial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6357C-4E76-47BA-B33E-0F31CAF9EE5F}" type="slidenum">
              <a:rPr b="0" lang="ar-SA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13" name="Slide Number Placeholder 5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rtl="1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1A69F6FA-BDA2-4EC2-9342-BB8DF892DE58}" type="slidenum">
              <a:rPr b="0" lang="ar-SA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14" name="Header Placeholder 7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 rtl="1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ar-SA" sz="1300" spc="-1" strike="noStrike">
                <a:solidFill>
                  <a:srgbClr val="e4dcc4"/>
                </a:solidFill>
                <a:latin typeface="Arial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0DE49-9415-480F-B04D-40E103E1942F}" type="slidenum">
              <a:rPr b="0" lang="ar-SA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18" name="Slide Number Placeholder 5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rtl="1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458860BE-6CAE-44E2-BDB3-CC75474EBE96}" type="slidenum">
              <a:rPr b="0" lang="ar-SA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19" name="Header Placeholder 7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 rtl="1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ar-SA" sz="1300" spc="-1" strike="noStrike">
                <a:solidFill>
                  <a:srgbClr val="e4dcc4"/>
                </a:solidFill>
                <a:latin typeface="Arial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12D09-C055-4563-B14D-1E3B8AAA1CCE}" type="slidenum">
              <a:rPr b="0" lang="ar-SA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23" name="Slide Number Placeholder 5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rtl="1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42C4F68C-9495-4080-A649-1B6B7195936E}" type="slidenum">
              <a:rPr b="0" lang="ar-SA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24" name="Header Placeholder 7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 rtl="1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ar-SA" sz="1300" spc="-1" strike="noStrike">
                <a:solidFill>
                  <a:srgbClr val="e4dcc4"/>
                </a:solidFill>
                <a:latin typeface="Arial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3765-EBC8-4333-87D2-5A6823B2B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B1F8-D711-467C-8411-4C1276019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8978-438A-4CA6-AE2D-60184306F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A717-3F7D-496E-9C7C-D0DAF128B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23C1-4DAF-445E-B158-4D42ED259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0F84F-50BC-401C-83BF-DF2E1191A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68315-9CE8-4CD4-9F8E-FE385E285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BB632-3CEF-4F12-8A60-9F550EE60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7D7B1-53B1-4163-9130-5D3D7262F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317D6-F745-41D8-8427-802AB1178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3CC4-1774-416A-BC36-B076C9F23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20C8F-F7A6-4D2E-81BE-9E46074D0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32C50-DFA9-4894-A17C-D01BDC30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80E0A-AC1A-4B1D-9D1F-BEDD93AA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35FF6-BC6E-47B7-8834-893BA5C1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4CB33-E5BA-49B2-8CAA-F24EC27ED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A6025-7E72-4950-A304-C0B815467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55EE0-967D-4AFA-839B-F883AB024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80B85-9EB0-478A-80CB-139AF114A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B5DFB-6AF5-4241-9F0F-C0315364A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937CF-96BC-4F1A-90BD-B8FAA8134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140E-84B4-40FA-9395-09C27F5C4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72E5E-EE30-40F4-9913-4991BCA51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44698-375A-4C5C-BB4D-CBDA5CC43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38978-81EB-4734-8034-BA5BA3DD3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6A898-6572-4198-AA19-C5A4DBFD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6B44C-8C2B-459B-A8A3-008A6874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E8424-327B-4434-A065-2523D0F6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9342A-C20D-46E1-B116-D73C1D775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CD674-8462-4801-85CB-9805B897B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FCC01-80AD-45DB-A4E3-6F6AA4B2B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2A9F-10BE-4BF9-98CE-E213D0479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C874-775B-41A4-B176-2243F6FA0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74EFD-BF2F-431C-9076-946429F0B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B227E-E22D-4CE2-9BB4-A73D9869F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B8543-D06E-41DE-B52A-89EB645B9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2C7BD-28ED-4BE9-A533-495E432BD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DAA53-EF0E-4289-9E71-82FECB2B5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8A262-65F0-4D20-955A-656B99E36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BC5AE-3F7E-4138-9FEA-70D14EF7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FDD20-AB65-4E71-A1C9-FBD88508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C9EAD-068D-4CCA-9871-66B6D5B2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130A-E9A4-41AB-B15C-7603B70D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87B86-8ED7-4D58-80BE-6EDBF1CA2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1C0C9-562F-408D-ABDC-923865EB1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988E9-9A89-4586-9812-1063252E2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0586-9A44-4D1F-97BA-429C8088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BDBB-140B-4EEC-96B9-493A368F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dc8e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446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446a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44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4243320" y="31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4243320" y="31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362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200040" y="647712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5764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900" spc="-1" strike="noStrike">
                <a:solidFill>
                  <a:srgbClr val="3598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DED47-EB61-4300-A94F-D3B39C4EF7F7}" type="slidenum">
              <a:rPr b="0" lang="ar-SA" sz="900" spc="-1" strike="noStrike">
                <a:solidFill>
                  <a:srgbClr val="3598d4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404352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8" name="Rectangle 14"/>
          <p:cNvSpPr/>
          <p:nvPr/>
        </p:nvSpPr>
        <p:spPr>
          <a:xfrm>
            <a:off x="404352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5"/>
          <p:cNvSpPr/>
          <p:nvPr/>
        </p:nvSpPr>
        <p:spPr>
          <a:xfrm>
            <a:off x="4043520" y="2843280"/>
            <a:ext cx="9144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14"/>
          <p:cNvGrpSpPr/>
          <p:nvPr/>
        </p:nvGrpSpPr>
        <p:grpSpPr>
          <a:xfrm>
            <a:off x="0" y="0"/>
            <a:ext cx="9144000" cy="1246320"/>
            <a:chOff x="0" y="0"/>
            <a:chExt cx="9144000" cy="1246320"/>
          </a:xfrm>
        </p:grpSpPr>
        <p:pic>
          <p:nvPicPr>
            <p:cNvPr id="83" name="Picture 11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16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0"/>
              <a:ext cx="9119880" cy="6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dc8e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446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446a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44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3362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200040" y="647712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85764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900" spc="-1" strike="noStrike">
                <a:solidFill>
                  <a:srgbClr val="3598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30908-8997-4FB3-BBC3-5B243E01E4A2}" type="slidenum">
              <a:rPr b="0" lang="ar-SA" sz="900" spc="-1" strike="noStrike">
                <a:solidFill>
                  <a:srgbClr val="3598d4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14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127" name="Picture 11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16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dc8e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446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446a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44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3362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3200040" y="647712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685764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900" spc="-1" strike="noStrike">
                <a:solidFill>
                  <a:srgbClr val="3598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9CDDA-C0E4-4BFE-B450-75F3B63D7B6A}" type="slidenum">
              <a:rPr b="0" lang="ar-SA" sz="900" spc="-1" strike="noStrike">
                <a:solidFill>
                  <a:srgbClr val="3598d4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19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171" name="Picture 3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21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5"/>
          <p:cNvSpPr/>
          <p:nvPr/>
        </p:nvSpPr>
        <p:spPr>
          <a:xfrm>
            <a:off x="4043520" y="2843280"/>
            <a:ext cx="9144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grpSp>
        <p:nvGrpSpPr>
          <p:cNvPr id="210" name="Group 2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211" name="Picture 3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60563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97942-5BC6-4A64-AA71-22C39CF28163}" type="slidenum">
              <a:rPr b="0" lang="ar-SA" sz="2400" spc="-1" strike="noStrike">
                <a:solidFill>
                  <a:srgbClr val="605631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971280" y="1700280"/>
            <a:ext cx="7499160" cy="12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 algn="ctr" rtl="1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446a"/>
              </a:solidFill>
              <a:latin typeface="Arial"/>
            </a:endParaRPr>
          </a:p>
          <a:p>
            <a:pPr marL="339480" indent="-339480" algn="ctr" rtl="1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100" spc="-1" strike="noStrike">
                <a:solidFill>
                  <a:srgbClr val="00642d"/>
                </a:solidFill>
                <a:latin typeface="Calibri"/>
                <a:cs typeface="Arial"/>
              </a:rPr>
              <a:t>برنامج المساندة القطرية</a:t>
            </a:r>
            <a:endParaRPr b="0" lang="en-US" sz="41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60" name="Subtitle 4"/>
          <p:cNvSpPr/>
          <p:nvPr/>
        </p:nvSpPr>
        <p:spPr>
          <a:xfrm>
            <a:off x="1258920" y="3429000"/>
            <a:ext cx="6705720" cy="23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642d"/>
                </a:solidFill>
                <a:latin typeface="Calibri"/>
                <a:cs typeface="Times New Roman"/>
              </a:rPr>
              <a:t>حلقة العمل الموسعة على مستوى البلدان الأعضاء في</a:t>
            </a:r>
            <a:endParaRPr b="0" lang="en-US" sz="3000" spc="-1" strike="noStrike">
              <a:solidFill>
                <a:srgbClr val="e4dcc4"/>
              </a:solidFill>
              <a:latin typeface="Arial"/>
            </a:endParaRPr>
          </a:p>
          <a:p>
            <a:pPr algn="ctr" rtl="1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4dcc4"/>
              </a:solidFill>
              <a:latin typeface="Arial"/>
            </a:endParaRPr>
          </a:p>
          <a:p>
            <a:pPr algn="ctr" rtl="1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642d"/>
                </a:solidFill>
                <a:latin typeface="Calibri"/>
                <a:ea typeface="Times New Roman"/>
              </a:rPr>
              <a:t> صندوق البيئة العالمية</a:t>
            </a:r>
            <a:endParaRPr b="0" lang="en-US" sz="3000" spc="-1" strike="noStrike">
              <a:solidFill>
                <a:srgbClr val="e4dcc4"/>
              </a:solidFill>
              <a:latin typeface="Arial"/>
            </a:endParaRPr>
          </a:p>
          <a:p>
            <a:pPr algn="ctr" rtl="1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4dcc4"/>
              </a:solidFill>
              <a:latin typeface="Arial"/>
            </a:endParaRPr>
          </a:p>
          <a:p>
            <a:pPr algn="ctr" rtl="1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642d"/>
                </a:solidFill>
                <a:latin typeface="Calibri"/>
                <a:ea typeface="Times New Roman"/>
              </a:rPr>
              <a:t>15</a:t>
            </a:r>
            <a:r>
              <a:rPr b="1" lang="ar-SA" sz="3000" spc="-1" strike="noStrike">
                <a:solidFill>
                  <a:srgbClr val="00642d"/>
                </a:solidFill>
                <a:latin typeface="Calibri"/>
                <a:ea typeface="Times New Roman"/>
              </a:rPr>
              <a:t> – </a:t>
            </a:r>
            <a:r>
              <a:rPr b="1" lang="ar-SA" sz="3000" spc="-1" strike="noStrike">
                <a:solidFill>
                  <a:srgbClr val="00642d"/>
                </a:solidFill>
                <a:latin typeface="Calibri"/>
                <a:ea typeface="Times New Roman"/>
              </a:rPr>
              <a:t>17</a:t>
            </a:r>
            <a:r>
              <a:rPr b="1" lang="ar-SA" sz="3000" spc="-1" strike="noStrike">
                <a:solidFill>
                  <a:srgbClr val="00642d"/>
                </a:solidFill>
                <a:latin typeface="Calibri"/>
                <a:ea typeface="Times New Roman"/>
              </a:rPr>
              <a:t> فبراير/شباط </a:t>
            </a:r>
            <a:r>
              <a:rPr b="1" lang="ar-SA" sz="3000" spc="-1" strike="noStrike">
                <a:solidFill>
                  <a:srgbClr val="00642d"/>
                </a:solidFill>
                <a:latin typeface="Calibri"/>
                <a:ea typeface="Times New Roman"/>
              </a:rPr>
              <a:t>2012</a:t>
            </a:r>
            <a:endParaRPr b="0" lang="en-US" sz="3000" spc="-1" strike="noStrike">
              <a:solidFill>
                <a:srgbClr val="e4dcc4"/>
              </a:solidFill>
              <a:latin typeface="Arial"/>
            </a:endParaRPr>
          </a:p>
          <a:p>
            <a:pPr algn="ctr" rtl="1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642d"/>
                </a:solidFill>
                <a:latin typeface="Calibri"/>
                <a:ea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1" lang="ar-LB" sz="3000" spc="-1" strike="noStrike">
                <a:solidFill>
                  <a:srgbClr val="00642d"/>
                </a:solidFill>
                <a:latin typeface="Calibri"/>
                <a:cs typeface="Times New Roman"/>
              </a:rPr>
              <a:t>البحر الميت</a:t>
            </a:r>
            <a:r>
              <a:rPr b="1" lang="ar-SA" sz="3000" spc="-1" strike="noStrike">
                <a:solidFill>
                  <a:srgbClr val="00642d"/>
                </a:solidFill>
                <a:latin typeface="Calibri"/>
                <a:cs typeface="Times New Roman"/>
              </a:rPr>
              <a:t>، الأردن</a:t>
            </a:r>
            <a:endParaRPr b="0" lang="en-US" sz="30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ounded Rectangle 4"/>
          <p:cNvSpPr/>
          <p:nvPr/>
        </p:nvSpPr>
        <p:spPr>
          <a:xfrm>
            <a:off x="1835280" y="1844640"/>
            <a:ext cx="5040360" cy="2016000"/>
          </a:xfrm>
          <a:prstGeom prst="roundRect">
            <a:avLst>
              <a:gd name="adj" fmla="val 16667"/>
            </a:avLst>
          </a:prstGeom>
          <a:solidFill>
            <a:srgbClr val="ffc000">
              <a:alpha val="50000"/>
            </a:srgbClr>
          </a:solidFill>
          <a:ln w="9360">
            <a:solidFill>
              <a:srgbClr val="e4dc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42d"/>
                </a:solidFill>
                <a:latin typeface="Calibri"/>
                <a:cs typeface="Times New Roman"/>
              </a:rPr>
              <a:t>للحصول على المزيد من المعلومات</a:t>
            </a:r>
            <a:endParaRPr b="0" lang="en-US" sz="3200" spc="-1" strike="noStrike">
              <a:solidFill>
                <a:srgbClr val="e4dcc4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42d"/>
                </a:solidFill>
                <a:latin typeface="Calibri"/>
                <a:cs typeface="Times New Roman"/>
              </a:rPr>
              <a:t>يرجى الاتصال بسكرتارية صندوق البيئة العالمية</a:t>
            </a:r>
            <a:endParaRPr b="0" lang="en-US" sz="32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1" dur="2000" fill="hold"/>
                                        <p:tgtEl>
                                          <p:spTgt spid="2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610920" y="1125360"/>
            <a:ext cx="8210520" cy="61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يتيح برنامج المساندة القطرية مساندة مرنة للبلدان ( لا سيما نقاط</a:t>
            </a:r>
            <a:r>
              <a:rPr b="0" lang="ar-EG" sz="2400" spc="-1" strike="noStrike">
                <a:solidFill>
                  <a:srgbClr val="000000"/>
                </a:solidFill>
                <a:latin typeface="Calibri"/>
                <a:ea typeface="Arial"/>
              </a:rPr>
              <a:t>/مسؤولي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الاتصال) حتى يتسنى لها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  <a:ea typeface="Arial"/>
              </a:rPr>
              <a:t> تعزيز قدرتها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على العمل مع صندوق البيئة العالمية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يُدار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  <a:ea typeface="Arial"/>
              </a:rPr>
              <a:t> من خلال سكرتارية الصندوق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مكونات البرنامج: 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 algn="r" rtl="1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تدريب على صياغة حافظة المشروعات والبرامج الوطنية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NPFE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 algn="r" rtl="1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حوار يشترك فيه أصاب مصلحة متعددون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 algn="r" rtl="1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حلقة عمل موسعة على مستوى البلدان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 algn="r" rtl="1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جتماعات على مستوى البلدان الأعضاء (مساندة من أعضاء مجلس الصندوق)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 algn="r" rtl="1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مساندة مباشرة لنقاط (مسؤولي) الاتصال المعنيين بالعمليات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 algn="r" rtl="1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إدارة المعارف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 algn="r" rtl="1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ندوات إعداد وتهيئة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42472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42d"/>
                </a:solidFill>
                <a:latin typeface="Calibri"/>
                <a:cs typeface="Arial"/>
              </a:rPr>
              <a:t>برنامج المساندة القطرية </a:t>
            </a:r>
            <a:br>
              <a:rPr sz="3200"/>
            </a:br>
            <a:r>
              <a:rPr b="1" lang="ar-SA" sz="3200" spc="-1" strike="noStrike">
                <a:solidFill>
                  <a:srgbClr val="00642d"/>
                </a:solidFill>
                <a:latin typeface="Calibri"/>
                <a:cs typeface="Arial"/>
              </a:rPr>
              <a:t>القضايا العامة</a:t>
            </a:r>
            <a:endParaRPr b="1" lang="en-US" sz="3200" spc="-1" strike="noStrike">
              <a:solidFill>
                <a:srgbClr val="eadc8e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876312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42d"/>
                </a:solidFill>
                <a:latin typeface="Calibri"/>
                <a:cs typeface="Arial"/>
              </a:rPr>
              <a:t>برنامج المساندة القطرية/</a:t>
            </a:r>
            <a:br>
              <a:rPr sz="2800"/>
            </a:br>
            <a:r>
              <a:rPr b="1" lang="ar-SA" sz="2800" spc="-1" strike="noStrike">
                <a:solidFill>
                  <a:srgbClr val="00642d"/>
                </a:solidFill>
                <a:latin typeface="Calibri"/>
                <a:cs typeface="Arial"/>
              </a:rPr>
              <a:t>التدريب على صياغة حافظة المشروعات والبرامج الوطنية (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Arial"/>
              </a:rPr>
              <a:t>1</a:t>
            </a:r>
            <a:r>
              <a:rPr b="1" lang="ar-EG" sz="2800" spc="-1" strike="noStrike">
                <a:solidFill>
                  <a:srgbClr val="00642d"/>
                </a:solidFill>
                <a:latin typeface="Calibri"/>
                <a:ea typeface="Arial"/>
              </a:rPr>
              <a:t>)</a:t>
            </a:r>
            <a:endParaRPr b="1" lang="en-US" sz="28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64" name="Rounded Rectangle 4"/>
          <p:cNvSpPr/>
          <p:nvPr/>
        </p:nvSpPr>
        <p:spPr>
          <a:xfrm>
            <a:off x="179280" y="1484280"/>
            <a:ext cx="7417080" cy="720720"/>
          </a:xfrm>
          <a:prstGeom prst="roundRect">
            <a:avLst>
              <a:gd name="adj" fmla="val 16667"/>
            </a:avLst>
          </a:prstGeom>
          <a:solidFill>
            <a:srgbClr val="72bfc5">
              <a:alpha val="50000"/>
            </a:srgbClr>
          </a:solidFill>
          <a:ln w="93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Times New Roman"/>
              </a:rPr>
              <a:t>على مدى تاريخ الصندوق، تقوم هيئات الصندوق، على نحو تقليدي، بأعمال وساطة بشأن البرامج القطرية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65" name="Rounded Rectangle 5"/>
          <p:cNvSpPr/>
          <p:nvPr/>
        </p:nvSpPr>
        <p:spPr>
          <a:xfrm>
            <a:off x="900000" y="2276640"/>
            <a:ext cx="7993080" cy="1058760"/>
          </a:xfrm>
          <a:prstGeom prst="roundRect">
            <a:avLst>
              <a:gd name="adj" fmla="val 16667"/>
            </a:avLst>
          </a:prstGeom>
          <a:solidFill>
            <a:srgbClr val="9c9cdf">
              <a:alpha val="50000"/>
            </a:srgbClr>
          </a:solidFill>
          <a:ln w="93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Times New Roman"/>
              </a:rPr>
              <a:t>لزيادة</a:t>
            </a:r>
            <a:r>
              <a:rPr b="0" lang="ar-SA" sz="2200" spc="-1" strike="noStrike">
                <a:solidFill>
                  <a:srgbClr val="c00000"/>
                </a:solidFill>
                <a:latin typeface="Calibri"/>
                <a:ea typeface="Times New Roman"/>
              </a:rPr>
              <a:t> تعزيز الانخراط الإستراتيجي للصندوق على المستوى القطري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Times New Roman"/>
              </a:rPr>
              <a:t>، يستطيع كل البلد الآن، بمساندة مالية من الصندوق،</a:t>
            </a:r>
            <a:r>
              <a:rPr b="0" lang="ar-SA" sz="2200" spc="-1" strike="noStrike">
                <a:solidFill>
                  <a:srgbClr val="c00000"/>
                </a:solidFill>
                <a:latin typeface="Calibri"/>
                <a:ea typeface="Times New Roman"/>
              </a:rPr>
              <a:t> إعداد تدريب وطني لصياغة حافظة المشروعات والبرامج الخاصة به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66" name="Rounded Rectangle 9"/>
          <p:cNvSpPr/>
          <p:nvPr/>
        </p:nvSpPr>
        <p:spPr>
          <a:xfrm>
            <a:off x="900000" y="4724280"/>
            <a:ext cx="8064720" cy="865440"/>
          </a:xfrm>
          <a:prstGeom prst="roundRect">
            <a:avLst>
              <a:gd name="adj" fmla="val 16667"/>
            </a:avLst>
          </a:prstGeom>
          <a:solidFill>
            <a:srgbClr val="9c9cdf">
              <a:alpha val="50000"/>
            </a:srgbClr>
          </a:solidFill>
          <a:ln w="93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Times New Roman"/>
              </a:rPr>
              <a:t>لا</a:t>
            </a:r>
            <a:r>
              <a:rPr b="0" lang="ar-SA" sz="2200" spc="-1" strike="noStrike">
                <a:solidFill>
                  <a:srgbClr val="c00000"/>
                </a:solidFill>
                <a:latin typeface="Calibri"/>
                <a:ea typeface="Times New Roman"/>
              </a:rPr>
              <a:t> يمثل التدريب على صياغة حافظة المشروعات مطلباً أساسياً لتمويل مشروعات الصندوق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67" name="Rounded Rectangle 7"/>
          <p:cNvSpPr/>
          <p:nvPr/>
        </p:nvSpPr>
        <p:spPr>
          <a:xfrm>
            <a:off x="900000" y="3429000"/>
            <a:ext cx="8064720" cy="1224000"/>
          </a:xfrm>
          <a:prstGeom prst="roundRect">
            <a:avLst>
              <a:gd name="adj" fmla="val 16667"/>
            </a:avLst>
          </a:prstGeom>
          <a:solidFill>
            <a:srgbClr val="9c9cdf">
              <a:alpha val="50000"/>
            </a:srgbClr>
          </a:solidFill>
          <a:ln w="93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c00000"/>
                </a:solidFill>
                <a:latin typeface="Calibri"/>
                <a:cs typeface="Times New Roman"/>
              </a:rPr>
              <a:t>تغطية جميع مجالات التركيز المعنية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توصيف كيفية برمجة مخصصات الصندوق مع المشروعات/البرامج التي تعكس أولويات وطنية/إقليمية لتحقيق منافع للبيئة العالمية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71640" y="0"/>
            <a:ext cx="75628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642d"/>
                </a:solidFill>
                <a:latin typeface="Calibri"/>
              </a:rPr>
              <a:t>برنامج المساندة القطرية/</a:t>
            </a:r>
            <a:br>
              <a:rPr sz="2700"/>
            </a:br>
            <a:r>
              <a:rPr b="1" lang="ar-SA" sz="2700" spc="-1" strike="noStrike">
                <a:solidFill>
                  <a:srgbClr val="00642d"/>
                </a:solidFill>
                <a:latin typeface="Calibri"/>
              </a:rPr>
              <a:t>التدريب على صياغة حافظة المشروعات والبرامج الوطنية (</a:t>
            </a:r>
            <a:r>
              <a:rPr b="1" lang="ar-SA" sz="2700" spc="-1" strike="noStrike">
                <a:solidFill>
                  <a:srgbClr val="00642d"/>
                </a:solidFill>
                <a:latin typeface="Calibri"/>
              </a:rPr>
              <a:t>2</a:t>
            </a:r>
            <a:r>
              <a:rPr b="1" lang="ar-SA" sz="2700" spc="-1" strike="noStrike">
                <a:solidFill>
                  <a:srgbClr val="00642d"/>
                </a:solidFill>
                <a:latin typeface="Calibri"/>
              </a:rPr>
              <a:t>)</a:t>
            </a:r>
            <a:endParaRPr b="1" lang="en-US" sz="27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69" name="Rounded Rectangle 4"/>
          <p:cNvSpPr/>
          <p:nvPr/>
        </p:nvSpPr>
        <p:spPr>
          <a:xfrm>
            <a:off x="1476360" y="1268280"/>
            <a:ext cx="6335640" cy="1368720"/>
          </a:xfrm>
          <a:prstGeom prst="roundRect">
            <a:avLst>
              <a:gd name="adj" fmla="val 16667"/>
            </a:avLst>
          </a:prstGeom>
          <a:solidFill>
            <a:srgbClr val="72bfc5">
              <a:alpha val="50000"/>
            </a:srgbClr>
          </a:solidFill>
          <a:ln w="93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Times New Roman"/>
              </a:rPr>
              <a:t>يتعين أن يتم إعداد هذا التدريب على نحو</a:t>
            </a:r>
            <a:r>
              <a:rPr b="0" lang="ar-SA" sz="2200" spc="-1" strike="noStrike">
                <a:solidFill>
                  <a:srgbClr val="c00000"/>
                </a:solidFill>
                <a:latin typeface="Calibri"/>
                <a:ea typeface="Times New Roman"/>
              </a:rPr>
              <a:t> تشاوري وتشاركي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تنسيق من نقاط الاتصال المعنية بالعمليات لدى الصندوق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70" name="Rounded Rectangle 5"/>
          <p:cNvSpPr/>
          <p:nvPr/>
        </p:nvSpPr>
        <p:spPr>
          <a:xfrm>
            <a:off x="179280" y="2708280"/>
            <a:ext cx="4033800" cy="1440000"/>
          </a:xfrm>
          <a:prstGeom prst="roundRect">
            <a:avLst>
              <a:gd name="adj" fmla="val 16667"/>
            </a:avLst>
          </a:prstGeom>
          <a:solidFill>
            <a:srgbClr val="9c9cdf">
              <a:alpha val="50000"/>
            </a:srgbClr>
          </a:solidFill>
          <a:ln w="93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Times New Roman"/>
              </a:rPr>
              <a:t>يختار البلد المعني هيئة وطنية تتسم </a:t>
            </a:r>
            <a:r>
              <a:rPr b="0" lang="ar-SA" sz="2200" spc="-1" strike="noStrike">
                <a:solidFill>
                  <a:srgbClr val="c00000"/>
                </a:solidFill>
                <a:latin typeface="Calibri"/>
                <a:cs typeface="Times New Roman"/>
              </a:rPr>
              <a:t>بالخبرة والكفاءة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قيام بهذا التدريب.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71" name="Rounded Rectangle 6"/>
          <p:cNvSpPr/>
          <p:nvPr/>
        </p:nvSpPr>
        <p:spPr>
          <a:xfrm>
            <a:off x="4427640" y="2708280"/>
            <a:ext cx="4535280" cy="1440000"/>
          </a:xfrm>
          <a:prstGeom prst="roundRect">
            <a:avLst>
              <a:gd name="adj" fmla="val 16667"/>
            </a:avLst>
          </a:prstGeom>
          <a:solidFill>
            <a:srgbClr val="9c9cdf">
              <a:alpha val="50000"/>
            </a:srgbClr>
          </a:solidFill>
          <a:ln w="93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Times New Roman"/>
              </a:rPr>
              <a:t>تُمنح البلدان التي تقرر إجراء هذه التدريبات (التمرينات)</a:t>
            </a:r>
            <a:r>
              <a:rPr b="0" lang="ar-SA" sz="2200" spc="-1" strike="noStrike">
                <a:solidFill>
                  <a:srgbClr val="c00000"/>
                </a:solidFill>
                <a:latin typeface="Calibri"/>
                <a:ea typeface="Times New Roman"/>
              </a:rPr>
              <a:t> حتى </a:t>
            </a:r>
            <a:r>
              <a:rPr b="0" lang="ar-SA" sz="2200" spc="-1" strike="noStrike">
                <a:solidFill>
                  <a:srgbClr val="c00000"/>
                </a:solidFill>
                <a:latin typeface="Calibri"/>
                <a:ea typeface="Times New Roman"/>
              </a:rPr>
              <a:t>30</a:t>
            </a:r>
            <a:r>
              <a:rPr b="0" lang="ar-SA" sz="2200" spc="-1" strike="noStrike">
                <a:solidFill>
                  <a:srgbClr val="c00000"/>
                </a:solidFill>
                <a:latin typeface="Calibri"/>
                <a:ea typeface="Times New Roman"/>
              </a:rPr>
              <a:t> ألف دولار</a:t>
            </a:r>
            <a:r>
              <a:rPr b="0" lang="ar-SA" sz="2200" spc="-1" strike="noStrike">
                <a:solidFill>
                  <a:srgbClr val="bf3611"/>
                </a:solidFill>
                <a:latin typeface="Calibri"/>
                <a:ea typeface="Times New Roman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 الموازنة المالية لبرامج المؤسسات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72" name="Rounded Rectangle 7"/>
          <p:cNvSpPr/>
          <p:nvPr/>
        </p:nvSpPr>
        <p:spPr>
          <a:xfrm>
            <a:off x="4356000" y="4292640"/>
            <a:ext cx="4680000" cy="1368360"/>
          </a:xfrm>
          <a:prstGeom prst="roundRect">
            <a:avLst>
              <a:gd name="adj" fmla="val 16667"/>
            </a:avLst>
          </a:prstGeom>
          <a:solidFill>
            <a:srgbClr val="72bfc5">
              <a:alpha val="50000"/>
            </a:srgbClr>
          </a:solidFill>
          <a:ln w="93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Times New Roman"/>
              </a:rPr>
              <a:t>يتم تبادل الوثائق النهائية مع الاتفاقيات المعنية من أجل </a:t>
            </a:r>
            <a:r>
              <a:rPr b="0" lang="ar-SA" sz="2200" spc="-1" strike="noStrike">
                <a:solidFill>
                  <a:srgbClr val="c00000"/>
                </a:solidFill>
                <a:latin typeface="Calibri"/>
                <a:cs typeface="Times New Roman"/>
              </a:rPr>
              <a:t>الإفصاح عنها للجماهير، كما يتم نشرها على موقع الويب الخاص بصندوق</a:t>
            </a:r>
            <a:r>
              <a:rPr b="0" lang="ar-EG" sz="2200" spc="-1" strike="noStrike">
                <a:solidFill>
                  <a:srgbClr val="c00000"/>
                </a:solidFill>
                <a:latin typeface="Calibri"/>
                <a:ea typeface="Times New Roman"/>
              </a:rPr>
              <a:t> البيئة العالمية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73" name="Rounded Rectangle 8"/>
          <p:cNvSpPr/>
          <p:nvPr/>
        </p:nvSpPr>
        <p:spPr>
          <a:xfrm>
            <a:off x="250920" y="4292640"/>
            <a:ext cx="3816360" cy="1297080"/>
          </a:xfrm>
          <a:prstGeom prst="roundRect">
            <a:avLst>
              <a:gd name="adj" fmla="val 16667"/>
            </a:avLst>
          </a:prstGeom>
          <a:solidFill>
            <a:srgbClr val="72bfc5">
              <a:alpha val="50000"/>
            </a:srgbClr>
          </a:solidFill>
          <a:ln w="93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يتم التنفيذ من خلال طريقة</a:t>
            </a:r>
            <a:r>
              <a:rPr b="0" lang="ar-SA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 الحصول المباشر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على التمويل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394920" y="1197000"/>
            <a:ext cx="8318520" cy="557316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-514440" algn="r" rtl="1">
              <a:lnSpc>
                <a:spcPct val="100000"/>
              </a:lnSpc>
              <a:spcBef>
                <a:spcPts val="675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Calibri"/>
                <a:cs typeface="Arial"/>
              </a:rPr>
              <a:t>في إطار حوار مع سكرتارية الصندوق، يقوم البلد المعني بإعداد مقترح (يتضمن موازنة مالية). </a:t>
            </a:r>
            <a:endParaRPr b="0" lang="en-US" sz="2700" spc="-1" strike="noStrike">
              <a:solidFill>
                <a:srgbClr val="00446a"/>
              </a:solidFill>
              <a:latin typeface="Arial"/>
            </a:endParaRPr>
          </a:p>
          <a:p>
            <a:pPr lvl="2" marL="1295280" indent="-380880" algn="r" rtl="1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c00000"/>
                </a:solidFill>
                <a:latin typeface="Calibri"/>
                <a:cs typeface="Arial"/>
              </a:rPr>
              <a:t>يجب على الهيئة الوطنية المختارة أن تقوم ب</a:t>
            </a:r>
            <a:r>
              <a:rPr b="0" lang="ar-EG" sz="2000" spc="-1" strike="noStrike">
                <a:solidFill>
                  <a:srgbClr val="c00000"/>
                </a:solidFill>
                <a:latin typeface="Calibri"/>
                <a:cs typeface="Arial"/>
              </a:rPr>
              <a:t>استيفاء</a:t>
            </a:r>
            <a:r>
              <a:rPr b="0" lang="ar-SA" sz="2000" spc="-1" strike="noStrike">
                <a:solidFill>
                  <a:srgbClr val="c00000"/>
                </a:solidFill>
                <a:latin typeface="Calibri"/>
                <a:ea typeface="Arial"/>
              </a:rPr>
              <a:t> تقرير مبسط لتقييم الإدارة المالية. </a:t>
            </a:r>
            <a:endParaRPr b="0" lang="en-US" sz="20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 algn="r" rtl="1">
              <a:lnSpc>
                <a:spcPct val="100000"/>
              </a:lnSpc>
              <a:spcBef>
                <a:spcPts val="675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Calibri"/>
                <a:cs typeface="Arial"/>
              </a:rPr>
              <a:t>تعتمد سكرتارية الصندوق المقترح ويوافق عليه رئيس الصندوق.</a:t>
            </a:r>
            <a:endParaRPr b="0" lang="en-US" sz="27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 algn="r" rtl="1">
              <a:lnSpc>
                <a:spcPct val="100000"/>
              </a:lnSpc>
              <a:spcBef>
                <a:spcPts val="675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Calibri"/>
                <a:cs typeface="Arial"/>
              </a:rPr>
              <a:t>يوقع البلد المعني ورئيس الصندوق على الوثائق القانونية.  </a:t>
            </a:r>
            <a:endParaRPr b="0" lang="en-US" sz="27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 algn="r" rtl="1">
              <a:lnSpc>
                <a:spcPct val="100000"/>
              </a:lnSpc>
              <a:spcBef>
                <a:spcPts val="675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Calibri"/>
                <a:cs typeface="Arial"/>
              </a:rPr>
              <a:t>يقوم البلد المعني بعمل التدريب الخاص بصياغة حافظة المشروعات والبرامج.</a:t>
            </a:r>
            <a:endParaRPr b="0" lang="en-US" sz="27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 algn="r" rtl="1">
              <a:lnSpc>
                <a:spcPct val="100000"/>
              </a:lnSpc>
              <a:spcBef>
                <a:spcPts val="675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Calibri"/>
                <a:cs typeface="Arial"/>
              </a:rPr>
              <a:t>بمجرد استكمال هذا التدريب، يُرفع لسكرتارية الصندوق تقرير عن الانتهاء من هذا النشاط</a:t>
            </a:r>
            <a:endParaRPr b="0" lang="en-US" sz="2700" spc="-1" strike="noStrike">
              <a:solidFill>
                <a:srgbClr val="00446a"/>
              </a:solidFill>
              <a:latin typeface="Arial"/>
            </a:endParaRPr>
          </a:p>
          <a:p>
            <a:pPr lvl="2" marL="1295280" indent="-380880" algn="r" rtl="1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000"/>
                </a:solidFill>
                <a:latin typeface="Calibri"/>
                <a:cs typeface="Arial"/>
              </a:rPr>
              <a:t>يتضمن شروط صرف الأموال وتقرير مراقب الحسابات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64072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642d"/>
                </a:solidFill>
                <a:latin typeface="Calibri"/>
                <a:cs typeface="Arial"/>
              </a:rPr>
              <a:t>برنامج المساندة القطرية</a:t>
            </a:r>
            <a:r>
              <a:rPr b="1" lang="en-US" sz="2400" spc="-1" strike="noStrike">
                <a:solidFill>
                  <a:srgbClr val="00642d"/>
                </a:solidFill>
                <a:latin typeface="Calibri"/>
                <a:ea typeface="Arial"/>
              </a:rPr>
              <a:t>/</a:t>
            </a:r>
            <a:br>
              <a:rPr sz="2400"/>
            </a:br>
            <a:r>
              <a:rPr b="1" lang="ar-SA" sz="2400" spc="-1" strike="noStrike">
                <a:solidFill>
                  <a:srgbClr val="00642d"/>
                </a:solidFill>
                <a:latin typeface="Calibri"/>
                <a:cs typeface="Arial"/>
              </a:rPr>
              <a:t>التدريب على صياغة حافظة المشروعات والبرامج الوطنية ــ عملية التنفيذ (</a:t>
            </a:r>
            <a:r>
              <a:rPr b="1" lang="ar-SA" sz="2400" spc="-1" strike="noStrike">
                <a:solidFill>
                  <a:srgbClr val="00642d"/>
                </a:solidFill>
                <a:latin typeface="Calibri"/>
                <a:ea typeface="Arial"/>
              </a:rPr>
              <a:t>3</a:t>
            </a:r>
            <a:r>
              <a:rPr b="1" lang="ar-EG" sz="2400" spc="-1" strike="noStrike">
                <a:solidFill>
                  <a:srgbClr val="00642d"/>
                </a:solidFill>
                <a:latin typeface="Calibri"/>
                <a:ea typeface="Arial"/>
              </a:rPr>
              <a:t>)</a:t>
            </a: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20908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42d"/>
                </a:solidFill>
                <a:latin typeface="Calibri"/>
              </a:rPr>
              <a:t>برنامج المساندة القطرية/</a:t>
            </a:r>
            <a:br>
              <a:rPr sz="3200"/>
            </a:br>
            <a:r>
              <a:rPr b="1" lang="ar-SA" sz="3200" spc="-1" strike="noStrike">
                <a:solidFill>
                  <a:srgbClr val="00642d"/>
                </a:solidFill>
                <a:latin typeface="Calibri"/>
              </a:rPr>
              <a:t>حوار بين مختلف الأطراف المعنية</a:t>
            </a:r>
            <a:endParaRPr b="1" lang="en-US" sz="32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68360" y="1557000"/>
            <a:ext cx="8424720" cy="3600360"/>
          </a:xfrm>
          <a:prstGeom prst="rect">
            <a:avLst/>
          </a:prstGeom>
          <a:solidFill>
            <a:srgbClr val="c3b17b"/>
          </a:solidFill>
          <a:ln w="0">
            <a:noFill/>
          </a:ln>
        </p:spPr>
        <p:txBody>
          <a:bodyPr lIns="0" rIns="0" tIns="0" bIns="0" anchor="t">
            <a:normAutofit fontScale="84000"/>
          </a:bodyPr>
          <a:p>
            <a:pPr marL="288000" indent="-288000" algn="r" rtl="1">
              <a:lnSpc>
                <a:spcPct val="11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يتَبع هذا الحوار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  <a:ea typeface="Arial"/>
              </a:rPr>
              <a:t> إرشادات مبادرة الحوار الوطني</a:t>
            </a:r>
            <a:endParaRPr b="0" lang="en-US" sz="2800" spc="-1" strike="noStrike">
              <a:solidFill>
                <a:srgbClr val="00446a"/>
              </a:solidFill>
              <a:latin typeface="Arial"/>
            </a:endParaRPr>
          </a:p>
          <a:p>
            <a:pPr marL="288000" indent="-288000" algn="r" rtl="1">
              <a:lnSpc>
                <a:spcPct val="11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يتمثل الغرض من هذا الحوار في 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  <a:cs typeface="Arial"/>
              </a:rPr>
              <a:t>تقديم مساندة مرنة</a:t>
            </a:r>
            <a:r>
              <a:rPr b="0" lang="ar-EG" sz="2800" spc="-1" strike="noStrike">
                <a:solidFill>
                  <a:srgbClr val="c00000"/>
                </a:solidFill>
                <a:latin typeface="Calibri"/>
                <a:ea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لعقد اجتماعات وطنية بهدف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  <a:ea typeface="Arial"/>
              </a:rPr>
              <a:t> تبادل وإثراء</a:t>
            </a:r>
            <a:r>
              <a:rPr b="0" lang="ar-EG" sz="2800" spc="-1" strike="noStrike">
                <a:solidFill>
                  <a:srgbClr val="c00000"/>
                </a:solidFill>
                <a:latin typeface="Calibri"/>
                <a:ea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معلومات والخبرات والتجارب الخاصة بمختلف الأطراف المشاركة في أنشطة التنمية المستدامة وإثرائها.</a:t>
            </a:r>
            <a:endParaRPr b="0" lang="en-US" sz="2800" spc="-1" strike="noStrike">
              <a:solidFill>
                <a:srgbClr val="00446a"/>
              </a:solidFill>
              <a:latin typeface="Arial"/>
            </a:endParaRPr>
          </a:p>
          <a:p>
            <a:pPr marL="288000" indent="-288000" algn="r" rtl="1">
              <a:lnSpc>
                <a:spcPct val="11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من المتوقع أن يؤدي ذلك إلى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  <a:ea typeface="Arial"/>
              </a:rPr>
              <a:t> تعزيز التنسيق بين المانحين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 وتوضيح السياسات والإجراءات.</a:t>
            </a:r>
            <a:endParaRPr b="0" lang="en-US" sz="2800" spc="-1" strike="noStrike">
              <a:solidFill>
                <a:srgbClr val="00446a"/>
              </a:solidFill>
              <a:latin typeface="Arial"/>
            </a:endParaRPr>
          </a:p>
          <a:p>
            <a:pPr marL="288000" indent="-288000" algn="r" rtl="1">
              <a:lnSpc>
                <a:spcPct val="11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ستُعقد  هذه</a:t>
            </a:r>
            <a:r>
              <a:rPr b="0" lang="ar-EG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لاجتماعات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  <a:ea typeface="Arial"/>
              </a:rPr>
              <a:t> بناءً على طلب نقطة الاتصال المعنية بالعمليات.</a:t>
            </a:r>
            <a:endParaRPr b="0" lang="en-US" sz="28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748720" cy="64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100" spc="-1" strike="noStrike">
                <a:solidFill>
                  <a:srgbClr val="00642d"/>
                </a:solidFill>
                <a:latin typeface="Calibri"/>
                <a:cs typeface="Arial"/>
              </a:rPr>
              <a:t>برنامج المساندة القطرية/حلقة عمل موسعة على مستوى البلدان</a:t>
            </a:r>
            <a:endParaRPr b="1" lang="en-US" sz="31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24000" y="1052280"/>
            <a:ext cx="8532720" cy="5311800"/>
          </a:xfrm>
          <a:prstGeom prst="rect">
            <a:avLst/>
          </a:prstGeom>
          <a:solidFill>
            <a:srgbClr val="e7e4dc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تُعقد هذه الحلقة</a:t>
            </a:r>
            <a:r>
              <a:rPr b="0" lang="ar-SA" sz="3000" spc="-1" strike="noStrike">
                <a:solidFill>
                  <a:srgbClr val="c00000"/>
                </a:solidFill>
                <a:latin typeface="Calibri"/>
                <a:ea typeface="Arial"/>
              </a:rPr>
              <a:t> مرة كل سنة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  <a:ea typeface="Arial"/>
              </a:rPr>
              <a:t> لتقديم معلومات عن إستراتيجيات وسياسات وإجراءات الصندوق، وكذلك لتشجيع التنسيق.</a:t>
            </a:r>
            <a:endParaRPr b="0" lang="en-US" sz="30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تدعو هذه الحلقة، بالإضافة إلى نقاط</a:t>
            </a:r>
            <a:r>
              <a:rPr b="0" lang="ar-EG" sz="3000" spc="-1" strike="noStrike">
                <a:solidFill>
                  <a:srgbClr val="000000"/>
                </a:solidFill>
                <a:latin typeface="Calibri"/>
                <a:ea typeface="Arial"/>
              </a:rPr>
              <a:t> (مسؤولي)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  <a:ea typeface="Arial"/>
              </a:rPr>
              <a:t> الاتصال التابعة للصندوق، نقاط</a:t>
            </a:r>
            <a:r>
              <a:rPr b="0" lang="ar-EG" sz="3000" spc="-1" strike="noStrike">
                <a:solidFill>
                  <a:srgbClr val="000000"/>
                </a:solidFill>
                <a:latin typeface="Calibri"/>
                <a:ea typeface="Arial"/>
              </a:rPr>
              <a:t> (مسؤولي)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  <a:ea typeface="Arial"/>
              </a:rPr>
              <a:t> الاتصال التابعين للاتفاقيات والمجتمع المدني،</a:t>
            </a:r>
            <a:r>
              <a:rPr b="0" lang="ar-SA" sz="3000" spc="-1" strike="noStrike">
                <a:solidFill>
                  <a:srgbClr val="c00000"/>
                </a:solidFill>
                <a:latin typeface="Calibri"/>
                <a:ea typeface="Arial"/>
              </a:rPr>
              <a:t> حتى </a:t>
            </a:r>
            <a:r>
              <a:rPr b="0" lang="ar-SA" sz="3000" spc="-1" strike="noStrike">
                <a:solidFill>
                  <a:srgbClr val="c00000"/>
                </a:solidFill>
                <a:latin typeface="Calibri"/>
                <a:ea typeface="Arial"/>
              </a:rPr>
              <a:t>6</a:t>
            </a:r>
            <a:r>
              <a:rPr b="0" lang="ar-SA" sz="3000" spc="-1" strike="noStrike">
                <a:solidFill>
                  <a:srgbClr val="c00000"/>
                </a:solidFill>
                <a:latin typeface="Calibri"/>
                <a:ea typeface="Arial"/>
              </a:rPr>
              <a:t> مشاركين لكل بلد.</a:t>
            </a:r>
            <a:endParaRPr b="0" lang="en-US" sz="30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c00000"/>
                </a:solidFill>
                <a:latin typeface="Calibri"/>
                <a:ea typeface="Arial"/>
              </a:rPr>
              <a:t> تنظم هذه الحلقة سكرتارية الصندوق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  <a:ea typeface="Arial"/>
              </a:rPr>
              <a:t>.  </a:t>
            </a:r>
            <a:r>
              <a:rPr b="0" lang="ar-EG" sz="3000" spc="-1" strike="noStrike">
                <a:solidFill>
                  <a:srgbClr val="000000"/>
                </a:solidFill>
                <a:latin typeface="Calibri"/>
                <a:cs typeface="Arial"/>
              </a:rPr>
              <a:t>وي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تم إعداد جدول الأعمال حسب احتياجات المشاركين.</a:t>
            </a:r>
            <a:endParaRPr b="0" lang="en-US" sz="30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إذا سمح عدد البلدان/المشاركين، </a:t>
            </a:r>
            <a:r>
              <a:rPr b="0" lang="ar-SA" sz="3000" spc="-1" strike="noStrike">
                <a:solidFill>
                  <a:srgbClr val="c00000"/>
                </a:solidFill>
                <a:latin typeface="Calibri"/>
                <a:cs typeface="Arial"/>
              </a:rPr>
              <a:t>يمكن عقد أكثر من حلقة في نفس الوقت.</a:t>
            </a:r>
            <a:endParaRPr b="0" lang="en-US" sz="30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42472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100" spc="-1" strike="noStrike">
                <a:solidFill>
                  <a:srgbClr val="00642d"/>
                </a:solidFill>
                <a:latin typeface="Calibri"/>
                <a:cs typeface="Arial"/>
              </a:rPr>
              <a:t>برنامج المساندة القطرية (اجتماعات البلدان الأعضاء والمساندة المباشرة لنقاط الاتصال المعنيين بالعمليات</a:t>
            </a:r>
            <a:r>
              <a:rPr b="1" lang="ar-EG" sz="3100" spc="-1" strike="noStrike">
                <a:solidFill>
                  <a:srgbClr val="00642d"/>
                </a:solidFill>
                <a:latin typeface="Calibri"/>
                <a:ea typeface="Arial"/>
              </a:rPr>
              <a:t>)</a:t>
            </a:r>
            <a:endParaRPr b="1" lang="en-US" sz="31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23640" y="1341360"/>
            <a:ext cx="8553240" cy="5386320"/>
          </a:xfrm>
          <a:prstGeom prst="rect">
            <a:avLst/>
          </a:prstGeom>
          <a:solidFill>
            <a:srgbClr val="e7e4dc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lvl="2" marL="1143000" indent="-228600" algn="r" rtl="1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ُموّل سكرتارية الصندوق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  <a:ea typeface="Times New Roman"/>
              </a:rPr>
              <a:t> اجتماعاً واحداً للبلدان الأعضاء كل سنة،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ويقوم بعقد هذا الاجتماع أحد الأعضاء في مجلس الصندوق.</a:t>
            </a:r>
            <a:endParaRPr b="0" lang="en-US" sz="28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 algn="r" rtl="1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يحصل العضو على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  <a:ea typeface="Times New Roman"/>
              </a:rPr>
              <a:t>3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  <a:ea typeface="Times New Roman"/>
              </a:rPr>
              <a:t> آلاف دولار كمساندة لوجستية.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ويتمثل الغرض من هذا الاجتماع في مناقشة وثائق اجتماعات مجلس الصندوق والاتفاق على موقف مشترك بشأن </a:t>
            </a:r>
            <a:r>
              <a:rPr b="0" lang="ar-EG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قضايا المثارة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.  </a:t>
            </a:r>
            <a:endParaRPr b="0" lang="en-US" sz="28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 algn="r" rtl="1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بلغ المساندة المباشرة لنقاط الاتصال المعنية بالعمليات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  <a:ea typeface="Times New Roman"/>
              </a:rPr>
              <a:t>9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  <a:ea typeface="Times New Roman"/>
              </a:rPr>
              <a:t> آلاف دولار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كل سنة حسب خطة العمل السنوية</a:t>
            </a:r>
            <a:endParaRPr b="0" lang="en-US" sz="28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 algn="r" rtl="1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يتمثل الغرض من ذلك في القيام بأنشطة تعمل على تسهيل أعمالها كنقاط اتصال معنية بالعمليات.</a:t>
            </a:r>
            <a:endParaRPr b="0" lang="en-US" sz="28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58920" y="188640"/>
            <a:ext cx="739152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42d"/>
                </a:solidFill>
                <a:latin typeface="Calibri"/>
                <a:cs typeface="Arial"/>
              </a:rPr>
              <a:t>برنامج المساندة القطرية</a:t>
            </a:r>
            <a:br>
              <a:rPr sz="2800"/>
            </a:br>
            <a:r>
              <a:rPr b="1" lang="en-US" sz="2800" spc="-1" strike="noStrike">
                <a:solidFill>
                  <a:srgbClr val="00642d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Arial"/>
              </a:rPr>
              <a:t>(ندوات إدارة المعارف والإعداد والتهيئة</a:t>
            </a:r>
            <a:r>
              <a:rPr b="1" lang="ar-EG" sz="2800" spc="-1" strike="noStrike">
                <a:solidFill>
                  <a:srgbClr val="00642d"/>
                </a:solidFill>
                <a:latin typeface="Calibri"/>
                <a:ea typeface="Arial"/>
              </a:rPr>
              <a:t>)</a:t>
            </a:r>
            <a:endParaRPr b="1" lang="en-US" sz="28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23640" y="1412640"/>
            <a:ext cx="8481960" cy="3887640"/>
          </a:xfrm>
          <a:prstGeom prst="rect">
            <a:avLst/>
          </a:prstGeom>
          <a:solidFill>
            <a:srgbClr val="e7e4dc"/>
          </a:solidFill>
          <a:ln w="0">
            <a:noFill/>
          </a:ln>
        </p:spPr>
        <p:txBody>
          <a:bodyPr lIns="0" rIns="0" tIns="0" bIns="0" anchor="t">
            <a:normAutofit fontScale="86000"/>
          </a:bodyPr>
          <a:p>
            <a:pPr lvl="2" marL="786240" indent="-196560" algn="r" rtl="1">
              <a:lnSpc>
                <a:spcPct val="100000"/>
              </a:lnSpc>
              <a:spcBef>
                <a:spcPts val="11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786240" indent="-196560" algn="r" rtl="1">
              <a:lnSpc>
                <a:spcPct val="100000"/>
              </a:lnSpc>
              <a:spcBef>
                <a:spcPts val="11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إدارة المعارف: يعكس هذا المكون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 الاحتياجات الآخذة في الظهور لنقاط</a:t>
            </a:r>
            <a:r>
              <a:rPr b="0" lang="ar-EG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 (مسؤولي)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 الاتصال التابعة للصندوق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، وكذلك احتياجات المجموعات الأخرى من أصحاب المصالح المعنيين، لا سيما نقاط الاتصال التابعة للاتفاقيات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786240" indent="-196560" algn="r" rtl="1">
              <a:lnSpc>
                <a:spcPct val="100000"/>
              </a:lnSpc>
              <a:spcBef>
                <a:spcPts val="11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يتضمن هذا المكون أيضاً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 معلومات عن صناديق التكيف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تي يديرها صندوق البيئة العالمية (صندوق أقل البلدان نمواً، والصندوق الخاص بتغير المناخ)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786240" indent="-196560" algn="r" rtl="1">
              <a:lnSpc>
                <a:spcPct val="100000"/>
              </a:lnSpc>
              <a:spcBef>
                <a:spcPts val="11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تُعقد ندوات الصندوق الخاصة بالإعداد والتهيئة مرة كل سنة في واشنطن العاصمة لتدريب عدد من نقاط الاتصال القطرية (الجديدة) وموظفي هيئات الصندوق على إستراتيجيات وسياسات وإجراءات الصندوق. 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5T11:56:14Z</dcterms:created>
  <dc:creator>Seemin Qayum</dc:creator>
  <dc:description/>
  <dc:language>en-US</dc:language>
  <cp:lastModifiedBy>Lisa</cp:lastModifiedBy>
  <dcterms:modified xsi:type="dcterms:W3CDTF">2012-04-23T00:01:22Z</dcterms:modified>
  <cp:revision>500</cp:revision>
  <dc:subject/>
  <dc:title>PowerPoint Presentation</dc:title>
</cp:coreProperties>
</file>