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8BB1CBF-EF89-472B-8B6E-997D82182E07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36059E8-E24A-45AF-9DA8-4B63E2D1024C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47D1A18-D13E-47AB-8305-8548907C6208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95C4788-2FC4-4F6B-A012-B81CBCBD2736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ADF91A2-088C-4CB6-B94F-88963263ECC1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09500F5-EA50-44AB-AB5F-8515EA5DEB17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9083-C001-46A8-B410-3A5121A1703E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B746B50-3E76-42C1-B23F-BCEC5C492C47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5B51-E847-4484-801D-8A8C5A83A761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E2B2E01-AFDD-462D-94AE-B2644E58748C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004E-88C2-4CA8-853C-12800C363A3A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A73470D-9923-4865-A4CC-5EFD1E7E6C1D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3431-F90A-45F9-BAB0-66578137207D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D4BD64E-ADA3-452B-AFC5-19E2B9BC2DC4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35B-1E83-4759-B463-1FB1A96E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2E6-4AA5-472C-8106-44086FEB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20E-3C70-4BE2-B22E-FEC8A112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208-B043-4DFF-8633-523E50C0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004-06B3-43FD-9053-3B70C7AF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3CE6-7D75-45B7-8F28-679369F3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87ED-6FA7-4761-9AF2-8077B848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8082-8C55-45B1-8080-3E2F65E2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1AAC-B587-488F-BAF3-0820CA0E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0215-862C-4452-9F8B-FF58718A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316-8A1E-43F1-B0B3-74A35F2D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D73A-C1FB-47DB-A901-3DF8EEF2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4558-CE7C-4E06-A6B6-78BB8F86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64D4-13ED-491A-9ED8-22FF946B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F731-AF49-405D-B46B-D9064FEE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D5D8-76BC-41F1-9AA3-F81FCD03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5A1B-FEFE-436B-8285-3770C534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C335-2E63-492D-8A67-8AD58C1E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777D-8E53-4C89-A33D-A8106F5B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C983-52E3-4144-AF00-4C5ABA62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5B53-851A-4B84-9F57-654A25AF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4D2-DE46-46B6-B867-1BE2CA5D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3927D-EDB5-4895-A7C7-03A7CFEB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0B405-F432-4B35-BABE-37F3BF73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7125-80FA-4025-B2A4-ADF0F4D2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DC1B-7F72-4C88-A814-B1E1F629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4823-ED42-4A2F-9B36-1E2E2AEC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50E5D-733C-4D4B-B424-D78C4332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6995C-3B3E-4C26-8669-855EC1D6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ADE9-F7FB-4803-BEC8-BB499FFB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44584-A868-469B-920E-29C9DB0F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F46-C5FE-4ECC-B176-98557BFC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ADF-49F7-4733-AE0B-A88E9525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298A6-6417-462E-9B58-8B91BB21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E9456-3509-4AC5-9CF6-768EC5F4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3DFBD-A8C0-43D2-A728-C7BE0D8C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1F49-4D20-4C49-AFF2-28599BC5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E1FC1-0A30-4B7B-8ED0-1A8136FE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36C8D-E34B-4D9C-9392-218B9050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32811-B32D-48F7-85C3-31FA392C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37C35-02B4-4852-9D74-C085C431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FA775-AAC1-4F7D-B3E2-E5ACB6F4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AD6-3488-4992-8CDD-A9C425AB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314FF-AE39-4E57-BD98-02594899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F3C6F-AE21-4CCA-B288-19DF0D6C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228C-AA44-4B91-BDA0-9ACD0AA7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B40-072C-43D9-8851-5051F729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3E9-DED6-42F9-A7BF-A26CEA03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5246-1042-448E-A952-21101DB9C867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4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83" name="Picture 11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6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9FDE-FC1B-4DBC-9E83-889965C96DFA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4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27" name="Picture 11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6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D0DA-8BBF-4F64-B396-F233DD18BBB7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9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1" name="Picture 3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1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grpSp>
        <p:nvGrpSpPr>
          <p:cNvPr id="210" name="Group 2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211" name="Picture 3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3985-7D98-4B7D-A5BF-FBE6315A384F}" type="slidenum">
              <a:rPr b="0" lang="ar-SA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971280" y="1700280"/>
            <a:ext cx="7499160" cy="12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 rtl="1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 algn="ctr" rtl="1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0" name="Subtitle 4"/>
          <p:cNvSpPr/>
          <p:nvPr/>
        </p:nvSpPr>
        <p:spPr>
          <a:xfrm>
            <a:off x="1258920" y="3429000"/>
            <a:ext cx="67057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ar-LB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للحصول على المزيد من المعلومات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يرجى الاتصال بسكرتارية صندوق البيئة العالمية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10920" y="1125360"/>
            <a:ext cx="8210520" cy="61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يح برنامج المساندة القطرية مساندة مرنة للبلدان ( لا سيما نقاط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/مسؤول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) حتى يتسنى لها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Arial"/>
              </a:rPr>
              <a:t> تعزيز قدرته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على العمل مع صندوق البيئة العالمية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ُدار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Arial"/>
              </a:rPr>
              <a:t> من خلال سكرتارية الصندوق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كونات البرنامج: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دريب على صياغة حافظة المشروعات والبرامج الوطنية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PFE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حوار يشترك فيه أصاب مصلحة متعددون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حلقة عمل موسعة على مستوى البلدان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جتماعات على مستوى البلدان الأعضاء (مساندة من أعضاء مجلس الصندوق)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ساندة مباشرة لنقاط (مسؤولي) الاتصال المعنيين بالعمليات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إدارة المعارف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ندوات إعداد وتهيئة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 </a:t>
            </a:r>
            <a:br>
              <a:rPr sz="3200"/>
            </a:b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Arial"/>
              </a:rPr>
              <a:t>القضايا العامة</a:t>
            </a:r>
            <a:endParaRPr b="1" lang="en-US" sz="32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/</a:t>
            </a:r>
            <a:br>
              <a:rPr sz="2800"/>
            </a:b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التدريب على صياغة حافظة المشروعات والبرامج الوطنية (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</a:t>
            </a:r>
            <a:r>
              <a:rPr b="1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على مدى تاريخ الصندوق، تقوم هيئات الصندوق، على نحو تقليدي، بأعمال وساطة بشأن البرامج القطر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5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لزيادة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تعزيز الانخراط الإستراتيجي للصندوق على المستوى القطر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، يستطيع كل البلد الآن، بمساندة مالية من الصندوق،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إعداد تدريب وطني لصياغة حافظة المشروعات والبرامج الخاصة به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6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يمثل التدريب على صياغة حافظة المشروعات مطلباً أساسياً لتمويل مشروعات الصندوق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تغطية جميع مجالات التركيز المعن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توصيف كيفية برمجة مخصصات الصندوق مع المشروعات/البرامج التي تعكس أولويات وطنية/إقليمية لتحقيق منافع للبيئة العالم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562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برنامج المساندة القطرية/</a:t>
            </a:r>
            <a:br>
              <a:rPr sz="2700"/>
            </a:b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التدريب على صياغة حافظة المشروعات والبرامج الوطنية (</a:t>
            </a: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2</a:t>
            </a: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7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عين أن يتم إعداد هذا التدريب على نحو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تشاوري وتشارك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نسيق من نقاط الاتصال المعنية بالعمليات لدى الصندوق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ختار البلد المعني هيئة وطنية تتسم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بالخبرة والكفاء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قيام بهذا التدريب.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منح البلدان التي تقرر إجراء هذه التدريبات (التمرينات)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حتى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30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ألف دولار</a:t>
            </a:r>
            <a:r>
              <a:rPr b="0" lang="ar-SA" sz="2200" spc="-1" strike="noStrike">
                <a:solidFill>
                  <a:srgbClr val="bf3611"/>
                </a:solidFill>
                <a:latin typeface="Calibri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لموازنة المالية لبرامج المؤسسات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 تبادل الوثائق النهائية مع الاتفاقيات المعنية من أجل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الإفصاح عنها للجماهير، كما يتم نشرها على موقع الويب الخاص بصندوق</a:t>
            </a:r>
            <a:r>
              <a:rPr b="0" lang="ar-EG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بيئة العالم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 التنفيذ من خلال طريقة</a:t>
            </a:r>
            <a:r>
              <a:rPr b="0" lang="ar-SA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حصول المباش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التمويل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4920" y="1197000"/>
            <a:ext cx="8318520" cy="557316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في إطار حوار مع سكرتارية الصندوق، يقوم البلد المعني بإعداد مقترح (يتضمن موازنة مالية). 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lvl="2" marL="1295280" indent="-380880" algn="r" rtl="1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Calibri"/>
                <a:cs typeface="Arial"/>
              </a:rPr>
              <a:t>يجب على الهيئة الوطنية المختارة أن تقوم ب</a:t>
            </a:r>
            <a:r>
              <a:rPr b="0" lang="ar-EG" sz="2000" spc="-1" strike="noStrike">
                <a:solidFill>
                  <a:srgbClr val="c00000"/>
                </a:solidFill>
                <a:latin typeface="Calibri"/>
                <a:cs typeface="Arial"/>
              </a:rPr>
              <a:t>استيفاء</a:t>
            </a:r>
            <a:r>
              <a:rPr b="0" lang="ar-SA" sz="2000" spc="-1" strike="noStrike">
                <a:solidFill>
                  <a:srgbClr val="c00000"/>
                </a:solidFill>
                <a:latin typeface="Calibri"/>
                <a:ea typeface="Arial"/>
              </a:rPr>
              <a:t> تقرير مبسط لتقييم الإدارة المالية. 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عتمد سكرتارية الصندوق المقترح ويوافق عليه رئيس الصندوق.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يوقع البلد المعني ورئيس الصندوق على الوثائق القانونية.  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يقوم البلد المعني بعمل التدريب الخاص بصياغة حافظة المشروعات والبرامج.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بمجرد استكمال هذا التدريب، يُرفع لسكرتارية الصندوق تقرير عن الانتهاء من هذا النشاط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lvl="2" marL="1295280" indent="-3808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alibri"/>
                <a:cs typeface="Arial"/>
              </a:rPr>
              <a:t>يتضمن شروط صرف الأموال وتقرير مراقب الحسابات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/</a:t>
            </a:r>
            <a:br>
              <a:rPr sz="2400"/>
            </a:br>
            <a:r>
              <a:rPr b="1" lang="ar-SA" sz="2400" spc="-1" strike="noStrike">
                <a:solidFill>
                  <a:srgbClr val="00642d"/>
                </a:solidFill>
                <a:latin typeface="Calibri"/>
                <a:cs typeface="Arial"/>
              </a:rPr>
              <a:t>التدريب على صياغة حافظة المشروعات والبرامج الوطنية ــ عملية التنفيذ (</a:t>
            </a:r>
            <a:r>
              <a:rPr b="1" lang="ar-SA" sz="2400" spc="-1" strike="noStrike">
                <a:solidFill>
                  <a:srgbClr val="00642d"/>
                </a:solidFill>
                <a:latin typeface="Calibri"/>
                <a:ea typeface="Arial"/>
              </a:rPr>
              <a:t>3</a:t>
            </a:r>
            <a:r>
              <a:rPr b="1" lang="ar-EG" sz="24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</a:rPr>
              <a:t>برنامج المساندة القطرية/</a:t>
            </a:r>
            <a:br>
              <a:rPr sz="3200"/>
            </a:br>
            <a:r>
              <a:rPr b="1" lang="ar-SA" sz="3200" spc="-1" strike="noStrike">
                <a:solidFill>
                  <a:srgbClr val="00642d"/>
                </a:solidFill>
                <a:latin typeface="Calibri"/>
              </a:rPr>
              <a:t>حوار بين مختلف الأطراف المعنية</a:t>
            </a:r>
            <a:endParaRPr b="1" lang="en-US" sz="32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360" y="1557000"/>
            <a:ext cx="8424720" cy="360036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تَبع هذا الحوار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إرشادات مبادرة الحوار الوطني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تمثل الغرض من هذا الحوار في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cs typeface="Arial"/>
              </a:rPr>
              <a:t>تقديم مساندة مرنة</a:t>
            </a:r>
            <a:r>
              <a:rPr b="0" lang="ar-EG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عقد اجتماعات وطنية بهدف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تبادل وإثراء</a:t>
            </a:r>
            <a:r>
              <a:rPr b="0" lang="ar-EG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علومات والخبرات والتجارب الخاصة بمختلف الأطراف المشاركة في أنشطة التنمية المستدامة وإثرائها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المتوقع أن يؤدي ذلك إلى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تعزيز التنسيق بين المانحين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وتوضيح السياسات والإجراء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ستُعقد  هذه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اجتماعات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بناءً على طلب نقطة الاتصال المعنية بالعملي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4872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/حلقة عمل موسعة على مستوى البلدان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052280"/>
            <a:ext cx="8532720" cy="531180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ُعقد هذه الحلقة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مرة كل سنة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لتقديم معلومات عن إستراتيجيات وسياسات وإجراءات الصندوق، وكذلك لتشجيع التنسيق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دعو هذه الحلقة، بالإضافة إلى نقاط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ea typeface="Arial"/>
              </a:rPr>
              <a:t> (مسؤولي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 التابعة للصندوق، نقاط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ea typeface="Arial"/>
              </a:rPr>
              <a:t> (مسؤولي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 التابعين للاتفاقيات والمجتمع المدني،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حتى 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6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مشاركين لكل بلد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تنظم هذه الحلقة سكرتارية الصندوق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.  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cs typeface="Arial"/>
              </a:rPr>
              <a:t>وي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م إعداد جدول الأعمال حسب احتياجات المشاركين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إذا سمح عدد البلدان/المشاركين، 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cs typeface="Arial"/>
              </a:rPr>
              <a:t>يمكن عقد أكثر من حلقة في نفس الوقت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 (اجتماعات البلدان الأعضاء والمساندة المباشرة لنقاط الاتصال المعنيين بالعمليات</a:t>
            </a:r>
            <a:r>
              <a:rPr b="1" lang="ar-EG" sz="31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3640" y="1341360"/>
            <a:ext cx="8553240" cy="538632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موّل سكرتارية الصندوق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اجتماعاً واحداً للبلدان الأعضاء كل سنة،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يقوم بعقد هذا الاجتماع أحد الأعضاء في مجلس الصندوق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صل العضو على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آلاف دولار كمساندة لوجستية.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يتمثل الغرض من هذا الاجتماع في مناقشة وثائق اجتماعات مجلس الصندوق والاتفاق على موقف مشترك بشأن 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ضايا المثار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بلغ المساندة المباشرة لنقاط الاتصال المعنية بالعمليات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آلاف دولار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 سنة حسب خطة العمل السنوية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ثل الغرض من ذلك في القيام بأنشطة تعمل على تسهيل أعمالها كنقاط اتصال معنية بالعملي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391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(ندوات إدارة المعارف والإعداد والتهيئة</a:t>
            </a:r>
            <a:r>
              <a:rPr b="1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3640" y="1412640"/>
            <a:ext cx="8481960" cy="388764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 fontScale="86000"/>
          </a:bodyPr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ارة المعارف: يعكس هذا المكون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احتياجات الآخذة في الظهور لنقاط</a:t>
            </a:r>
            <a:r>
              <a:rPr b="0" lang="ar-EG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(مسؤولي)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اتصال التابعة للصندوق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، وكذلك احتياجات المجموعات الأخرى من أصحاب المصالح المعنيين، لا سيما نقاط الاتصال التابعة للاتفاقيات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ضمن هذا المكون أيضاً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معلومات عن صناديق التكيف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ي يديرها صندوق البيئة العالمية (صندوق أقل البلدان نمواً، والصندوق الخاص بتغير المناخ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عقد ندوات الصندوق الخاصة بالإعداد والتهيئة مرة كل سنة في واشنطن العاصمة لتدريب عدد من نقاط الاتصال القطرية (الجديدة) وموظفي هيئات الصندوق على إستراتيجيات وسياسات وإجراءات الصندوق.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Lisa</cp:lastModifiedBy>
  <dcterms:modified xsi:type="dcterms:W3CDTF">2012-04-23T00:01:22Z</dcterms:modified>
  <cp:revision>500</cp:revision>
  <dc:subject/>
  <dc:title>PowerPoint Presentation</dc:title>
</cp:coreProperties>
</file>