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183FF72-7211-422A-A12F-6CFCA984D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D23881D-49CA-42ED-8B9E-F3B371739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6041330-A623-4EE2-B802-D67919002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4C69566-D773-4230-8DAA-7917E9372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C975205-5050-4BD9-BBAD-712EB7C12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939905F-1E9F-4BCB-A4FB-CF3EB0CC9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ED10-A4C6-4EDB-B9A9-99247BD87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7B8BF1C-0133-4994-8CC2-9F88B5229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5B2E-CBC2-4EC0-9D84-F1D30E741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4DDAB31-19E2-4A29-95C4-8743AC846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588-DF36-4906-8791-90590A860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62272C7-C850-4081-A496-3FB4BC194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F4AA-B216-4B6B-927C-8C5E46BEC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84E4982-860D-4103-BDB9-401069E1F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6F2-8E62-495D-BF69-EB6A4850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7DE-8DA8-4F96-9EFD-FFD58C64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A43-C207-4871-A0A5-16DCA3CE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730-7EC4-4D9C-B5F3-911F7C63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E19B-D8A2-4430-9D8C-1B59DA7D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0076-B4CD-43CB-92FD-22B16343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5E68-950F-4113-9849-ED9A79AC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C5FB-4742-468D-826C-BD437EA9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3724-7D9B-4E2B-BD01-8D954759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C76C-D92B-48F4-B3C8-6155BCEC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9CDF-CE3C-4D28-B819-2B84520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D41-154F-4E4D-B14B-F013FC37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BE14-CF43-47D9-A409-BEE21F4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7F23-4FEC-4720-B9A3-4197A363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58EF-EDA0-4CEF-8786-9D366D37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E743-7AB4-4E11-97B7-34CAD969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D15B-4E60-4A69-94D0-1E36C047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0FFA-E1C6-4F6A-89B7-718A74C3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6F3D-A954-4FE8-B96D-A9C759A4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A3CC-2AEA-47DD-9437-39FE61EC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DE29-25B6-4A8C-9B9A-8FA7DF90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AA4B-6ECA-4878-9F11-C17AAE4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9AF-C64C-4B74-A496-5977846E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4942-C275-4674-AD1C-6CE05BD0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BD12-DDEB-47B2-82A6-3C0B61D8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3612-0F6F-494A-8A91-C9C51343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A3B7-FFEA-4CF9-8C7E-B533009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9067-B71C-4090-92FD-3337FED5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7EC9-7ABE-444B-BED2-019FBA28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0436-868F-48B8-8AF4-6D3687D2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87295-20A2-4541-BF90-5C077DA0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FA1FF-E9AA-4727-AD30-6218C7F9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A59B-1076-48EF-A526-240CBAA9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828-D7CA-40E4-AAB6-F008C4A1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5C52-382D-4E5E-A470-75E407DF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CD30-38A4-43FF-8A96-EA423759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C6A3-E37E-4701-B808-B13AC1FA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C5CE0-C3FF-4C55-B9D4-19BC607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C045-4817-4E95-B389-64B7FCE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3E745-69E7-4474-B5BE-8A145750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5CA9-528B-4EB3-81FC-D7228552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F7E1-7C72-4828-8C01-657B518B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1E38-FC97-4E0C-BA8F-CE0E9261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7E096-4B28-45A5-AD3A-7382CC52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218-8E20-4C40-913A-0F7CE5D4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F9AD-1485-4820-8308-5025936B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06D03-0926-4A32-B36A-7D583FB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A9D6B-05B7-4117-9CFD-B41D1945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EB670-EBBD-49CF-A2B8-98B8C8E6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95C7C-1865-4B7B-ABD2-F1227BB2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7CD1-B9A3-4FF8-9ED6-84B6B74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A0087-F5CD-4287-900E-977F0DE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6E69D-8B56-4B96-A076-971FF69F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D179B-F7E4-4DFF-93EF-2C571A3D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FFCC9-CF35-4590-AF9E-C6A0A124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0F7-0C6A-43C7-A9A1-5938142B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74CBA-0CA1-46A8-926E-F994D77B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263-FE30-46B5-A87F-AA5BC240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ECF-E030-4CF3-9D99-848C9FE5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1D8-1F22-4C6A-8434-0A58D665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AB39-6D20-4069-87E3-82C5AEF79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2F65-E3FD-48F9-917E-7B4F9F0F4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6125-0226-423D-8E2B-F631C26E3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11D2-9015-4ED4-B906-7377FF404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AAEB-1807-4D49-8DF6-52CD3FFA6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1900"/>
            </a:b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187280" y="429264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SP components a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out the GEF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history, country programming has been traditionally mediated by the GEF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</a:t>
            </a:r>
            <a:r>
              <a:rPr b="0" lang="ja-JP" sz="2200" spc="-1" strike="noStrike">
                <a:solidFill>
                  <a:srgbClr val="c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not a prerequisite for GEF project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3416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coordinated by GEF Operational Focal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ational entity to conduct the exerci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rom the corporate programs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public disclosure and on the GEF Web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mod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3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341360"/>
            <a:ext cx="9144000" cy="4246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5280" y="1197000"/>
            <a:ext cx="8424720" cy="4146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Expanded Constituency Workshops (ECW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9280" y="1557000"/>
            <a:ext cx="8856720" cy="38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3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  The agenda is prepared to reflect participants</a:t>
            </a:r>
            <a:r>
              <a:rPr b="0" lang="ja-JP" sz="23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nee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8920" y="201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Constituency Meetings and Direct Support for Operational Focal P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1412640"/>
            <a:ext cx="8553240" cy="421164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0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3640" y="1341360"/>
            <a:ext cx="8481960" cy="408960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2T23:38:39Z</dcterms:modified>
  <cp:revision>494</cp:revision>
  <dc:subject/>
  <dc:title>PowerPoint Presentation</dc:title>
</cp:coreProperties>
</file>