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967E81B-3B01-487B-B278-32FCD0DF7D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DDEC0EE-2418-40DF-99C9-1DCC479A0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2BD8715-3A0E-457B-921B-46AE7928B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1A7B4A4-A44C-46DF-8496-51E2A814F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AC05F70-2801-46D0-9E97-6A6E51E67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E67F018-B0F2-48E6-A8CE-139D9FC62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DC11-D42F-4E59-9F2C-A27EBB79A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D167A5E-2C76-497D-89D5-C2D005E10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DA08-C40D-4301-9470-7DFE92196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1FB3F1F-BB44-483B-BF2E-4E8736659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E916-E6AB-4FE1-9CD5-09EED16B5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3EE3A5B-3A8E-4644-B27A-AEBDE16B6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DC88-B3DF-4CF3-9F52-4304D4357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288C5EB-34AF-4265-8C4D-1285011F3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63E-FF19-4117-B5AF-C0503176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CCC-73BB-4FF2-97D3-69A498A7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C35-CCA6-4E63-A577-E410C632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639-2F46-43A6-ACBC-A5CC408C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ABE9-068C-4AB0-A3E4-B88DBFAF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9C8B-8DBE-4B72-A92F-519EE00E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3069-BE84-4AB5-9674-5DCC8E20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74DA-CD39-485C-AEF3-06F4E808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6A06-72CF-41D2-9FE4-82446AAD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5EE4-E60A-4C6B-9F53-76761B24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8BE5-8296-4B76-86A9-3D617D15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A62-4A97-4A55-86B2-39F92F5C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1315-FFC3-42E4-82B4-9609C958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4A4B-FE72-41B3-AB71-0011DB4D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145B-91C6-4B9F-BDFE-2702EEAE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F321-151B-4F8C-B3B9-E7AC43D8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CD5A-321A-445D-903A-88BB301E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89F50-A7B0-4F71-AEFB-008EF341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FBBEC-36AB-43A8-AB45-DC95C8DD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43D39-E35A-40DF-945B-634B31C7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F6308-6274-4935-AC8A-41D360AD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B2503-BF32-4A38-B47E-90BE71F3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F93-D7F8-4CB1-987A-BF6B9CCE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7B5C2-76B9-4BB5-8AEB-282BECB0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86CA8-30E9-40A1-9D9E-2C92B33A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2735E-903E-4502-8620-5D4C2EC6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D3525-82BC-4B0A-835B-5D29846C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9B956-4E8E-463A-B965-B1EDE7CD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2530B-1834-4667-85EF-5690562A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52884-A5C4-4724-B74D-EF904B05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9C8A6-C9E5-4147-9458-3D58E023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76BBF-318D-4943-9798-224DF63B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7EC95-777D-4B97-8CC3-96E05D6F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7EA-9F2F-4620-B333-6F675229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01AD5-1CA1-492C-A4E5-126B8B8F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7438C-D8FF-4BEB-9A5F-6595B46A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1BEC4-BD79-487E-8426-54244868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2517A-D9B1-42A4-8CB5-87D7906E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C0024-D69E-4D48-B5E6-6420BDD5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8D23B-8886-49E9-AD4A-B52407B7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F0984-F61A-4A47-A6A3-DE463460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4213F-A8AD-47B1-BD7E-DFABF830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A0A9D-90FC-44FD-B7BC-9465AE4C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43658-C29C-44D9-B047-70D429DA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5AE-8D3D-439E-AF2A-AA80C662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0420E-BEDB-42A4-881B-4CA16FCA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59CBC-5665-4F27-92A8-925AA848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E636E-8673-4656-80F6-15257DD2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EBBD7-749A-4340-ADC5-E2568E4D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74B4D-D185-46F4-9671-87C8E21A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5DBE4-8D1A-4C0E-97E4-C850F8D7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48877-E6BA-4C2C-B1B7-4678B339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9F657-0687-409F-B957-6CAC85BB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B97D7-B7AC-4E95-BEDD-E0E9E897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A5C33-D8A3-4EB9-A492-0FD524DB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883-F42D-4A9D-94A3-B89C935B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52E24-BB23-42A6-AA2F-9E6553BD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2CD-84BB-440F-BF79-C7C9CD4D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7BF-F394-4CDA-89F8-6E70CC2D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EAE-F53B-4491-BAE4-2663497C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1A02-1655-49A9-9B4E-FC026746E4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420B-FB64-499F-B04D-B4153D71B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A688-7FE2-42CE-B397-105F469664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DBC8-D5CC-46A8-BBAB-789CCDD855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BE85-CA47-4E9B-88E4-2EF9469ACE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42d"/>
                </a:solidFill>
                <a:latin typeface="Calibri"/>
              </a:rPr>
              <a:t>Country Support Programme (CSP)</a:t>
            </a:r>
            <a:br>
              <a:rPr sz="1900"/>
            </a:b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187280" y="429264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For mo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contact the GEF 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 Progamme </a:t>
            </a:r>
            <a:br>
              <a:rPr sz="3100"/>
            </a:br>
            <a:r>
              <a:rPr b="0" lang="en-US" sz="3100" spc="-1" strike="noStrike">
                <a:solidFill>
                  <a:srgbClr val="00642d"/>
                </a:solidFill>
                <a:latin typeface="Calibri"/>
              </a:rPr>
              <a:t>General Issu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1840" y="1196640"/>
            <a:ext cx="8821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P provides flexible support to countries (particularly the focal points) so that they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 their capac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work with the 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d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by the GEF Secretari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SP components a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ational Portfolio Formulation Exercise (NPFE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lti-stakeholder Dialog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panded Constituency-level Workshops (ECW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ituency Meetings (Council Member support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rect support to operational focal poi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Knowledge manag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amiliarization Semina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800"/>
            </a:b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roughout the GEF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history, country programming has been traditionally mediated by the GEF Ag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urthe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trengthen GEF</a:t>
            </a:r>
            <a:r>
              <a:rPr b="0" lang="ja-JP" sz="2200" spc="-1" strike="noStrike">
                <a:solidFill>
                  <a:srgbClr val="c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 strategic engagement at country-leve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ach country can now prepare, with GEF financial support, a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ational Portfolio Formulation 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NPFE is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not a prerequisite for GEF project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Covers all relevant focal area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nd describes how GEF allocations will be programmed with projects/programs that reflect national/regional priorities to benefit the global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53416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500"/>
            </a:br>
            <a:r>
              <a:rPr b="0" lang="en-US" sz="2500" spc="-1" strike="noStrike">
                <a:solidFill>
                  <a:srgbClr val="00642d"/>
                </a:solidFill>
                <a:latin typeface="Calibri"/>
              </a:rPr>
              <a:t>National Portfolio Formulation Exercise (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Preparation of NPFE should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consultative and participato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nd coordinated by GEF Operational Focal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e country shall select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experienced and compet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national entity to conduct the exerci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ountries that decide to conduct portfolio exercises will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granted up to $30,000 USD</a:t>
            </a:r>
            <a:r>
              <a:rPr b="0" lang="en-US" sz="2200" spc="-1" strike="noStrike">
                <a:solidFill>
                  <a:srgbClr val="bf3611"/>
                </a:solidFill>
                <a:latin typeface="Calibri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rom the corporate programs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inal documents will be shared with respective conventions fo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public disclosure and on the GEF Web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mplemented through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direct ac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mod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500"/>
            </a:br>
            <a:r>
              <a:rPr b="0" lang="en-US" sz="2300" spc="-1" strike="noStrike">
                <a:solidFill>
                  <a:srgbClr val="00642d"/>
                </a:solidFill>
                <a:latin typeface="Calibri"/>
              </a:rPr>
              <a:t>National Portfolio Formulation Exercise  - Implementation process (3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341360"/>
            <a:ext cx="9144000" cy="4246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dialogue with GEF Secretariat the country prepares the proposal (including the budget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The selected national entity must fill out Simplified Financial Management Assessment Repor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Secretariat clears the proposal and the CEO approves 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documents are signed between the country and the GEF CE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undertakes the national portfolio formulation exerc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ce the national portfolio formulation exercise has been completed, an activity finalization report is submitted to the Secretaria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Including financial disbursement requirements and audit 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500"/>
            </a:br>
            <a:r>
              <a:rPr b="0" lang="en-US" sz="2500" spc="-1" strike="noStrike">
                <a:solidFill>
                  <a:srgbClr val="00642d"/>
                </a:solidFill>
                <a:latin typeface="Calibri"/>
              </a:rPr>
              <a:t>Dialogue among multiple interested part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5280" y="1197000"/>
            <a:ext cx="8424720" cy="4146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ialogue follows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guidelines for the National Dialogue Initi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pose is to provid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lexible suppo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vening national meetings, aim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 share and enrich the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experiences of the various parties involved in sustainable development activ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to result in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ing of donor coordin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clarification of policies and procedu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ill b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t the request of the operational focal poi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3100"/>
            </a:br>
            <a:r>
              <a:rPr b="0" lang="en-US" sz="3100" spc="-1" strike="noStrike">
                <a:solidFill>
                  <a:srgbClr val="00642d"/>
                </a:solidFill>
                <a:latin typeface="Calibri"/>
              </a:rPr>
              <a:t>Expanded Constituency Workshops (ECW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9280" y="1557000"/>
            <a:ext cx="8856720" cy="38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3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CWs are held </a:t>
            </a: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once a year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n order to provide information on the strategies, policies, and procedures of the GEF and to encourage coordination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CWs invite, in addition to the GEF focal points, the convention focal points and civil society, </a:t>
            </a: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up to 6 participants per country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Organized by the GEF Secretariat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.  The agenda is prepared to reflect participants</a:t>
            </a:r>
            <a:r>
              <a:rPr b="0" lang="ja-JP" sz="23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need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When the number of countries/participants so permits, </a:t>
            </a: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more than one constituency may meet at the same time 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8920" y="201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800"/>
            </a:b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(Constituency Meetings and Direct Support for Operational Focal Poi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1412640"/>
            <a:ext cx="8553240" cy="4211640"/>
          </a:xfrm>
          <a:prstGeom prst="rect">
            <a:avLst/>
          </a:prstGeom>
          <a:solidFill>
            <a:srgbClr val="f8f7f3"/>
          </a:solidFill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ariat financ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e Constituency meeting a yea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ned by the Council Me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ncil member receiv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3,000 for logistic suppor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urpose of the meeting is to discuss Council meeting documents and agree on a joint position on issu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Support for Operational Focal Points i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9,0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year, based on the Annual Work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conduct activities that facilitate their work as Operational Focal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2800"/>
            </a:b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(Knowledge Management and Familiarization Seminars</a:t>
            </a:r>
            <a:r>
              <a:rPr b="0" lang="es-ES_tradnl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23640" y="1341360"/>
            <a:ext cx="8481960" cy="4089600"/>
          </a:xfrm>
          <a:prstGeom prst="rect">
            <a:avLst/>
          </a:prstGeom>
          <a:solidFill>
            <a:srgbClr val="f8f7f3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Management: This component will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reflect the evolving needs of GEF focal poi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s well as the needs of other relevant stakeholder groups, in particular convention focal poi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component will also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include information on the adaptation fund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dministered by the GEF (Least Developed Countries Fund and  Special Climate Change Fund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F familiarization seminars will be held once a year in Washington, D.C. to train a number of (new) country focal points and GEF Agency staff on GEF strategies, policies and procedu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Lisa</cp:lastModifiedBy>
  <dcterms:modified xsi:type="dcterms:W3CDTF">2012-04-22T23:38:39Z</dcterms:modified>
  <cp:revision>494</cp:revision>
  <dc:subject/>
  <dc:title>PowerPoint Presentation</dc:title>
</cp:coreProperties>
</file>