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F0F485-D8F7-4259-B267-97F0F5759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3E4BC7E-6C97-4E76-BFA6-2045DBE25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3F4D775-84F1-470D-9ABA-AFED30DB3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52A600-F8CD-44DE-A537-A4DAD37AF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589B942-1D5D-44CD-9043-2041988D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024E5D9-9DF4-4FAC-BDD7-D0C21B8C3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590-8C7F-4E20-9FE8-13B37B77C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1EA933-9A62-4205-B757-DF2732F1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0BD-C5B8-4572-B2C7-D7B87414E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0E2E0CF-6C84-49BA-944E-8EC520D5B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FB8E-7807-4E7D-B973-D1748EFAB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E449491-51FE-44A8-B7A2-DA91AD22A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553-6C95-42CC-A577-F050AD6C1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53630D6-A069-4B8F-B8F8-9660784A2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0B7-6E5D-461C-8255-D6113D4C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2B7-1389-451D-8F39-A9F2328D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93E-2DBF-46A6-8BA5-C1548F62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A09-86F4-451C-B482-E52736AA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4DDA-C2AB-4904-89DA-4E41CFE6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95D5-AE5F-4A9E-989E-E90AFC2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47F2-C642-48D9-A4C0-FC523C78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8426-B850-471E-997B-DB4A5EDE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251-E537-4832-9A94-660110E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3F9-4A77-4F33-B05D-EE0036C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20F-6A71-406A-A4E8-226D87B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7D9-71CA-4736-A35C-B28B9B2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7BCB-8697-4753-8069-3CECA4E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FFA5-AA95-42A5-8083-C043DCB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F6A1-F1A6-484F-B405-52160EA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590C-739C-4321-91CB-3006D278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3A3-D8AD-4B0C-B510-8A0D3A40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EFB7-CF6B-4AE9-8830-E674DF1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FC98-91B0-4C1B-B89B-15ADDD9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7499-1F93-43D9-B039-FBA5171F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9594-149B-48BC-BBB5-FAB174E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A86A-056C-4611-81CF-FEBF3B5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9B8-0FD6-4E4C-A930-3F4B2624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1E76-BED7-4246-906D-5521A6C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1730-B80E-415D-B981-EF39AE2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2316-DB94-4EA7-9CFE-6B5DB35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3EAF-24EC-454F-9E54-9054960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F5C9-1105-4E75-9A4A-10D48D44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674E-62E0-46B2-8F8F-77095918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5210-4D30-423B-9C4C-DF726B42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4FFAD-88EC-4322-BCA4-78D081E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69F7-1FCD-4F6B-8CFE-FFB366E3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C77C-DD69-4F09-A492-FC5B9F2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CB8-9B06-404E-8169-97837B6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7A90-C8D0-4435-A6A8-386647DB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A263-5564-4C67-8FC3-4D2EEE0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A65D-DA0F-4BBE-8349-4500B0C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D930-A1FE-499D-B93B-543E5B4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B8A3-7DDA-4C0E-89CE-9793F81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FFB7-FC40-4066-A8B0-D0B8250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4A9E-2C95-4B24-B425-F7535803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892E-3632-4E96-B23E-23EB0447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A19B-66B7-4736-B972-A0E14743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EE17-C993-43E2-B498-AA0381C8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1AE-4265-451D-BEC0-63F6426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BC1E-5DB1-45CB-BBE5-E7C559EC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46B6-C0FA-4D0A-BD46-A1A55C54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6567-916D-4DC3-A542-5EB5B4B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36BA-54CE-40FC-AAAD-DF5BE23E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62C1-60EC-48A9-859C-CEC1C7DB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C612-6CA0-4BF2-AB4D-C777A9D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584E-54EC-4B09-8B9A-509FBA0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0E12-7C81-4666-862D-7DC20A0C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CFFB-19A5-4DE4-BCC7-7DAAF83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C3EA-C13C-4C05-853A-18EFA283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DA9-E265-44CA-9E21-950D4D9D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D0FA-F943-4C35-8B1C-67D48CC1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425-6EFC-4DE4-8DC0-6582CBB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BAF-35CC-458B-9298-E06E23D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F9A-146A-485C-8593-FBFF8EC6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634-4F52-4F8D-96AB-BEF2F093E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EC4-A092-4F76-BD9D-926D8B52F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45C-391D-45BF-A7F5-4256BE4F3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25C3-8C82-43FE-ADD2-E78077F8E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93E-C242-42F4-936C-0AE6F9106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19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87280" y="429264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SP component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GE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story, country programming has been traditionally mediated by the GEF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</a:t>
            </a:r>
            <a:r>
              <a:rPr b="0" lang="ja-JP" sz="22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not a prerequisite for GEF project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coordinated by GEF Operational Focal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ational entity to conduct the exerc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rom the corporate programs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public disclosure and on the GEF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mod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3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41360"/>
            <a:ext cx="9144000" cy="424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5280" y="1197000"/>
            <a:ext cx="8424720" cy="4146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Expanded Constituency Workshops (ECW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1557000"/>
            <a:ext cx="885672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3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The agenda is prepared to reflect participants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nee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201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Constituency Meetings and Direct Support for Operational Focal P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553240" cy="421164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0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341360"/>
            <a:ext cx="8481960" cy="408960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2T23:38:39Z</dcterms:modified>
  <cp:revision>494</cp:revision>
  <dc:subject/>
  <dc:title>PowerPoint Presentation</dc:title>
</cp:coreProperties>
</file>