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C2F-BC69-4318-8FD3-FB130E0F1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65D-5202-4B06-8151-E0E3FAB9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7:18Z</dcterms:modified>
  <cp:revision>139</cp:revision>
  <dc:subject/>
  <dc:title>Focal Area and Cross Cutting Strategies – Chemicals</dc:title>
</cp:coreProperties>
</file>