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4F71-8C0F-4898-AEB8-8B0144D63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204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D437-15F4-4522-A916-6C60EF200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600" y="396252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ebruary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oles of Country Stakeholders</a:t>
            </a:r>
            <a:br>
              <a:rPr sz="3600"/>
            </a:br>
            <a:r>
              <a:rPr b="1" lang="en-US" sz="3600" spc="-1" strike="noStrike">
                <a:solidFill>
                  <a:srgbClr val="00642d"/>
                </a:solidFill>
                <a:latin typeface="Calibri"/>
              </a:rPr>
              <a:t>in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better understand the work of the GEF in their country?</a:t>
            </a:r>
            <a:endParaRPr b="1" lang="en-US" sz="2800" spc="-1" strike="noStrike">
              <a:solidFill>
                <a:srgbClr val="1f497d"/>
              </a:solidFill>
              <a:latin typeface="Calibri"/>
            </a:endParaRPr>
          </a:p>
        </p:txBody>
      </p:sp>
      <p:sp>
        <p:nvSpPr>
          <p:cNvPr id="14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done to promote coordination within your country? Is a GEF steering committee a useful tool?</a:t>
            </a:r>
            <a:endParaRPr b="1" lang="en-US" sz="2800" spc="-1" strike="noStrike">
              <a:solidFill>
                <a:srgbClr val="1f497d"/>
              </a:solidFill>
              <a:latin typeface="Calibri"/>
            </a:endParaRPr>
          </a:p>
        </p:txBody>
      </p:sp>
      <p:sp>
        <p:nvSpPr>
          <p:cNvPr id="149"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litical Focal Points</a:t>
            </a:r>
            <a:endParaRPr b="1" lang="en-US" sz="4400" spc="-1" strike="noStrike">
              <a:solidFill>
                <a:srgbClr val="1f497d"/>
              </a:solidFill>
              <a:latin typeface="Calibri"/>
            </a:endParaRPr>
          </a:p>
        </p:txBody>
      </p:sp>
      <p:sp>
        <p:nvSpPr>
          <p:cNvPr id="15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esponsibilities of Political Focal Poi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y abreast of GEF governance matters, informing interested parties, including convention focal points, about GEF policies, governance issues, and related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country consultations on GEF governance matt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liaisons on GEF governance matters within their countries, with the GEF Constituencies to which their countries belong, and with the GEF Council Members representing their respective Constituen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cate the views of their governments, as well as give comments and suggestions on the GEF’s existing or proposed policies to the GEF Secretari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sponsibil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the main contact of the GEF Secretariat, GEF Agencies and national stakeholders with respect to country environmental strategies and objectives, GEF project information and country GEF project repo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lt with CSO and other key stakeholders in country on GEF matters as well as provide information on GEF activities, including project implementation, results and imp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se awareness in country on GE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streaming of GEF objectives in national policy framewo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 Projects in Count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5"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try Support Programme Responsibi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est and organize voluntary National Portfolio Formulation Exercises (NPFEs) and Multi-stakeholder dialog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vely participate in Expanded Constituency Workshops and Constituency Meet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ilize annual support to focal points appropriate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7"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Responsibiliti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orse projects before the Agencies submit the Project Identification Form (PIF) to the GEF Secretariat for clearanc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GEF Project Management Information System (GEFPMIS) to enter project concepts (voluntary activity) and for the tracking of GEF projects and programs, in addition to tracking in more detail through Agency system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on Monitoring and Evaluation (M&amp;E) at project, program, and portfolio level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he Agencies in drafting the Project Identification Form (PIF) and responding to the GEF Secretariat project review sheet comments, as appropri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ly participate in the project life cycle from inception until its completion.</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GEF visibility policy is respected.</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Visibility of the GEF</a:t>
            </a:r>
            <a:endParaRPr b="1" lang="en-US" sz="4400" spc="-1" strike="noStrike">
              <a:solidFill>
                <a:srgbClr val="1f497d"/>
              </a:solidFill>
              <a:latin typeface="Calibri"/>
            </a:endParaRPr>
          </a:p>
        </p:txBody>
      </p:sp>
      <p:sp>
        <p:nvSpPr>
          <p:cNvPr id="159"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sibility of the GEF is vital to ensure that the GEF is known, recognized and fun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cil adopted a decision on Enhancing the Visibility of the GEF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Focal Points are expected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content of this de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te its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 the GEF Secretariat when it is not being respected so that the Secretariat may take appropriate ac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takeholder Roles</a:t>
            </a:r>
            <a:endParaRPr b="1" lang="en-US" sz="4400" spc="-1" strike="noStrike">
              <a:solidFill>
                <a:srgbClr val="1f497d"/>
              </a:solidFill>
              <a:latin typeface="Calibri"/>
            </a:endParaRPr>
          </a:p>
        </p:txBody>
      </p:sp>
      <p:sp>
        <p:nvSpPr>
          <p:cNvPr id="131"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the role of each stakeholder at your table with respect to the GEF</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esponsibility of the Council Member to their constitu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 political focal point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should convention focal points do in preparation for COP negotiations concerning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specific ways for CSOs to become more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activities that an OFP could do with their $9,000 direct support/annual work plan budg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hallenges are faced when implementing the Annual Work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assist with the visibility of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better understand the work of the GEF in their countr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done to promote coordination within your country? Is a GEF steering committee a useful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the responsibility of the Council Member to their constituency?</a:t>
            </a:r>
            <a:endParaRPr b="1" lang="en-US" sz="2800" spc="-1" strike="noStrike">
              <a:solidFill>
                <a:srgbClr val="1f497d"/>
              </a:solidFill>
              <a:latin typeface="Calibri"/>
            </a:endParaRPr>
          </a:p>
        </p:txBody>
      </p:sp>
      <p:sp>
        <p:nvSpPr>
          <p:cNvPr id="13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is the political focal point involved in GEF activities?</a:t>
            </a:r>
            <a:endParaRPr b="1" lang="en-US" sz="2800" spc="-1" strike="noStrike">
              <a:solidFill>
                <a:srgbClr val="1f497d"/>
              </a:solidFill>
              <a:latin typeface="Calibri"/>
            </a:endParaRPr>
          </a:p>
        </p:txBody>
      </p:sp>
      <p:sp>
        <p:nvSpPr>
          <p:cNvPr id="13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should convention focal points do in preparation for COP negotiations concerning the GEF?</a:t>
            </a:r>
            <a:endParaRPr b="1" lang="en-US" sz="2800" spc="-1" strike="noStrike">
              <a:solidFill>
                <a:srgbClr val="1f497d"/>
              </a:solidFill>
              <a:latin typeface="Calibri"/>
            </a:endParaRPr>
          </a:p>
        </p:txBody>
      </p:sp>
      <p:sp>
        <p:nvSpPr>
          <p:cNvPr id="13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some specific ways for CSOs to become more involved in GEF activities?</a:t>
            </a:r>
            <a:endParaRPr b="1" lang="en-US" sz="2800" spc="-1" strike="noStrike">
              <a:solidFill>
                <a:srgbClr val="1f497d"/>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the activities that an OFP could do with their $9,000 direct support/annual work plan budget?</a:t>
            </a:r>
            <a:endParaRPr b="1" lang="en-US" sz="2800" spc="-1" strike="noStrike">
              <a:solidFill>
                <a:srgbClr val="1f497d"/>
              </a:solidFill>
              <a:latin typeface="Calibri"/>
            </a:endParaRPr>
          </a:p>
        </p:txBody>
      </p:sp>
      <p:sp>
        <p:nvSpPr>
          <p:cNvPr id="141"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challenges are faced when implementing the Annual Work Plan?</a:t>
            </a:r>
            <a:endParaRPr b="1" lang="en-US" sz="2800" spc="-1" strike="noStrike">
              <a:solidFill>
                <a:srgbClr val="1f497d"/>
              </a:solidFill>
              <a:latin typeface="Calibri"/>
            </a:endParaRPr>
          </a:p>
        </p:txBody>
      </p:sp>
      <p:sp>
        <p:nvSpPr>
          <p:cNvPr id="14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assist with the visibility of the GEF?</a:t>
            </a:r>
            <a:endParaRPr b="1" lang="en-US" sz="2800" spc="-1" strike="noStrike">
              <a:solidFill>
                <a:srgbClr val="1f497d"/>
              </a:solidFill>
              <a:latin typeface="Calibri"/>
            </a:endParaRPr>
          </a:p>
        </p:txBody>
      </p:sp>
      <p:sp>
        <p:nvSpPr>
          <p:cNvPr id="14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26T21:08:42Z</dcterms:modified>
  <cp:revision>74</cp:revision>
  <dc:subject/>
  <dc:title>Focal Area and Cross Cutting Strategies – Chemicals</dc:title>
</cp:coreProperties>
</file>