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AF89-0DE1-404D-9530-58E57BE33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6173-0C68-4B45-9334-962820C20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0917-BDB7-440D-B648-B85F84F95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2E02-5BCC-4444-8BBF-748DD6163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FA64-771F-424D-9831-1B768D6A5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2690-B55C-421E-B405-FE60365F2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5DC7-3274-4C1A-BFB8-7088B95B9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492B-9CBB-46D6-9AAD-EC7998AF5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37E0-1D7C-46DD-BA38-57FBCAA01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2953-5188-4109-9B1B-5C8DD4C06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963B-BA81-4C51-9D1E-7AEEA8B05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90C7-693F-47C9-8BAA-3069D3901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159-941E-4695-984E-667997419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8E92-90C3-4BC8-8619-71F4472AA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F8B9-ADD8-4229-AFB2-2E5B45CD7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346E-8F68-4487-9B55-EC36FFDFB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Rôles des pays au FEM</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urs responsabilités générales consistent à:</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000" spc="-1" strike="noStrike">
                <a:solidFill>
                  <a:srgbClr val="000000"/>
                </a:solidFill>
                <a:latin typeface="Calibri"/>
              </a:rPr>
              <a:t>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 </a:t>
            </a:r>
            <a:r>
              <a:rPr b="0" lang="fr-FR" sz="20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ire mieux connaître le FEM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endre systématiquement en compte les objectifs du FEM dans les cadres d’intervention nationaux</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rer le suivi des projets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responsabilités au titre du Programme d’aide aux points focaux nationaux consistent à </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emander et organiser dans les pays qui le souhaitent les Processus de constitution des portefeuilles nationaux (PCPN) et les dialogues multipartit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articiper activement aux ateliers élargis des groupes de pays et aux réunions des groupes de pay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tiliser convenablement l’appui annuel aux points focaux</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55Z</dcterms:modified>
  <cp:revision>108</cp:revision>
  <dc:subject/>
  <dc:title>Focal Area and Cross Cutting Strategies – Chemicals</dc:title>
</cp:coreProperties>
</file>