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6EBE-0607-431C-8805-EA5410BB4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204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BF2E-E2E5-45BC-B4EE-2BE124237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204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5B1D-EEAF-4AD7-ADCB-608F5BCBE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204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AD72-C41B-4803-933B-53A8C541F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204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8800-4095-4105-A43B-92423F87E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204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A3E1-76B2-49A6-B0B5-DF9199EEF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72C2-4E0D-4578-A19A-D6F7F1C6F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204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3A8F-0A6A-41C7-AAD5-86CD5C587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204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A9DB-064E-4CEC-9A0B-37FB4871C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204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387A-2CDD-478E-B9BF-82C7B44E6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204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8E19-4C87-415D-AFF7-25EA859AA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204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19FF-F209-420B-B865-D803D10C1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204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3AB8-C1BC-4695-801A-056DA6078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204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03A6-6970-4AAA-9F98-267625270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204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E8BB-E425-4C4D-80AF-647E342C6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204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Header Placeholder 3"/>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14E9-06AF-47E8-87DE-01E4DF508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3520" y="3809520"/>
            <a:ext cx="579132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 19 av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88"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es rôles et les responsabilités des Membres du Conseil et des Points Focaux</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Comment pourrait chacune des parties prenantes mieux comprendre le travail du FEM dans leurs pays?</a:t>
            </a:r>
            <a:endParaRPr b="1" lang="en-US" sz="2800" spc="-1" strike="noStrike">
              <a:solidFill>
                <a:srgbClr val="1f497d"/>
              </a:solidFill>
              <a:latin typeface="Calibri"/>
            </a:endParaRPr>
          </a:p>
        </p:txBody>
      </p:sp>
      <p:sp>
        <p:nvSpPr>
          <p:cNvPr id="10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st-ce qui est fait pour promouvoir la coordination dans votre pays? Un comité directeur du FEM est-il un mécanisme utile ?</a:t>
            </a:r>
            <a:endParaRPr b="1" lang="en-US" sz="2800" spc="-1" strike="noStrike">
              <a:solidFill>
                <a:srgbClr val="1f497d"/>
              </a:solidFill>
              <a:latin typeface="Calibri"/>
            </a:endParaRPr>
          </a:p>
        </p:txBody>
      </p:sp>
      <p:sp>
        <p:nvSpPr>
          <p:cNvPr id="108"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ints focaux politiques</a:t>
            </a:r>
            <a:endParaRPr b="1" lang="en-US" sz="4400" spc="-1" strike="noStrike">
              <a:solidFill>
                <a:srgbClr val="1f497d"/>
              </a:solidFill>
              <a:latin typeface="Calibri"/>
            </a:endParaRPr>
          </a:p>
        </p:txBody>
      </p:sp>
      <p:sp>
        <p:nvSpPr>
          <p:cNvPr id="11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esponsabilités spécifiques des points focaux politiques consistent à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er </a:t>
            </a:r>
            <a:r>
              <a:rPr b="0" lang="fr-FR" sz="2000" spc="-1" strike="noStrike">
                <a:solidFill>
                  <a:srgbClr val="000000"/>
                </a:solidFill>
                <a:latin typeface="Calibri"/>
              </a:rPr>
              <a:t>au courant des questions de gouvernance du FEM et informer les parties intéressées, notamment les points focaux des Conventions, des politiques, questions de gouvernance et activités connexes du </a:t>
            </a:r>
            <a:r>
              <a:rPr b="0" lang="en-US" sz="2000" spc="-1" strike="noStrike">
                <a:solidFill>
                  <a:srgbClr val="000000"/>
                </a:solidFill>
                <a:latin typeface="Calibri"/>
              </a:rPr>
              <a:t>F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er </a:t>
            </a:r>
            <a:r>
              <a:rPr b="0" lang="fr-FR" sz="2000" spc="-1" strike="noStrike">
                <a:solidFill>
                  <a:srgbClr val="000000"/>
                </a:solidFill>
                <a:latin typeface="Calibri"/>
              </a:rPr>
              <a:t>les consultations au sein du pays sur les questions de gouvernance du F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r </a:t>
            </a:r>
            <a:r>
              <a:rPr b="0" lang="fr-FR" sz="2000" spc="-1" strike="noStrike">
                <a:solidFill>
                  <a:srgbClr val="000000"/>
                </a:solidFill>
                <a:latin typeface="Calibri"/>
              </a:rPr>
              <a:t>d’agents de liaison sur les questions de gouvernance du FEM au sein de leurs pays, avec les groupes de pays du FEM auxquels appartiennent leurs pays ainsi qu’avec les membres du Conseil du FEM représentant leurs groupes de pays </a:t>
            </a:r>
            <a:r>
              <a:rPr b="0" lang="en-US" sz="2000" spc="-1" strike="noStrike">
                <a:solidFill>
                  <a:srgbClr val="000000"/>
                </a:solidFill>
                <a:latin typeface="Calibri"/>
              </a:rPr>
              <a:t>respectif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quer </a:t>
            </a:r>
            <a:r>
              <a:rPr b="0" lang="fr-FR" sz="2000" spc="-1" strike="noStrike">
                <a:solidFill>
                  <a:srgbClr val="000000"/>
                </a:solidFill>
                <a:latin typeface="Calibri"/>
              </a:rPr>
              <a:t>les points de vue de leurs gouvernements et présenter au Secrétariat du FEM  des observations et des suggestions sur les politiques du FEM en vigueur ou proposée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2" name=""/>
          <p:cNvSpPr txBox="1"/>
          <p:nvPr/>
        </p:nvSpPr>
        <p:spPr>
          <a:xfrm>
            <a:off x="456840" y="1447560"/>
            <a:ext cx="8381880" cy="4267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urs responsabilités générales consistent à:</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rvir de principal point de contact du Secrétariat du FEM, des Entités d’exécution du FEM et des parties prenantes nationales concernant les stratégies et objectifs environnementaux du pays, les informations sur les projets du FEM et les rapports de projet du FEM dans le</a:t>
            </a:r>
            <a:r>
              <a:rPr b="0" lang="en-US" sz="2200" spc="-1" strike="noStrike">
                <a:solidFill>
                  <a:srgbClr val="000000"/>
                </a:solidFill>
                <a:latin typeface="Calibri"/>
              </a:rPr>
              <a:t>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r>
              <a:rPr b="0" lang="fr-FR" sz="2200" spc="-1" strike="noStrike">
                <a:solidFill>
                  <a:srgbClr val="000000"/>
                </a:solidFill>
                <a:latin typeface="Calibri"/>
              </a:rPr>
              <a:t>concerter avec les OSC et d’autres principales parties prenantes dans le pays sur les questions liées au FEM et fournir des renseignements sur les activités du FEM, concernant notamment l’exécution, les résultats et l’impact des projet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aire mieux connaître le FEM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dre systématiquement en compte les objectifs du FEM dans les cadres d’intervention nationau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urer le suivi des projets dans le pa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4"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responsabilités au titre du Programme d’aide aux points focaux nationaux consistent à </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mander et organiser dans les pays qui le souhaitent les Processus de constitution des portefeuilles nationaux (PCPN) et les dialogues multipartit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articiper activement aux ateliers élargis des groupes de pays et aux réunions des groupes de pay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tiliser convenablement l’appui annuel aux points focaux</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Directives pour les points focaux techniques </a:t>
            </a:r>
            <a:endParaRPr b="1" lang="en-US" sz="4000" spc="-1" strike="noStrike">
              <a:solidFill>
                <a:srgbClr val="1f497d"/>
              </a:solidFill>
              <a:latin typeface="Calibri"/>
            </a:endParaRPr>
          </a:p>
        </p:txBody>
      </p:sp>
      <p:sp>
        <p:nvSpPr>
          <p:cNvPr id="116"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 responsabilités opérationnelles consistent à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valiser les projets avant que les Entités d’exécution ne présentent la Fiche d’identité du projet (FIP) au Secrétariat du FEM pour valida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tiliser le Système intégré de gestion des projets du FEM (SIGP) pour enregistrer les idées de projet (activité facultative) et pour surveiller les projets et les programmes du FEM, en plus de la surveillance plus en détail par le biais des systèmes des Entités d’exécution</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ux activités de suivi et évaluation aux niveaux du projet, du programme et du portefeuille</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llaborer avec les Entités d’exécution en élaborant la Fiche d’identité du projet (FIP) et en répondant aux observations du Secrétariat du FEM sur la fiche d’examen de projet, le cas échéant</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iciper activement au cycle du projet, de sa conception jusqu’à son achèvement</a:t>
            </a:r>
            <a:r>
              <a:rPr b="0" lang="en-US"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eiller au respect de la politique visant à faire mieux connaître le FEM</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otoriété du FEM</a:t>
            </a:r>
            <a:endParaRPr b="1" lang="en-US" sz="4400" spc="-1" strike="noStrike">
              <a:solidFill>
                <a:srgbClr val="1f497d"/>
              </a:solidFill>
              <a:latin typeface="Calibri"/>
            </a:endParaRPr>
          </a:p>
        </p:txBody>
      </p:sp>
      <p:sp>
        <p:nvSpPr>
          <p:cNvPr id="118"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notoriété du FEM est cruciale pour lui permettre d’être connu, reconnu et financ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seil a adopté une décision visant à faire mieux connaître le FEM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s points focaux techniques devraient </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aître la teneur de cette dé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uvoir son applic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nformer le Secrétariat du FEM lorsqu’elle n’est pas respectée pour que le Secrétariat prenne les dispositions nécessair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ôles des parties prenantes</a:t>
            </a:r>
            <a:endParaRPr b="1" lang="en-US" sz="4400" spc="-1" strike="noStrike">
              <a:solidFill>
                <a:srgbClr val="1f497d"/>
              </a:solidFill>
              <a:latin typeface="Calibri"/>
            </a:endParaRPr>
          </a:p>
        </p:txBody>
      </p:sp>
      <p:sp>
        <p:nvSpPr>
          <p:cNvPr id="90"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r le rôle de chaque acteur à votre table concernant le F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 est la responsabilité du membre du Conseil à l’égard de son groupe de pa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le point focal politique participe-t-il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 doivent faire les points focaux pour les Conventions en préparation des négociations de la Conférence des parties </a:t>
            </a:r>
            <a:r>
              <a:rPr b="0" lang="fr-FR" sz="1800" spc="-1" strike="noStrike">
                <a:solidFill>
                  <a:srgbClr val="000000"/>
                </a:solidFill>
                <a:latin typeface="Calibri"/>
              </a:rPr>
              <a:t>concernant le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s sont certains des moyens précis par lesquels les OSC pourraient participer davantage aux activités du FEM?</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activités qu’un point focal technique pourrait réaliser avec son budget de 9000 dollars d’aide directe/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lles sont les difficultés rencontrées dans l’exécution du plan de travail annu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nt chaque acteur pourrait-il contribuer à faire mieux connaître le FEM?</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ment pourrait chacune des parties prenantes mieux comprendre le travail du FEM dans leurs pay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ce qui est fait pour promouvoir la coordination dans votre pays? Un comité directeur du FEM est-il un mécanisme ut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 est la responsabilité du membre du Conseil à l’égard de son groupe de pays?</a:t>
            </a:r>
            <a:endParaRPr b="1" lang="en-US" sz="2800" spc="-1" strike="noStrike">
              <a:solidFill>
                <a:srgbClr val="1f497d"/>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le point focal politique participe-t-il aux activités du FEM?</a:t>
            </a:r>
            <a:endParaRPr b="1" lang="en-US" sz="2800" spc="-1" strike="noStrike">
              <a:solidFill>
                <a:srgbClr val="1f497d"/>
              </a:solidFill>
              <a:latin typeface="Calibri"/>
            </a:endParaRPr>
          </a:p>
        </p:txBody>
      </p:sp>
      <p:sp>
        <p:nvSpPr>
          <p:cNvPr id="9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51920"/>
            <a:ext cx="838188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 doivent faire les points focaux des Conventions en préparation des négociations de la Conférence des parties </a:t>
            </a:r>
            <a:r>
              <a:rPr b="1" lang="fr-FR" sz="2800" spc="-1" strike="noStrike">
                <a:solidFill>
                  <a:srgbClr val="1f497d"/>
                </a:solidFill>
                <a:latin typeface="Calibri"/>
              </a:rPr>
              <a:t>concernant le FEM?</a:t>
            </a:r>
            <a:endParaRPr b="1" lang="en-US" sz="2800" spc="-1" strike="noStrike">
              <a:solidFill>
                <a:srgbClr val="1f497d"/>
              </a:solidFill>
              <a:latin typeface="Calibri"/>
            </a:endParaRPr>
          </a:p>
        </p:txBody>
      </p:sp>
      <p:sp>
        <p:nvSpPr>
          <p:cNvPr id="96"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s sont certains des moyens précis par lesquels les OSC pourraient participer davantage aux activités du FEM?</a:t>
            </a:r>
            <a:endParaRPr b="1" lang="en-US" sz="2800" spc="-1" strike="noStrike">
              <a:solidFill>
                <a:srgbClr val="1f497d"/>
              </a:solidFill>
              <a:latin typeface="Calibri"/>
            </a:endParaRPr>
          </a:p>
        </p:txBody>
      </p:sp>
      <p:sp>
        <p:nvSpPr>
          <p:cNvPr id="9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2492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activités qu’un point focal technique pourrait réaliser avec son budget de 9 000 dollars d’aide directe/plan de travail annuel?</a:t>
            </a:r>
            <a:endParaRPr b="1" lang="en-US" sz="2800" spc="-1" strike="noStrike">
              <a:solidFill>
                <a:srgbClr val="1f497d"/>
              </a:solidFill>
              <a:latin typeface="Calibri"/>
            </a:endParaRPr>
          </a:p>
        </p:txBody>
      </p:sp>
      <p:sp>
        <p:nvSpPr>
          <p:cNvPr id="100"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Quelles sont les difficultés rencontrées dans l’exécution du plan de travail annuel?</a:t>
            </a:r>
            <a:endParaRPr b="1" lang="en-US" sz="2800" spc="-1" strike="noStrike">
              <a:solidFill>
                <a:srgbClr val="1f497d"/>
              </a:solidFill>
              <a:latin typeface="Calibri"/>
            </a:endParaRPr>
          </a:p>
        </p:txBody>
      </p:sp>
      <p:sp>
        <p:nvSpPr>
          <p:cNvPr id="10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omment chaque acteur pourrait-il contribuer à faire mieux connaître le FEM?</a:t>
            </a:r>
            <a:endParaRPr b="1" lang="en-US" sz="2800" spc="-1" strike="noStrike">
              <a:solidFill>
                <a:srgbClr val="1f497d"/>
              </a:solidFill>
              <a:latin typeface="Calibri"/>
            </a:endParaRPr>
          </a:p>
        </p:txBody>
      </p:sp>
      <p:sp>
        <p:nvSpPr>
          <p:cNvPr id="104"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13:03Z</dcterms:modified>
  <cp:revision>113</cp:revision>
  <dc:subject/>
  <dc:title>Focal Area and Cross Cutting Strategies – Chemicals</dc:title>
</cp:coreProperties>
</file>