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C7A1-32AD-46C6-A600-20E2F76D7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0763-ABE7-4EC8-AF03-7BCCE7B48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2A1-3499-4A4B-8677-648B46B22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6A2E-60D2-4D8A-B86E-D868706DA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058C-40B6-4401-B576-D415BE702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D9AA-EE8E-469B-9D15-E2CB7E62F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D377-B155-4E03-952E-3F311B901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0FC6-D469-4209-9CC8-DA6BFFB95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949B-DED9-43CB-BF18-F28820996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1907-9FEA-443F-823C-4848AC536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177D-33E3-488C-ABDC-D32DB95C3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1B4C-CCFB-40D0-AA92-18A978871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48A2-D9EF-4DBC-B586-F46DA029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F66A-756E-46D1-8A1A-AEE991AE7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8978-FA73-4A9E-958E-E14685585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3422-1716-4784-8939-85F9CE07B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3:03Z</dcterms:modified>
  <cp:revision>113</cp:revision>
  <dc:subject/>
  <dc:title>Focal Area and Cross Cutting Strategies – Chemicals</dc:title>
</cp:coreProperties>
</file>