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3730-2536-4E81-A1F3-75C2E4295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5A82-B0D6-4E8D-AB78-0D1B3833B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4E6D-BFE5-474F-954D-630AB18A9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521B-D724-48B8-B63D-628AC014A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2F36-75D3-45C8-9B8C-596D6D3F8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544E-D3B2-45D9-9E55-DE214CE3F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D674-01E8-414A-BF8D-41A28CB4C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F8A8-8E32-48BA-9ACF-9364642B6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90B2-1528-4E00-B961-5D845058F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4DF4-FB7F-4D63-BAD5-3B3520B47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D1E5-6FE8-4B30-8E20-ECDE13690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256D-4E74-4E02-B1CE-6AA065861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90B1-57EE-44FC-93DE-B2B678F06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C567-AB53-404D-BF67-48162DD97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AB31-B06F-466E-AE65-3C872C954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82B9-8C03-4F71-B173-979ABF5CC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3520" y="3809520"/>
            <a:ext cx="579132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 19 av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88"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es rôles et les responsabilités des Membres du Conseil et des Points Focaux</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6840" y="1447560"/>
            <a:ext cx="8381880" cy="4267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urs responsabilités générales consistent à:</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200" spc="-1" strike="noStrike">
                <a:solidFill>
                  <a:srgbClr val="000000"/>
                </a:solidFill>
                <a:latin typeface="Calibri"/>
              </a:rPr>
              <a:t>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r>
              <a:rPr b="0" lang="fr-FR" sz="22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aire mieux connaître le FEM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dre systématiquement en compte les objectifs du FEM dans les cadres d’intervention nationau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urer le suivi des projets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responsabilités au titre du Programme d’aide aux points focaux nationaux consistent à </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mander et organiser dans les pays qui le souhaitent les Processus de constitution des portefeuilles nationaux (PCPN) et les dialogues multipartit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articiper activement aux ateliers élargis des groupes de pays et aux réunions des groupes de pay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tiliser convenablement l’appui annuel aux points focaux</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13:03Z</dcterms:modified>
  <cp:revision>113</cp:revision>
  <dc:subject/>
  <dc:title>Focal Area and Cross Cutting Strategies – Chemicals</dc:title>
</cp:coreProperties>
</file>