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337F-B570-4402-BB53-95517AF5D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D982-4A77-4119-BCD9-5A2567134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15228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Расширенное совещание ГЭФ</a:t>
            </a:r>
            <a:br>
              <a:rPr sz="2800"/>
            </a:b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на уровне группы стр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Тирана, Алб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27 – 29 март 2012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Роль стран в ГЭФ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ое содействие каждая из присутствующих заинтересованных сторон может оказать в проведении мониторинга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Что делается в вашей стране для совершенствования координации? Полезную ли роль играет в этом Координационный комитет ГЭФ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1f497d"/>
                </a:solidFill>
                <a:uFillTx/>
                <a:latin typeface="Calibri"/>
              </a:rPr>
              <a:t>Политические координаторы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2280" y="129492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язанности политических координаторов заключаются в следующе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ыть в курсе вопросов управления ГЭФ, информировать заинтересованные стороны, в том числе и координаторов по конвенциям, о политике ГЭФ, вопросах управления и соответствующих мероприятиях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действовать проведению в стране консультаций по вопросам управления ГЭФ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ступать в качестве связующего звена по вопросам управления ГЭФ в своих странах, с группами государств-участников ГЭФ, в которые входят их страны, и с членами Совета ГЭФ, предоставляющими соответствующие группы государств-участнико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формировать Секретариат ГЭФ о позиции правительств своих стран, а также доводить до сведения Секретариата замечания и предложения относительно нынешней или предполагаемой политики 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f497d"/>
                </a:solidFill>
                <a:uFillTx/>
                <a:latin typeface="Calibri"/>
              </a:rPr>
              <a:t>Руководящие указания для оперативных координаторов</a:t>
            </a:r>
            <a:r>
              <a:rPr b="1" lang="en-US" sz="40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язанности общего характе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тупать в качестве основного связующего звена между Секретариатом ГЭФ, Организациями-исполнителями ГЭФ и национальными заинтересованными сторонами по вопросам, касающимся стратегий и целей стран в области охраны окружающей среды, информации о проектах ГЭФ и страновых отчетов по проектам ГЭФ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одить консультации с ОГО и другими основными заинтересованными сторонами в стране по вопросам деятельности ГЭФ, а также предоставлять им информацию о мероприятиях ГЭФ, включая осуществление проектов, их результаты и воздействие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ать уровень осведомленности о ГЭФ в стр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ивать интеграцию целей ГЭФ в концепции национальной полити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леживать ход осуществления проектов в стр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f497d"/>
                </a:solidFill>
                <a:uFillTx/>
                <a:latin typeface="Calibri"/>
              </a:rPr>
              <a:t>Руководящие указания для оперативных координаторов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язанности в отношении Программы страновой поддержк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нициировать и организовывать добровольные мероприятия по формированию национальных портфелей проектов (ФНПП) и диалог с участием ряда заинтересованных сторо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нимать активное участие в расширенных семинарах на уровне групп стран и в совещаниях групп стра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длежащим образом использовать средства, ежегодно поступающие в целях поддержки координаторо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f497d"/>
                </a:solidFill>
                <a:uFillTx/>
                <a:latin typeface="Calibri"/>
              </a:rPr>
              <a:t>Руководящие указания для оперативных координаторов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еративные обязанност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обрять проекты до передачи Организациями-исполнителями Идентификационной формы по проекту (ИФП) на рассмотрение в Секретариат ГЭФ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ьзовать Информационную систему ГЭФ по управлению проектами (ИСУП ГЭФ) для ввода информации о концепции проекта (в добровольном порядке) и для отслеживания хода осуществления проектов и программ ГЭФ, в дополнение к более подробному их отслеживанию с использованием систем Организац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уществлять взаимодействие по вопросам мониторинга и оценки (МиО) на уровне проектов, программ и портфеля проектов ГЭФ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заимодействовать с Организациями-исполнителями при подготовке Идентификационной формы по проекту (ИФП) и, в случае необходимости, представлять ответы на замечания, содержащиеся в заключении Секретариата ГЭФ по проект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ктивно участвовать в осуществлении проекта на протяжении всего цикла – от выдвижения концепции до завершения проек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еспечивать соблюдение принципов наглядного представления роли ГЭФ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свещение роли ГЭФ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свещение роли ГЭФ чрезвычайно важно для того, чтобы обеспечить известность ГЭФ, его признание и финансировани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вет принял решение об активизации освещения роли ГЭФ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Документ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 GEF/C.40/08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еративным координаторам следует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ть содержание этого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ствовать его осуществле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вить Секретариат ГЭФ в известность о случаях его невыполнения, чтобы Секретариат мог принять надлежащие ме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оль заинтересованных сторон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28600" y="11426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удите роль, которую играет в отношении ГЭФ каждая заинтересованная сторона в вашей групп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чем состоят обязанности члена Совета ГЭФ по отношению к своей группе стран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 образом политический координатор участвует в деятельности ГЭФ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следует делать координаторам конвенций в ходе подготовки к переговорам в рамках К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именно путями ОГО могли бы активизировать свое участие в деятельности ГЭФ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мероприятия может провести ОК на 9000 долл. США, получаемых в рамках непосредственной поддержки / сметы годового плана работы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проблемы возникают в ходе осуществления Годового плана работы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ую помощь каждая из заинтересованных сторон может оказать в освещении роли ГЭФ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ое содействие каждая из присутствующих заинтересованных сторон может оказать в проведении мониторинга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делается в вашей стране для совершенствования координации? Полезную ли роль играет в этом Координационный комитет ГЭФ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В чем состоят обязанности члена Совета ГЭФ по отношению к своей группе стран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им образом политический координатор участвует в деятельности ГЭФ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Что следует делать координаторам конвенций в ходе подготовки к переговорам в рамках КС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ими именно путями ОГО могли бы активизировать свое участие в деятельности ГЭФ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ие мероприятия может провести ОК на 9000 долл. США, получаемых в рамках непосредственной поддержки / сметы годового плана работы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ие проблемы возникают в ходе осуществления Годового плана работы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ую помощь каждая из заинтересованных сторон может оказать в освещении роли ГЭФ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1:38:24Z</dcterms:modified>
  <cp:revision>88</cp:revision>
  <dc:subject/>
  <dc:title>Focal Area and Cross Cutting Strategies – Chemicals</dc:title>
</cp:coreProperties>
</file>