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9D8D-3DF1-41BF-A738-E91B228E7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82E-7757-4E05-BAE9-916E33E2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Роль стран в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Политические координатор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2280" y="12949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нности политических координаторов заключаются в следующ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в курсе вопросов управления ГЭФ, информировать заинтересованные стороны, в том числе и координаторов по конвенциям, о политике ГЭФ, вопросах управления и соответствующих мероприятия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йствовать проведению в стране консультаций по вопросам управления ГЭФ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тупать в качестве связующего звена по вопросам управления ГЭФ в своих странах, с группами государств-участников ГЭФ, в которые входят их страны, и с членами Совета ГЭФ, предоставляющими соответствующие группы государств-участник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ировать Секретариат ГЭФ о позиции правительств своих стран, а также доводить до сведения Секретариата замечания и предложения относительно нынешней или предполагаемой политик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</a:t>
            </a:r>
            <a:r>
              <a:rPr b="1" lang="en-US" sz="4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общего характ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ть в качестве основного связующего звена между Секретариатом ГЭФ, Организациями-исполнителями ГЭФ и национальными заинтересованными сторонами по вопросам, касающимся стратегий и целей стран в области охраны окружающей среды, информации о проектах ГЭФ и страновых отчетов по проектам ГЭ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ть консультации с ОГО и другими основными заинтересованными сторонами в стране по вопросам деятельности ГЭФ, а также предоставлять им информацию о мероприятиях ГЭФ, включая осуществление проектов, их результаты и воздействие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ать уровень осведомленности о ГЭФ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интеграцию целей ГЭФ в концепции национальной полити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живать ход осуществления проектов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язанности в отношении Программы страновой поддерж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ициировать и организовывать добровольные мероприятия по формированию национальных портфелей проектов (ФНПП) и диалог с участием ряда заинтересованных стор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имать активное участие в расширенных семинарах на уровне групп стран и в совещаниях групп стра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длежащим образом использовать средства, ежегодно поступающие в целях поддержки координ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е обязаннос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обрять проекты до передачи Организациями-исполнителями Идентификационной формы по проекту (ИФП) на рассмотрение в Секретариат ГЭ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ть Информационную систему ГЭФ по управлению проектами (ИСУП ГЭФ) для ввода информации о концепции проекта (в добровольном порядке) и для отслеживания хода осуществления проектов и программ ГЭФ, в дополнение к более подробному их отслеживанию с использованием систем Организац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ять взаимодействие по вопросам мониторинга и оценки (МиО) на уровне проектов, программ и портфеля проектов ГЭ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аимодействовать с Организациями-исполнителями при подготовке Идентификационной формы по проекту (ИФП) и, в случае необходимости, представлять ответы на замечания, содержащиеся в заключении Секретариата ГЭФ по проект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вно участвовать в осуществлении проекта на протяжении всего цикла – от выдвижения концепции до завершения проек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спечивать соблюдение принципов наглядного представления роли ГЭ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вещение роли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вещение роли ГЭФ чрезвычайно важно для того, чтобы обеспечить известность ГЭФ, его признание и финансировани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ет принял решение об активизации освещения роли ГЭФ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GEF/C.40/0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еративным координаторам следуе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 содержание этого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его осущест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ь Секретариат ГЭФ в известность о случаях его невыполнения, чтобы Секретариат мог принять надлежащие м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оль заинтересованных сторон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дите роль, которую играет в отношении ГЭФ каждая заинтересованная сторона в вашей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состоят обязанности члена Совета ГЭФ по отношению к своей группе стран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проблемы возникают в ходе осуществления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чем состоят обязанности члена Совета ГЭФ по отношению к своей группе стран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проблемы возникают в ходе осуществления Годового плана работы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8:24Z</dcterms:modified>
  <cp:revision>88</cp:revision>
  <dc:subject/>
  <dc:title>Focal Area and Cross Cutting Strategies – Chemicals</dc:title>
</cp:coreProperties>
</file>