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5FB4-4D80-4442-99CF-E863B0C19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AC53-7616-463A-94C8-0E1497F46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27 – 29 March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irana, Albania</a:t>
            </a: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and Responsibilities of Council Members and Focal Poin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2:15Z</dcterms:modified>
  <cp:revision>77</cp:revision>
  <dc:subject/>
  <dc:title>Focal Area and Cross Cutting Strategies – Chemicals</dc:title>
</cp:coreProperties>
</file>