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14FF-A481-47AA-81E5-5D6EC00E7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204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1A00-93ED-4769-8923-69823843A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371600" y="396252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27 – 29 March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Tirana, Albania</a:t>
            </a:r>
            <a:endParaRPr b="0" lang="en-US" sz="2800" spc="-1" strike="noStrike">
              <a:solidFill>
                <a:srgbClr val="000000"/>
              </a:solidFill>
              <a:latin typeface="Calibri"/>
            </a:endParaRPr>
          </a:p>
        </p:txBody>
      </p:sp>
      <p:sp>
        <p:nvSpPr>
          <p:cNvPr id="129" name="PlaceHolder 2"/>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oles and Responsibilities of Council Members and Focal Poin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better understand the work of the GEF in their country?</a:t>
            </a:r>
            <a:endParaRPr b="1" lang="en-US" sz="2800" spc="-1" strike="noStrike">
              <a:solidFill>
                <a:srgbClr val="1f497d"/>
              </a:solidFill>
              <a:latin typeface="Calibri"/>
            </a:endParaRPr>
          </a:p>
        </p:txBody>
      </p:sp>
      <p:sp>
        <p:nvSpPr>
          <p:cNvPr id="14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done to promote coordination within your country? Is a GEF steering committee a useful tool?</a:t>
            </a:r>
            <a:endParaRPr b="1" lang="en-US" sz="2800" spc="-1" strike="noStrike">
              <a:solidFill>
                <a:srgbClr val="1f497d"/>
              </a:solidFill>
              <a:latin typeface="Calibri"/>
            </a:endParaRPr>
          </a:p>
        </p:txBody>
      </p:sp>
      <p:sp>
        <p:nvSpPr>
          <p:cNvPr id="149"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litical Focal Points</a:t>
            </a:r>
            <a:endParaRPr b="1" lang="en-US" sz="4400" spc="-1" strike="noStrike">
              <a:solidFill>
                <a:srgbClr val="1f497d"/>
              </a:solidFill>
              <a:latin typeface="Calibri"/>
            </a:endParaRPr>
          </a:p>
        </p:txBody>
      </p:sp>
      <p:sp>
        <p:nvSpPr>
          <p:cNvPr id="15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ic responsibilities of Political Focal Poi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y abreast of GEF governance matters, informing interested parties, including convention focal points, about GEF policies, governance issues, and related activ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ilitate in-country consultations on GEF governance matter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liaisons on GEF governance matters within their countries, with the GEF Constituencies to which their countries belong, and with the GEF Council Members representing their respective Constituenc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unicate the views of their governments, as well as give comments and suggestions on the GEF’s existing or proposed policies to the GEF Secretari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3"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 Responsibil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the main contact of the GEF Secretariat, GEF Agencies and national stakeholders with respect to country environmental strategies and objectives, GEF project information and country GEF project repor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ult with CSO and other key stakeholders in country on GEF matters as well as provide information on GEF activities, including project implementation, results and impa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ise awareness in country on GEF</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instreaming of GEF objectives in national policy framewor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llow Projects in Count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5"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try Support Programme Responsibi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quest and organize voluntary National Portfolio Formulation Exercises (NPFEs) and Multi-stakeholder dialogu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tively participate in Expanded Constituency Workshops and Constituency Meeting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tilize annual support to focal points appropriate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7"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al Responsibiliti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orse projects before the Agencies submit the Project Identification Form (PIF) to the GEF Secretariat for clearanc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GEF Project Management Information System (GEFPMIS) to enter project concepts (voluntary activity) and for the tracking of GEF projects and programs, in addition to tracking in more detail through Agency system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on Monitoring and Evaluation (M&amp;E) at project, program, and portfolio level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the Agencies in drafting the Project Identification Form (PIF) and responding to the GEF Secretariat project review sheet comments, as appropriat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ely participate in the project life cycle from inception until its completion.</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GEF visibility policy is respected.</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Visibility of the GEF</a:t>
            </a:r>
            <a:endParaRPr b="1" lang="en-US" sz="4400" spc="-1" strike="noStrike">
              <a:solidFill>
                <a:srgbClr val="1f497d"/>
              </a:solidFill>
              <a:latin typeface="Calibri"/>
            </a:endParaRPr>
          </a:p>
        </p:txBody>
      </p:sp>
      <p:sp>
        <p:nvSpPr>
          <p:cNvPr id="159"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visibility of the GEF is vital to ensure that the GEF is known, recognized and fund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cil adopted a decision on Enhancing the Visibility of the GEF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al Focal Points are expected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now the content of this de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te its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rm the GEF Secretariat when it is not being respected so that the Secretariat may take appropriate actio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Stakeholder Roles</a:t>
            </a:r>
            <a:endParaRPr b="1" lang="en-US" sz="4400" spc="-1" strike="noStrike">
              <a:solidFill>
                <a:srgbClr val="1f497d"/>
              </a:solidFill>
              <a:latin typeface="Calibri"/>
            </a:endParaRPr>
          </a:p>
        </p:txBody>
      </p:sp>
      <p:sp>
        <p:nvSpPr>
          <p:cNvPr id="131" name=""/>
          <p:cNvSpPr txBox="1"/>
          <p:nvPr/>
        </p:nvSpPr>
        <p:spPr>
          <a:xfrm>
            <a:off x="457200" y="1371600"/>
            <a:ext cx="82296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the role of each stakeholder at your table with respect to the GEF</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responsibility of the Council Member to their constituenc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is the political focal point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should convention focal points do in preparation for COP negotiations concerning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some specific ways for CSOs to become more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the activities that an OFP could do with their $9,000 direct support/annual work plan budge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challenges are faced when implementing the Annual Work Pla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assist with the visibility of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better understand the work of the GEF in their countr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done to promote coordination within your country? Is a GEF steering committee a useful too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the responsibility of the Council Member to their constituency?</a:t>
            </a:r>
            <a:endParaRPr b="1" lang="en-US" sz="2800" spc="-1" strike="noStrike">
              <a:solidFill>
                <a:srgbClr val="1f497d"/>
              </a:solidFill>
              <a:latin typeface="Calibri"/>
            </a:endParaRPr>
          </a:p>
        </p:txBody>
      </p:sp>
      <p:sp>
        <p:nvSpPr>
          <p:cNvPr id="13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is the political focal point involved in GEF activities?</a:t>
            </a:r>
            <a:endParaRPr b="1" lang="en-US" sz="2800" spc="-1" strike="noStrike">
              <a:solidFill>
                <a:srgbClr val="1f497d"/>
              </a:solidFill>
              <a:latin typeface="Calibri"/>
            </a:endParaRPr>
          </a:p>
        </p:txBody>
      </p:sp>
      <p:sp>
        <p:nvSpPr>
          <p:cNvPr id="13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should convention focal points do in preparation for COP negotiations concerning the GEF?</a:t>
            </a:r>
            <a:endParaRPr b="1" lang="en-US" sz="2800" spc="-1" strike="noStrike">
              <a:solidFill>
                <a:srgbClr val="1f497d"/>
              </a:solidFill>
              <a:latin typeface="Calibri"/>
            </a:endParaRPr>
          </a:p>
        </p:txBody>
      </p:sp>
      <p:sp>
        <p:nvSpPr>
          <p:cNvPr id="13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some specific ways for CSOs to become more involved in GEF activities?</a:t>
            </a:r>
            <a:endParaRPr b="1" lang="en-US" sz="2800" spc="-1" strike="noStrike">
              <a:solidFill>
                <a:srgbClr val="1f497d"/>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the activities that an OFP could do with their $9,000 direct support/annual work plan budget?</a:t>
            </a:r>
            <a:endParaRPr b="1" lang="en-US" sz="2800" spc="-1" strike="noStrike">
              <a:solidFill>
                <a:srgbClr val="1f497d"/>
              </a:solidFill>
              <a:latin typeface="Calibri"/>
            </a:endParaRPr>
          </a:p>
        </p:txBody>
      </p:sp>
      <p:sp>
        <p:nvSpPr>
          <p:cNvPr id="141"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challenges are faced when implementing the Annual Work Plan?</a:t>
            </a:r>
            <a:endParaRPr b="1" lang="en-US" sz="2800" spc="-1" strike="noStrike">
              <a:solidFill>
                <a:srgbClr val="1f497d"/>
              </a:solidFill>
              <a:latin typeface="Calibri"/>
            </a:endParaRPr>
          </a:p>
        </p:txBody>
      </p:sp>
      <p:sp>
        <p:nvSpPr>
          <p:cNvPr id="14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assist with the visibility of the GEF?</a:t>
            </a:r>
            <a:endParaRPr b="1" lang="en-US" sz="2800" spc="-1" strike="noStrike">
              <a:solidFill>
                <a:srgbClr val="1f497d"/>
              </a:solidFill>
              <a:latin typeface="Calibri"/>
            </a:endParaRPr>
          </a:p>
        </p:txBody>
      </p:sp>
      <p:sp>
        <p:nvSpPr>
          <p:cNvPr id="14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1:32:15Z</dcterms:modified>
  <cp:revision>77</cp:revision>
  <dc:subject/>
  <dc:title>Focal Area and Cross Cutting Strategies – Chemicals</dc:title>
</cp:coreProperties>
</file>