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DF26-B30C-48A7-B1BD-8DD6CE44E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65F9-FD3C-4C89-BB3E-66A5406C5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17 to 19 April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98989"/>
                </a:solidFill>
                <a:latin typeface="Calibri"/>
              </a:rPr>
              <a:t>Ouagadougou, Burkina Faso</a:t>
            </a: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and Responsibilities of Council Members and Focal Poin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7:52Z</dcterms:modified>
  <cp:revision>81</cp:revision>
  <dc:subject/>
  <dc:title>Focal Area and Cross Cutting Strategies – Chemicals</dc:title>
</cp:coreProperties>
</file>