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6F66-9B1B-4F49-AD5A-16138B6DA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5E18-A0E7-48A1-BEB8-D60B4511B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17 to 19 April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Ouagadougou, Burkina Faso</a:t>
            </a: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and Responsibilities of Council Members and Focal Poin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7:52Z</dcterms:modified>
  <cp:revision>81</cp:revision>
  <dc:subject/>
  <dc:title>Focal Area and Cross Cutting Strategies – Chemicals</dc:title>
</cp:coreProperties>
</file>