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32C6-3500-489D-A61C-16ED81E8C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55A3-224A-49FD-AA16-6BF9C048B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7:52Z</dcterms:modified>
  <cp:revision>81</cp:revision>
  <dc:subject/>
  <dc:title>Focal Area and Cross Cutting Strategies – Chemicals</dc:title>
</cp:coreProperties>
</file>