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D197-A7BA-45AB-B806-BD3DC182D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E7FD-F1AD-41B7-96AE-734366FA9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6764-53B7-4798-A46A-151E8C2CA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BB20-D6A8-4323-8E7D-9872935CE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6B31-C97E-4D96-8441-D89C1F1A2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C187-B6AF-450D-A69C-70795486A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internal – associated with projec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external – unforeseen armed confli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risks specifically for occurrences outside the control of the project – or are they unacceptable because of inadequacies in project design or resource mob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D041-6086-41DD-8298-00A62EDBB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A47F-201A-4595-84A1-B42BC9618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682E-1805-4AE2-A7BB-56ECD8B2B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8AF2-35AE-43D2-8950-78DA96C27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7219-5F45-4A7F-9396-38D94819F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2F8F-8B38-43B4-B4D9-C48B8016D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7A75-EB03-4CF9-A922-B7690DB06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38A5-FA4D-4176-84B8-167F608D2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266C-8898-4CF2-A12D-61A234490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4B7F-5255-40F1-A9CB-26AD5BC94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CF2E-8EB2-4322-A868-9DE9CAA7C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379C-FD35-4FB1-9119-624D28118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C535-FCF4-4D3E-9E90-FD71977B3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1AF-F74B-4517-8EAA-D049DE90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60F-3C8A-4986-8B01-706A0516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487-E5DC-48BB-9B16-732BC264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5AA-982D-44DA-9BF5-866A911E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8C6A-FA81-4171-93D7-C1DD0D13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C887-04AE-45C4-9AB5-232EDADE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3F8E-F18B-46ED-B0A3-490ED0DB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ABD5-65BD-4B54-A4C9-17AB17C5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A939-6FDB-4865-B9BC-FDCFD7CF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332D-6016-48FA-83C6-32629EFD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14F0-7ED7-4D8C-9D56-DA3F4596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A79-0CB0-4D71-9C6D-263C3C77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D1BC-51D8-4E07-9027-7C14B897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E885-F9E3-476B-82B5-0CE202E5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50B3-56B7-4334-99D2-43F4D4B7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710D-865A-4940-9050-52B1085A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ECB3-C449-49A0-AA42-A7E4C522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89B7-5FCC-4F32-BF76-6996093D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C1303-8BBF-4548-8911-CA72EFD0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1BE97-FF5A-472C-B412-7C0025A6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3E46-5976-45D3-B63E-37DC543D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B6E35-6235-40CC-97B9-D81A7A7D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8C6-BDB2-4210-95CF-3F042410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961E-54E4-488F-A251-B082CE11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E1CE-FC14-4DBE-A497-26831FF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B460-EB49-4067-96B5-9F703B03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6D830-113C-41FC-85BE-622A5DF0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9144-7322-42CE-9519-4D5E820A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8F83F-697A-423C-8B55-CDF7D29B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B5127-1D8C-4128-A974-CEFB5B28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E37FC-280E-4016-B053-55477AA0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12BF-38C2-4088-A32D-F011E843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911EB-C4F1-4AF4-8CBC-8E0B4462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777-AF2D-49CD-B972-EB09CF74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DC82E-704E-4C9B-99B9-5405BD89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588D1-7C11-4678-B9B8-5EC8F523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8F5ED-2017-43FD-B970-CA8FA133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DFA28-6D2E-4075-9A16-B493DCBB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E13A2-8565-49D8-89A7-9DF3F649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91F6D-688B-47B1-B3AC-C6FEBB0F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70B3B-13B1-4A9F-B6D2-052179AB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91421-FAB0-488E-854D-68B90A6A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5698-476C-41D3-A5D6-48E5F8C9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AB7-E11A-48C0-8E62-A38E64AE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B2C-C96C-47FA-BF8D-84BBFDD0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4DD-0C1F-46BF-8D93-D2107B4E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18B-576F-452F-83E9-99E8DD16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0CE-D3EA-48EE-B11B-CC936A78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0F2E-8137-4DAF-9A58-14C6B2CA8B5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D1AB-642D-48A6-AADF-8B7B671356E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6834-E9C8-41DF-8342-89D48D8712A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5031-DD8A-402F-B19F-163079B0A5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Guadalupe.Duron@unep.org" TargetMode="External"/><Relationship Id="rId2" Type="http://schemas.openxmlformats.org/officeDocument/2006/relationships/hyperlink" Target="http://www.unep.org/stap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-6480" y="622440"/>
            <a:ext cx="9223560" cy="32731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an José, Costa Ric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rzo de 201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ounded Rectangle 3"/>
          <p:cNvSpPr/>
          <p:nvPr/>
        </p:nvSpPr>
        <p:spPr>
          <a:xfrm>
            <a:off x="609480" y="4952880"/>
            <a:ext cx="8077320" cy="15242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Línea de base: 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perspectiva del STAP</a:t>
            </a:r>
            <a:br>
              <a:rPr sz="2700"/>
            </a:br>
            <a:endParaRPr b="0" lang="en-US" sz="2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35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 línea de base es el 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valor de los indicadores antes del comienzo del proyecto;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ben estar respaldados por datos verificables, actuales y precisos y, cuando sea factible, referencias a fuentes publicadas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TAP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: ¿La </a:t>
            </a:r>
            <a:r>
              <a:rPr b="1" i="1" lang="en-US" sz="2400" spc="-1" strike="noStrike">
                <a:solidFill>
                  <a:srgbClr val="0c9b74"/>
                </a:solidFill>
                <a:latin typeface="Constantia"/>
              </a:rPr>
              <a:t>línea de bas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ha sido claramente identificada? ¿Constituyen una base </a:t>
            </a:r>
            <a:r>
              <a:rPr b="1" i="1" lang="en-US" sz="2400" spc="-1" strike="noStrike">
                <a:solidFill>
                  <a:srgbClr val="0c9b74"/>
                </a:solidFill>
                <a:latin typeface="Constantia"/>
              </a:rPr>
              <a:t>viable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para </a:t>
            </a:r>
            <a:r>
              <a:rPr b="1" i="1" lang="en-US" sz="2400" spc="-1" strike="noStrike">
                <a:solidFill>
                  <a:srgbClr val="0c9b74"/>
                </a:solidFill>
                <a:latin typeface="Constantia"/>
              </a:rPr>
              <a:t>medir el cambio  ambiental mundial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n-US" sz="2400" spc="-1" strike="noStrike">
                <a:solidFill>
                  <a:srgbClr val="0c9b74"/>
                </a:solidFill>
                <a:latin typeface="Constantia"/>
              </a:rPr>
              <a:t>realizar su seguimiento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, incluso en cuanto a los resultados de desarrollo?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… Centra la atención en una línea de base de carácte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ientífic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onstantia"/>
              </a:rPr>
              <a:t>*</a:t>
            </a:r>
            <a:r>
              <a:rPr b="0" lang="en-US" sz="1900" spc="-1" strike="noStrike">
                <a:solidFill>
                  <a:srgbClr val="ffff00"/>
                </a:solidFill>
                <a:latin typeface="Constantia"/>
              </a:rPr>
              <a:t>*</a:t>
            </a:r>
            <a:r>
              <a:rPr b="1" lang="en-US" sz="1900" spc="-1" strike="noStrike">
                <a:solidFill>
                  <a:srgbClr val="ffff00"/>
                </a:solidFill>
                <a:latin typeface="Constantia"/>
              </a:rPr>
              <a:t>Secretaría  del FMAM:  ¿Qué sucedería sin el FMAM? (“hipótesis  de que todo siga igual”: etapa de la FIP), y  una apropiada línea de base en el marco del proyecto + herramientas de seguimiento (refrendados por el Director Ejecutivo y Presidente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nstantia"/>
              </a:rPr>
              <a:t>Línea de base: </a:t>
            </a:r>
            <a:r>
              <a:rPr b="0" lang="en-US" sz="3200" spc="-1" strike="noStrike">
                <a:solidFill>
                  <a:srgbClr val="04617b"/>
                </a:solidFill>
                <a:latin typeface="Constantia"/>
              </a:rPr>
              <a:t>perspectiva del STAP (cont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88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berían incluirse, en la mayor medida 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posib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una línea de base 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cuantitativ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aunque surjan de inferencia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 en la FIP 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y una línea de base cuantitativa, remitirse a la herramienta de seguimiento o especificar un cronograma de recopilación de da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a línea de base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 cualitativ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uede respaldarse con referencias actuales y precisas y/o con rigurosas pruebas locales inéditas (‘literatura gris”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nip Single Corner Rectangle 4"/>
          <p:cNvSpPr/>
          <p:nvPr/>
        </p:nvSpPr>
        <p:spPr>
          <a:xfrm>
            <a:off x="304920" y="1219320"/>
            <a:ext cx="8381880" cy="2133360"/>
          </a:xfrm>
          <a:custGeom>
            <a:avLst/>
            <a:gdLst>
              <a:gd name="textAreaLeft" fmla="*/ 0 w 8381880"/>
              <a:gd name="textAreaRight" fmla="*/ 8204400 w 8381880"/>
              <a:gd name="textAreaTop" fmla="*/ 177480 h 2133360"/>
              <a:gd name="textAreaBottom" fmla="*/ 2133720 h 2133360"/>
            </a:gdLst>
            <a:ahLst/>
            <a:rect l="textAreaLeft" t="textAreaTop" r="textAreaRight" b="textAreaBottom"/>
            <a:pathLst>
              <a:path w="8382000" h="2133600">
                <a:moveTo>
                  <a:pt x="0" y="0"/>
                </a:moveTo>
                <a:lnTo>
                  <a:pt x="8026393" y="0"/>
                </a:lnTo>
                <a:lnTo>
                  <a:pt x="8382000" y="355607"/>
                </a:lnTo>
                <a:lnTo>
                  <a:pt x="8382000" y="2133600"/>
                </a:lnTo>
                <a:lnTo>
                  <a:pt x="0" y="21336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4617b"/>
                </a:solidFill>
                <a:latin typeface="Constantia"/>
              </a:rPr>
              <a:t>Actividades increment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2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afbed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cafbed"/>
                </a:solidFill>
                <a:latin typeface="Constantia"/>
              </a:rPr>
              <a:t>El razonamiento incremental define el papel del FMAM en el contexto de los beneficios ambientales mundiales que se prevé obtener a través de un proyecto propuesto. Se basa en una evaluación del valor  que agrega la participación del FMAM.” (FMAM/C.31/1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La información que busca el STAP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Las actividades incrementales se justifican 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desde el punto de vista científico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(¿están respaldadas por referencias científicas, por rigurosas pruebas locales inéditas?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Constantia"/>
              </a:rPr>
              <a:t>Actividades incrementales (cont.)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Se han definido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 explícitamente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los 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beneficios ambienta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ndiales (los indicadores o metodologías de medición y seguimiento de los beneficios ambientales mundiales)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Los beneficios son 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verdaderamen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beneficios ambientales mundiales, y son 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medibles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secuestro de carbono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y n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el manejo sostenible de la tierra; mejoras en la cubierta vegetal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y no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s  beneficios para los servicios de los ecosistema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Oval 3"/>
          <p:cNvSpPr/>
          <p:nvPr/>
        </p:nvSpPr>
        <p:spPr>
          <a:xfrm>
            <a:off x="152280" y="2133720"/>
            <a:ext cx="8458200" cy="2590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Constantia"/>
              </a:rPr>
              <a:t>Actividades incrementales (cont.)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Existen innovaciones científicas?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…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generación de conocimientos para una mayor eficacia y calidad de la elaboración y ejecución de proyectos y programas del FMAM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por ejemplo, “Fortalecimiento de la eficacia de la gestión de zonas protegidas para proteger la biodiversidad en condiciones de cambio climático”, México, PNU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Constantia"/>
              </a:rPr>
              <a:t>Beneficios socioeconómicos y de género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La información que busca el STAP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¿Se definen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explícitamente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los</a:t>
            </a:r>
            <a:r>
              <a:rPr b="0" i="1" lang="en-U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beneficios socioeconómicos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y su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 contribución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l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logro de</a:t>
            </a:r>
            <a:r>
              <a:rPr b="0" i="1" lang="en-U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beneficios ambientales mundiales?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con el respaldo de referencias científic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¿Esta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género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incluido adecuadamente en todos los aspectos de la propuesta?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datos desagregados; intervenciones diseñadas de modo de focalizar específicamente las diferentes necesidades de hombres y mujeres; consideraciones socioculturales que puedan repercutir en la inclusión de cualquiera de los dos géneros en las actividad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Riesg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16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Los riesgos son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reale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y de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alcance general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Están vinculados con el </a:t>
            </a:r>
            <a:r>
              <a:rPr b="0" i="1" lang="en-US" sz="2600" spc="-1" strike="noStrike">
                <a:solidFill>
                  <a:srgbClr val="c00000"/>
                </a:solidFill>
                <a:latin typeface="Constantia"/>
              </a:rPr>
              <a:t>diseño de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nstantia"/>
              </a:rPr>
              <a:t>proyecto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o con la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movilización de recurs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riesgos internos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Están vinculados con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circunstanci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imprevistas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riesgos externos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onstantia"/>
              </a:rPr>
              <a:t>Riesgos del cambio climátic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 STAP considera cuestiones como las siguient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¿El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lugar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de realización del proyecto se halla en una región expuesta a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riesgos climáticos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¿Los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objetivos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 o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productos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 del proyecto son propensos a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riesgos de cambio climático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a lo largo de los 2020, 2030 2040 , y en la FIP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se han considerado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los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 riesgos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 de impactos del cambio climático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¿En la PIF se han considerado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prácticas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y medidas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de mejor adaptación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a los riesgos e impactos previstos del cambio climático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4617b"/>
                </a:solidFill>
                <a:latin typeface="Constantia"/>
              </a:rPr>
              <a:t>Herramientas de adaptación al cambio climático</a:t>
            </a:r>
            <a:r>
              <a:rPr b="1" lang="en-US" sz="29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900" spc="-1" strike="noStrike">
                <a:solidFill>
                  <a:srgbClr val="04617b"/>
                </a:solidFill>
                <a:latin typeface="Constantia"/>
              </a:rPr>
              <a:t>y fuentes de datos sobre ese fenómeno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3047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onstantia"/>
              </a:rPr>
              <a:t>Principales partes interesada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La información que busca el STAP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¿Alguna de las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 partes interesadas no ha sido tenida en cuenta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¿Qué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papeles específicos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umplen las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partes interesada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? ¿Tienen especificidad de género o están definidos de otro modo en términos cultural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¿Cómo contribuirán sus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papeles, combinados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l 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suministro de información para alcanzar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(múltiples)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resultados ambientales mundiale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y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para la gestión de los conocimiento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onstantia"/>
              </a:rPr>
              <a:t>¿Qué es el STA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5000"/>
            <a:ext cx="8229600" cy="75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 1994 el Instrumento del FMAM estableció el STAP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 PNUMA establecerá, en consulta con el PNUD y el Banco Mundial y basándose en directrices y criterios aprobados por el Consejo, </a:t>
            </a:r>
            <a:r>
              <a:rPr b="0" lang="en-US" sz="2400" spc="-1" strike="noStrike">
                <a:solidFill>
                  <a:srgbClr val="00b0f0"/>
                </a:solidFill>
                <a:latin typeface="Constantia"/>
              </a:rPr>
              <a:t>el Grupo Asesor Científco y Tecnológico (STAP) como órgano asesor del Fondo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 PNUMA proporcionará al STAP su Secretaría y operará como enlace entre el Fondo y el Instrumento del STAP”. (Instrumento Constitutivo del Fondo para el Medio Ambiente Mundial Reestructurado, 1994 y 200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4617b"/>
                </a:solidFill>
                <a:latin typeface="Constantia"/>
              </a:rPr>
              <a:t>Iniciativas conexa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560" y="13716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Los promotores del proyecto tratan de aprovechar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conocimiento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enseñanzas pertinentes generada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or otros proyectos, incluidos proyectos del FMA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Se cuenta con un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mecanism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decuado para incorporar en el proyec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ropuesto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enseñanzas derivadas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d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anteriores iniciativas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onstantia"/>
              </a:rPr>
              <a:t>Cuestiones que deben considerarse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¿Cuáles son los principales desafíos que han de enfrentarse para elaborar FIP científica y técnicamente viables? (¿acceso a datos?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¿Con qué redes, instituciones u otras opciones regionales se cuenta para elaborar datos y atender el problema de la falta de datos que contribuyan al logro de resultados ambientales mundiales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¿Atender la necesidad de datos específicos puede contribuir a los conocimientos y aprendizaje del FMAM? (“targeted research”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l diseño a la ejecución: la atención se centra en la medición y el seguimiento de los resultados ambientales mundiales : nivel de proyecto - área focal – conocimientos y aprendizaje institucionales del FMA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¡Gracias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Guadalupe Dur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73763"/>
                </a:solidFill>
                <a:uFillTx/>
                <a:latin typeface="Constantia"/>
                <a:hlinkClick r:id="rId1"/>
              </a:rPr>
              <a:t>Guadalupe.Duron@unep.or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73763"/>
                </a:solidFill>
                <a:uFillTx/>
                <a:latin typeface="Constantia"/>
                <a:hlinkClick r:id="rId2"/>
              </a:rPr>
              <a:t>www.unep.org/sta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704520"/>
            <a:ext cx="83059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onstantia"/>
              </a:rPr>
              <a:t>¿Qué es el STA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 Grupo Asesor Científico y Tecnológico (STAP) del Fon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ara el Medio Ambiente Mundial (FMAM) presta servicios d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sesoramiento estratégico e independiente sobre proyectos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gramas y polític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Es administrado por el Programa de las Nacio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Unidas para el Medio Ambiente (PNUMA) 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cuenta con el respaldo de una Secretaría 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ashington, D.C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onstantia"/>
              </a:rPr>
              <a:t>¿Quién es el STA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C:\Documents and Settings\thammond\My Documents\My Pictures\diaz.jpg"/>
          <p:cNvPicPr/>
          <p:nvPr/>
        </p:nvPicPr>
        <p:blipFill>
          <a:blip r:embed="rId1"/>
          <a:stretch/>
        </p:blipFill>
        <p:spPr>
          <a:xfrm>
            <a:off x="1066680" y="4114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"/>
          <p:cNvSpPr/>
          <p:nvPr/>
        </p:nvSpPr>
        <p:spPr>
          <a:xfrm>
            <a:off x="990720" y="342900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Thomas E. Lovejoy, Presidente</a:t>
            </a: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2895480" y="3333600"/>
            <a:ext cx="1752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Meryl  J.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Copresidente. Aguas Internacionales</a:t>
            </a: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4724280" y="335268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N.H. Ravindran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Cambio Cli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6"/>
          <p:cNvSpPr/>
          <p:nvPr/>
        </p:nvSpPr>
        <p:spPr>
          <a:xfrm>
            <a:off x="1143000" y="54100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Sandra  Día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Biodivers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7"/>
          <p:cNvSpPr/>
          <p:nvPr/>
        </p:nvSpPr>
        <p:spPr>
          <a:xfrm>
            <a:off x="2666880" y="541008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Henk Bouw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Productos Químicos y C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4267080" y="556272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Michael Stocking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Asesor de la Presidencia del ST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C:\Documents and Settings\thammond\My Documents\My Pictures\hbouwman.jpg"/>
          <p:cNvPicPr/>
          <p:nvPr/>
        </p:nvPicPr>
        <p:blipFill>
          <a:blip r:embed="rId2"/>
          <a:stretch/>
        </p:blipFill>
        <p:spPr>
          <a:xfrm>
            <a:off x="2743200" y="4038480"/>
            <a:ext cx="1143000" cy="1193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C:\Documents and Settings\thammond\My Documents\My Pictures\Meryl.jpg"/>
          <p:cNvPicPr/>
          <p:nvPr/>
        </p:nvPicPr>
        <p:blipFill>
          <a:blip r:embed="rId3"/>
          <a:stretch/>
        </p:blipFill>
        <p:spPr>
          <a:xfrm>
            <a:off x="3276720" y="2133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:\Documents and Settings\thammond\My Documents\My Pictures\Ravi.jpg"/>
          <p:cNvPicPr/>
          <p:nvPr/>
        </p:nvPicPr>
        <p:blipFill>
          <a:blip r:embed="rId4"/>
          <a:stretch/>
        </p:blipFill>
        <p:spPr>
          <a:xfrm>
            <a:off x="5181480" y="21337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C:\Documents and Settings\thammond\My Documents\My Pictures\TEL_Chair.jpg"/>
          <p:cNvPicPr/>
          <p:nvPr/>
        </p:nvPicPr>
        <p:blipFill>
          <a:blip r:embed="rId5"/>
          <a:stretch/>
        </p:blipFill>
        <p:spPr>
          <a:xfrm>
            <a:off x="1143000" y="2133720"/>
            <a:ext cx="1447920" cy="1199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C:\Documents and Settings\thammond\My Documents\My Pictures\Michael%20in%20Jordan.jpg"/>
          <p:cNvPicPr/>
          <p:nvPr/>
        </p:nvPicPr>
        <p:blipFill>
          <a:blip r:embed="rId6"/>
          <a:stretch/>
        </p:blipFill>
        <p:spPr>
          <a:xfrm>
            <a:off x="4267080" y="4114800"/>
            <a:ext cx="138924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5"/>
          <p:cNvSpPr/>
          <p:nvPr/>
        </p:nvSpPr>
        <p:spPr>
          <a:xfrm>
            <a:off x="6934320" y="3429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Degradación de la  tier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(En proceso de contratac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6324480" y="54864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dap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(En proceso de contratac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Users\gduron\Pictures\question-mark1.png"/>
          <p:cNvPicPr/>
          <p:nvPr/>
        </p:nvPicPr>
        <p:blipFill>
          <a:blip r:embed="rId7"/>
          <a:stretch/>
        </p:blipFill>
        <p:spPr>
          <a:xfrm>
            <a:off x="7010280" y="20574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gduron\Pictures\question-mark1.png"/>
          <p:cNvPicPr/>
          <p:nvPr/>
        </p:nvPicPr>
        <p:blipFill>
          <a:blip r:embed="rId8"/>
          <a:stretch/>
        </p:blipFill>
        <p:spPr>
          <a:xfrm>
            <a:off x="6172200" y="41148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1470960" y="19270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397880" y="247824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MNU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456200" y="35384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NU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240920" y="5087880"/>
            <a:ext cx="101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gu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naci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3904200" y="3581280"/>
            <a:ext cx="259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TOR EJECUTIVO Y PRESID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753000" y="394488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CRETARÍA DEL FM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152600" y="324000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SE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124520" y="2744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6525"/>
                </a:solidFill>
                <a:latin typeface="Times New Roman"/>
              </a:rPr>
              <a:t>ASAMBLEA</a:t>
            </a:r>
            <a:r>
              <a:rPr b="1" lang="en-US" sz="1000" spc="-1" strike="noStrike">
                <a:solidFill>
                  <a:srgbClr val="2d6525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7627320" y="2185920"/>
            <a:ext cx="798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N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UN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2971440" y="1627200"/>
            <a:ext cx="96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rup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Reposiciól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on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241880" y="16588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O de Evaluac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619400" y="27306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As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550280" y="54720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NU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7621560" y="409716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263920" y="294156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279440" y="4059360"/>
            <a:ext cx="9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ultilat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l Protoco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 Montre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234400" y="187164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1457280" y="297324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7253280" y="87804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bf5f9"/>
                </a:solidFill>
                <a:latin typeface="Times New Roman"/>
              </a:rPr>
              <a:t>IAs / 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7625880" y="1752480"/>
            <a:ext cx="65160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NU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7582680" y="364644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E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7603560" y="500220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7639920" y="45608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7584480" y="317016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A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7574400" y="12524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N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749880" y="6249960"/>
            <a:ext cx="40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/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Straight Arrow Connector 29"/>
          <p:cNvCxnSpPr/>
          <p:nvPr/>
        </p:nvCxnSpPr>
        <p:spPr>
          <a:xfrm flipH="1">
            <a:off x="4800240" y="2209680"/>
            <a:ext cx="38160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Straight Arrow Connector 31"/>
          <p:cNvCxnSpPr/>
          <p:nvPr/>
        </p:nvCxnSpPr>
        <p:spPr>
          <a:xfrm flipH="1">
            <a:off x="4876200" y="190476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Straight Arrow Connector 36"/>
          <p:cNvCxnSpPr/>
          <p:nvPr/>
        </p:nvCxnSpPr>
        <p:spPr>
          <a:xfrm flipH="1">
            <a:off x="4952520" y="2209320"/>
            <a:ext cx="610560" cy="175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onstantia"/>
              </a:rPr>
              <a:t>Reseña de los procesos de selección del STAP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f0"/>
                </a:solidFill>
                <a:latin typeface="Constantia"/>
              </a:rPr>
              <a:t>Revisió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rsus </a:t>
            </a:r>
            <a:r>
              <a:rPr b="1" lang="en-US" sz="2600" spc="-1" strike="noStrike">
                <a:solidFill>
                  <a:srgbClr val="00b0f0"/>
                </a:solidFill>
                <a:latin typeface="Constantia"/>
              </a:rPr>
              <a:t>exa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tegorías de calificación del STAP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entimient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sión menor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sión may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Constantia"/>
              </a:rPr>
              <a:t>Secciones de la FIP que comúnmente son objeto de evaluación por el STAP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560" y="1934640"/>
            <a:ext cx="8381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co del proyecto (Parte I: B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ínea de base y la definición del problema (Parte II: B.1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tividades incrementales y beneficios ambientales mundiales (B.2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neficios socioeconómicos y de género en el contexto de los beneficios ambientales mundiales (B.3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esgos, incluidos los del cambio climático (B.4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esados clave (B.5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iciativas conexas (B.6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onstantia"/>
              </a:rPr>
              <a:t>Marco del proyecto: </a:t>
            </a:r>
            <a:r>
              <a:rPr b="0" lang="en-US" sz="3000" spc="-1" strike="noStrike">
                <a:solidFill>
                  <a:srgbClr val="04617b"/>
                </a:solidFill>
                <a:latin typeface="Constantia"/>
              </a:rPr>
              <a:t>Reseña indicativa desde la perspectiva del STAP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bjetivo del proyecto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 finalidad del proyecto y su designio de generar beneficios ambientales mundi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STAP: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¿El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objetivo es claro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congruente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 con la definición del problema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sultado del proyect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Los </a:t>
            </a: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efect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robables o alcanzados, a corto y a mediano plazo, del producto de una intervención (por ejemplo, “prácticas de gestión integrada de paisajes son adoptadas por  comunidades locales”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STAP :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¿Los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resultados</a:t>
            </a:r>
            <a:r>
              <a:rPr b="0" i="1" lang="en-US" sz="2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incluyen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importantes beneficios mundiales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 y es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probabl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que se generen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onstantia"/>
              </a:rPr>
              <a:t>Marco del proyecto: </a:t>
            </a:r>
            <a:r>
              <a:rPr b="0" lang="en-US" sz="3000" spc="-1" strike="noStrike">
                <a:solidFill>
                  <a:srgbClr val="04617b"/>
                </a:solidFill>
                <a:latin typeface="Constantia"/>
              </a:rPr>
              <a:t>Reseña indicativa desde la perspectiva del STAP (cont.)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fectos directos del proyect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nstantia"/>
              </a:rPr>
              <a:t>1,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s productos y servicios a que da lugar una intervención (por ejemplo,  “se elaboran y aplican herramientas y metodologías de manejo integrado de recursos naturales”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4440" indent="-5144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TAP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: ¿Es probable que la </a:t>
            </a:r>
            <a:r>
              <a:rPr b="1" i="1" lang="en-US" sz="2400" spc="-1" strike="noStrike">
                <a:solidFill>
                  <a:srgbClr val="04617b"/>
                </a:solidFill>
                <a:latin typeface="Constantia"/>
              </a:rPr>
              <a:t>suma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de los </a:t>
            </a:r>
            <a:r>
              <a:rPr b="1" i="1" lang="en-US" sz="2400" spc="-1" strike="noStrike">
                <a:solidFill>
                  <a:srgbClr val="04617b"/>
                </a:solidFill>
                <a:latin typeface="Constantia"/>
              </a:rPr>
              <a:t>producto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contribuya a los </a:t>
            </a:r>
            <a:r>
              <a:rPr b="1" i="1" lang="en-US" sz="2400" spc="-1" strike="noStrike">
                <a:solidFill>
                  <a:srgbClr val="04617b"/>
                </a:solidFill>
                <a:latin typeface="Constantia"/>
              </a:rPr>
              <a:t>resultado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as actividades que generan los productos y servicios pueden organizarse en grupos o componentes para lograr en la máxima medida posible la coordinación y calidad de los efectos directo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14440" indent="-5144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14440" indent="-5144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00"/>
                </a:solidFill>
                <a:latin typeface="Constantia"/>
              </a:rPr>
              <a:t>2 </a:t>
            </a:r>
            <a:r>
              <a:rPr b="1" lang="en-US" sz="2200" spc="-1" strike="noStrike">
                <a:solidFill>
                  <a:srgbClr val="04617b"/>
                </a:solidFill>
                <a:latin typeface="Constantia"/>
              </a:rPr>
              <a:t>Los indicadores de producto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os dicen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qu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vamos a </a:t>
            </a:r>
            <a:r>
              <a:rPr b="1" lang="en-US" sz="2200" spc="-1" strike="noStrike">
                <a:solidFill>
                  <a:srgbClr val="04617b"/>
                </a:solidFill>
                <a:latin typeface="Constantia"/>
              </a:rPr>
              <a:t>medi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1" lang="en-US" sz="2200" spc="-1" strike="noStrike">
                <a:solidFill>
                  <a:srgbClr val="04617b"/>
                </a:solidFill>
                <a:latin typeface="Constantia"/>
              </a:rPr>
              <a:t>no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lo que debe </a:t>
            </a:r>
            <a:r>
              <a:rPr b="1" lang="en-US" sz="2200" spc="-1" strike="noStrike">
                <a:solidFill>
                  <a:srgbClr val="04617b"/>
                </a:solidFill>
                <a:latin typeface="Constantia"/>
              </a:rPr>
              <a:t>lograrse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ejemplo: número de herramientas creada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9:33:50Z</dcterms:created>
  <dc:creator>gduron</dc:creator>
  <dc:description/>
  <dc:language>en-US</dc:language>
  <cp:lastModifiedBy>wb350798</cp:lastModifiedBy>
  <dcterms:modified xsi:type="dcterms:W3CDTF">2012-03-07T11:37:20Z</dcterms:modified>
  <cp:revision>244</cp:revision>
  <dc:subject/>
  <dc:title>Slide 1</dc:title>
</cp:coreProperties>
</file>