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6914-D248-4127-8D74-F7361485B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7D8F-7F10-4D32-B45E-55C6E5DCC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5224-6081-4EEF-BF3D-352D6BEC4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2F3E-A476-4268-8120-4D944264E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A5E5-E252-473B-A732-728620A2B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0C48-B463-4E56-B900-E5D2CA0FA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internal – associated with projec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external – unforeseen armed confli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 risks specifically for occurrences outside the control of the project – or are they unacceptable because of inadequacies in project design or resource mob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8935-BF91-4CEE-B649-7BF7EA4E1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8FF7-F4EB-4314-9B65-48A3A573D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6ACD-A513-47D5-8378-B10F7C4BC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C5BF-BB74-49CE-AFEE-E4CCAC0AF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8600-BD54-48FB-9D7F-107371D36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AA1F-F079-404E-B88A-E29E321C1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D8CE-DBFB-47CB-8464-BDE9E5128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9478-5E12-4421-987B-0B85D78A4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030E-6BEB-4706-B6E1-F97AE3785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0873-9F54-4B20-9664-7338D5007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96B6-F11E-49F3-9877-5DBCFAB3A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C4C6-7834-498F-AFD4-1C8580609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89F1-1D5D-4E18-8690-034BE8E31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A849-B0F7-4159-B7FF-2D137C1A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C751-5B73-41F7-A7B6-F0D884C7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EE4-A99D-4287-B847-EA2A43C7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6029-6BD3-4097-9047-3537F164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818B-7373-47F7-BD00-DB6A39B1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9D16-37BF-4ABE-BBB0-F35DB589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7011-5B99-475B-886F-5C329741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63C9-74EC-483B-BECA-E95BAFC1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BCA6-9824-4634-8B4D-75B43BBA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2AFD-FEC9-40D4-9DBA-7CDE20C3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1A00-6CC8-4618-A004-75B70969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872-4AA1-4259-866D-52CBAE92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6622-1FC6-477D-B5C0-F170DF02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FE90-45C6-4BDE-83DA-22432372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9EEC-1F76-46C9-9130-7EC13549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7B11-538B-4012-9912-F8CA72E1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C807-8195-4ABC-99E5-2488EEA1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50BD6-837D-4BF2-BC11-A16FD3CE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03CA9-4E0B-412D-81CA-891F8E03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A693B-22D9-4151-9136-B9109289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47930-4F3E-4CE3-82BA-E53E0DE9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EE8A6-FC4E-4531-853A-112BC28D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C8A-9CF2-4DEC-AB82-67DA845C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88060-7063-4B22-93F9-E353953B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81260-F1AC-4F90-BC25-8B332E3F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8C40D-EA8D-429E-ABE6-7FA5A05A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DB4F5-1680-4829-AFB2-311A3D1C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8E922-6FC2-470A-BB5B-F8F714FD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38497-57EC-4D58-95A7-1853F20C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642FE-3EBD-4525-853B-FEA99A9C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A94E2-B11A-4BE1-8E23-45FB0736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23100-3E12-43AA-A10E-462C70C0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15065-E5C3-4021-BE19-0B84F803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2708-E010-4CE8-BFF5-B05AA232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294E6-7F7C-4221-97E6-DB151B1D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992D0-5381-4F87-9C42-78A727A6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2DCAD-3370-49CD-9BB2-DBD3DD7B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68108-831E-401F-8891-987E94B0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636D8-A115-4BAF-A273-F99ED2E6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8AC0E-37B7-4FAB-ABAD-A634F68A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EC140-A1F9-44A1-B657-8A5CBCD3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958A4-27E2-4D1E-9F96-173DDC64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45CCF-4309-4768-910A-36029E44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951-D21F-4B7A-81EC-BFF36187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664B-EB43-4335-95DD-362FC65C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DE41-E78C-4456-B1BD-A42E4D11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F6E-94A7-4D46-908F-ECDAC32C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635C-3BEC-4F3D-A1CD-35006CDA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3D6D-3136-4FDF-AAB5-BB9AA946067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1337-4FA6-4CC5-BA89-75BD04FDA10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809A-DF7F-48DC-A413-74BC6C62D57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4E29-6E63-4E17-99CE-89EA7FCBDE2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Guadalupe.Duron@unep.org" TargetMode="External"/><Relationship Id="rId2" Type="http://schemas.openxmlformats.org/officeDocument/2006/relationships/hyperlink" Target="http://www.unep.org/stap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-6480" y="622440"/>
            <a:ext cx="9223560" cy="32731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an José, Costa Ric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rzo de 201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ounded Rectangle 3"/>
          <p:cNvSpPr/>
          <p:nvPr/>
        </p:nvSpPr>
        <p:spPr>
          <a:xfrm>
            <a:off x="609480" y="4952880"/>
            <a:ext cx="8077320" cy="15242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Línea de base: </a:t>
            </a:r>
            <a:r>
              <a:rPr b="0" lang="en-US" sz="2700" spc="-1" strike="noStrike">
                <a:solidFill>
                  <a:srgbClr val="04617b"/>
                </a:solidFill>
                <a:latin typeface="Constantia"/>
              </a:rPr>
              <a:t>perspectiva del STAP</a:t>
            </a:r>
            <a:br>
              <a:rPr sz="2700"/>
            </a:br>
            <a:endParaRPr b="0" lang="en-US" sz="2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352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 línea de base es el </a:t>
            </a:r>
            <a:r>
              <a:rPr b="1" lang="en-US" sz="2400" spc="-1" strike="noStrike">
                <a:solidFill>
                  <a:srgbClr val="0c9b74"/>
                </a:solidFill>
                <a:latin typeface="Constantia"/>
              </a:rPr>
              <a:t>valor de los indicadores antes del comienzo del proyecto;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ben estar respaldados por datos verificables, actuales y precisos y, cuando sea factible, referencias a fuentes publicadas</a:t>
            </a: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STAP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: ¿La </a:t>
            </a:r>
            <a:r>
              <a:rPr b="1" i="1" lang="en-US" sz="2400" spc="-1" strike="noStrike">
                <a:solidFill>
                  <a:srgbClr val="0c9b74"/>
                </a:solidFill>
                <a:latin typeface="Constantia"/>
              </a:rPr>
              <a:t>línea de bas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ha sido claramente identificada? ¿Constituyen una base </a:t>
            </a:r>
            <a:r>
              <a:rPr b="1" i="1" lang="en-US" sz="2400" spc="-1" strike="noStrike">
                <a:solidFill>
                  <a:srgbClr val="0c9b74"/>
                </a:solidFill>
                <a:latin typeface="Constantia"/>
              </a:rPr>
              <a:t>viable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para </a:t>
            </a:r>
            <a:r>
              <a:rPr b="1" i="1" lang="en-US" sz="2400" spc="-1" strike="noStrike">
                <a:solidFill>
                  <a:srgbClr val="0c9b74"/>
                </a:solidFill>
                <a:latin typeface="Constantia"/>
              </a:rPr>
              <a:t>medir el cambio  ambiental mundial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n-US" sz="2400" spc="-1" strike="noStrike">
                <a:solidFill>
                  <a:srgbClr val="0c9b74"/>
                </a:solidFill>
                <a:latin typeface="Constantia"/>
              </a:rPr>
              <a:t>realizar su seguimiento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, incluso en cuanto a los resultados de desarrollo?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… Centra la atención en una línea de base de carácte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ientífic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0c0"/>
                </a:solidFill>
                <a:latin typeface="Constantia"/>
              </a:rPr>
              <a:t>*</a:t>
            </a:r>
            <a:r>
              <a:rPr b="0" lang="en-US" sz="1900" spc="-1" strike="noStrike">
                <a:solidFill>
                  <a:srgbClr val="ffff00"/>
                </a:solidFill>
                <a:latin typeface="Constantia"/>
              </a:rPr>
              <a:t>*</a:t>
            </a:r>
            <a:r>
              <a:rPr b="1" lang="en-US" sz="1900" spc="-1" strike="noStrike">
                <a:solidFill>
                  <a:srgbClr val="ffff00"/>
                </a:solidFill>
                <a:latin typeface="Constantia"/>
              </a:rPr>
              <a:t>Secretaría  del FMAM:  ¿Qué sucedería sin el FMAM? (“hipótesis  de que todo siga igual”: etapa de la FIP), y  una apropiada línea de base en el marco del proyecto + herramientas de seguimiento (refrendados por el Director Ejecutivo y Presidente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onstantia"/>
              </a:rPr>
              <a:t>Línea de base: </a:t>
            </a:r>
            <a:r>
              <a:rPr b="0" lang="en-US" sz="3200" spc="-1" strike="noStrike">
                <a:solidFill>
                  <a:srgbClr val="04617b"/>
                </a:solidFill>
                <a:latin typeface="Constantia"/>
              </a:rPr>
              <a:t>perspectiva del STAP (cont.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088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berían incluirse, en la mayor medida </a:t>
            </a:r>
            <a:r>
              <a:rPr b="1" lang="en-US" sz="2400" spc="-1" strike="noStrike">
                <a:solidFill>
                  <a:srgbClr val="0c9b74"/>
                </a:solidFill>
                <a:latin typeface="Constantia"/>
              </a:rPr>
              <a:t>posibl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una línea de base </a:t>
            </a:r>
            <a:r>
              <a:rPr b="1" lang="en-US" sz="2400" spc="-1" strike="noStrike">
                <a:solidFill>
                  <a:srgbClr val="0c9b74"/>
                </a:solidFill>
                <a:latin typeface="Constantia"/>
              </a:rPr>
              <a:t>cuantitativ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aunque surjan de inferencia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 en la FIP </a:t>
            </a:r>
            <a:r>
              <a:rPr b="1" lang="en-US" sz="2400" spc="-1" strike="noStrike">
                <a:solidFill>
                  <a:srgbClr val="0c9b74"/>
                </a:solidFill>
                <a:latin typeface="Constantia"/>
              </a:rPr>
              <a:t>no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y una línea de base cuantitativa, remitirse a la herramienta de seguimiento o especificar un cronograma de recopilación de da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a línea de base</a:t>
            </a:r>
            <a:r>
              <a:rPr b="1" lang="en-US" sz="2400" spc="-1" strike="noStrike">
                <a:solidFill>
                  <a:srgbClr val="0c9b74"/>
                </a:solidFill>
                <a:latin typeface="Constantia"/>
              </a:rPr>
              <a:t> cualitativ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uede respaldarse con referencias actuales y precisas y/o con rigurosas pruebas locales inéditas (‘literatura gris”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nip Single Corner Rectangle 4"/>
          <p:cNvSpPr/>
          <p:nvPr/>
        </p:nvSpPr>
        <p:spPr>
          <a:xfrm>
            <a:off x="304920" y="1219320"/>
            <a:ext cx="8381880" cy="2133360"/>
          </a:xfrm>
          <a:custGeom>
            <a:avLst/>
            <a:gdLst>
              <a:gd name="textAreaLeft" fmla="*/ 0 w 8381880"/>
              <a:gd name="textAreaRight" fmla="*/ 8204400 w 8381880"/>
              <a:gd name="textAreaTop" fmla="*/ 177480 h 2133360"/>
              <a:gd name="textAreaBottom" fmla="*/ 2133720 h 2133360"/>
            </a:gdLst>
            <a:ahLst/>
            <a:rect l="textAreaLeft" t="textAreaTop" r="textAreaRight" b="textAreaBottom"/>
            <a:pathLst>
              <a:path w="8382000" h="2133600">
                <a:moveTo>
                  <a:pt x="0" y="0"/>
                </a:moveTo>
                <a:lnTo>
                  <a:pt x="8026393" y="0"/>
                </a:lnTo>
                <a:lnTo>
                  <a:pt x="8382000" y="355607"/>
                </a:lnTo>
                <a:lnTo>
                  <a:pt x="8382000" y="2133600"/>
                </a:lnTo>
                <a:lnTo>
                  <a:pt x="0" y="21336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4617b"/>
                </a:solidFill>
                <a:latin typeface="Constantia"/>
              </a:rPr>
              <a:t>Actividades incrementale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2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afbed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cafbed"/>
                </a:solidFill>
                <a:latin typeface="Constantia"/>
              </a:rPr>
              <a:t>El razonamiento incremental define el papel del FMAM en el contexto de los beneficios ambientales mundiales que se prevé obtener a través de un proyecto propuesto. Se basa en una evaluación del valor  que agrega la participación del FMAM.” (FMAM/C.31/1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La información que busca el STAP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Las actividades incrementales se justifican </a:t>
            </a:r>
            <a:r>
              <a:rPr b="1" i="1" lang="en-US" sz="2600" spc="-1" strike="noStrike">
                <a:solidFill>
                  <a:srgbClr val="21b2c9"/>
                </a:solidFill>
                <a:latin typeface="Constantia"/>
              </a:rPr>
              <a:t>desde el punto de vista científico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? (¿están respaldadas por referencias científicas, por rigurosas pruebas locales inéditas?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4617b"/>
                </a:solidFill>
                <a:latin typeface="Constantia"/>
              </a:rPr>
              <a:t>Actividades incrementales (cont.)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Se han definido</a:t>
            </a:r>
            <a:r>
              <a:rPr b="1" i="1" lang="en-US" sz="2600" spc="-1" strike="noStrike">
                <a:solidFill>
                  <a:srgbClr val="21b2c9"/>
                </a:solidFill>
                <a:latin typeface="Constantia"/>
              </a:rPr>
              <a:t> explícitamente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los </a:t>
            </a:r>
            <a:r>
              <a:rPr b="1" i="1" lang="en-US" sz="2600" spc="-1" strike="noStrike">
                <a:solidFill>
                  <a:srgbClr val="21b2c9"/>
                </a:solidFill>
                <a:latin typeface="Constantia"/>
              </a:rPr>
              <a:t>beneficios ambiental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ndiales (los indicadores o metodologías de medición y seguimiento de los beneficios ambientales mundiales)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Los beneficios son </a:t>
            </a:r>
            <a:r>
              <a:rPr b="1" i="1" lang="en-US" sz="2600" spc="-1" strike="noStrike">
                <a:solidFill>
                  <a:srgbClr val="21b2c9"/>
                </a:solidFill>
                <a:latin typeface="Constantia"/>
              </a:rPr>
              <a:t>verdaderament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beneficios ambientales mundiales, y son </a:t>
            </a:r>
            <a:r>
              <a:rPr b="1" i="1" lang="en-US" sz="2600" spc="-1" strike="noStrike">
                <a:solidFill>
                  <a:srgbClr val="21b2c9"/>
                </a:solidFill>
                <a:latin typeface="Constantia"/>
              </a:rPr>
              <a:t>medibles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secuestro de carbono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y n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el manejo sostenible de la tierra; mejoras en la cubierta vegetal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y no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s  beneficios para los servicios de los ecosistema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Oval 3"/>
          <p:cNvSpPr/>
          <p:nvPr/>
        </p:nvSpPr>
        <p:spPr>
          <a:xfrm>
            <a:off x="152280" y="2133720"/>
            <a:ext cx="8458200" cy="2590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4617b"/>
                </a:solidFill>
                <a:latin typeface="Constantia"/>
              </a:rPr>
              <a:t>Actividades incrementales (cont.)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Existen innovaciones científicas?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…</a:t>
            </a: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generación de conocimientos para una mayor eficacia y calidad de la elaboración y ejecución de proyectos y programas del FMAM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por ejemplo, “Fortalecimiento de la eficacia de la gestión de zonas protegidas para proteger la biodiversidad en condiciones de cambio climático”, México, PNU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4617b"/>
                </a:solidFill>
                <a:latin typeface="Constantia"/>
              </a:rPr>
              <a:t>Beneficios socioeconómicos y de género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La información que busca el STAP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¿Se definen </a:t>
            </a:r>
            <a:r>
              <a:rPr b="1" i="1" lang="en-US" sz="2800" spc="-1" strike="noStrike">
                <a:solidFill>
                  <a:srgbClr val="c00000"/>
                </a:solidFill>
                <a:latin typeface="Constantia"/>
              </a:rPr>
              <a:t>explícitamente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los</a:t>
            </a:r>
            <a:r>
              <a:rPr b="0" i="1" lang="en-U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i="1" lang="en-US" sz="2800" spc="-1" strike="noStrike">
                <a:solidFill>
                  <a:srgbClr val="c00000"/>
                </a:solidFill>
                <a:latin typeface="Constantia"/>
              </a:rPr>
              <a:t>beneficios socioeconómicos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y su</a:t>
            </a:r>
            <a:r>
              <a:rPr b="1" i="1" lang="en-US" sz="2800" spc="-1" strike="noStrike">
                <a:solidFill>
                  <a:srgbClr val="c00000"/>
                </a:solidFill>
                <a:latin typeface="Constantia"/>
              </a:rPr>
              <a:t> contribución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al </a:t>
            </a:r>
            <a:r>
              <a:rPr b="1" i="1" lang="en-US" sz="2800" spc="-1" strike="noStrike">
                <a:solidFill>
                  <a:srgbClr val="c00000"/>
                </a:solidFill>
                <a:latin typeface="Constantia"/>
              </a:rPr>
              <a:t>logro de</a:t>
            </a:r>
            <a:r>
              <a:rPr b="0" i="1" lang="en-U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i="1" lang="en-US" sz="2800" spc="-1" strike="noStrike">
                <a:solidFill>
                  <a:srgbClr val="c00000"/>
                </a:solidFill>
                <a:latin typeface="Constantia"/>
              </a:rPr>
              <a:t>beneficios ambientales mundiales?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con el respaldo de referencias científic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¿Esta </a:t>
            </a:r>
            <a:r>
              <a:rPr b="1" i="1" lang="en-US" sz="2800" spc="-1" strike="noStrike">
                <a:solidFill>
                  <a:srgbClr val="c00000"/>
                </a:solidFill>
                <a:latin typeface="Constantia"/>
              </a:rPr>
              <a:t>género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incluido adecuadamente en todos los aspectos de la propuesta?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datos desagregados; intervenciones diseñadas de modo de focalizar específicamente las diferentes necesidades de hombres y mujeres; consideraciones socioculturales que puedan repercutir en la inclusión de cualquiera de los dos géneros en las actividad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onstantia"/>
              </a:rPr>
              <a:t>Riesg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33160" y="1371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Los riesgos son </a:t>
            </a: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reales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y de </a:t>
            </a: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alcance general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Están vinculados con el </a:t>
            </a:r>
            <a:r>
              <a:rPr b="0" i="1" lang="en-US" sz="2600" spc="-1" strike="noStrike">
                <a:solidFill>
                  <a:srgbClr val="c00000"/>
                </a:solidFill>
                <a:latin typeface="Constantia"/>
              </a:rPr>
              <a:t>diseño de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Constantia"/>
              </a:rPr>
              <a:t>proyecto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o con la </a:t>
            </a: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movilización de recurso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riesgos internos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Están vinculados con </a:t>
            </a: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circunstanci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imprevistas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riesgos externos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onstantia"/>
              </a:rPr>
              <a:t>Riesgos del cambio climátic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 STAP considera cuestiones como las siguient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¿El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lugar 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de realización del proyecto se halla en una región expuesta a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riesgos climáticos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¿Los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objetivos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 o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productos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 del proyecto son propensos a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riesgos de cambio climático 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a lo largo de los 2020, 2030 2040 , y en la FIP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se han considerado 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los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 riesgos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 de impactos del cambio climático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¿En la PIF se han considerado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prácticas 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y medidas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de mejor adaptación 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a los riesgos e impactos previstos del cambio climático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4617b"/>
                </a:solidFill>
                <a:latin typeface="Constantia"/>
              </a:rPr>
              <a:t>Herramientas de adaptación al cambio climático</a:t>
            </a:r>
            <a:r>
              <a:rPr b="1" lang="en-US" sz="29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900" spc="-1" strike="noStrike">
                <a:solidFill>
                  <a:srgbClr val="04617b"/>
                </a:solidFill>
                <a:latin typeface="Constantia"/>
              </a:rPr>
              <a:t>y fuentes de datos sobre ese fenómeno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191120" cy="3047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114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onstantia"/>
              </a:rPr>
              <a:t>Principales partes interesada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La información que busca el STAP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¿Alguna de las</a:t>
            </a:r>
            <a:r>
              <a:rPr b="1" i="1" lang="en-US" sz="2400" spc="-1" strike="noStrike">
                <a:solidFill>
                  <a:srgbClr val="7030a0"/>
                </a:solidFill>
                <a:latin typeface="Constantia"/>
              </a:rPr>
              <a:t> partes interesadas no ha sido tenida en cuenta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¿Qué </a:t>
            </a:r>
            <a:r>
              <a:rPr b="1" i="1" lang="en-US" sz="2400" spc="-1" strike="noStrike">
                <a:solidFill>
                  <a:srgbClr val="7030a0"/>
                </a:solidFill>
                <a:latin typeface="Constantia"/>
              </a:rPr>
              <a:t>papeles específicos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umplen las </a:t>
            </a:r>
            <a:r>
              <a:rPr b="1" i="1" lang="en-US" sz="2400" spc="-1" strike="noStrike">
                <a:solidFill>
                  <a:srgbClr val="7030a0"/>
                </a:solidFill>
                <a:latin typeface="Constantia"/>
              </a:rPr>
              <a:t>partes interesadas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? ¿Tienen especificidad de género o están definidos de otro modo en términos culturale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¿Cómo contribuirán sus </a:t>
            </a:r>
            <a:r>
              <a:rPr b="1" i="1" lang="en-US" sz="2400" spc="-1" strike="noStrike">
                <a:solidFill>
                  <a:srgbClr val="7030a0"/>
                </a:solidFill>
                <a:latin typeface="Constantia"/>
              </a:rPr>
              <a:t>papeles, combinados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l  </a:t>
            </a:r>
            <a:r>
              <a:rPr b="1" i="1" lang="en-US" sz="2400" spc="-1" strike="noStrike">
                <a:solidFill>
                  <a:srgbClr val="7030a0"/>
                </a:solidFill>
                <a:latin typeface="Constantia"/>
              </a:rPr>
              <a:t>suministro de información para alcanzar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(múltiples) </a:t>
            </a:r>
            <a:r>
              <a:rPr b="1" i="1" lang="en-US" sz="2400" spc="-1" strike="noStrike">
                <a:solidFill>
                  <a:srgbClr val="7030a0"/>
                </a:solidFill>
                <a:latin typeface="Constantia"/>
              </a:rPr>
              <a:t>resultados ambientales mundiales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y </a:t>
            </a:r>
            <a:r>
              <a:rPr b="1" i="1" lang="en-US" sz="2400" spc="-1" strike="noStrike">
                <a:solidFill>
                  <a:srgbClr val="7030a0"/>
                </a:solidFill>
                <a:latin typeface="Constantia"/>
              </a:rPr>
              <a:t>para la gestión de los conocimientos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onstantia"/>
              </a:rPr>
              <a:t>¿Qué es el STAP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5000"/>
            <a:ext cx="8229600" cy="75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 1994 el Instrumento del FMAM estableció el STAP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 PNUMA establecerá, en consulta con el PNUD y el Banco Mundial y basándose en directrices y criterios aprobados por el Consejo, </a:t>
            </a:r>
            <a:r>
              <a:rPr b="0" lang="en-US" sz="2400" spc="-1" strike="noStrike">
                <a:solidFill>
                  <a:srgbClr val="00b0f0"/>
                </a:solidFill>
                <a:latin typeface="Constantia"/>
              </a:rPr>
              <a:t>el Grupo Asesor Científco y Tecnológico (STAP) como órgano asesor del Fondo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 PNUMA proporcionará al STAP su Secretaría y operará como enlace entre el Fondo y el Instrumento del STAP”. (Instrumento Constitutivo del Fondo para el Medio Ambiente Mundial Reestructurado, 1994 y 2008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4617b"/>
                </a:solidFill>
                <a:latin typeface="Constantia"/>
              </a:rPr>
              <a:t>Iniciativas conexa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560" y="1371600"/>
            <a:ext cx="8305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Los promotores del proyecto tratan de aprovechar </a:t>
            </a:r>
            <a:r>
              <a:rPr b="1" i="1" lang="en-US" sz="2600" spc="-1" strike="noStrike">
                <a:solidFill>
                  <a:srgbClr val="00b050"/>
                </a:solidFill>
                <a:latin typeface="Constantia"/>
              </a:rPr>
              <a:t>conocimientos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n-US" sz="2600" spc="-1" strike="noStrike">
                <a:solidFill>
                  <a:srgbClr val="00b050"/>
                </a:solidFill>
                <a:latin typeface="Constantia"/>
              </a:rPr>
              <a:t>enseñanzas pertinentes generadas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or otros proyectos, incluidos proyectos del FMAM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Se cuenta con un </a:t>
            </a:r>
            <a:r>
              <a:rPr b="1" i="1" lang="en-US" sz="2600" spc="-1" strike="noStrike">
                <a:solidFill>
                  <a:srgbClr val="00b050"/>
                </a:solidFill>
                <a:latin typeface="Constantia"/>
              </a:rPr>
              <a:t>mecanism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decuado para incorporar en el proyect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ropuesto </a:t>
            </a:r>
            <a:r>
              <a:rPr b="1" i="1" lang="en-US" sz="2600" spc="-1" strike="noStrike">
                <a:solidFill>
                  <a:srgbClr val="00b050"/>
                </a:solidFill>
                <a:latin typeface="Constantia"/>
              </a:rPr>
              <a:t>enseñanzas derivadas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d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b050"/>
                </a:solidFill>
                <a:latin typeface="Constantia"/>
              </a:rPr>
              <a:t>anteriores iniciativas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onstantia"/>
              </a:rPr>
              <a:t>Cuestiones que deben considerarse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¿Cuáles son los principales desafíos que han de enfrentarse para elaborar FIP científica y técnicamente viables? (¿acceso a datos?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¿Con qué redes, instituciones u otras opciones regionales se cuenta para elaborar datos y atender el problema de la falta de datos que contribuyan al logro de resultados ambientales mundiales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¿Atender la necesidad de datos específicos puede contribuir a los conocimientos y aprendizaje del FMAM? (“targeted research”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l diseño a la ejecución: la atención se centra en la medición y el seguimiento de los resultados ambientales mundiales : nivel de proyecto - área focal – conocimientos y aprendizaje institucionales del FMA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¡Gracias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Guadalupe Dur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73763"/>
                </a:solidFill>
                <a:uFillTx/>
                <a:latin typeface="Constantia"/>
                <a:hlinkClick r:id="rId1"/>
              </a:rPr>
              <a:t>Guadalupe.Duron@unep.or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73763"/>
                </a:solidFill>
                <a:uFillTx/>
                <a:latin typeface="Constantia"/>
                <a:hlinkClick r:id="rId2"/>
              </a:rPr>
              <a:t>www.unep.org/sta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704520"/>
            <a:ext cx="830592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onstantia"/>
              </a:rPr>
              <a:t>¿Qué es el STAP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 Grupo Asesor Científico y Tecnológico (STAP) del Fond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ara el Medio Ambiente Mundial (FMAM) presta servicios d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sesoramiento estratégico e independiente sobre proyectos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ogramas y política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Es administrado por el Programa de las Nacion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Unidas para el Medio Ambiente (PNUMA) 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cuenta con el respaldo de una Secretaría 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ashington, D.C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onstantia"/>
              </a:rPr>
              <a:t>¿Quién es el STAP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5" descr="C:\Documents and Settings\thammond\My Documents\My Pictures\diaz.jpg"/>
          <p:cNvPicPr/>
          <p:nvPr/>
        </p:nvPicPr>
        <p:blipFill>
          <a:blip r:embed="rId1"/>
          <a:stretch/>
        </p:blipFill>
        <p:spPr>
          <a:xfrm>
            <a:off x="1066680" y="4114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0"/>
          <p:cNvSpPr/>
          <p:nvPr/>
        </p:nvSpPr>
        <p:spPr>
          <a:xfrm>
            <a:off x="990720" y="342900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Thomas E. Lovejoy, Presidente</a:t>
            </a: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"/>
          <p:cNvSpPr/>
          <p:nvPr/>
        </p:nvSpPr>
        <p:spPr>
          <a:xfrm>
            <a:off x="2895480" y="3333600"/>
            <a:ext cx="1752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Meryl  J.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Copresidente. Aguas Internacionales</a:t>
            </a: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3"/>
          <p:cNvSpPr/>
          <p:nvPr/>
        </p:nvSpPr>
        <p:spPr>
          <a:xfrm>
            <a:off x="4724280" y="335268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N.H. Ravindran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Cambio Cli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6"/>
          <p:cNvSpPr/>
          <p:nvPr/>
        </p:nvSpPr>
        <p:spPr>
          <a:xfrm>
            <a:off x="1143000" y="541008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Sandra  Díaz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Biodivers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7"/>
          <p:cNvSpPr/>
          <p:nvPr/>
        </p:nvSpPr>
        <p:spPr>
          <a:xfrm>
            <a:off x="2666880" y="541008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Henk Bouw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Productos Químicos y C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0"/>
          <p:cNvSpPr/>
          <p:nvPr/>
        </p:nvSpPr>
        <p:spPr>
          <a:xfrm>
            <a:off x="4267080" y="556272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Michael Stocking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Asesor de la Presidencia del ST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C:\Documents and Settings\thammond\My Documents\My Pictures\hbouwman.jpg"/>
          <p:cNvPicPr/>
          <p:nvPr/>
        </p:nvPicPr>
        <p:blipFill>
          <a:blip r:embed="rId2"/>
          <a:stretch/>
        </p:blipFill>
        <p:spPr>
          <a:xfrm>
            <a:off x="2743200" y="4038480"/>
            <a:ext cx="1143000" cy="1193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C:\Documents and Settings\thammond\My Documents\My Pictures\Meryl.jpg"/>
          <p:cNvPicPr/>
          <p:nvPr/>
        </p:nvPicPr>
        <p:blipFill>
          <a:blip r:embed="rId3"/>
          <a:stretch/>
        </p:blipFill>
        <p:spPr>
          <a:xfrm>
            <a:off x="3276720" y="2133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:\Documents and Settings\thammond\My Documents\My Pictures\Ravi.jpg"/>
          <p:cNvPicPr/>
          <p:nvPr/>
        </p:nvPicPr>
        <p:blipFill>
          <a:blip r:embed="rId4"/>
          <a:stretch/>
        </p:blipFill>
        <p:spPr>
          <a:xfrm>
            <a:off x="5181480" y="21337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C:\Documents and Settings\thammond\My Documents\My Pictures\TEL_Chair.jpg"/>
          <p:cNvPicPr/>
          <p:nvPr/>
        </p:nvPicPr>
        <p:blipFill>
          <a:blip r:embed="rId5"/>
          <a:stretch/>
        </p:blipFill>
        <p:spPr>
          <a:xfrm>
            <a:off x="1143000" y="2133720"/>
            <a:ext cx="1447920" cy="1199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C:\Documents and Settings\thammond\My Documents\My Pictures\Michael%20in%20Jordan.jpg"/>
          <p:cNvPicPr/>
          <p:nvPr/>
        </p:nvPicPr>
        <p:blipFill>
          <a:blip r:embed="rId6"/>
          <a:stretch/>
        </p:blipFill>
        <p:spPr>
          <a:xfrm>
            <a:off x="4267080" y="4114800"/>
            <a:ext cx="1389240" cy="134316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5"/>
          <p:cNvSpPr/>
          <p:nvPr/>
        </p:nvSpPr>
        <p:spPr>
          <a:xfrm>
            <a:off x="6934320" y="3429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Degradación de la  tier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(En proceso de contratació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6"/>
          <p:cNvSpPr/>
          <p:nvPr/>
        </p:nvSpPr>
        <p:spPr>
          <a:xfrm>
            <a:off x="6324480" y="548640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Adapt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(En proceso de contratació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C:\Users\gduron\Pictures\question-mark1.png"/>
          <p:cNvPicPr/>
          <p:nvPr/>
        </p:nvPicPr>
        <p:blipFill>
          <a:blip r:embed="rId7"/>
          <a:stretch/>
        </p:blipFill>
        <p:spPr>
          <a:xfrm>
            <a:off x="7010280" y="205740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Users\gduron\Pictures\question-mark1.png"/>
          <p:cNvPicPr/>
          <p:nvPr/>
        </p:nvPicPr>
        <p:blipFill>
          <a:blip r:embed="rId8"/>
          <a:stretch/>
        </p:blipFill>
        <p:spPr>
          <a:xfrm>
            <a:off x="6172200" y="411480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1470960" y="192708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D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397880" y="247824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MNU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456200" y="35384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NU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240920" y="5087880"/>
            <a:ext cx="101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gu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rnacio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3904200" y="3581280"/>
            <a:ext cx="259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RECTOR EJECUTIVO Y PRESID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3753000" y="394488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CRETARÍA DEL FM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152600" y="324000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SE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4124520" y="2744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6525"/>
                </a:solidFill>
                <a:latin typeface="Times New Roman"/>
              </a:rPr>
              <a:t>ASAMBLEA</a:t>
            </a:r>
            <a:r>
              <a:rPr b="1" lang="en-US" sz="1000" spc="-1" strike="noStrike">
                <a:solidFill>
                  <a:srgbClr val="2d6525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7627320" y="2185920"/>
            <a:ext cx="798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ANC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UND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2971440" y="1627200"/>
            <a:ext cx="96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rup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Reposiciól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Don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4241880" y="16588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O de Evaluac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7619400" y="27306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BAs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7550280" y="547200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NUD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7621560" y="409716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5263920" y="2941560"/>
            <a:ext cx="4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1279440" y="4059360"/>
            <a:ext cx="900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n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ultilate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l Protoco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 Montre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5234400" y="187164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T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1457280" y="297324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C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1"/>
          <p:cNvSpPr/>
          <p:nvPr/>
        </p:nvSpPr>
        <p:spPr>
          <a:xfrm>
            <a:off x="7253280" y="87804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bf5f9"/>
                </a:solidFill>
                <a:latin typeface="Times New Roman"/>
              </a:rPr>
              <a:t>IAs / 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2"/>
          <p:cNvSpPr/>
          <p:nvPr/>
        </p:nvSpPr>
        <p:spPr>
          <a:xfrm>
            <a:off x="7625880" y="1752480"/>
            <a:ext cx="65160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NU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3"/>
          <p:cNvSpPr/>
          <p:nvPr/>
        </p:nvSpPr>
        <p:spPr>
          <a:xfrm>
            <a:off x="7582680" y="364644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BE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7603560" y="500220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5"/>
          <p:cNvSpPr/>
          <p:nvPr/>
        </p:nvSpPr>
        <p:spPr>
          <a:xfrm>
            <a:off x="7639920" y="456084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B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6"/>
          <p:cNvSpPr/>
          <p:nvPr/>
        </p:nvSpPr>
        <p:spPr>
          <a:xfrm>
            <a:off x="7584480" y="317016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BA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7"/>
          <p:cNvSpPr/>
          <p:nvPr/>
        </p:nvSpPr>
        <p:spPr>
          <a:xfrm>
            <a:off x="7574400" y="125244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N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749880" y="6249960"/>
            <a:ext cx="40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/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Straight Arrow Connector 29"/>
          <p:cNvCxnSpPr/>
          <p:nvPr/>
        </p:nvCxnSpPr>
        <p:spPr>
          <a:xfrm flipH="1">
            <a:off x="4800240" y="2209680"/>
            <a:ext cx="38160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3" name="Straight Arrow Connector 31"/>
          <p:cNvCxnSpPr/>
          <p:nvPr/>
        </p:nvCxnSpPr>
        <p:spPr>
          <a:xfrm flipH="1">
            <a:off x="4876200" y="190476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4" name="Straight Arrow Connector 36"/>
          <p:cNvCxnSpPr/>
          <p:nvPr/>
        </p:nvCxnSpPr>
        <p:spPr>
          <a:xfrm flipH="1">
            <a:off x="4952520" y="2209320"/>
            <a:ext cx="610560" cy="175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onstantia"/>
              </a:rPr>
              <a:t>Reseña de los procesos de selección del STAP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f0"/>
                </a:solidFill>
                <a:latin typeface="Constantia"/>
              </a:rPr>
              <a:t>Revisió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rsus </a:t>
            </a:r>
            <a:r>
              <a:rPr b="1" lang="en-US" sz="2600" spc="-1" strike="noStrike">
                <a:solidFill>
                  <a:srgbClr val="00b0f0"/>
                </a:solidFill>
                <a:latin typeface="Constantia"/>
              </a:rPr>
              <a:t>exam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tegorías de calificación del STAP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sentimient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visión menor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visión may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4617b"/>
                </a:solidFill>
                <a:latin typeface="Constantia"/>
              </a:rPr>
              <a:t>Secciones de la FIP que comúnmente son objeto de evaluación por el STAP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560" y="1934640"/>
            <a:ext cx="8381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886680" indent="-49896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rco del proyecto (Parte I: B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86680" indent="-49896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ínea de base y la definición del problema (Parte II: B.1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86680" indent="-49896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tividades incrementales y beneficios ambientales mundiales (B.2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86680" indent="-49896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neficios socioeconómicos y de género en el contexto de los beneficios ambientales mundiales (B.3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86680" indent="-49896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esgos, incluidos los del cambio climático (B.4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86680" indent="-49896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esados clave (B.5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86680" indent="-49896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iciativas conexas (B.6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Constantia"/>
              </a:rPr>
              <a:t>Marco del proyecto: </a:t>
            </a:r>
            <a:r>
              <a:rPr b="0" lang="en-US" sz="3000" spc="-1" strike="noStrike">
                <a:solidFill>
                  <a:srgbClr val="04617b"/>
                </a:solidFill>
                <a:latin typeface="Constantia"/>
              </a:rPr>
              <a:t>Reseña indicativa desde la perspectiva del STAP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bjetivo del proyecto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 finalidad del proyecto y su designio de generar beneficios ambientales mundi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STAP: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¿El </a:t>
            </a:r>
            <a:r>
              <a:rPr b="1" i="1" lang="en-US" sz="2200" spc="-1" strike="noStrike">
                <a:solidFill>
                  <a:srgbClr val="7030a0"/>
                </a:solidFill>
                <a:latin typeface="Constantia"/>
              </a:rPr>
              <a:t>objetivo es claro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n-US" sz="2200" spc="-1" strike="noStrike">
                <a:solidFill>
                  <a:srgbClr val="7030a0"/>
                </a:solidFill>
                <a:latin typeface="Constantia"/>
              </a:rPr>
              <a:t>congruente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 con la definición del problema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sultado del proyect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Los </a:t>
            </a: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efect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probables o alcanzados, a corto y a mediano plazo, del producto de una intervención (por ejemplo, “prácticas de gestión integrada de paisajes son adoptadas por  comunidades locales”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483480" indent="-48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STAP :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¿Los </a:t>
            </a:r>
            <a:r>
              <a:rPr b="1" i="1" lang="en-US" sz="2200" spc="-1" strike="noStrike">
                <a:solidFill>
                  <a:srgbClr val="7030a0"/>
                </a:solidFill>
                <a:latin typeface="Constantia"/>
              </a:rPr>
              <a:t>resultados</a:t>
            </a:r>
            <a:r>
              <a:rPr b="0" i="1" lang="en-US" sz="22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incluyen </a:t>
            </a:r>
            <a:r>
              <a:rPr b="1" i="1" lang="en-US" sz="2200" spc="-1" strike="noStrike">
                <a:solidFill>
                  <a:srgbClr val="7030a0"/>
                </a:solidFill>
                <a:latin typeface="Constantia"/>
              </a:rPr>
              <a:t>importantes beneficios mundiales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 y es </a:t>
            </a:r>
            <a:r>
              <a:rPr b="1" i="1" lang="en-US" sz="2200" spc="-1" strike="noStrike">
                <a:solidFill>
                  <a:srgbClr val="7030a0"/>
                </a:solidFill>
                <a:latin typeface="Constantia"/>
              </a:rPr>
              <a:t>probable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que se generen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Constantia"/>
              </a:rPr>
              <a:t>Marco del proyecto: </a:t>
            </a:r>
            <a:r>
              <a:rPr b="0" lang="en-US" sz="3000" spc="-1" strike="noStrike">
                <a:solidFill>
                  <a:srgbClr val="04617b"/>
                </a:solidFill>
                <a:latin typeface="Constantia"/>
              </a:rPr>
              <a:t>Reseña indicativa desde la perspectiva del STAP (cont.)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fectos directos del proyect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nstantia"/>
              </a:rPr>
              <a:t>1,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s productos y servicios a que da lugar una intervención (por ejemplo,  “se elaboran y aplican herramientas y metodologías de manejo integrado de recursos naturales”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4440" indent="-5144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STAP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: ¿Es probable que la </a:t>
            </a:r>
            <a:r>
              <a:rPr b="1" i="1" lang="en-US" sz="2400" spc="-1" strike="noStrike">
                <a:solidFill>
                  <a:srgbClr val="04617b"/>
                </a:solidFill>
                <a:latin typeface="Constantia"/>
              </a:rPr>
              <a:t>suma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de los </a:t>
            </a:r>
            <a:r>
              <a:rPr b="1" i="1" lang="en-US" sz="2400" spc="-1" strike="noStrike">
                <a:solidFill>
                  <a:srgbClr val="04617b"/>
                </a:solidFill>
                <a:latin typeface="Constantia"/>
              </a:rPr>
              <a:t>productos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contribuya a los </a:t>
            </a:r>
            <a:r>
              <a:rPr b="1" i="1" lang="en-US" sz="2400" spc="-1" strike="noStrike">
                <a:solidFill>
                  <a:srgbClr val="04617b"/>
                </a:solidFill>
                <a:latin typeface="Constantia"/>
              </a:rPr>
              <a:t>resultados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as actividades que generan los productos y servicios pueden organizarse en grupos o componentes para lograr en la máxima medida posible la coordinación y calidad de los efectos directo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14440" indent="-5144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14440" indent="-5144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baseline="30000">
                <a:solidFill>
                  <a:srgbClr val="000000"/>
                </a:solidFill>
                <a:latin typeface="Constantia"/>
              </a:rPr>
              <a:t>2 </a:t>
            </a:r>
            <a:r>
              <a:rPr b="1" lang="en-US" sz="2200" spc="-1" strike="noStrike">
                <a:solidFill>
                  <a:srgbClr val="04617b"/>
                </a:solidFill>
                <a:latin typeface="Constantia"/>
              </a:rPr>
              <a:t>Los indicadores de productos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os dicen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qu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vamos a </a:t>
            </a:r>
            <a:r>
              <a:rPr b="1" lang="en-US" sz="2200" spc="-1" strike="noStrike">
                <a:solidFill>
                  <a:srgbClr val="04617b"/>
                </a:solidFill>
                <a:latin typeface="Constantia"/>
              </a:rPr>
              <a:t>medi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1" lang="en-US" sz="2200" spc="-1" strike="noStrike">
                <a:solidFill>
                  <a:srgbClr val="04617b"/>
                </a:solidFill>
                <a:latin typeface="Constantia"/>
              </a:rPr>
              <a:t>no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lo que debe </a:t>
            </a:r>
            <a:r>
              <a:rPr b="1" lang="en-US" sz="2200" spc="-1" strike="noStrike">
                <a:solidFill>
                  <a:srgbClr val="04617b"/>
                </a:solidFill>
                <a:latin typeface="Constantia"/>
              </a:rPr>
              <a:t>lograrse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ejemplo: número de herramientas creadas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9:33:50Z</dcterms:created>
  <dc:creator>gduron</dc:creator>
  <dc:description/>
  <dc:language>en-US</dc:language>
  <cp:lastModifiedBy>wb350798</cp:lastModifiedBy>
  <dcterms:modified xsi:type="dcterms:W3CDTF">2012-03-07T11:37:20Z</dcterms:modified>
  <cp:revision>244</cp:revision>
  <dc:subject/>
  <dc:title>Slide 1</dc:title>
</cp:coreProperties>
</file>