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995A-5A8B-461C-8C24-DF2BD3575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2161-CACB-4927-A79F-53325168D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F435-272F-4EF6-94C5-5083A75E9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2362-E755-4C4C-A2B8-F715B837B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CEE8-3426-4CEA-A71D-47B54E15E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BAE9-90A3-4590-BB87-AE626CE31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internal – associated with projec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external – unforeseen armed confli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risks specifically for occurrences outside the control of the project – or are they unacceptable because of inadequacies in project design or resource mob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809F-6E34-4020-9599-AE5D16DAC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13EA-37BC-4626-AB50-386F315EA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9C55-2183-4A26-80AD-8F5F3A1E7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DBC7-2D10-4671-BD20-D935B894C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FC05-44E8-430A-ADC8-FE13B149B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C5CE-370E-464D-862A-A1548CC02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8E17-2740-48FE-AD49-52B411AB9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038C-E5D9-4BCC-B65E-7AB23EDFB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AAED-2C5C-4BBB-AF79-78BD76D17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7DC8-3CC5-4349-8D4E-6F02395FC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79D8-C890-4819-B9E3-EF499F2E2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8145-EEAF-404D-B0B8-697948685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C4C1-2286-4661-BD85-4E43F3D20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F4F-995F-4458-B291-164BF971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4A4-B09B-418B-A394-92802D1A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E35-1D71-47A3-AB78-DD54B8B6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E25-654A-4849-9896-A98F4652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139C-3405-4CBF-B95A-D418D698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2B19-125E-470F-8A44-1068421D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4C5F-5867-4B16-8F41-2E96DF26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1335-12E7-405D-8F2C-8CA4C329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13F0-3DB7-4BA3-BAC1-5186648C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3C97-5463-499C-A200-DE8B3295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0F3E-6461-40C0-8471-29E0CFAF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933-72EA-4702-B9B3-62A5D75E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7525-37D4-404E-BD19-D492378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B132-C9A4-452E-BFA0-64DC569F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3D9E-1178-4BAD-BBA7-AE80E512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31D6-4AC7-4E11-B577-4C9A9BB3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9AEF-5B5D-45B4-8057-E9EC8FD3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C0A2-2929-4288-901B-65A7DD12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6440D-8123-4C73-8DCE-C4725008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5158-597D-4DF2-8F2D-F2296509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709C2-7016-4DB0-B525-BF3EF922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9E86-7BEE-4F51-BADF-5B0ED61A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976-3AD1-4D17-A809-2B859594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DAD4-3396-43FA-8689-B9437176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18A9-67B9-4C5C-8F0A-7060AC76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0D945-50D6-4636-9E2B-28BDAB06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12A0-2CE5-467A-BBDB-18F57E8E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5543-FA6A-4978-B032-F7DA75CC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A98B-62E1-4C7B-B55E-650C969B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E63B4-58E3-44E1-8E71-CF3BC653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BAD6-BCC7-49F2-9116-8C1019E2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BB21B-6280-45B6-89EF-73A67FAF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BAB9D-04D2-4283-ABF3-C583BF0F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594-AA8C-42A8-A8F1-CC62A247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705C-9BF4-4CA8-887E-46CB763C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FFC5-6A59-4C38-A0A7-B044F781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6B7CA-9F6D-41B9-B5F2-9C4CF683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8F1E-E343-40F7-B199-96E806BF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2F8C-6A82-4064-B16A-6868EE7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8943-B596-41A5-823A-6CCBF2FD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F0CD-F839-483B-A4F2-F0377C0E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E557D-59E1-4B4B-A547-8BC3A98B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D41F9-76F8-4F6E-B577-33512760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151-36D4-4C8C-808B-1E83F338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F71-72F1-4C7F-B264-F73CAFF7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FB2-AFE4-4D2A-8B0E-51874E89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565-8C00-4C07-A657-A324077D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078-3EE3-41A9-989A-5EA49AAA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3B2C-D646-409A-B104-8DDC3AC198E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EE0F-8A5A-4492-8FC8-71881349FAA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BA98-1DD1-46C1-98D3-08E2E869C3C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122C-A412-40CB-8CD4-0E1FED606F7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Guadalupe.Duron@unep.org" TargetMode="External"/><Relationship Id="rId2" Type="http://schemas.openxmlformats.org/officeDocument/2006/relationships/hyperlink" Target="http://www.unep.org/stap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-6480" y="622440"/>
            <a:ext cx="9223560" cy="32731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an José, Costa Ric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rzo de 201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ounded Rectangle 3"/>
          <p:cNvSpPr/>
          <p:nvPr/>
        </p:nvSpPr>
        <p:spPr>
          <a:xfrm>
            <a:off x="609480" y="4952880"/>
            <a:ext cx="8077320" cy="15242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Línea de base: 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perspectiva del STAP</a:t>
            </a:r>
            <a:br>
              <a:rPr sz="2700"/>
            </a:b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35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 línea de base es el 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valor de los indicadores antes del comienzo del proyecto;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ben estar respaldados por datos verificables, actuales y precisos y, cuando sea factible, referencias a fuentes publicadas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TAP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: ¿La </a:t>
            </a:r>
            <a:r>
              <a:rPr b="1" i="1" lang="en-US" sz="2400" spc="-1" strike="noStrike">
                <a:solidFill>
                  <a:srgbClr val="0c9b74"/>
                </a:solidFill>
                <a:latin typeface="Constantia"/>
              </a:rPr>
              <a:t>línea de bas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ha sido claramente identificada? ¿Constituyen una base </a:t>
            </a:r>
            <a:r>
              <a:rPr b="1" i="1" lang="en-US" sz="2400" spc="-1" strike="noStrike">
                <a:solidFill>
                  <a:srgbClr val="0c9b74"/>
                </a:solidFill>
                <a:latin typeface="Constantia"/>
              </a:rPr>
              <a:t>viable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para </a:t>
            </a:r>
            <a:r>
              <a:rPr b="1" i="1" lang="en-US" sz="2400" spc="-1" strike="noStrike">
                <a:solidFill>
                  <a:srgbClr val="0c9b74"/>
                </a:solidFill>
                <a:latin typeface="Constantia"/>
              </a:rPr>
              <a:t>medir el cambio  ambiental mundial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n-US" sz="2400" spc="-1" strike="noStrike">
                <a:solidFill>
                  <a:srgbClr val="0c9b74"/>
                </a:solidFill>
                <a:latin typeface="Constantia"/>
              </a:rPr>
              <a:t>realizar su seguimiento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, incluso en cuanto a los resultados de desarrollo?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… Centra la atención en una línea de base de carácte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entífic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onstantia"/>
              </a:rPr>
              <a:t>*</a:t>
            </a:r>
            <a:r>
              <a:rPr b="0" lang="en-US" sz="1900" spc="-1" strike="noStrike">
                <a:solidFill>
                  <a:srgbClr val="ffff00"/>
                </a:solidFill>
                <a:latin typeface="Constantia"/>
              </a:rPr>
              <a:t>*</a:t>
            </a:r>
            <a:r>
              <a:rPr b="1" lang="en-US" sz="1900" spc="-1" strike="noStrike">
                <a:solidFill>
                  <a:srgbClr val="ffff00"/>
                </a:solidFill>
                <a:latin typeface="Constantia"/>
              </a:rPr>
              <a:t>Secretaría  del FMAM:  ¿Qué sucedería sin el FMAM? (“hipótesis  de que todo siga igual”: etapa de la FIP), y  una apropiada línea de base en el marco del proyecto + herramientas de seguimiento (refrendados por el Director Ejecutivo y Presidente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</a:rPr>
              <a:t>Línea de base: </a:t>
            </a: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perspectiva del STAP (cont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88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berían incluirse, en la mayor medida 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posib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una línea de base 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cuantitativ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aunque surjan de inferencia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 en la FIP 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y una línea de base cuantitativa, remitirse a la herramienta de seguimiento o especificar un cronograma de recopilación de da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a línea de base</a:t>
            </a:r>
            <a:r>
              <a:rPr b="1" lang="en-US" sz="2400" spc="-1" strike="noStrike">
                <a:solidFill>
                  <a:srgbClr val="0c9b74"/>
                </a:solidFill>
                <a:latin typeface="Constantia"/>
              </a:rPr>
              <a:t> cualitativ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uede respaldarse con referencias actuales y precisas y/o con rigurosas pruebas locales inéditas (‘literatura gris”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nip Single Corner Rectangle 4"/>
          <p:cNvSpPr/>
          <p:nvPr/>
        </p:nvSpPr>
        <p:spPr>
          <a:xfrm>
            <a:off x="304920" y="1219320"/>
            <a:ext cx="8381880" cy="2133360"/>
          </a:xfrm>
          <a:custGeom>
            <a:avLst/>
            <a:gdLst>
              <a:gd name="textAreaLeft" fmla="*/ 0 w 8381880"/>
              <a:gd name="textAreaRight" fmla="*/ 8204400 w 8381880"/>
              <a:gd name="textAreaTop" fmla="*/ 177480 h 2133360"/>
              <a:gd name="textAreaBottom" fmla="*/ 2133720 h 2133360"/>
            </a:gdLst>
            <a:ahLst/>
            <a:rect l="textAreaLeft" t="textAreaTop" r="textAreaRight" b="textAreaBottom"/>
            <a:pathLst>
              <a:path w="8382000" h="2133600">
                <a:moveTo>
                  <a:pt x="0" y="0"/>
                </a:moveTo>
                <a:lnTo>
                  <a:pt x="8026393" y="0"/>
                </a:lnTo>
                <a:lnTo>
                  <a:pt x="8382000" y="355607"/>
                </a:lnTo>
                <a:lnTo>
                  <a:pt x="8382000" y="2133600"/>
                </a:lnTo>
                <a:lnTo>
                  <a:pt x="0" y="21336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4617b"/>
                </a:solidFill>
                <a:latin typeface="Constantia"/>
              </a:rPr>
              <a:t>Actividades increment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2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afbed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cafbed"/>
                </a:solidFill>
                <a:latin typeface="Constantia"/>
              </a:rPr>
              <a:t>El razonamiento incremental define el papel del FMAM en el contexto de los beneficios ambientales mundiales que se prevé obtener a través de un proyecto propuesto. Se basa en una evaluación del valor  que agrega la participación del FMAM.” (FMAM/C.31/1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a información que busca el STAP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Las actividades incrementales se justifican 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desde el punto de vista científico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(¿están respaldadas por referencias científicas, por rigurosas pruebas locales inéditas?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Constantia"/>
              </a:rPr>
              <a:t>Actividades incrementales (cont.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Se han definido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 explícitamente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los 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beneficios ambienta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ndiales (los indicadores o metodologías de medición y seguimiento de los beneficios ambientales mundiales)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Los beneficios son 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verdaderamen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beneficios ambientales mundiales, y son </a:t>
            </a:r>
            <a:r>
              <a:rPr b="1" i="1" lang="en-US" sz="2600" spc="-1" strike="noStrike">
                <a:solidFill>
                  <a:srgbClr val="21b2c9"/>
                </a:solidFill>
                <a:latin typeface="Constantia"/>
              </a:rPr>
              <a:t>medibles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secuestro de carbono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y n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el manejo sostenible de la tierra; mejoras en la cubierta vegetal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y no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s  beneficios para los servicios de los ecosistema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Oval 3"/>
          <p:cNvSpPr/>
          <p:nvPr/>
        </p:nvSpPr>
        <p:spPr>
          <a:xfrm>
            <a:off x="152280" y="2133720"/>
            <a:ext cx="8458200" cy="2590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Constantia"/>
              </a:rPr>
              <a:t>Actividades incrementales (cont.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Existen innovaciones científicas?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…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generación de conocimientos para una mayor eficacia y calidad de la elaboración y ejecución de proyectos y programas del FMAM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por ejemplo, “Fortalecimiento de la eficacia de la gestión de zonas protegidas para proteger la biodiversidad en condiciones de cambio climático”, México, PNU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Constantia"/>
              </a:rPr>
              <a:t>Beneficios socioeconómicos y de género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a información que busca el STAP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¿Se definen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explícitamente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los</a:t>
            </a:r>
            <a:r>
              <a:rPr b="0" i="1" lang="en-U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beneficios socioeconómicos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y su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 contribución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l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logro de</a:t>
            </a:r>
            <a:r>
              <a:rPr b="0" i="1" lang="en-U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beneficios ambientales mundiales?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con el respaldo de referencias científic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¿Esta </a:t>
            </a:r>
            <a:r>
              <a:rPr b="1" i="1" lang="en-US" sz="2800" spc="-1" strike="noStrike">
                <a:solidFill>
                  <a:srgbClr val="c00000"/>
                </a:solidFill>
                <a:latin typeface="Constantia"/>
              </a:rPr>
              <a:t>género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incluido adecuadamente en todos los aspectos de la propuesta?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datos desagregados; intervenciones diseñadas de modo de focalizar específicamente las diferentes necesidades de hombres y mujeres; consideraciones socioculturales que puedan repercutir en la inclusión de cualquiera de los dos géneros en las actividad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Riesg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16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Los riesgos son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reale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y de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alcance general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Están vinculados con el </a:t>
            </a:r>
            <a:r>
              <a:rPr b="0" i="1" lang="en-US" sz="2600" spc="-1" strike="noStrike">
                <a:solidFill>
                  <a:srgbClr val="c00000"/>
                </a:solidFill>
                <a:latin typeface="Constantia"/>
              </a:rPr>
              <a:t>diseño de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nstantia"/>
              </a:rPr>
              <a:t>proyecto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o con la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movilización de recurs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riesgos internos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Están vinculados con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circunstanci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imprevistas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riesgos externos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onstantia"/>
              </a:rPr>
              <a:t>Riesgos del cambio climátic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 STAP considera cuestiones como las siguient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¿El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lugar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de realización del proyecto se halla en una región expuesta a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riesgos climáticos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¿Los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objetivos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 o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productos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 del proyecto son propensos a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riesgos de cambio climático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a lo largo de los 2020, 2030 2040 , y en la FIP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se han considerado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los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 riesgos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 de impactos del cambio climático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¿En la PIF se han considerado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prácticas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y medidas </a:t>
            </a:r>
            <a:r>
              <a:rPr b="1" lang="en-IN" sz="2200" spc="-1" strike="noStrike">
                <a:solidFill>
                  <a:srgbClr val="7030a0"/>
                </a:solidFill>
                <a:latin typeface="Constantia"/>
              </a:rPr>
              <a:t>de mejor adaptación </a:t>
            </a:r>
            <a:r>
              <a:rPr b="0" lang="en-IN" sz="2200" spc="-1" strike="noStrike">
                <a:solidFill>
                  <a:srgbClr val="000000"/>
                </a:solidFill>
                <a:latin typeface="Constantia"/>
              </a:rPr>
              <a:t>a los riesgos e impactos previstos del cambio climático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4617b"/>
                </a:solidFill>
                <a:latin typeface="Constantia"/>
              </a:rPr>
              <a:t>Herramientas de adaptación al cambio climático</a:t>
            </a:r>
            <a:r>
              <a:rPr b="1" lang="en-US" sz="29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900" spc="-1" strike="noStrike">
                <a:solidFill>
                  <a:srgbClr val="04617b"/>
                </a:solidFill>
                <a:latin typeface="Constantia"/>
              </a:rPr>
              <a:t>y fuentes de datos sobre ese fenómeno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3047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onstantia"/>
              </a:rPr>
              <a:t>Principales partes interesada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a información que busca el STAP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¿Alguna de las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 partes interesadas no ha sido tenida en cuenta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¿Qué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papeles específicos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umplen las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partes interesada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? ¿Tienen especificidad de género o están definidos de otro modo en términos cultural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¿Cómo contribuirán sus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papeles, combinados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l 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suministro de información para alcanzar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(múltiples)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resultados ambientales mundiale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y </a:t>
            </a:r>
            <a:r>
              <a:rPr b="1" i="1" lang="en-US" sz="2400" spc="-1" strike="noStrike">
                <a:solidFill>
                  <a:srgbClr val="7030a0"/>
                </a:solidFill>
                <a:latin typeface="Constantia"/>
              </a:rPr>
              <a:t>para la gestión de los conocimiento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onstantia"/>
              </a:rPr>
              <a:t>¿Qué es el STA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5000"/>
            <a:ext cx="8229600" cy="75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 1994 el Instrumento del FMAM estableció el STAP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 PNUMA establecerá, en consulta con el PNUD y el Banco Mundial y basándose en directrices y criterios aprobados por el Consejo, </a:t>
            </a:r>
            <a:r>
              <a:rPr b="0" lang="en-US" sz="2400" spc="-1" strike="noStrike">
                <a:solidFill>
                  <a:srgbClr val="00b0f0"/>
                </a:solidFill>
                <a:latin typeface="Constantia"/>
              </a:rPr>
              <a:t>el Grupo Asesor Científco y Tecnológico (STAP) como órgano asesor del Fondo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 PNUMA proporcionará al STAP su Secretaría y operará como enlace entre el Fondo y el Instrumento del STAP”. (Instrumento Constitutivo del Fondo para el Medio Ambiente Mundial Reestructurado, 1994 y 200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4617b"/>
                </a:solidFill>
                <a:latin typeface="Constantia"/>
              </a:rPr>
              <a:t>Iniciativas conexa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560" y="13716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Los promotores del proyecto tratan de aprovechar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conocimiento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enseñanzas pertinentes generada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or otros proyectos, incluidos proyectos del FMA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¿Se cuenta con un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mecanism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decuado para incorporar en el proyec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ropuesto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enseñanzas derivadas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d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anteriores iniciativas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onstantia"/>
              </a:rPr>
              <a:t>Cuestiones que deben considerarse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¿Cuáles son los principales desafíos que han de enfrentarse para elaborar FIP científica y técnicamente viables? (¿acceso a datos?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¿Con qué redes, instituciones u otras opciones regionales se cuenta para elaborar datos y atender el problema de la falta de datos que contribuyan al logro de resultados ambientales mundiales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¿Atender la necesidad de datos específicos puede contribuir a los conocimientos y aprendizaje del FMAM? (“targeted research”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l diseño a la ejecución: la atención se centra en la medición y el seguimiento de los resultados ambientales mundiales : nivel de proyecto - área focal – conocimientos y aprendizaje institucionales del FMA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¡Gracia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Guadalupe Dur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73763"/>
                </a:solidFill>
                <a:uFillTx/>
                <a:latin typeface="Constantia"/>
                <a:hlinkClick r:id="rId1"/>
              </a:rPr>
              <a:t>Guadalupe.Duron@unep.or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73763"/>
                </a:solidFill>
                <a:uFillTx/>
                <a:latin typeface="Constantia"/>
                <a:hlinkClick r:id="rId2"/>
              </a:rPr>
              <a:t>www.unep.org/sta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704520"/>
            <a:ext cx="83059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onstantia"/>
              </a:rPr>
              <a:t>¿Qué es el STA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 Grupo Asesor Científico y Tecnológico (STAP) del Fon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ara el Medio Ambiente Mundial (FMAM) presta servicios d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sesoramiento estratégico e independiente sobre proyectos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gramas y polític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Es administrado por el Programa de las Naci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Unidas para el Medio Ambiente (PNUMA) 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cuenta con el respaldo de una Secretaría 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ashington, D.C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onstantia"/>
              </a:rPr>
              <a:t>¿Quién es el STA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C:\Documents and Settings\thammond\My Documents\My Pictures\diaz.jpg"/>
          <p:cNvPicPr/>
          <p:nvPr/>
        </p:nvPicPr>
        <p:blipFill>
          <a:blip r:embed="rId1"/>
          <a:stretch/>
        </p:blipFill>
        <p:spPr>
          <a:xfrm>
            <a:off x="1066680" y="4114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"/>
          <p:cNvSpPr/>
          <p:nvPr/>
        </p:nvSpPr>
        <p:spPr>
          <a:xfrm>
            <a:off x="990720" y="342900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Thomas E. Lovejoy, Presidente</a:t>
            </a: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2895480" y="3333600"/>
            <a:ext cx="1752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Meryl  J.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Copresidente. Aguas Internacionales</a:t>
            </a: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4724280" y="335268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N.H. Ravindran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Cambio Climá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6"/>
          <p:cNvSpPr/>
          <p:nvPr/>
        </p:nvSpPr>
        <p:spPr>
          <a:xfrm>
            <a:off x="1143000" y="54100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Sandra  Día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Biodivers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7"/>
          <p:cNvSpPr/>
          <p:nvPr/>
        </p:nvSpPr>
        <p:spPr>
          <a:xfrm>
            <a:off x="2666880" y="541008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Henk Bouw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Productos Químicos y C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4267080" y="556272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Michael Stocking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Asesor de la Presidencia del ST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C:\Documents and Settings\thammond\My Documents\My Pictures\hbouwman.jpg"/>
          <p:cNvPicPr/>
          <p:nvPr/>
        </p:nvPicPr>
        <p:blipFill>
          <a:blip r:embed="rId2"/>
          <a:stretch/>
        </p:blipFill>
        <p:spPr>
          <a:xfrm>
            <a:off x="2743200" y="4038480"/>
            <a:ext cx="1143000" cy="1193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C:\Documents and Settings\thammond\My Documents\My Pictures\Meryl.jpg"/>
          <p:cNvPicPr/>
          <p:nvPr/>
        </p:nvPicPr>
        <p:blipFill>
          <a:blip r:embed="rId3"/>
          <a:stretch/>
        </p:blipFill>
        <p:spPr>
          <a:xfrm>
            <a:off x="3276720" y="2133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:\Documents and Settings\thammond\My Documents\My Pictures\Ravi.jpg"/>
          <p:cNvPicPr/>
          <p:nvPr/>
        </p:nvPicPr>
        <p:blipFill>
          <a:blip r:embed="rId4"/>
          <a:stretch/>
        </p:blipFill>
        <p:spPr>
          <a:xfrm>
            <a:off x="5181480" y="21337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C:\Documents and Settings\thammond\My Documents\My Pictures\TEL_Chair.jpg"/>
          <p:cNvPicPr/>
          <p:nvPr/>
        </p:nvPicPr>
        <p:blipFill>
          <a:blip r:embed="rId5"/>
          <a:stretch/>
        </p:blipFill>
        <p:spPr>
          <a:xfrm>
            <a:off x="1143000" y="2133720"/>
            <a:ext cx="1447920" cy="119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C:\Documents and Settings\thammond\My Documents\My Pictures\Michael%20in%20Jordan.jpg"/>
          <p:cNvPicPr/>
          <p:nvPr/>
        </p:nvPicPr>
        <p:blipFill>
          <a:blip r:embed="rId6"/>
          <a:stretch/>
        </p:blipFill>
        <p:spPr>
          <a:xfrm>
            <a:off x="4267080" y="4114800"/>
            <a:ext cx="138924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5"/>
          <p:cNvSpPr/>
          <p:nvPr/>
        </p:nvSpPr>
        <p:spPr>
          <a:xfrm>
            <a:off x="6934320" y="3429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Degradación de la  tier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(En proceso de contrata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6324480" y="54864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dap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(En proceso de contrata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Users\gduron\Pictures\question-mark1.png"/>
          <p:cNvPicPr/>
          <p:nvPr/>
        </p:nvPicPr>
        <p:blipFill>
          <a:blip r:embed="rId7"/>
          <a:stretch/>
        </p:blipFill>
        <p:spPr>
          <a:xfrm>
            <a:off x="7010280" y="20574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gduron\Pictures\question-mark1.png"/>
          <p:cNvPicPr/>
          <p:nvPr/>
        </p:nvPicPr>
        <p:blipFill>
          <a:blip r:embed="rId8"/>
          <a:stretch/>
        </p:blipFill>
        <p:spPr>
          <a:xfrm>
            <a:off x="6172200" y="41148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1470960" y="19270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397880" y="247824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MNU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456200" y="35384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NU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240920" y="5087880"/>
            <a:ext cx="101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g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naci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3904200" y="3581280"/>
            <a:ext cx="25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TOR EJECUTIVO Y PRESID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753000" y="394488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RETARÍA DEL FM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152600" y="324000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SE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124520" y="2744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6525"/>
                </a:solidFill>
                <a:latin typeface="Times New Roman"/>
              </a:rPr>
              <a:t>ASAMBLEA</a:t>
            </a:r>
            <a:r>
              <a:rPr b="1" lang="en-US" sz="1000" spc="-1" strike="noStrike">
                <a:solidFill>
                  <a:srgbClr val="2d6525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7627320" y="2185920"/>
            <a:ext cx="798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N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UN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2971440" y="1627200"/>
            <a:ext cx="96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rup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Reposiciól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on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241880" y="16588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O de Evaluac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619400" y="27306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As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550280" y="54720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NU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7621560" y="409716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263920" y="294156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279440" y="4059360"/>
            <a:ext cx="9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ultilat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l Protoco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 Montre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234400" y="187164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1457280" y="297324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7253280" y="87804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bf5f9"/>
                </a:solidFill>
                <a:latin typeface="Times New Roman"/>
              </a:rPr>
              <a:t>IAs / 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7625880" y="1752480"/>
            <a:ext cx="65160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NU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7582680" y="364644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E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7603560" y="500220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7639920" y="456084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7584480" y="317016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A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7574400" y="12524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N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749880" y="6249960"/>
            <a:ext cx="40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/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traight Arrow Connector 29"/>
          <p:cNvCxnSpPr/>
          <p:nvPr/>
        </p:nvCxnSpPr>
        <p:spPr>
          <a:xfrm flipH="1">
            <a:off x="4800240" y="2209680"/>
            <a:ext cx="38160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Straight Arrow Connector 31"/>
          <p:cNvCxnSpPr/>
          <p:nvPr/>
        </p:nvCxnSpPr>
        <p:spPr>
          <a:xfrm flipH="1">
            <a:off x="4876200" y="190476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Straight Arrow Connector 36"/>
          <p:cNvCxnSpPr/>
          <p:nvPr/>
        </p:nvCxnSpPr>
        <p:spPr>
          <a:xfrm flipH="1">
            <a:off x="4952520" y="2209320"/>
            <a:ext cx="610560" cy="175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onstantia"/>
              </a:rPr>
              <a:t>Reseña de los procesos de selección del STAP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f0"/>
                </a:solidFill>
                <a:latin typeface="Constantia"/>
              </a:rPr>
              <a:t>Revisió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rsus </a:t>
            </a:r>
            <a:r>
              <a:rPr b="1" lang="en-US" sz="2600" spc="-1" strike="noStrike">
                <a:solidFill>
                  <a:srgbClr val="00b0f0"/>
                </a:solidFill>
                <a:latin typeface="Constantia"/>
              </a:rPr>
              <a:t>exa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tegorías de calificación del STAP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entimient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sión menor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sión may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Constantia"/>
              </a:rPr>
              <a:t>Secciones de la FIP que comúnmente son objeto de evaluación por el STAP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560" y="1934640"/>
            <a:ext cx="8381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co del proyecto (Parte I: B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ínea de base y la definición del problema (Parte II: B.1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tividades incrementales y beneficios ambientales mundiales (B.2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neficios socioeconómicos y de género en el contexto de los beneficios ambientales mundiales (B.3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esgos, incluidos los del cambio climático (B.4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esados clave (B.5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6680" indent="-49896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iciativas conexas (B.6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onstantia"/>
              </a:rPr>
              <a:t>Marco del proyecto: </a:t>
            </a:r>
            <a:r>
              <a:rPr b="0" lang="en-US" sz="3000" spc="-1" strike="noStrike">
                <a:solidFill>
                  <a:srgbClr val="04617b"/>
                </a:solidFill>
                <a:latin typeface="Constantia"/>
              </a:rPr>
              <a:t>Reseña indicativa desde la perspectiva del STAP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bjetivo del proyecto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 finalidad del proyecto y su designio de generar beneficios ambientales mundi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STAP: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¿El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objetivo es claro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congruente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 con la definición del problema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sultado del proyect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Los </a:t>
            </a: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efect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robables o alcanzados, a corto y a mediano plazo, del producto de una intervención (por ejemplo, “prácticas de gestión integrada de paisajes son adoptadas por  comunidades locales”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483480" indent="-483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STAP :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¿Los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resultados</a:t>
            </a:r>
            <a:r>
              <a:rPr b="0" i="1" lang="en-US" sz="2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incluyen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importantes beneficios mundiales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 y es </a:t>
            </a:r>
            <a:r>
              <a:rPr b="1" i="1" lang="en-US" sz="2200" spc="-1" strike="noStrike">
                <a:solidFill>
                  <a:srgbClr val="7030a0"/>
                </a:solidFill>
                <a:latin typeface="Constantia"/>
              </a:rPr>
              <a:t>probabl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que se generen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onstantia"/>
              </a:rPr>
              <a:t>Marco del proyecto: </a:t>
            </a:r>
            <a:r>
              <a:rPr b="0" lang="en-US" sz="3000" spc="-1" strike="noStrike">
                <a:solidFill>
                  <a:srgbClr val="04617b"/>
                </a:solidFill>
                <a:latin typeface="Constantia"/>
              </a:rPr>
              <a:t>Reseña indicativa desde la perspectiva del STAP (cont.)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fectos directos del proyect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nstantia"/>
              </a:rPr>
              <a:t>1,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s productos y servicios a que da lugar una intervención (por ejemplo,  “se elaboran y aplican herramientas y metodologías de manejo integrado de recursos naturales”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4440" indent="-5144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TAP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: ¿Es probable que la </a:t>
            </a:r>
            <a:r>
              <a:rPr b="1" i="1" lang="en-US" sz="2400" spc="-1" strike="noStrike">
                <a:solidFill>
                  <a:srgbClr val="04617b"/>
                </a:solidFill>
                <a:latin typeface="Constantia"/>
              </a:rPr>
              <a:t>suma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de los </a:t>
            </a:r>
            <a:r>
              <a:rPr b="1" i="1" lang="en-US" sz="2400" spc="-1" strike="noStrike">
                <a:solidFill>
                  <a:srgbClr val="04617b"/>
                </a:solidFill>
                <a:latin typeface="Constantia"/>
              </a:rPr>
              <a:t>producto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contribuya a los </a:t>
            </a:r>
            <a:r>
              <a:rPr b="1" i="1" lang="en-US" sz="2400" spc="-1" strike="noStrike">
                <a:solidFill>
                  <a:srgbClr val="04617b"/>
                </a:solidFill>
                <a:latin typeface="Constantia"/>
              </a:rPr>
              <a:t>resultado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as actividades que generan los productos y servicios pueden organizarse en grupos o componentes para lograr en la máxima medida posible la coordinación y calidad de los efectos directo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14440" indent="-514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14440" indent="-514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00"/>
                </a:solidFill>
                <a:latin typeface="Constantia"/>
              </a:rPr>
              <a:t>2 </a:t>
            </a: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Los indicadores de producto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os dicen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qu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vamos a </a:t>
            </a: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medi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no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lo que debe </a:t>
            </a: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lograrse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ejemplo: número de herramientas creada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9:33:50Z</dcterms:created>
  <dc:creator>gduron</dc:creator>
  <dc:description/>
  <dc:language>en-US</dc:language>
  <cp:lastModifiedBy>wb350798</cp:lastModifiedBy>
  <dcterms:modified xsi:type="dcterms:W3CDTF">2012-03-07T11:37:20Z</dcterms:modified>
  <cp:revision>244</cp:revision>
  <dc:subject/>
  <dc:title>Slide 1</dc:title>
</cp:coreProperties>
</file>