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A709-15A4-4CFA-B7C4-521F2FEA742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89F4-0C36-4495-A2F8-266D6F7F1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38EB-E610-4F89-B7A7-30E50A74B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4AF2-52C1-4BBB-9D9F-700EF1FDC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F1A0-701A-41C6-8CA8-11852685A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F952-42CF-497D-87FD-A723A1C71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FF1C-723D-45DD-97FD-2FDA03D30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17B4-5418-434A-B37F-8A1B7FA23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ABBF-C899-4593-97FC-EC5FBB5CFB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6E6B-6FCB-48F8-A52C-CB9A108A2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B781-7164-47FF-82CB-7BDF21F46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68FE-295B-44DC-93CF-993028585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7043-A47C-439B-B046-2C25CFE83A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5BD3-8B82-41C9-BD97-3CA98C986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2F6E-CE12-4C27-8BA6-BA46744F26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E3DD-DE82-4190-9C43-637B7B944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F9FA-81EE-484E-8FA1-033ACC69B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Tbilisi, Georg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June 22-2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6-05T16:31:26Z</dcterms:modified>
  <cp:revision>378</cp:revision>
  <dc:subject/>
  <dc:title>Slide 1</dc:title>
</cp:coreProperties>
</file>