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B925-95F3-41C3-8AA3-D8334CB744A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14A0-3A8B-4CC3-98AF-459C6E836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3F23-DEB1-4113-8216-2DBD9A1EC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485E-83ED-426D-94C7-4518311C5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3D98-164B-4373-A14F-376758CED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EB35-0826-43BC-A77C-3E70E2F46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B467-9050-49B8-AB78-1592BAF5B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1277-D98F-4D52-AF9D-1E250A303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D20A-A9C1-49D3-9CCE-DC86EDCE9F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F7F3-DE46-4781-B515-3E8A04D96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148F-99ED-43CC-980A-9C8EF2F99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F3C6-88D6-4A66-BB81-6CAB16F33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C9E5-C6B6-4197-9A27-97675311C3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8150-3439-469B-BC08-3E70DAEB9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D644-72A6-4573-BB01-CFA8B6F9C5D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A973-F0F1-4794-9F43-BF2EED634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809A-5839-4C0B-8894-14BDB52ED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Tbilisi, Georg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June 22-2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6-05T16:31:26Z</dcterms:modified>
  <cp:revision>378</cp:revision>
  <dc:subject/>
  <dc:title>Slide 1</dc:title>
</cp:coreProperties>
</file>