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4EB2-A251-4273-8598-08A0D52DF8F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2422-C9DD-4E6A-AC5C-F975B7495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5D4A-2CAC-4666-908F-60450B957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E09F-2545-4EE7-A9F7-2B4E96092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D153-9FB1-4365-A675-02E17619B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B63D-F005-4DF9-A801-1D2822E37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FF8C-C42D-4E3A-AB0B-9B4B2143E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A741-CCF6-4C58-A7AA-C89CEEDB4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A3AF-3A92-47A9-ABAA-3C94312F31F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C610-6368-4903-B877-C94EBF42D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7BB7-C8DF-4598-B7F7-C04191E8D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4D6B-D971-446C-B15D-D93300948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0788-05CD-411E-A918-88F479EA0B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8032-A57B-461A-A1C4-4BBA97345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89C4-DCC4-4D26-9E04-5494B51BAF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330E-9FC9-4759-8529-406FF7975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5C9E-3784-470E-8039-35581140C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Tbilisi, Georg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June 22-2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6-05T16:31:26Z</dcterms:modified>
  <cp:revision>378</cp:revision>
  <dc:subject/>
  <dc:title>Slide 1</dc:title>
</cp:coreProperties>
</file>