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D3F7-9B62-4040-8C7A-F46509FBEF8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F7C7-E38C-4C63-BA4A-692CDDA50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41E2-185D-4C8C-A995-72B63DC6B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87CC-8BDF-4F0A-9FDE-E4DDCEE43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7F00-DA98-46F2-B4A6-CC326A999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B123-AB05-4071-93F4-AF2FBF650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32BF-6302-4D63-B513-335D8ABA5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524E-0820-48CE-BE53-DD504F1BC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FBD9-7824-4CC4-B0A0-140EC8B4A3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B46B-D386-463A-A00C-9B54E7AB7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4DEC-8578-4087-AE8D-09B3E2920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6594-5AD1-422A-8AB6-0BCED5E65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AFFE-B39A-4E23-BDB0-1842FBD636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C54D-334F-47A6-B2EF-FAC65859A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0E12-F604-4DD4-9B7A-A28CB28409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78F1-791C-439C-A6E8-B0EFCA0A7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76BF-AC5A-47DD-8853-F0EA49CAD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GEF Expanded Constituency Workshop</a:t>
            </a:r>
            <a:endParaRPr b="0" lang="en-US" sz="3200" spc="-1" strike="noStrike">
              <a:solidFill>
                <a:srgbClr val="000000"/>
              </a:solidFill>
              <a:latin typeface="Calibri"/>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ombo, Sri Lank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ch 17-19, 20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Camila Perez Gabilondo</cp:lastModifiedBy>
  <cp:lastPrinted>2015-01-21T13:27:28Z</cp:lastPrinted>
  <dcterms:modified xsi:type="dcterms:W3CDTF">2015-03-16T01:48:01Z</dcterms:modified>
  <cp:revision>375</cp:revision>
  <dc:subject/>
  <dc:title>Slide 1</dc:title>
</cp:coreProperties>
</file>