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D9B5-99E3-4C7E-9919-209FDD8A58F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3E99-F2E7-4C35-BD1A-FAB845E8B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1361-0069-4467-AB47-A1955AF9D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8911-85B9-4B01-9279-D6EC7A44D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66A9-02DA-4BC8-BF79-77626112F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D4A4-A4BD-467A-9371-433B82E69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9356-3581-498F-AD5B-B40D81E99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80B8-3F47-40B8-9565-B65D35EB7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8A72-6BA7-43E0-9956-C0115C7E2F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2CE1-21BE-4B53-B532-9E6238FAB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8BB6-0859-4C1C-957B-A0E420C06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2C3E-F5B0-4CB9-BE80-10D04FDEF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94F1-561D-4F5F-98CA-9E8E139A16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A60A-6295-4241-84EF-66818092F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7C4C-B322-4DAF-AE28-5A41840211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B88B-FB8D-43D9-8F0F-EBF51EF44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4C41-B3E3-4E3D-B634-25B500451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GEF Expanded Constituency Workshop</a:t>
            </a:r>
            <a:endParaRPr b="0" lang="en-US" sz="3200" spc="-1" strike="noStrike">
              <a:solidFill>
                <a:srgbClr val="000000"/>
              </a:solidFill>
              <a:latin typeface="Calibri"/>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ombo, Sri Lank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ch 17-19, 2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Camila Perez Gabilondo</cp:lastModifiedBy>
  <cp:lastPrinted>2015-01-21T13:27:28Z</cp:lastPrinted>
  <dcterms:modified xsi:type="dcterms:W3CDTF">2015-03-16T01:48:01Z</dcterms:modified>
  <cp:revision>375</cp:revision>
  <dc:subject/>
  <dc:title>Slide 1</dc:title>
</cp:coreProperties>
</file>