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6323-4341-4F3B-9A34-701FC5AF874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EEE7-F6A5-413D-83D7-1AAB541A943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084F-DE4C-444F-A9C9-A5D3632D6D7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74E2-2FE7-4D3C-A0BA-15F4B66DE97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59A-2482-4962-9088-EF8BA6FE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1E6-72B2-425E-AD17-5A558056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323E-7B5D-4063-AB61-B1EF1B9F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78F-A813-4D0C-8069-C43EEA17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BFC3-369A-42BA-82F2-0AF7FE2A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9320-5246-41B9-ACAD-5BED23E9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6143-99A5-45D7-B3F8-1A121F9A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FB91-4A36-4B56-8F3B-FB45B88E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757B-CA3F-4C24-9A3D-12CE4E40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FCA7-9650-47B9-A4E9-A80EA3FF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1F61-0D55-4896-A1FA-F90C6E25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718-4C0D-4CF8-9EFB-945632CC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A180-0545-473D-9A27-72051A30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7F7D-9F7E-419C-9FC5-A55B562F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408B-7DA4-4981-B748-4A931E99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2D20-03A6-403A-ADF4-ABC065DE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FC51-4211-4D06-8933-E89C9696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ED45E-A205-4F36-A2B3-0EDEED94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3809D-B869-4942-9BA5-25EB15CE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0DB14-1F2B-49B7-879F-5C780DCA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0D13D-9C38-44C8-BE62-5DD3B53F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66337-91A0-4FA0-B93F-6095F3AD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A3B-1D44-46CA-B87F-5E6CAA90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856AD-48A2-459E-BDEA-A7F070C7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48D8A-154E-47F0-BCC1-2D9AB09C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7EE1D-472D-44A2-B07E-72BA28B2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44417-0B72-4614-867F-F87709B6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D41C3-C764-40FE-AE63-E493055F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9F3A7-DCA7-49FB-BEE9-11EB53AE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2DE68-661E-4E33-87DF-2E7C69C9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913B1-D627-41D9-ABDD-95718C82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C5F4D-87EC-4AF4-A51B-2BF879AA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4F3CB-1542-4A96-BB1F-51046C35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67C-A705-46FB-9CBC-589CF633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35F0A-2F74-49E9-9195-80A0DC32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5B70E-EE0E-46BA-8DF3-D9277FDE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DE04F-1C6E-4BBE-A130-1D40CDFF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C72DB-30CD-4277-A1F0-98FF5937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492E7-267F-4262-90E0-1ECC81A7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39F39-4D44-434F-8F0C-36137E83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35F7E-6AAF-4F91-BFB8-047378CF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3B902-495D-4F49-88D4-9EBA2CB1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F3B42-195A-442D-A046-37C7A4F4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854-5E33-46D5-B556-C9C7035A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075E-E0A0-4736-A9E0-542986DA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361-8482-4FF2-9381-C018842F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262E-AFD0-44F2-BC59-35F463D4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6AF-63FA-4CF6-89A2-FF44D256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6F82-FA00-47AE-9F59-4F604A6985B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EAA4-0ACC-4DC4-A6F2-05EB3C82840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95B7-3C1D-49D7-95D5-23D60776C5A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330C-BC7D-41E6-AFC2-E555BD9E7F3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google.ca/url?sa=i&amp;source=images&amp;cd=&amp;docid=8tTz2gOi3Ezf4M&amp;tbnid=DCzhVKANQnsODM:&amp;ved=0CAgQjRwwAA&amp;url=http%3A%2F%2F3blmedia.com%2FCSR-Profiles%2FUnited-Nations-Convention-Combat-Desertification-UNCCD&amp;ei=cSgMUYjdD4i60QHxg4CYBA&amp;psig=AFQjCNEfR6puls2FKzMG-5yQ9Qg01q750Q&amp;ust=1359837681297646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hyperlink" Target="http://www.google.ca/imgres?imgurl=http://www.unutki.org/downloads/Image/Meetings/cbd-logo-web-green-en.jpg&amp;imgrefurl=http://www.unutki.org/default.php?doc_id%3D186&amp;h=200&amp;w=500&amp;sz=33&amp;tbnid=vzrdawZGafkM7M:&amp;tbnh=47&amp;tbnw=118&amp;prev=/search%3Fq%3DCBD%2Blogo%26tbm%3Disch%26tbo%3Du&amp;zoom=1&amp;q=CBD+logo&amp;usg=__qpc9Vw8BnGfWCHIqKNWBq-JZmfE=&amp;docid=bZYNRX_3pTW7EM&amp;sa=X&amp;ei=KycMUaPwEOuM0QGUooCQCQ&amp;ved=0CEwQ9QEwAw&amp;dur=1440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8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469800" y="1365120"/>
            <a:ext cx="8266320" cy="26402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4941720"/>
            <a:ext cx="7854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pic28945"/>
          <p:cNvPicPr/>
          <p:nvPr/>
        </p:nvPicPr>
        <p:blipFill>
          <a:blip r:embed="rId2"/>
          <a:stretch/>
        </p:blipFill>
        <p:spPr>
          <a:xfrm>
            <a:off x="6443640" y="5877000"/>
            <a:ext cx="2185920" cy="500040"/>
          </a:xfrm>
          <a:prstGeom prst="rect">
            <a:avLst/>
          </a:prstGeom>
          <a:ln w="0">
            <a:noFill/>
          </a:ln>
        </p:spPr>
      </p:pic>
      <p:pic>
        <p:nvPicPr>
          <p:cNvPr id="205" name="irc_mi" descr="UNCCD%20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5519880"/>
            <a:ext cx="1441440" cy="919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195640" y="5950080"/>
            <a:ext cx="2474640" cy="450720"/>
          </a:xfrm>
          <a:prstGeom prst="rect">
            <a:avLst/>
          </a:prstGeom>
          <a:ln w="0">
            <a:noFill/>
          </a:ln>
        </p:spPr>
      </p:pic>
      <p:pic>
        <p:nvPicPr>
          <p:cNvPr id="207" name="rg_hi" descr="ANd9GcSNhrX5XdgdIi6Y4kPBvyj9dj047zivDNJlLI0ec-c1hvYXoot4gw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1280" y="5877000"/>
            <a:ext cx="152064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39640" y="6237360"/>
            <a:ext cx="19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11280" y="765000"/>
            <a:ext cx="7489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 2:  Peatlands (Global issu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% of the Earth surface- 4 million km</a:t>
            </a:r>
            <a:r>
              <a:rPr b="1" lang="en-CA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ith peat of 30c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10 million  km</a:t>
            </a:r>
            <a:r>
              <a:rPr b="1" lang="en-CA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ith peat &lt; 30c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of global freshwater resourc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611280" y="1773360"/>
            <a:ext cx="712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ealthy Peatlands/wetlands provide myriad benef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rient &amp; toxicant assimilation and carbon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od attenuation, erosion control, sediment trappin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, harvestable resources and cultivated food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ation to CC – Buffer to natural disasters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7632720" cy="31669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"/>
          <p:cNvSpPr/>
          <p:nvPr/>
        </p:nvSpPr>
        <p:spPr>
          <a:xfrm>
            <a:off x="468360" y="26028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en-C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dentification of Area and Integrated Project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fforts to Enhance Coordination and Synerg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964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three Rio conventions foresee and promote the creation of synergies between them for their harmonized implementatio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 joint Liaison Group (JLG) between UNFCCC, CBD UNCCD since 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d Hoc technical expert group (AHTEG) on CC and BD …since 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GEF’s Efforts while fulfilling its own Mandate and COP Guidance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umerous projects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Y WORKSHOPS, COP DECISIONS, AHTEGs AND PRESENTATIONS </a:t>
            </a:r>
            <a:r>
              <a:rPr b="1" lang="en-CA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UT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Y LITTLE RESULTS ON THE GROU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xercise session on Synergy between the Convent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keholders will be invited to present the reality on the ground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w the Conventions are implemented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actions are taken to promote synergies both at institutional (between the ministries involved in implementation of the Conventions)  and operational levels (concrete projects and programmes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are the hindrances to the effective materialization of  such synergie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best practices can be identified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EF –ECW gives unique opportunity to discuss Synergy among the Rio Conventions as it gath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io Convention Focal Point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EF Operational Focal Points, 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presentatives of the Civil Socie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ge opportunity to discuss cross-cutting issues for all Convention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Objectives and Expected Outcome of the Exercise Session on Synerg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have concrete recommendations coming from the main actors of the implementation of the Rio Conventions present at this ECW on how to develop concrete synergies between the Rio Convention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XPECTED OUTCOM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commendations that Focal Points will  take to their Ministrie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cord of the recommendations in the ECW minutes for use in other ECW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ecretariats will compile all of the recommendations on how to achieve synergies from all ECWs and make them available for use by all stakehold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How the Exercise Session will take place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3964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irst Part: </a:t>
            </a:r>
            <a:r>
              <a:rPr b="1" lang="en-US" sz="1800" spc="-1" strike="noStrike">
                <a:solidFill>
                  <a:srgbClr val="0070c0"/>
                </a:solidFill>
                <a:latin typeface="Constantia"/>
              </a:rPr>
              <a:t>Work groups, the participants are divided by countries. Identifying similarities, duplications, opportunities for synergies in NAP, NAPA and NBSAP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focal points present priorities of their respective NAP, NAPA and NBSAP and how the foreseen actions are implemented and financed. (10mn each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scussion to identify the main and pressing similarities, duplications, overlapping activities what could be jointly implement, what are the hindrance to such joint implement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rap-up of the discussions identifying and writing on pap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art Two: Wrap-Up and Clustering of issu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art Three: Presentation and Approval of recommendation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PRACTICAL EXERCISE ON SYNERGY FOLLOW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1" descr=""/>
          <p:cNvPicPr/>
          <p:nvPr/>
        </p:nvPicPr>
        <p:blipFill>
          <a:blip r:embed="rId1"/>
          <a:stretch/>
        </p:blipFill>
        <p:spPr>
          <a:xfrm>
            <a:off x="901800" y="3651120"/>
            <a:ext cx="7559640" cy="1036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4920" y="2421000"/>
            <a:ext cx="7991640" cy="151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3" descr="present"/>
          <p:cNvPicPr/>
          <p:nvPr/>
        </p:nvPicPr>
        <p:blipFill>
          <a:blip r:embed="rId2"/>
          <a:stretch/>
        </p:blipFill>
        <p:spPr>
          <a:xfrm>
            <a:off x="755640" y="981000"/>
            <a:ext cx="1944720" cy="1943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5" name="Picture 1" descr="future"/>
          <p:cNvPicPr/>
          <p:nvPr/>
        </p:nvPicPr>
        <p:blipFill>
          <a:blip r:embed="rId3"/>
          <a:stretch/>
        </p:blipFill>
        <p:spPr>
          <a:xfrm>
            <a:off x="6875640" y="836640"/>
            <a:ext cx="2016000" cy="1955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6" name="Rectangle 5"/>
          <p:cNvSpPr/>
          <p:nvPr/>
        </p:nvSpPr>
        <p:spPr>
          <a:xfrm>
            <a:off x="611280" y="6021360"/>
            <a:ext cx="21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icture credit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Dubrovsky,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rg_hi" descr="ANd9GcSNhrX5XdgdIi6Y4kPBvyj9dj047zivDNJlLI0ec-c1hvYXoot4gw"/>
          <p:cNvPicPr/>
          <p:nvPr/>
        </p:nvPicPr>
        <p:blipFill>
          <a:blip r:embed="rId4"/>
          <a:stretch/>
        </p:blipFill>
        <p:spPr>
          <a:xfrm>
            <a:off x="611280" y="5300640"/>
            <a:ext cx="1520640" cy="614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268360" y="5373720"/>
            <a:ext cx="2473560" cy="450720"/>
          </a:xfrm>
          <a:prstGeom prst="rect">
            <a:avLst/>
          </a:prstGeom>
          <a:ln w="0">
            <a:noFill/>
          </a:ln>
        </p:spPr>
      </p:pic>
      <p:pic>
        <p:nvPicPr>
          <p:cNvPr id="279" name="irc_mi" descr="UNCCD%20logo"/>
          <p:cNvPicPr/>
          <p:nvPr/>
        </p:nvPicPr>
        <p:blipFill>
          <a:blip r:embed="rId6"/>
          <a:stretch/>
        </p:blipFill>
        <p:spPr>
          <a:xfrm>
            <a:off x="4859280" y="5084640"/>
            <a:ext cx="1441440" cy="919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pic28945"/>
          <p:cNvPicPr/>
          <p:nvPr/>
        </p:nvPicPr>
        <p:blipFill>
          <a:blip r:embed="rId7"/>
          <a:stretch/>
        </p:blipFill>
        <p:spPr>
          <a:xfrm>
            <a:off x="6443640" y="5373720"/>
            <a:ext cx="21859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C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implified Vicious Circle of Cross-effects of </a:t>
            </a:r>
            <a:br>
              <a:rPr sz="2000"/>
            </a:br>
            <a:r>
              <a:rPr b="1" lang="en-C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limate change, Desertification and Biodiversity Loss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45440" cy="30956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210" name="Rectangle 7"/>
          <p:cNvSpPr/>
          <p:nvPr/>
        </p:nvSpPr>
        <p:spPr>
          <a:xfrm>
            <a:off x="755640" y="4365720"/>
            <a:ext cx="80643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C, LDD (including water quantity and quality problems) and BD Lo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x Interlinkag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greatest challenges to Sustainable Development;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huge threat to Life on 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y Impact each other Directly or Indirectly  &amp; through their Inter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mportant Linkages between BD Loss, CC, LD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28280"/>
            <a:ext cx="822960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Unsustainable use of resour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n BD, CC, L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limate chan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cerbates Current Situations of LDD and BD Loss </a:t>
            </a:r>
            <a:r>
              <a:rPr b="1" lang="en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d vulnerabil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rbon and Water Cycl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wo large-scale processes crucial for life on Earth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 on biodivers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iodiversity can help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resilience to the effects of climate change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at land degradation and desertification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viate poverty to which it is strongly linke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ge opportunity for Proactive, Coherent, Holistic and Integrated Strategies and Measures: Joint Projects on the ground and Policy fora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ndividual/Isolated Activities and Response Measur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539640" y="3716280"/>
            <a:ext cx="820908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any Global Environment Treaties &amp; Goals Developed in a Fragmented w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olated Activities and Responses unless necessary, tend to lea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cost-effectivene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den for Parties in terms of fulfilling obligations and reporting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ies of unintended negative indirect impacts and externaliti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to account for changing population size and dynam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contribution/impact to global environmental goods and servic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ed for Synergy and Integrated Projects wher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480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Vision of Coherent, Holistic and Integrated Projec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Vision: Efficiently enhance multiple benefits b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ynergistically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bining activities and efforts of the Conventions; a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eting the Conventions’ overall objectiv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ithout wastage of resources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 a way that produces synergistic value-added benefits at local, national and global level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ith appropriate institutional arrangement and communication protocols with respect to NAP, NAPA, NBSAP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verse the Vicious Circle of Cross-effects and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et  the Objectives and Strategic Plans, and fulfil the mandat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UN recogniz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interdependence</a:t>
            </a:r>
            <a:r>
              <a:rPr b="0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f the Conventions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strong synergies between their efforts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complementary nature of their activities that underpins the need for a holistic, coordinated and integrated approach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Rationale for Integrated Projects and Challen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9280" y="1197000"/>
            <a:ext cx="820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ationale for Synergy and Integrated Projects: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y well known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d Management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Tools (M&amp;E, indicators, tracking) and Information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duplication of effort and unintended negative impact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Efficiently and Cost and Risk Sharing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ion of indigenous and local communities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undue burde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provision of support, capacity building, and enabling activitie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benefits at local, national and global levels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sign and implementation</a:t>
            </a:r>
            <a:r>
              <a:rPr b="0" i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f Integrated Projects/Activitie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alize the principles laid out in Rio+20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eet the Strategic Goals, Targets  and Plans of the Convention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line with GEF’s Strategic Goals and its Guidance to COP...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inking</a:t>
            </a:r>
            <a:r>
              <a:rPr b="0" i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o local actor’s activities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ccounting for best practices and gender focussed traditional knowledge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volving  relevant stakeholders without undue burden and fatigue,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ing institutional arrangements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</a:t>
            </a:r>
            <a:r>
              <a:rPr b="0" lang="en-C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riad of Benefits but Little Clear Guidance Available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Oval 19"/>
          <p:cNvGrpSpPr/>
          <p:nvPr/>
        </p:nvGrpSpPr>
        <p:grpSpPr>
          <a:xfrm>
            <a:off x="4614840" y="755640"/>
            <a:ext cx="3340080" cy="3335400"/>
            <a:chOff x="4614840" y="755640"/>
            <a:chExt cx="3340080" cy="3335400"/>
          </a:xfrm>
        </p:grpSpPr>
        <p:pic>
          <p:nvPicPr>
            <p:cNvPr id="221" name="Oval 19" descr=""/>
            <p:cNvPicPr/>
            <p:nvPr/>
          </p:nvPicPr>
          <p:blipFill>
            <a:blip r:embed="rId1"/>
            <a:stretch/>
          </p:blipFill>
          <p:spPr>
            <a:xfrm>
              <a:off x="4614840" y="755640"/>
              <a:ext cx="3340080" cy="33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rot="13501800">
              <a:off x="5353560" y="1116720"/>
              <a:ext cx="1854000" cy="25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7"/>
          <p:cNvSpPr/>
          <p:nvPr/>
        </p:nvSpPr>
        <p:spPr>
          <a:xfrm>
            <a:off x="755640" y="260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Coordinated, Holistic and Integrated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Oval 4"/>
          <p:cNvGrpSpPr/>
          <p:nvPr/>
        </p:nvGrpSpPr>
        <p:grpSpPr>
          <a:xfrm>
            <a:off x="4041720" y="1427040"/>
            <a:ext cx="2835360" cy="3151440"/>
            <a:chOff x="4041720" y="1427040"/>
            <a:chExt cx="2835360" cy="3151440"/>
          </a:xfrm>
        </p:grpSpPr>
        <p:pic>
          <p:nvPicPr>
            <p:cNvPr id="225" name="Oval 4" descr=""/>
            <p:cNvPicPr/>
            <p:nvPr/>
          </p:nvPicPr>
          <p:blipFill>
            <a:blip r:embed="rId2"/>
            <a:stretch/>
          </p:blipFill>
          <p:spPr>
            <a:xfrm>
              <a:off x="4041720" y="1427040"/>
              <a:ext cx="2835360" cy="31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5400000">
              <a:off x="4412520" y="2029680"/>
              <a:ext cx="2087280" cy="18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Oval 9"/>
          <p:cNvGrpSpPr/>
          <p:nvPr/>
        </p:nvGrpSpPr>
        <p:grpSpPr>
          <a:xfrm>
            <a:off x="4614840" y="1182600"/>
            <a:ext cx="3340080" cy="2809800"/>
            <a:chOff x="4614840" y="1182600"/>
            <a:chExt cx="3340080" cy="2809800"/>
          </a:xfrm>
        </p:grpSpPr>
        <p:pic>
          <p:nvPicPr>
            <p:cNvPr id="228" name="Oval 9" descr=""/>
            <p:cNvPicPr/>
            <p:nvPr/>
          </p:nvPicPr>
          <p:blipFill>
            <a:blip r:embed="rId3"/>
            <a:stretch/>
          </p:blipFill>
          <p:spPr>
            <a:xfrm>
              <a:off x="4614840" y="1182600"/>
              <a:ext cx="33400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 rot="1132200">
              <a:off x="5149440" y="1655640"/>
              <a:ext cx="22701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Oval 10"/>
          <p:cNvGrpSpPr/>
          <p:nvPr/>
        </p:nvGrpSpPr>
        <p:grpSpPr>
          <a:xfrm>
            <a:off x="3200400" y="762120"/>
            <a:ext cx="3303720" cy="2987640"/>
            <a:chOff x="3200400" y="762120"/>
            <a:chExt cx="3303720" cy="2987640"/>
          </a:xfrm>
        </p:grpSpPr>
        <p:pic>
          <p:nvPicPr>
            <p:cNvPr id="231" name="Oval 10" descr=""/>
            <p:cNvPicPr/>
            <p:nvPr/>
          </p:nvPicPr>
          <p:blipFill>
            <a:blip r:embed="rId4"/>
            <a:stretch/>
          </p:blipFill>
          <p:spPr>
            <a:xfrm>
              <a:off x="3200400" y="762120"/>
              <a:ext cx="330372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 rot="20457000">
              <a:off x="3738240" y="1244160"/>
              <a:ext cx="222408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8"/>
          <p:cNvGrpSpPr/>
          <p:nvPr/>
        </p:nvGrpSpPr>
        <p:grpSpPr>
          <a:xfrm>
            <a:off x="250920" y="1844640"/>
            <a:ext cx="2736720" cy="762840"/>
            <a:chOff x="250920" y="1844640"/>
            <a:chExt cx="2736720" cy="762840"/>
          </a:xfrm>
        </p:grpSpPr>
        <p:grpSp>
          <p:nvGrpSpPr>
            <p:cNvPr id="234" name="Rektangel 128"/>
            <p:cNvGrpSpPr/>
            <p:nvPr/>
          </p:nvGrpSpPr>
          <p:grpSpPr>
            <a:xfrm>
              <a:off x="250920" y="1844640"/>
              <a:ext cx="2549880" cy="738360"/>
              <a:chOff x="250920" y="1844640"/>
              <a:chExt cx="2549880" cy="738360"/>
            </a:xfrm>
          </p:grpSpPr>
          <p:pic>
            <p:nvPicPr>
              <p:cNvPr id="235" name="Rektangel 128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1844640"/>
                <a:ext cx="2549880" cy="7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287640" y="1874160"/>
                <a:ext cx="2423160" cy="62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Rektangel 63"/>
            <p:cNvSpPr/>
            <p:nvPr/>
          </p:nvSpPr>
          <p:spPr>
            <a:xfrm>
              <a:off x="356760" y="1874160"/>
              <a:ext cx="2630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UNFCCC Projects : CC Strategic Objectives, NAPs, NAPAs, NAMA’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8"/>
          <p:cNvGrpSpPr/>
          <p:nvPr/>
        </p:nvGrpSpPr>
        <p:grpSpPr>
          <a:xfrm>
            <a:off x="250920" y="2781360"/>
            <a:ext cx="2520720" cy="738000"/>
            <a:chOff x="250920" y="2781360"/>
            <a:chExt cx="2520720" cy="738000"/>
          </a:xfrm>
        </p:grpSpPr>
        <p:grpSp>
          <p:nvGrpSpPr>
            <p:cNvPr id="239" name="Rektangel 128"/>
            <p:cNvGrpSpPr/>
            <p:nvPr/>
          </p:nvGrpSpPr>
          <p:grpSpPr>
            <a:xfrm>
              <a:off x="250920" y="2785320"/>
              <a:ext cx="2520720" cy="734040"/>
              <a:chOff x="250920" y="2785320"/>
              <a:chExt cx="2520720" cy="734040"/>
            </a:xfrm>
          </p:grpSpPr>
          <p:pic>
            <p:nvPicPr>
              <p:cNvPr id="240" name="Rektangel 128" descr=""/>
              <p:cNvPicPr/>
              <p:nvPr/>
            </p:nvPicPr>
            <p:blipFill>
              <a:blip r:embed="rId6"/>
              <a:stretch/>
            </p:blipFill>
            <p:spPr>
              <a:xfrm>
                <a:off x="250920" y="2785320"/>
                <a:ext cx="252072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286200" y="2816640"/>
                <a:ext cx="239652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Rektangel 63"/>
            <p:cNvSpPr/>
            <p:nvPr/>
          </p:nvSpPr>
          <p:spPr>
            <a:xfrm>
              <a:off x="385920" y="2781360"/>
              <a:ext cx="209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CBD Projects: BD Aichi Targets &amp; Strategic Plan &amp; ABS and Biosafe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8"/>
          <p:cNvGrpSpPr/>
          <p:nvPr/>
        </p:nvGrpSpPr>
        <p:grpSpPr>
          <a:xfrm>
            <a:off x="324000" y="3645000"/>
            <a:ext cx="2519280" cy="828000"/>
            <a:chOff x="324000" y="3645000"/>
            <a:chExt cx="2519280" cy="828000"/>
          </a:xfrm>
        </p:grpSpPr>
        <p:grpSp>
          <p:nvGrpSpPr>
            <p:cNvPr id="244" name="Rektangel 128"/>
            <p:cNvGrpSpPr/>
            <p:nvPr/>
          </p:nvGrpSpPr>
          <p:grpSpPr>
            <a:xfrm>
              <a:off x="324000" y="3645000"/>
              <a:ext cx="2519280" cy="811080"/>
              <a:chOff x="324000" y="3645000"/>
              <a:chExt cx="2519280" cy="811080"/>
            </a:xfrm>
          </p:grpSpPr>
          <p:pic>
            <p:nvPicPr>
              <p:cNvPr id="245" name="Rektangel 128" descr=""/>
              <p:cNvPicPr/>
              <p:nvPr/>
            </p:nvPicPr>
            <p:blipFill>
              <a:blip r:embed="rId7"/>
              <a:stretch/>
            </p:blipFill>
            <p:spPr>
              <a:xfrm>
                <a:off x="324000" y="3645000"/>
                <a:ext cx="251928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360360" y="3676680"/>
                <a:ext cx="2395440" cy="69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Rektangel 63"/>
            <p:cNvSpPr/>
            <p:nvPr/>
          </p:nvSpPr>
          <p:spPr>
            <a:xfrm>
              <a:off x="430200" y="3739680"/>
              <a:ext cx="239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Other MEA, National... Projects: variou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Strategic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8"/>
          <p:cNvGrpSpPr/>
          <p:nvPr/>
        </p:nvGrpSpPr>
        <p:grpSpPr>
          <a:xfrm>
            <a:off x="250920" y="880920"/>
            <a:ext cx="2736720" cy="1012680"/>
            <a:chOff x="250920" y="880920"/>
            <a:chExt cx="2736720" cy="1012680"/>
          </a:xfrm>
        </p:grpSpPr>
        <p:grpSp>
          <p:nvGrpSpPr>
            <p:cNvPr id="249" name="Rektangel 128"/>
            <p:cNvGrpSpPr/>
            <p:nvPr/>
          </p:nvGrpSpPr>
          <p:grpSpPr>
            <a:xfrm>
              <a:off x="250920" y="880920"/>
              <a:ext cx="2610000" cy="801720"/>
              <a:chOff x="250920" y="880920"/>
              <a:chExt cx="2610000" cy="801720"/>
            </a:xfrm>
          </p:grpSpPr>
          <p:pic>
            <p:nvPicPr>
              <p:cNvPr id="250" name="Rektangel 128" descr=""/>
              <p:cNvPicPr/>
              <p:nvPr/>
            </p:nvPicPr>
            <p:blipFill>
              <a:blip r:embed="rId8"/>
              <a:stretch/>
            </p:blipFill>
            <p:spPr>
              <a:xfrm>
                <a:off x="250920" y="880920"/>
                <a:ext cx="261000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87640" y="913320"/>
                <a:ext cx="2484360" cy="68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Rektangel 63"/>
            <p:cNvSpPr/>
            <p:nvPr/>
          </p:nvSpPr>
          <p:spPr>
            <a:xfrm>
              <a:off x="358200" y="939600"/>
              <a:ext cx="262944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UNCCD Projects : LDD Strategic Objectives &amp; Plan 2008-2018; Rio approved plan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22"/>
          <p:cNvSpPr/>
          <p:nvPr/>
        </p:nvSpPr>
        <p:spPr>
          <a:xfrm>
            <a:off x="684360" y="4508640"/>
            <a:ext cx="720072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A synergistically </a:t>
            </a: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Integrated Projec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elps achieve selected objectives of the Conventions simultaneously (</a:t>
            </a:r>
            <a:r>
              <a:rPr b="1" lang="en-US" sz="1600" spc="-1" strike="noStrike">
                <a:solidFill>
                  <a:srgbClr val="00b0f0"/>
                </a:solidFill>
                <a:latin typeface="Times New Roman"/>
                <a:ea typeface="ＭＳ Ｐゴシック"/>
              </a:rPr>
              <a:t>Intersection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 – </a:t>
            </a:r>
            <a:r>
              <a:rPr b="1" lang="en-C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ages between the Conventions become substantial where the need for enhanced cooperation is crucial to maximize the potential implementation of the Convention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Individual/Isolated project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quir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measur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avoid unintended negative impacts on each other’s objectives and facilitate co-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dentification of Area and Integrated Projects</a:t>
            </a:r>
            <a:br>
              <a:rPr sz="2400"/>
            </a:b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for Implement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tegrated Project Selec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here &amp; which CC, LD or BD loss impacts are most critical to address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 </a:t>
            </a: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ority to areas of high vulnerability and critical for environmental integrity for the  provision of ecosystem goods and services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Projects of high potential multiple benefits/co-benefits &amp;</a:t>
            </a:r>
            <a:r>
              <a:rPr b="1" i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eviation of Poverty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uman potential response, participatio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Gender, Traditional Knowledge, Best Practices…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dentify goals and possible benefits and expected outcome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Short, medium and long-term results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ddress current data/knowledge gaps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for baseline, indicators, M&amp;E tools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stimate resource requirements: Feasibility, cost and source of fundi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vailability of resources accounting for all sources..</a:t>
            </a:r>
            <a:r>
              <a:rPr b="0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unding sources (ex. GEF and co-financing) and Partnerships possibilities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omestic sources of funding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in Risk Condition</a:t>
            </a:r>
            <a:r>
              <a:rPr b="0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efficient management and life cycle project reviews, clear objectives,  and M&amp;E tools and outcome indicators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in criteria</a:t>
            </a:r>
            <a:r>
              <a:rPr b="0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ty consideratio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ional compatibility of policy combinations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cost and long-term environmental effectivenes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dentification of Area and Integrated Projects (Cont.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83664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 1. Drylands (Global issu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1.3% of land surface of the Earth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 of 25 global hotspots</a:t>
            </a:r>
            <a:r>
              <a:rPr b="0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6% of Global Population (2.1 billion people) –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0% in Developing Countries, 84 % in Grasslands and Rangelands and 50% below poverty line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4% of the World’s cultivated System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Content Placeholder 3" descr=""/>
          <p:cNvPicPr/>
          <p:nvPr/>
        </p:nvPicPr>
        <p:blipFill>
          <a:blip r:embed="rId1"/>
          <a:stretch/>
        </p:blipFill>
        <p:spPr>
          <a:xfrm>
            <a:off x="542880" y="2481120"/>
            <a:ext cx="827712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19:57:25Z</dcterms:created>
  <dc:creator>Edji-CAD</dc:creator>
  <dc:description/>
  <dc:language>en-US</dc:language>
  <cp:lastModifiedBy>Maria Camila Perez Gabilondo</cp:lastModifiedBy>
  <dcterms:modified xsi:type="dcterms:W3CDTF">2013-11-13T17:44:14Z</dcterms:modified>
  <cp:revision>631</cp:revision>
  <dc:subject/>
  <dc:title>GEF Expanded Constituency Workshop (ECW) Honduras – February 19-21, 2013</dc:title>
</cp:coreProperties>
</file>