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A5EB-4631-4BAA-B67B-75BAF0AF99B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A8BB-79CD-4267-BA44-44EB9E86F68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FD5F-34D4-4921-AFB0-1E61EAE9ABC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F2B9-2303-4A0A-BD74-DB7AD352791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540-D59C-4D3F-A885-ADF25445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359-4F8B-4D63-8F10-C3BD9C37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C8A-1312-4FF7-94C2-373CA5A7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B1F-9F70-4626-986D-AEC2205E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1F87-9F98-4648-8084-9C6AB1E7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E4FE-B7A0-47C6-93C0-06F5F4B6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1201-D7B3-4180-B5F3-7675EB2D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D1FC-6D97-4F70-83EE-16DE0C73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D2AE-BED5-4F62-8F01-255E2640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919B-4D67-486E-AA53-C2E1D4F1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874E-F2B6-4D45-8BCC-B83DC563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6E0-FBFF-432C-A509-3B3B8A66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ADE4-4FF5-4B54-A71E-4926AF1F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EEF4-8942-414E-A784-8A97F82B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81C9-8C4C-4F73-808F-5B18089E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B279-67B0-492C-8FA3-35A82219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1783-84BE-44F3-B873-4CBD15D3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35648-F679-487E-8254-0BFDB54D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37B0-7450-4799-9575-122E394A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7844-B781-444A-B6B9-DE92987C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D078-0F02-4178-B300-1459850F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8B04-2140-4EEA-BA8D-69E31928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C80-1271-4870-9347-84B0EC21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9923-FEFA-4042-971F-F7654933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E0C70-03B3-45F8-A24C-4B582D25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62FE-82DE-4216-A9CA-EA76E48B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0877-6342-43A2-8B9B-34035367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D350-67ED-465E-99A7-76AC45C4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DDF0-900D-4611-BF74-B4FD2E52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E5D5-8C63-4531-92BB-6D390B93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3C2B-1AC2-45C3-BAEE-C3559A2F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68DF-458D-48D9-ABCB-21CA7BA8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BCFA-E2A5-46B0-B6C4-B71BD85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664-8334-4905-BD1F-E05FBF06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CF6F-B188-4682-B82F-23801880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2A99-1041-446C-B3DE-2316BD26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5E40-E8D1-4FD8-8216-2880AB47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521F3-B333-4774-BB3B-085AAA91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8DD46-627F-4B41-AB67-36F5035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F4F35-CAB5-4089-9FDD-B72245F0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E8A1-977D-49D4-B298-413C2340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BEF6-B809-4B73-92F0-1D9828F5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1671-30D4-4ABC-82F5-882A7CB6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55F-9742-47E8-8F94-993D1961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B58-88CE-4E5E-9884-901B5B89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90D-FB8F-4A35-8B12-1D3D2B0A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74A-9357-48B8-BEC2-C0EF71F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DD2-F75E-4FBC-B903-1A40DD65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EE22-9CDA-4F1D-B2E3-C0C49DBABFE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3517-C763-4093-8948-A37ABB65484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0CB4-6E1F-4350-AE45-E0DC6C1C9C7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B61F-3B06-455C-AD8B-842C6E0B6FC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hyperlink" Target="http://www.google.ca/imgres?imgurl=http://www.unutki.org/downloads/Image/Meetings/cbd-logo-web-green-en.jpg&amp;imgrefurl=http://www.unutki.org/default.php?doc_id%3D186&amp;h=200&amp;w=500&amp;sz=33&amp;tbnid=vzrdawZGafkM7M:&amp;tbnh=47&amp;tbnw=118&amp;prev=/search%3Fq%3DCBD%2Blogo%26tbm%3Disch%26tbo%3Du&amp;zoom=1&amp;q=CBD+logo&amp;usg=__qpc9Vw8BnGfWCHIqKNWBq-JZmfE=&amp;docid=bZYNRX_3pTW7EM&amp;sa=X&amp;ei=KycMUaPwEOuM0QGUooCQCQ&amp;ved=0CEwQ9QEwAw&amp;dur=1440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69800" y="1365120"/>
            <a:ext cx="8266320" cy="2640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1280" y="765000"/>
            <a:ext cx="7489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2:  Peatlands (Global issu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 of the Earth surface- 4 million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of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 million 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&lt;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of global freshwater resourc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11280" y="1773360"/>
            <a:ext cx="712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althy Peatlands/wetlands provide myriad benef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&amp; toxicant assimilation and carbon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d attenuation, erosion control, sediment trapp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harvestable resources and cultivated food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ation to CC – Buffer to natural disasters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fforts to Enhance Coordination and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three Rio conventions foresee and promote the creation of synergies between them for their harmonized implementatio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joint Liaison Group (JLG) between UNFCCC, CBD UNCCD 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d Hoc technical expert group (AHTEG) on CC and BD …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F’s Efforts while fulfilling its own Mandate and COP Guidan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merous project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 WORKSHOPS, COP DECISIONS, AHTEGs AND PRESENTATIONS </a:t>
            </a:r>
            <a:r>
              <a:rPr b="1" lang="en-CA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UT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LITTLE RESULTS ON THE GROU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xercise session on Synergy between the Conven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keholders will be invited to present the reality on the ground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the Conventions are implemented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ctions are taken to promote synergies both at institutional (between the ministries involved in implementation of the Conventions)  and operational levels (concrete projects and programmes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re the hindrances to the effective materialization of  such synerg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best practices can be identifie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 –ECW gives unique opportunity to discuss Synergy among the Rio Conventions as it gath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o Convention Focal Point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EF Operational Focal Points,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presentatives of the Civil Socie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to discuss cross-cutting issues for all Conventio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Objectives and Expected Outcome of the Exercise Session on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ave concrete recommendations coming from the main actors of the implementation of the Rio Conventions present at this ECW on how to develop concrete synergies between the Rio Convention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XPECTED OUTCOM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mmendations that Focal Points will  take to their Ministr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rd of the recommendations in the ECW minutes for use in other ECW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ecretariats will compile all of the recommendations on how to achieve synergies from all ECWs and make them available for use by all stakehold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ow the Exercise Session will take place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rst Part: 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Work groups, the participants are divided by countries. Identifying similarities, duplications, opportunities for synergies in NAP, NAPA and NBSAP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focal points present priorities of their respective NAP, NAPA and NBSAP and how the foreseen actions are implemented and financed. (10mn each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scussion to identify the main and pressing similarities, duplications, overlapping activities what could be jointly implement, what are the hindrance to such joint implement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ap-up of the discussions identifying and writing on pap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wo: Wrap-Up and Clustering of issu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hree: Presentation and Approval of recommend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ACTICAL EXERCISE ON SYNERGY FOLLOW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79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mplified Vicious Circle of Cross-effects of </a:t>
            </a: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mate change, Desertification and Biodiversity Loss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0" name="Rectangle 7"/>
          <p:cNvSpPr/>
          <p:nvPr/>
        </p:nvSpPr>
        <p:spPr>
          <a:xfrm>
            <a:off x="755640" y="4365720"/>
            <a:ext cx="80643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C, LDD (including water quantity and quality problems) and BD Lo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 Interlinkag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reatest challenges to Sustainable Development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huge threat to Life on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y Impact each other Directly or Indirectly  &amp; through their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mportant Linkages between BD Loss, CC, LD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sustainable use of resour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n BD, CC, L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erbates Current Situations of LDD and BD Loss </a:t>
            </a:r>
            <a:r>
              <a:rPr b="1" lang="en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d vulner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n and Water Cycl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wo large-scale processes crucial for life on Earth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 on biod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iodiversity can help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resilience to the effects of climate change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at land degradation and desertification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viate poverty to which it is strongly link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for Proactive, Coherent, Holistic and Integrated Strategies and Measures: Joint Projects on the ground and Policy fora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dividual/Isolated Activities and Response Measur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9640" y="3716280"/>
            <a:ext cx="8209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ny Global Environment Treaties &amp; Goals Developed in a Fragmented w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olated Activities and Responses unless necessary, tend to lea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ost-effec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den for Parties in terms of fulfilling obligations and report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 of unintended negative indirect impacts and external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account for changing population size and dynam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tribution/impact to global environmental goods and servic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 for Synergy and Integrated Projects wher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ision of Coherent, Holistic and Integrated Projec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ision: Efficiently enhance multiple benefits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nergisticall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bining activities and efforts of the Conventions;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eting the Conventions’ overall objectiv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out wastage of resource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a way that produces synergistic value-added benefits at local, national and global level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 appropriate institutional arrangement and communication protocols with respect to NAP, NAPA, NBSAP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verse the Vicious Circle of Cross-effects and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et  the Objectives and Strategic Plans, and fulfil the mandat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UN recogniz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interdependence</a:t>
            </a:r>
            <a:r>
              <a:rPr b="0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the Conventions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strong synergies between their effort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complementary nature of their activities that underpins the need for a holistic, coordinated and integrated approach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ationale for Integrated Projects and Challen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ationale for Synergy and Integrated Projects: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well known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d Managemen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Tools (M&amp;E, indicators, tracking) and Information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uplication of effort and unintended negative impact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fficiently and Cost and Risk Sharing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on of indigenous and local communities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undue burde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rovision of support, capacity building, and enabling activitie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benefits at local, national and global level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sign and implementation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Integrated Projects/Activitie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lize the principles laid out in Rio+20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et the Strategic Goals, Targets  and Plans of the Convention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ine with GEF’s Strategic Goals and its Guidance to COP...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ing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 local actor’s activitie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counting for best practices and gender focussed traditional knowledg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volving  relevant stakeholders without undue burden and fatigue,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ing institutional arrangement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riad of Benefits but Little Clear Guidance Availabl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1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Coordinated, Holistic and Integrated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5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8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1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250920" y="1844640"/>
            <a:ext cx="2736720" cy="762840"/>
            <a:chOff x="250920" y="1844640"/>
            <a:chExt cx="2736720" cy="762840"/>
          </a:xfrm>
        </p:grpSpPr>
        <p:grpSp>
          <p:nvGrpSpPr>
            <p:cNvPr id="234" name="Rektangel 128"/>
            <p:cNvGrpSpPr/>
            <p:nvPr/>
          </p:nvGrpSpPr>
          <p:grpSpPr>
            <a:xfrm>
              <a:off x="250920" y="1844640"/>
              <a:ext cx="2549880" cy="738360"/>
              <a:chOff x="250920" y="1844640"/>
              <a:chExt cx="2549880" cy="738360"/>
            </a:xfrm>
          </p:grpSpPr>
          <p:pic>
            <p:nvPicPr>
              <p:cNvPr id="235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498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87640" y="1874160"/>
                <a:ext cx="242316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ktangel 63"/>
            <p:cNvSpPr/>
            <p:nvPr/>
          </p:nvSpPr>
          <p:spPr>
            <a:xfrm>
              <a:off x="356760" y="1874160"/>
              <a:ext cx="2630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FCCC Projects : CC Strategic Objectives, NAPs, NAPAs, NAMA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50920" y="2781360"/>
            <a:ext cx="2520720" cy="738000"/>
            <a:chOff x="250920" y="2781360"/>
            <a:chExt cx="2520720" cy="738000"/>
          </a:xfrm>
        </p:grpSpPr>
        <p:grpSp>
          <p:nvGrpSpPr>
            <p:cNvPr id="239" name="Rektangel 128"/>
            <p:cNvGrpSpPr/>
            <p:nvPr/>
          </p:nvGrpSpPr>
          <p:grpSpPr>
            <a:xfrm>
              <a:off x="250920" y="2785320"/>
              <a:ext cx="2520720" cy="734040"/>
              <a:chOff x="250920" y="2785320"/>
              <a:chExt cx="2520720" cy="734040"/>
            </a:xfrm>
          </p:grpSpPr>
          <p:pic>
            <p:nvPicPr>
              <p:cNvPr id="240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320"/>
                <a:ext cx="25207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86200" y="2816640"/>
                <a:ext cx="23965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ktangel 63"/>
            <p:cNvSpPr/>
            <p:nvPr/>
          </p:nvSpPr>
          <p:spPr>
            <a:xfrm>
              <a:off x="385920" y="2781360"/>
              <a:ext cx="209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CBD Projects: BD Aichi Targets &amp; Strategic Plan &amp; ABS and Biosafe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"/>
          <p:cNvGrpSpPr/>
          <p:nvPr/>
        </p:nvGrpSpPr>
        <p:grpSpPr>
          <a:xfrm>
            <a:off x="324000" y="3645000"/>
            <a:ext cx="2519280" cy="828000"/>
            <a:chOff x="324000" y="3645000"/>
            <a:chExt cx="2519280" cy="828000"/>
          </a:xfrm>
        </p:grpSpPr>
        <p:grpSp>
          <p:nvGrpSpPr>
            <p:cNvPr id="244" name="Rektangel 128"/>
            <p:cNvGrpSpPr/>
            <p:nvPr/>
          </p:nvGrpSpPr>
          <p:grpSpPr>
            <a:xfrm>
              <a:off x="324000" y="3645000"/>
              <a:ext cx="2519280" cy="811080"/>
              <a:chOff x="324000" y="3645000"/>
              <a:chExt cx="2519280" cy="811080"/>
            </a:xfrm>
          </p:grpSpPr>
          <p:pic>
            <p:nvPicPr>
              <p:cNvPr id="245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360360" y="3676680"/>
                <a:ext cx="239544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ktangel 63"/>
            <p:cNvSpPr/>
            <p:nvPr/>
          </p:nvSpPr>
          <p:spPr>
            <a:xfrm>
              <a:off x="430200" y="3739680"/>
              <a:ext cx="239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Other MEA, National... Projects: vario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Strategic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50920" y="880920"/>
            <a:ext cx="2736720" cy="1012680"/>
            <a:chOff x="250920" y="880920"/>
            <a:chExt cx="2736720" cy="1012680"/>
          </a:xfrm>
        </p:grpSpPr>
        <p:grpSp>
          <p:nvGrpSpPr>
            <p:cNvPr id="249" name="Rektangel 128"/>
            <p:cNvGrpSpPr/>
            <p:nvPr/>
          </p:nvGrpSpPr>
          <p:grpSpPr>
            <a:xfrm>
              <a:off x="250920" y="880920"/>
              <a:ext cx="2610000" cy="801720"/>
              <a:chOff x="250920" y="880920"/>
              <a:chExt cx="2610000" cy="801720"/>
            </a:xfrm>
          </p:grpSpPr>
          <p:pic>
            <p:nvPicPr>
              <p:cNvPr id="250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61000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7640" y="913320"/>
                <a:ext cx="24843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ktangel 63"/>
            <p:cNvSpPr/>
            <p:nvPr/>
          </p:nvSpPr>
          <p:spPr>
            <a:xfrm>
              <a:off x="358200" y="939600"/>
              <a:ext cx="26294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CCD Projects : LDD Strategic Objectives &amp; Plan 2008-2018; Rio approved plan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A synergistically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tegrated Proje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lps achieve selected objectives of the Conventions simultaneously (</a:t>
            </a:r>
            <a:r>
              <a:rPr b="1" lang="en-US" sz="1600" spc="-1" strike="noStrike">
                <a:solidFill>
                  <a:srgbClr val="00b0f0"/>
                </a:solidFill>
                <a:latin typeface="Times New Roman"/>
                <a:ea typeface="ＭＳ Ｐゴシック"/>
              </a:rPr>
              <a:t>Intersec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– </a:t>
            </a:r>
            <a:r>
              <a:rPr b="1" lang="en-C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ages between the Conventions become substantial where the need for enhanced cooperation is crucial to maximize the potential implementation of the Convention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dividual/Isolated projec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ir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measur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avoid unintended negative impacts on each other’s objectives and facilitate co-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for Implement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grated Project Selec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ere &amp; which CC, LD or BD loss impacts are most critical to address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ority to areas of high vulnerability and critical for environmental integrity for the  provision of ecosystem goods and servic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Projects of high potential multiple benefits/co-benefits &amp;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eviation of Pover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uman potential response, particip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Gender, Traditional Knowledge, Best Practices…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dentify goals and possible benefits and expected outcome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Short, medium and long-term results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dress current data/knowledge gaps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for baseline, indicators, M&amp;E tool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stimate resource requirements: Feasibility, cost and source of fund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vailability of resources accounting for all sources..</a:t>
            </a:r>
            <a:r>
              <a:rPr b="0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unding sources (ex. GEF and co-financing) and Partnerships possibiliti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mestic sources of funding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Risk Condition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efficient management and life cycle project reviews, clear objectives,  and M&amp;E tools and outcome indicators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criteria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y consider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compatibility of policy combination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st and long-term environmental effectivenes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1. Drylands (Global issu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 of land surface of the Earth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 of 25 global hotspots</a:t>
            </a:r>
            <a:r>
              <a:rPr b="0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 of Global Population (2.1 billion people) –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0% in Developing Countries, 84 % in Grasslands and Rangelands and 50% below poverty line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 of the World’s cultivated System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Maria Camila Perez Gabilondo</cp:lastModifiedBy>
  <dcterms:modified xsi:type="dcterms:W3CDTF">2013-11-13T17:44:14Z</dcterms:modified>
  <cp:revision>631</cp:revision>
  <dc:subject/>
  <dc:title>GEF Expanded Constituency Workshop (ECW) Honduras – February 19-21, 2013</dc:title>
</cp:coreProperties>
</file>