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48B1-A0D8-4688-A4DE-636DDEA46D2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4351-3C58-4047-8E31-2E886A0F991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EB25-AC13-47CC-9CA8-BB40FACE4BE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A831-6149-4E3F-BA07-C809EEAF746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11B-C8DE-4505-AB03-4C0A39E1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AE8-FCE5-497E-85AF-6014BE71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E54-5519-43ED-B10B-2BC7BC6A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7A4-7D7D-4B3A-B118-8E5788CF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FF9F-C886-499B-8E50-02E41A99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DFD3-BBA1-4CF9-81DE-9AC9288F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9648-AFDE-4CCC-AD5F-A47055E3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07B0-99D5-494B-982B-E7AA9436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97F7-8BEF-418A-9C92-56233A0B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0F2F-4A49-4AE6-9994-EFE34705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37C3-730B-4147-BF8A-658FEE2D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43E-8F4F-40A2-B572-F1800425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7BDE-D266-4BDB-86D3-751873C8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C472-C3D4-4458-A551-ED6C5F1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78D9-C12E-4235-9972-90B587DF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03EC-8A06-4CA3-9BAD-32A17630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1514-AD6B-4628-B77C-12CB3249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0D8C-90D9-4ECF-9F46-2864F988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3E47-B1CE-4829-9FA8-FD4F8F16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2C48-5E2D-4228-9EDA-933DB91D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2634-45FB-473E-A498-685E907E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5CC9-01DC-428C-8D02-E00F2347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486-73FC-45C7-89E8-BD9DF6F5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0299-C157-4AAB-8D2E-311747C7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BA5A5-E4A7-4554-9474-8B176892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5FE0-631C-48F7-B8BB-8FE2CCD4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5B6C-F274-44E9-A7F1-040D8802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C3C4-F4D2-4E75-B85B-8CD167CF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A2E0-8976-4996-8A3E-F7C191E6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ABBB-69D6-4538-8380-59FD9C41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CDB7-7ED9-4500-92C0-073AE82F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BACA1-F758-4A33-875A-1A885DCD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C988-3C5A-408E-8004-AEA990AE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D52-8C69-4116-8426-2091FAE6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79E2B-C029-45FA-AB75-601614AF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38902-58BC-4733-8053-B98B2A7D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B954-4E47-4FCC-949B-ABAF5661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21E7-63D3-4E06-AEF1-A782FBE7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797C1-1F49-4C37-9910-04C5A483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DDB99-10FF-4385-AE6F-4AD3BD09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B6A48-6CEF-436C-9A66-1FB19A58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20D9-884A-43CE-875B-50C5BDBC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8766-78BA-479A-B128-F2C97585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097-4D4A-4D7F-9F51-D5FBB032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B72-70DD-4B8E-9C63-52D8B9D0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AAA-4632-4A8E-BFEA-444E228D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3B7-88CE-4429-A4CD-EAA66C42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149-2B19-4112-97ED-0DFBF35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1A47-36FC-4013-8FA5-3A39D0A79A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2CDE-A801-4352-80F6-02BCBC6714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C697-071D-4D29-9C1D-ABF257B746A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FCA8-19C0-46DE-9217-FADF394881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hyperlink" Target="http://www.google.ca/imgres?imgurl=http://www.unutki.org/downloads/Image/Meetings/cbd-logo-web-green-en.jpg&amp;imgrefurl=http://www.unutki.org/default.php?doc_id%3D186&amp;h=200&amp;w=500&amp;sz=33&amp;tbnid=vzrdawZGafkM7M:&amp;tbnh=47&amp;tbnw=118&amp;prev=/search%3Fq%3DCBD%2Blogo%26tbm%3Disch%26tbo%3Du&amp;zoom=1&amp;q=CBD+logo&amp;usg=__qpc9Vw8BnGfWCHIqKNWBq-JZmfE=&amp;docid=bZYNRX_3pTW7EM&amp;sa=X&amp;ei=KycMUaPwEOuM0QGUooCQCQ&amp;ved=0CEwQ9QEwAw&amp;dur=1440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69800" y="1700280"/>
            <a:ext cx="8296200" cy="2017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  <p:sp>
        <p:nvSpPr>
          <p:cNvPr id="208" name="Subtitle 9"/>
          <p:cNvSpPr/>
          <p:nvPr/>
        </p:nvSpPr>
        <p:spPr>
          <a:xfrm>
            <a:off x="1023840" y="362268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ingstone,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6 to 18 Jul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611280" y="765000"/>
            <a:ext cx="7489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2:  Peatlands (Global issu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 of the Earth surface- 4 million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of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 million 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&lt;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of global freshwater resourc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611280" y="1773360"/>
            <a:ext cx="712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althy Peatlands/wetlands provide myriad benef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&amp; toxicant assimilation and carbon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d attenuation, erosion control, sediment trapp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harvestable resources and cultivated food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ation to CC – Buffer to natural disasters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fforts to Enhance Coordination and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three Rio conventions foresee and promote the creation of synergies between them for their harmonized implementatio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joint Liaison Group (JLG) between UNFCCC, CBD UNCCD 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d Hoc technical expert group (AHTEG) on CC and BD …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F’s Efforts while fulfilling its own Mandate and COP Guidan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merous project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 WORKSHOPS, COP DECISIONS, AHTEGs AND PRESENTATIONS </a:t>
            </a:r>
            <a:r>
              <a:rPr b="1" lang="en-CA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UT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LITTLE RESULTS ON THE GROU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xercise session on Synergy between the Conven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keholders will be invited to present the reality on the ground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the Conventions are implemented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ctions are taken to promote synergies both at institutional (between the ministries involved in implementation of the Conventions)  and operational levels (concrete projects and programmes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re the hindrances to the effective materialization of  such synerg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best practices can be identifie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 –ECW gives unique opportunity to discuss Synergy among the Rio Conventions as it gath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o Convention Focal Point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EF Operational Focal Points,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presentatives of the Civil Socie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to discuss cross-cutting issues for all Conventio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Objectives and Expected Outcome of the Exercise Session on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ave concrete recommendations coming from the main actors of the implementation of the Rio Conventions present at this ECW on how to develop concrete synergies between the Rio Convention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XPECTED OUTCOM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mmendations that Focal Points will  take to their Ministr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rd of the recommendations in the ECW minutes for use in other ECW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ecretariats will compile all of the recommendations on how to achieve synergies from all ECWs and make them available for use by all stakehold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ow the Exercise Session will take place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rst Part: 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Work groups, the participants are divided by countries. Identifying similarities, duplications, opportunities for synergies in NAP, NAPA and NBSAP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focal points present priorities of their respective NAP, NAPA and NBSAP and how the foreseen actions are implemented and financed. (10mn each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scussion to identify the main and pressing similarities, duplications, overlapping activities what could be jointly implement, what are the hindrance to such joint implement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ap-up of the discussions identifying and writing on pap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wo: Wrap-Up and Clustering of issu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hree: Presentation and Approval of recommend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ACTICAL EXERCISE ON SYNERGY FOLLOW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6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7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80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mplified Vicious Circle of Cross-effects of </a:t>
            </a: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mate change, Desertification and Biodiversity Loss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1" name="Rectangle 7"/>
          <p:cNvSpPr/>
          <p:nvPr/>
        </p:nvSpPr>
        <p:spPr>
          <a:xfrm>
            <a:off x="755640" y="4365720"/>
            <a:ext cx="80643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C, LDD (including water quantity and quality problems) and BD Lo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 Interlinkag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reatest challenges to Sustainable Development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huge threat to Life on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y Impact each other Directly or Indirectly  &amp; through their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mportant Linkages between BD Loss, CC, LD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sustainable use of resour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n BD, CC, L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erbates Current Situations of LDD and BD Loss </a:t>
            </a:r>
            <a:r>
              <a:rPr b="1" lang="en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d vulner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n and Water Cycl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wo large-scale processes crucial for life on Earth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 on biod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iodiversity can help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resilience to the effects of climate change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at land degradation and desertification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viate poverty to which it is strongly link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for Proactive, Coherent, Holistic and Integrated Strategies and Measures: Joint Projects on the ground and Policy fora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dividual/Isolated Activities and Response Measur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39640" y="3716280"/>
            <a:ext cx="8209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ny Global Environment Treaties &amp; Goals Developed in a Fragmented w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olated Activities and Responses unless necessary, tend to lea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ost-effec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den for Parties in terms of fulfilling obligations and report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 of unintended negative indirect impacts and external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account for changing population size and dynam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tribution/impact to global environmental goods and servic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 for Synergy and Integrated Projects wher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ision of Coherent, Holistic and Integrated Projec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ision: Efficiently enhance multiple benefits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nergisticall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bining activities and efforts of the Conventions;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eting the Conventions’ overall objectiv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out wastage of resource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a way that produces synergistic value-added benefits at local, national and global level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 appropriate institutional arrangement and communication protocols with respect to NAP, NAPA, NBSAP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verse the Vicious Circle of Cross-effects and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et  the Objectives and Strategic Plans, and fulfil the mandat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UN recogniz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interdependence</a:t>
            </a:r>
            <a:r>
              <a:rPr b="0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the Conventions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strong synergies between their effort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complementary nature of their activities that underpins the need for a holistic, coordinated and integrated approach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ationale for Integrated Projects and Challen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ationale for Synergy and Integrated Projects: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well known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d Managemen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Tools (M&amp;E, indicators, tracking) and Information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uplication of effort and unintended negative impact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fficiently and Cost and Risk Sharing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on of indigenous and local communities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undue burde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rovision of support, capacity building, and enabling activitie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benefits at local, national and global level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sign and implementation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Integrated Projects/Activitie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lize the principles laid out in Rio+20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et the Strategic Goals, Targets  and Plans of the Convention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ine with GEF’s Strategic Goals and its Guidance to COP...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ing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 local actor’s activitie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counting for best practices and gender focussed traditional knowledg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volving  relevant stakeholders without undue burden and fatigue,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ing institutional arrangement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riad of Benefits but Little Clear Guidance Availabl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2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Coordinated, Holistic and Integrated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6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9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8"/>
          <p:cNvGrpSpPr/>
          <p:nvPr/>
        </p:nvGrpSpPr>
        <p:grpSpPr>
          <a:xfrm>
            <a:off x="250920" y="1844640"/>
            <a:ext cx="2736720" cy="762840"/>
            <a:chOff x="250920" y="1844640"/>
            <a:chExt cx="2736720" cy="762840"/>
          </a:xfrm>
        </p:grpSpPr>
        <p:grpSp>
          <p:nvGrpSpPr>
            <p:cNvPr id="235" name="Rektangel 128"/>
            <p:cNvGrpSpPr/>
            <p:nvPr/>
          </p:nvGrpSpPr>
          <p:grpSpPr>
            <a:xfrm>
              <a:off x="250920" y="1844640"/>
              <a:ext cx="2549880" cy="738360"/>
              <a:chOff x="250920" y="1844640"/>
              <a:chExt cx="2549880" cy="738360"/>
            </a:xfrm>
          </p:grpSpPr>
          <p:pic>
            <p:nvPicPr>
              <p:cNvPr id="236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498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287640" y="1874160"/>
                <a:ext cx="242316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Rektangel 63"/>
            <p:cNvSpPr/>
            <p:nvPr/>
          </p:nvSpPr>
          <p:spPr>
            <a:xfrm>
              <a:off x="356760" y="1874160"/>
              <a:ext cx="2630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FCCC Projects : CC Strategic Objectives, NAPs, NAPAs, NAMA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8"/>
          <p:cNvGrpSpPr/>
          <p:nvPr/>
        </p:nvGrpSpPr>
        <p:grpSpPr>
          <a:xfrm>
            <a:off x="250920" y="2781360"/>
            <a:ext cx="2520720" cy="738000"/>
            <a:chOff x="250920" y="2781360"/>
            <a:chExt cx="2520720" cy="738000"/>
          </a:xfrm>
        </p:grpSpPr>
        <p:grpSp>
          <p:nvGrpSpPr>
            <p:cNvPr id="240" name="Rektangel 128"/>
            <p:cNvGrpSpPr/>
            <p:nvPr/>
          </p:nvGrpSpPr>
          <p:grpSpPr>
            <a:xfrm>
              <a:off x="250920" y="2785320"/>
              <a:ext cx="2520720" cy="734040"/>
              <a:chOff x="250920" y="2785320"/>
              <a:chExt cx="2520720" cy="734040"/>
            </a:xfrm>
          </p:grpSpPr>
          <p:pic>
            <p:nvPicPr>
              <p:cNvPr id="241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320"/>
                <a:ext cx="25207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00" y="2816640"/>
                <a:ext cx="23965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Rektangel 63"/>
            <p:cNvSpPr/>
            <p:nvPr/>
          </p:nvSpPr>
          <p:spPr>
            <a:xfrm>
              <a:off x="385920" y="2781360"/>
              <a:ext cx="209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CBD Projects: BD Aichi Targets &amp; Strategic Plan &amp; ABS and Biosafe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8"/>
          <p:cNvGrpSpPr/>
          <p:nvPr/>
        </p:nvGrpSpPr>
        <p:grpSpPr>
          <a:xfrm>
            <a:off x="324000" y="3645000"/>
            <a:ext cx="2519280" cy="828000"/>
            <a:chOff x="324000" y="3645000"/>
            <a:chExt cx="2519280" cy="828000"/>
          </a:xfrm>
        </p:grpSpPr>
        <p:grpSp>
          <p:nvGrpSpPr>
            <p:cNvPr id="245" name="Rektangel 128"/>
            <p:cNvGrpSpPr/>
            <p:nvPr/>
          </p:nvGrpSpPr>
          <p:grpSpPr>
            <a:xfrm>
              <a:off x="324000" y="3645000"/>
              <a:ext cx="2519280" cy="811080"/>
              <a:chOff x="324000" y="3645000"/>
              <a:chExt cx="2519280" cy="811080"/>
            </a:xfrm>
          </p:grpSpPr>
          <p:pic>
            <p:nvPicPr>
              <p:cNvPr id="246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360360" y="3676680"/>
                <a:ext cx="239544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ktangel 63"/>
            <p:cNvSpPr/>
            <p:nvPr/>
          </p:nvSpPr>
          <p:spPr>
            <a:xfrm>
              <a:off x="430200" y="3739680"/>
              <a:ext cx="239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Other MEA, National... Projects: vario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Strategic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8"/>
          <p:cNvGrpSpPr/>
          <p:nvPr/>
        </p:nvGrpSpPr>
        <p:grpSpPr>
          <a:xfrm>
            <a:off x="250920" y="880920"/>
            <a:ext cx="2736720" cy="1012680"/>
            <a:chOff x="250920" y="880920"/>
            <a:chExt cx="2736720" cy="1012680"/>
          </a:xfrm>
        </p:grpSpPr>
        <p:grpSp>
          <p:nvGrpSpPr>
            <p:cNvPr id="250" name="Rektangel 128"/>
            <p:cNvGrpSpPr/>
            <p:nvPr/>
          </p:nvGrpSpPr>
          <p:grpSpPr>
            <a:xfrm>
              <a:off x="250920" y="880920"/>
              <a:ext cx="2610000" cy="801720"/>
              <a:chOff x="250920" y="880920"/>
              <a:chExt cx="2610000" cy="801720"/>
            </a:xfrm>
          </p:grpSpPr>
          <p:pic>
            <p:nvPicPr>
              <p:cNvPr id="251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61000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287640" y="913320"/>
                <a:ext cx="24843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Rektangel 63"/>
            <p:cNvSpPr/>
            <p:nvPr/>
          </p:nvSpPr>
          <p:spPr>
            <a:xfrm>
              <a:off x="358200" y="939600"/>
              <a:ext cx="26294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CCD Projects : LDD Strategic Objectives &amp; Plan 2008-2018; Rio approved plan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A synergistically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tegrated Proje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lps achieve selected objectives of the Conventions simultaneously (</a:t>
            </a:r>
            <a:r>
              <a:rPr b="1" lang="en-US" sz="1600" spc="-1" strike="noStrike">
                <a:solidFill>
                  <a:srgbClr val="00b0f0"/>
                </a:solidFill>
                <a:latin typeface="Times New Roman"/>
                <a:ea typeface="ＭＳ Ｐゴシック"/>
              </a:rPr>
              <a:t>Intersec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– </a:t>
            </a:r>
            <a:r>
              <a:rPr b="1" lang="en-C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ages between the Conventions become substantial where the need for enhanced cooperation is crucial to maximize the potential implementation of the Convention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dividual/Isolated projec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ir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measur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avoid unintended negative impacts on each other’s objectives and facilitate co-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for Implement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grated Project Selec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ere &amp; which CC, LD or BD loss impacts are most critical to address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ority to areas of high vulnerability and critical for environmental integrity for the  provision of ecosystem goods and servic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Projects of high potential multiple benefits/co-benefits &amp;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eviation of Pover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uman potential response, particip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Gender, Traditional Knowledge, Best Practices…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dentify goals and possible benefits and expected outcome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Short, medium and long-term results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dress current data/knowledge gaps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for baseline, indicators, M&amp;E tool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stimate resource requirements: Feasibility, cost and source of fund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vailability of resources accounting for all sources..</a:t>
            </a:r>
            <a:r>
              <a:rPr b="0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unding sources (ex. GEF and co-financing) and Partnerships possibiliti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mestic sources of funding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Risk Condition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efficient management and life cycle project reviews, clear objectives,  and M&amp;E tools and outcome indicators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criteria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y consider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compatibility of policy combination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st and long-term environmental effectivenes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1. Drylands (Global issu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 of land surface of the Earth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 of 25 global hotspots</a:t>
            </a:r>
            <a:r>
              <a:rPr b="0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 of Global Population (2.1 billion people) –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0% in Developing Countries, 84 % in Grasslands and Rangelands and 50% below poverty line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 of the World’s cultivated System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Robert T. Schreiber</cp:lastModifiedBy>
  <dcterms:modified xsi:type="dcterms:W3CDTF">2013-07-09T15:34:06Z</dcterms:modified>
  <cp:revision>630</cp:revision>
  <dc:subject/>
  <dc:title>GEF Expanded Constituency Workshop (ECW) Honduras – February 19-21, 2013</dc:title>
</cp:coreProperties>
</file>