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ADBD-090D-4993-8EFA-FD44069F558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848D-642F-487A-9685-E066E572B8D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4F99-A3C1-4D1F-858D-9F401B68480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6735-70D1-4F44-91F9-6B1ECF4EE8E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E98-5027-475B-A096-08B2DF40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26A-AFF8-4A05-A2BF-1005B426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012-DF41-4DBE-AE77-BEC6751A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9A3-44E0-48F5-BFDF-C4A95072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C3C8-A549-4089-8FFB-6F9EBD13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E1A6-9567-4D67-8868-6EF0A7F5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0BA2-2573-4EE2-BCE8-C8E9FF20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E2D6-0030-4205-99A7-AEA17C6B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1107-EDBD-490E-AD96-09BD346D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1F26-5E69-415D-95CE-0BC8BA73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1E3A-8D54-4048-BC53-92CCDB74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BC9-C550-4BB4-85EE-2776DAD7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1FA8-7504-4E62-8D31-2000B11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E95E-E427-4A3E-BCA1-5802757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4EE9-3777-49B4-B751-E13A1B1E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B888-9915-4C1A-9363-CCB01FA2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0A9A-3FFA-4BA5-8971-A985974F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FD28-E625-471A-A44B-3A74E6E6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B9C8-CC9E-44D0-AFF9-19415660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A2C0-6F20-41EE-99DA-CC5B3AD3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C005-3CEB-4C13-8B9A-EF381F3F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89A8-79B5-43D0-9EAC-495FDAA8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236-D9DF-4EC4-B69F-42E014DB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2C91-CC2D-4FCF-A28F-F06C5920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444F-A02B-4C87-A51B-95D57A5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176D-F98D-47BF-BF6F-87C839D0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3477-9E3D-4898-BFE8-3E6D2D0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3624-86F5-4ABD-A7E3-672F4138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35B4-CBCD-4688-890F-DAC1B234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6BC0-EA00-4FAC-BE8D-30DD4682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A20D-BD94-41B9-A302-BE9B795F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924E-02A9-4496-BBF1-2654E977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8B78-E135-45AF-9041-2174A54F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199-9D13-479A-AE41-1DE5A0B7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9156F-9EA8-404A-BB70-FFF97DA2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5089B-0960-4A67-8019-2BFE095D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0C949-8110-4EB7-A484-54751AD9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BC4E-3E0C-425F-A65F-19F7F346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7A58-2A74-4340-95D6-307F3B2B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0729-8976-4345-94B7-4F4891D0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D34F-F47D-4AD9-B934-C23E5054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ED60C-1470-468E-A8AC-1B05E260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FC29F-6B97-40D7-A940-55FAFAF5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042-B1E1-4B1E-B9A2-383B6716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672-F910-44BD-9015-B39EC1BE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BC3-B17E-45F1-A777-53F41DC4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8DF-4A7E-41D1-9448-9D29A7FA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F81-950B-48CA-A6B7-20E5881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7E69-077E-4397-9D8E-87343F2E424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1BBD-EC49-4B35-A6C5-0218B7A8A5C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4318-5400-4A52-9E70-530A8898A91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E567-3E20-45EC-8BE1-D9FBC0426C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http://www.google.ca/imgres?imgurl=http://www.unutki.org/downloads/Image/Meetings/cbd-logo-web-green-en.jpg&amp;imgrefurl=http://www.unutki.org/default.php?doc_id%3D186&amp;h=200&amp;w=500&amp;sz=33&amp;tbnid=vzrdawZGafkM7M:&amp;tbnh=47&amp;tbnw=118&amp;prev=/search%3Fq%3DCBD%2Blogo%26tbm%3Disch%26tbo%3Du&amp;zoom=1&amp;q=CBD+logo&amp;usg=__qpc9Vw8BnGfWCHIqKNWBq-JZmfE=&amp;docid=bZYNRX_3pTW7EM&amp;sa=X&amp;ei=KycMUaPwEOuM0QGUooCQCQ&amp;ved=0CEwQ9QEwAw&amp;dur=1440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8296200" cy="2017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  <p:sp>
        <p:nvSpPr>
          <p:cNvPr id="208" name="Subtitle 9"/>
          <p:cNvSpPr/>
          <p:nvPr/>
        </p:nvSpPr>
        <p:spPr>
          <a:xfrm>
            <a:off x="1023840" y="362268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ingstone,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6 to 18 Jul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11280" y="765000"/>
            <a:ext cx="7489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2:  Peatlands (Global issu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 of the Earth surface- 4 million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of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 million 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&lt;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of global freshwater resour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611280" y="177336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althy Peatlands/wetlands provide myriad benef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&amp; toxicant assimilation and carbon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d attenuation, erosion control, sediment trapp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arvestable resources and cultivated food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tion to CC – Buffer to natural disasters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fforts to Enhance Coordination and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three Rio conventions foresee and promote the creation of synergies between them for their harmonized implementatio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joint Liaison Group (JLG) between UNFCCC, CBD UNCCD 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d Hoc technical expert group (AHTEG) on CC and BD …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F’s Efforts while fulfilling its own Mandate and COP Guid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merous project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WORKSHOPS, COP DECISIONS, AHTEGs AND PRESENTATIONS </a:t>
            </a:r>
            <a:r>
              <a:rPr b="1" lang="en-C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UT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ITTLE RESULTS ON THE GROU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xercise session on Synergy between the Conven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keholders will be invited to present the reality on the ground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the Conventions are implemented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ctions are taken to promote synergies both at institutional (between the ministries involved in implementation of the Conventions)  and operational levels (concrete projects and programmes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re the hindrances to the effective materialization of  such synerg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best practices can be identifie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 –ECW gives unique opportunity to discuss Synergy among the Rio Conventions as it gat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o Convention Focal Point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F Operational Focal Points,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resentatives of the Civil 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to discuss cross-cutting issues for all Conven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bjectives and Expected Outcome of the Exercise Session on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ave concrete recommendations coming from the main actors of the implementation of the Rio Conventions present at this ECW on how to develop concrete synergies between the Rio Convention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ECTED OUTCOM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mmendations that Focal Points will  take to their Ministr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rd of the recommendations in the ECW minutes for use in other ECW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cretariats will compile all of the recommendations on how to achieve synergies from all ECWs and make them available for use by all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ow the Exercise Session will take place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Part: 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Work groups, the participants are divided by countries. Identifying similarities, duplications, opportunities for synergies in NAP, NAPA and NBSAP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focal points present priorities of their respective NAP, NAPA and NBSAP and how the foreseen actions are implemented and financed. (10mn each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scussion to identify the main and pressing similarities, duplications, overlapping activities what could be jointly implement, what are the hindrance to such joint implement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ap-up of the discussions identifying and writing on pap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wo: Wrap-Up and Clustering of issu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hree: Presentation and Approval of recommend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ACTICAL EXERCISE ON SYNERGY FOLLOW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6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7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80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mplified Vicious Circle of Cross-effects of </a:t>
            </a: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ate change, Desertification and Biodiversity Loss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1" name="Rectangle 7"/>
          <p:cNvSpPr/>
          <p:nvPr/>
        </p:nvSpPr>
        <p:spPr>
          <a:xfrm>
            <a:off x="755640" y="4365720"/>
            <a:ext cx="80643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C, LDD (including water quantity and quality problems) and BD Lo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 Interlinkag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reatest challenges to Sustainable Development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uge threat to Life on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y Impact each other Directly or Indirectly  &amp; through thei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mportant Linkages between BD Loss, CC, LD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sustainable use of resour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n BD, CC, L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erbates Current Situations of LDD and BD Loss </a:t>
            </a:r>
            <a:r>
              <a:rPr b="1" lang="en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vulner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n and Water Cycl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wo large-scale processes crucial for life on Earth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 biod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odiversity can hel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resilience to the effects of climate change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at land degradation and desertification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e poverty to which it is strongly link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for Proactive, Coherent, Holistic and Integrated Strategies and Measures: Joint Projects on the ground and Policy fora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dividual/Isolated Activities and Response Measur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9640" y="3716280"/>
            <a:ext cx="8209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ny Global Environment Treaties &amp; Goals Developed in a Fragmented 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olated Activities and Responses unless necessary, tend to lea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st-effec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 for Parties in terms of fulfilling obligations and report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 of unintended negative indirect impacts and external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account for changing population size and 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tribution/impact to global environmental goods and servi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 for Synergy and Integrated Projects wher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ision of Coherent, Holistic and Integrated Projec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sion: Efficiently enhance multiple benefits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nergisticall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bining activities and efforts of the Conventions;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eting the Conventions’ overall objectiv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out wastage of resource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a way that produces synergistic value-added benefits at local, national and global level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 appropriate institutional arrangement and communication protocols with respect to NAP, NAPA, NBSAP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e the Vicious Circle of Cross-effects and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et  the Objectives and Strategic Plans, and fulfil the mandat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UN recogniz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interdependence</a:t>
            </a:r>
            <a:r>
              <a:rPr b="0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the Conventions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strong synergies between their effort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complementary nature of their activities that underpins the need for a holistic, coordinated and integrated approac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ationale for Integrated Projects and Challen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tionale for Synergy and Integrated Projects: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well known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Managemen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Tools (M&amp;E, indicators, tracking) and Information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uplication of effort and unintended negative impact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iciently and Cost and Risk Sharing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of indigenous and local communities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undue burde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rovision of support, capacity building, and enabling activitie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benefits at local, national and global level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ign and implementation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Integrated Projects/Activitie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lize the principles laid out in Rio+20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et the Strategic Goals, Targets  and Plans of the Convention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ine with GEF’s Strategic Goals and its Guidance to COP...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ing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 local actor’s activitie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counting for best practices and gender focussed traditional knowledg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volving  relevant stakeholders without undue burden and fatigue,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ing institutional arrangement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riad of Benefits but Little Clear Guidance Availabl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2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Coordinated, Holistic and Integrated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6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9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8"/>
          <p:cNvGrpSpPr/>
          <p:nvPr/>
        </p:nvGrpSpPr>
        <p:grpSpPr>
          <a:xfrm>
            <a:off x="250920" y="1844640"/>
            <a:ext cx="2736720" cy="762840"/>
            <a:chOff x="250920" y="1844640"/>
            <a:chExt cx="2736720" cy="762840"/>
          </a:xfrm>
        </p:grpSpPr>
        <p:grpSp>
          <p:nvGrpSpPr>
            <p:cNvPr id="235" name="Rektangel 128"/>
            <p:cNvGrpSpPr/>
            <p:nvPr/>
          </p:nvGrpSpPr>
          <p:grpSpPr>
            <a:xfrm>
              <a:off x="250920" y="1844640"/>
              <a:ext cx="2549880" cy="738360"/>
              <a:chOff x="250920" y="1844640"/>
              <a:chExt cx="2549880" cy="738360"/>
            </a:xfrm>
          </p:grpSpPr>
          <p:pic>
            <p:nvPicPr>
              <p:cNvPr id="236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49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287640" y="1874160"/>
                <a:ext cx="24231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Rektangel 63"/>
            <p:cNvSpPr/>
            <p:nvPr/>
          </p:nvSpPr>
          <p:spPr>
            <a:xfrm>
              <a:off x="356760" y="1874160"/>
              <a:ext cx="263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FCCC Projects : CC Strategic Objectives, NAPs, NAPAs, NAMA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8"/>
          <p:cNvGrpSpPr/>
          <p:nvPr/>
        </p:nvGrpSpPr>
        <p:grpSpPr>
          <a:xfrm>
            <a:off x="250920" y="2781360"/>
            <a:ext cx="2520720" cy="738000"/>
            <a:chOff x="250920" y="2781360"/>
            <a:chExt cx="2520720" cy="738000"/>
          </a:xfrm>
        </p:grpSpPr>
        <p:grpSp>
          <p:nvGrpSpPr>
            <p:cNvPr id="240" name="Rektangel 128"/>
            <p:cNvGrpSpPr/>
            <p:nvPr/>
          </p:nvGrpSpPr>
          <p:grpSpPr>
            <a:xfrm>
              <a:off x="250920" y="2785320"/>
              <a:ext cx="2520720" cy="734040"/>
              <a:chOff x="250920" y="2785320"/>
              <a:chExt cx="2520720" cy="734040"/>
            </a:xfrm>
          </p:grpSpPr>
          <p:pic>
            <p:nvPicPr>
              <p:cNvPr id="241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320"/>
                <a:ext cx="25207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00" y="2816640"/>
                <a:ext cx="23965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Rektangel 63"/>
            <p:cNvSpPr/>
            <p:nvPr/>
          </p:nvSpPr>
          <p:spPr>
            <a:xfrm>
              <a:off x="385920" y="2781360"/>
              <a:ext cx="209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CBD Projects: BD Aichi Targets &amp; Strategic Plan &amp; ABS and Biosafe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8"/>
          <p:cNvGrpSpPr/>
          <p:nvPr/>
        </p:nvGrpSpPr>
        <p:grpSpPr>
          <a:xfrm>
            <a:off x="324000" y="3645000"/>
            <a:ext cx="2519280" cy="828000"/>
            <a:chOff x="324000" y="3645000"/>
            <a:chExt cx="2519280" cy="828000"/>
          </a:xfrm>
        </p:grpSpPr>
        <p:grpSp>
          <p:nvGrpSpPr>
            <p:cNvPr id="245" name="Rektangel 128"/>
            <p:cNvGrpSpPr/>
            <p:nvPr/>
          </p:nvGrpSpPr>
          <p:grpSpPr>
            <a:xfrm>
              <a:off x="324000" y="3645000"/>
              <a:ext cx="2519280" cy="811080"/>
              <a:chOff x="324000" y="3645000"/>
              <a:chExt cx="2519280" cy="811080"/>
            </a:xfrm>
          </p:grpSpPr>
          <p:pic>
            <p:nvPicPr>
              <p:cNvPr id="246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360360" y="3676680"/>
                <a:ext cx="23954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ktangel 63"/>
            <p:cNvSpPr/>
            <p:nvPr/>
          </p:nvSpPr>
          <p:spPr>
            <a:xfrm>
              <a:off x="430200" y="3739680"/>
              <a:ext cx="239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Other MEA, National... Projects: vari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Strategic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8"/>
          <p:cNvGrpSpPr/>
          <p:nvPr/>
        </p:nvGrpSpPr>
        <p:grpSpPr>
          <a:xfrm>
            <a:off x="250920" y="880920"/>
            <a:ext cx="2736720" cy="1012680"/>
            <a:chOff x="250920" y="880920"/>
            <a:chExt cx="2736720" cy="1012680"/>
          </a:xfrm>
        </p:grpSpPr>
        <p:grpSp>
          <p:nvGrpSpPr>
            <p:cNvPr id="250" name="Rektangel 128"/>
            <p:cNvGrpSpPr/>
            <p:nvPr/>
          </p:nvGrpSpPr>
          <p:grpSpPr>
            <a:xfrm>
              <a:off x="250920" y="880920"/>
              <a:ext cx="2610000" cy="801720"/>
              <a:chOff x="250920" y="880920"/>
              <a:chExt cx="2610000" cy="801720"/>
            </a:xfrm>
          </p:grpSpPr>
          <p:pic>
            <p:nvPicPr>
              <p:cNvPr id="251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61000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287640" y="913320"/>
                <a:ext cx="24843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ktangel 63"/>
            <p:cNvSpPr/>
            <p:nvPr/>
          </p:nvSpPr>
          <p:spPr>
            <a:xfrm>
              <a:off x="358200" y="939600"/>
              <a:ext cx="26294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CCD Projects : LDD Strategic Objectives &amp; Plan 2008-2018; Rio approved plan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A synergistically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tegrated Proj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lps achieve selected objectives of the Conventions simultaneously (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ＭＳ Ｐゴシック"/>
              </a:rPr>
              <a:t>Intersec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– </a:t>
            </a:r>
            <a:r>
              <a:rPr b="1" lang="en-C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ages between the Conventions become substantial where the need for enhanced cooperation is crucial to maximize the potential implementation of the Convention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dividual/Isolated projec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easu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avoid unintended negative impacts on each other’s objectives and facilitate co-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for Implem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ated Project Selec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re &amp; which CC, LD or BD loss impacts are most critical to address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ority to areas of high vulnerability and critical for environmental integrity for the  provision of ecosystem goods and servic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Projects of high potential multiple benefits/co-benefits &amp;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eviation of Pover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uman potential response, particip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Gender, Traditional Knowledge, Best Practices…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dentify goals and possible benefits and expected outcome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Short, medium and long-term results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ress current data/knowledge gaps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for baseline, indicators, M&amp;E tool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imate resource requirements: Feasibility, cost and source of fund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vailability of resources accounting for all sources..</a:t>
            </a:r>
            <a:r>
              <a:rPr b="0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nding sources (ex. GEF and co-financing) and Partnerships possibiliti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mestic sources of funding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Risk Condition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ient management and life cycle project reviews, clear objectives,  and M&amp;E tools and outcome indicators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criteria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consider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compatibility of policy combination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st and long-term environmental effectivenes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1. Drylands (Global issu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 of land surface of the Earth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of 25 global hotspots</a:t>
            </a:r>
            <a:r>
              <a:rPr b="0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 of Global Population (2.1 billion people) –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% in Developing Countries, 84 % in Grasslands and Rangelands and 50% below poverty line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 of the World’s cultivated System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Robert T. Schreiber</cp:lastModifiedBy>
  <dcterms:modified xsi:type="dcterms:W3CDTF">2013-07-09T15:34:06Z</dcterms:modified>
  <cp:revision>630</cp:revision>
  <dc:subject/>
  <dc:title>GEF Expanded Constituency Workshop (ECW) Honduras – February 19-21, 2013</dc:title>
</cp:coreProperties>
</file>