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2AAA-281E-43E0-B680-04326E6F2CC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A9D8-536C-4488-B345-B60DF431DEB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1EB5-E83F-4500-AA43-7695DFEAD8A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3C6D-0633-4499-86F9-677F70F48B5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B6F-2BA4-4C7B-BEFC-0C5FADAC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0F1-F899-41E7-95E5-F2029B7C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A3A-6426-4CE5-9889-F9DF505A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181-0439-4074-904C-EB3A8809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6191-7F49-448B-B3ED-AC7E1F5F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69AC-879D-47AD-968C-74C27637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46A1-EB71-4D1C-B0B1-EF455191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0A2B-0B12-488A-8159-10A1C3C9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ABDC-4C55-4F17-933A-35B91731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4E02-6F20-4BF2-9777-F8C20668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D165-2637-472C-B6D1-111274B0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F37-4C2F-42D8-9167-B2C6DA21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5677-6AD8-4918-A1F3-FB8126BE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29C3-302C-4F8B-AD9F-FD22F552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147A-378D-4695-B33E-D9852678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E887-3AF4-4B10-BB75-40B450C3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31DE-2647-49D6-A95C-DB1688AA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76BD0-B946-4D5F-9969-48652259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540E2-5A4B-4F77-B2AF-04586548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2DDC0-05EA-4398-A61C-E021DC1D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B9018-10BF-49FE-B080-290DD80E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61EB-4266-4C80-A17D-0B391E73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519-1E38-4D7C-B89D-C69B9891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48D95-8453-4538-8933-4E067BC6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A9A6-57E0-47A2-8324-F3BB8AF9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2E5A2-2BE6-450C-B519-B4616056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D76C-0B49-4789-97E0-6DD8FE39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0EDCB-F900-4D44-9A96-5CC08A8F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3C5DC-74EE-4004-8983-F81BE47D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70B10-F2AB-40FC-A1A8-4E3C7D98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3C51B-F0BA-44EC-B7D5-5D298EF6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BEFC2-8A67-4F33-92F6-6A29C95F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4E594-EC33-4424-B373-7F916C61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B42-C2D3-4117-B962-42A9A5DB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89376-457A-4B9A-93CC-C594AE35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5924A-DAE4-4C8B-8B77-49E008B6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F5A2D-7B47-4F22-99E2-2A54EF97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63AF2-833E-43F4-8B7D-ED8E8C08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78888-69C8-402A-A398-493DE494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6C313-A731-47E5-8192-A8EE0FD0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D34FB-B15F-4362-9BB3-3D33DEB4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A8D92-C6C1-4285-911E-9E5B5405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996F5-5674-4CAB-B98C-0C853BC9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784-229A-4E5F-AF20-2DD327E5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971-DE07-4543-A763-57B9B0B5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C2B9-4E57-4BDA-BAB9-6EC6E748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41B-0640-474E-A3A0-674BDA8A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C9E-1ACE-4A89-9AD0-5208DAA5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871A-0B31-4DD2-B1D7-0C886B6CA1C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39B6-6DA1-4084-8A53-74F4CF67DD8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317E-BC1B-4D46-A392-D121E33B01E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AACB-845F-4820-9573-88AB45B1414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ca/url?sa=i&amp;source=images&amp;cd=&amp;docid=8tTz2gOi3Ezf4M&amp;tbnid=DCzhVKANQnsODM:&amp;ved=0CAgQjRwwAA&amp;url=http%3A%2F%2F3blmedia.com%2FCSR-Profiles%2FUnited-Nations-Convention-Combat-Desertification-UNCCD&amp;ei=cSgMUYjdD4i60QHxg4CYBA&amp;psig=AFQjCNEfR6puls2FKzMG-5yQ9Qg01q750Q&amp;ust=1359837681297646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hyperlink" Target="http://www.google.ca/imgres?imgurl=http://www.unutki.org/downloads/Image/Meetings/cbd-logo-web-green-en.jpg&amp;imgrefurl=http://www.unutki.org/default.php?doc_id%3D186&amp;h=200&amp;w=500&amp;sz=33&amp;tbnid=vzrdawZGafkM7M:&amp;tbnh=47&amp;tbnw=118&amp;prev=/search%3Fq%3DCBD%2Blogo%26tbm%3Disch%26tbo%3Du&amp;zoom=1&amp;q=CBD+logo&amp;usg=__qpc9Vw8BnGfWCHIqKNWBq-JZmfE=&amp;docid=bZYNRX_3pTW7EM&amp;sa=X&amp;ei=KycMUaPwEOuM0QGUooCQCQ&amp;ved=0CEwQ9QEwAw&amp;dur=1440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469800" y="1700280"/>
            <a:ext cx="8296200" cy="2017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941720"/>
            <a:ext cx="7854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pic28945"/>
          <p:cNvPicPr/>
          <p:nvPr/>
        </p:nvPicPr>
        <p:blipFill>
          <a:blip r:embed="rId2"/>
          <a:stretch/>
        </p:blipFill>
        <p:spPr>
          <a:xfrm>
            <a:off x="6443640" y="5877000"/>
            <a:ext cx="2185920" cy="500040"/>
          </a:xfrm>
          <a:prstGeom prst="rect">
            <a:avLst/>
          </a:prstGeom>
          <a:ln w="0">
            <a:noFill/>
          </a:ln>
        </p:spPr>
      </p:pic>
      <p:pic>
        <p:nvPicPr>
          <p:cNvPr id="205" name="irc_mi" descr="UNCCD%20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519880"/>
            <a:ext cx="1441440" cy="91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195640" y="5950080"/>
            <a:ext cx="2474640" cy="450720"/>
          </a:xfrm>
          <a:prstGeom prst="rect">
            <a:avLst/>
          </a:prstGeom>
          <a:ln w="0">
            <a:noFill/>
          </a:ln>
        </p:spPr>
      </p:pic>
      <p:pic>
        <p:nvPicPr>
          <p:cNvPr id="207" name="rg_hi" descr="ANd9GcSNhrX5XdgdIi6Y4kPBvyj9dj047zivDNJlLI0ec-c1hvYXoot4g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1280" y="5877000"/>
            <a:ext cx="1520640" cy="614160"/>
          </a:xfrm>
          <a:prstGeom prst="rect">
            <a:avLst/>
          </a:prstGeom>
          <a:ln w="0">
            <a:noFill/>
          </a:ln>
        </p:spPr>
      </p:pic>
      <p:sp>
        <p:nvSpPr>
          <p:cNvPr id="208" name="Subtitle 9"/>
          <p:cNvSpPr/>
          <p:nvPr/>
        </p:nvSpPr>
        <p:spPr>
          <a:xfrm>
            <a:off x="1023840" y="362268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ingstone,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6 to 18 Jul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539640" y="6237360"/>
            <a:ext cx="19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611280" y="765000"/>
            <a:ext cx="7489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2:  Peatlands (Global issu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% of the Earth surface- 4 million km</a:t>
            </a:r>
            <a:r>
              <a:rPr b="1" lang="en-CA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th peat of 30c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10 million  km</a:t>
            </a:r>
            <a:r>
              <a:rPr b="1" lang="en-CA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th peat &lt; 30c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of global freshwater resourc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611280" y="1773360"/>
            <a:ext cx="712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ealthy Peatlands/wetlands provide myriad benef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ent &amp; toxicant assimilation and carbon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od attenuation, erosion control, sediment trapp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, harvestable resources and cultivated food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ation to CC – Buffer to natural disasters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7632720" cy="31669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468360" y="260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dentification of Area and Integrated Project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fforts to Enhance Coordination and Synerg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964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three Rio conventions foresee and promote the creation of synergies between them for their harmonized implementatio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 joint Liaison Group (JLG) between UNFCCC, CBD UNCCD since 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d Hoc technical expert group (AHTEG) on CC and BD …since 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GEF’s Efforts while fulfilling its own Mandate and COP Guidance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umerous projects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Y WORKSHOPS, COP DECISIONS, AHTEGs AND PRESENTATIONS </a:t>
            </a:r>
            <a:r>
              <a:rPr b="1" lang="en-CA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UT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LITTLE RESULTS ON THE GROU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xercise session on Synergy between the Convent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keholders will be invited to present the reality on the ground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w the Conventions are implemented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actions are taken to promote synergies both at institutional (between the ministries involved in implementation of the Conventions)  and operational levels (concrete projects and programmes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are the hindrances to the effective materialization of  such synergi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best practices can be identified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 –ECW gives unique opportunity to discuss Synergy among the Rio Conventions as it gath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io Convention Focal Point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EF Operational Focal Points,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presentatives of the Civil Socie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e opportunity to discuss cross-cutting issues for all Convention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Objectives and Expected Outcome of the Exercise Session on Synerg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have concrete recommendations coming from the main actors of the implementation of the Rio Conventions present at this ECW on how to develop concrete synergies between the Rio Convention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XPECTED OUTCOM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mmendations that Focal Points will  take to their Ministri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rd of the recommendations in the ECW minutes for use in other ECW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ecretariats will compile all of the recommendations on how to achieve synergies from all ECWs and make them available for use by all stakehold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How the Exercise Session will take place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irst Part: </a:t>
            </a: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Work groups, the participants are divided by countries. Identifying similarities, duplications, opportunities for synergies in NAP, NAPA and NBSAP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focal points present priorities of their respective NAP, NAPA and NBSAP and how the foreseen actions are implemented and financed. (10mn each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scussion to identify the main and pressing similarities, duplications, overlapping activities what could be jointly implement, what are the hindrance to such joint implement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rap-up of the discussions identifying and writing on pap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t Two: Wrap-Up and Clustering of issu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t Three: Presentation and Approval of recommendation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RACTICAL EXERCISE ON SYNERGY FOLLOW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901800" y="3651120"/>
            <a:ext cx="7559640" cy="10368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799164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Picture 3" descr="present"/>
          <p:cNvPicPr/>
          <p:nvPr/>
        </p:nvPicPr>
        <p:blipFill>
          <a:blip r:embed="rId2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6" name="Picture 1" descr="future"/>
          <p:cNvPicPr/>
          <p:nvPr/>
        </p:nvPicPr>
        <p:blipFill>
          <a:blip r:embed="rId3"/>
          <a:stretch/>
        </p:blipFill>
        <p:spPr>
          <a:xfrm>
            <a:off x="6875640" y="836640"/>
            <a:ext cx="2016000" cy="195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7" name="Rectangle 5"/>
          <p:cNvSpPr/>
          <p:nvPr/>
        </p:nvSpPr>
        <p:spPr>
          <a:xfrm>
            <a:off x="611280" y="602136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icture credi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ubrovsky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rg_hi" descr="ANd9GcSNhrX5XdgdIi6Y4kPBvyj9dj047zivDNJlLI0ec-c1hvYXoot4gw"/>
          <p:cNvPicPr/>
          <p:nvPr/>
        </p:nvPicPr>
        <p:blipFill>
          <a:blip r:embed="rId4"/>
          <a:stretch/>
        </p:blipFill>
        <p:spPr>
          <a:xfrm>
            <a:off x="611280" y="5300640"/>
            <a:ext cx="1520640" cy="614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268360" y="5373720"/>
            <a:ext cx="2473560" cy="450720"/>
          </a:xfrm>
          <a:prstGeom prst="rect">
            <a:avLst/>
          </a:prstGeom>
          <a:ln w="0">
            <a:noFill/>
          </a:ln>
        </p:spPr>
      </p:pic>
      <p:pic>
        <p:nvPicPr>
          <p:cNvPr id="280" name="irc_mi" descr="UNCCD%20logo"/>
          <p:cNvPicPr/>
          <p:nvPr/>
        </p:nvPicPr>
        <p:blipFill>
          <a:blip r:embed="rId6"/>
          <a:stretch/>
        </p:blipFill>
        <p:spPr>
          <a:xfrm>
            <a:off x="4859280" y="5084640"/>
            <a:ext cx="1441440" cy="919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pic28945"/>
          <p:cNvPicPr/>
          <p:nvPr/>
        </p:nvPicPr>
        <p:blipFill>
          <a:blip r:embed="rId7"/>
          <a:stretch/>
        </p:blipFill>
        <p:spPr>
          <a:xfrm>
            <a:off x="6443640" y="5373720"/>
            <a:ext cx="2185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C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mplified Vicious Circle of Cross-effects of </a:t>
            </a:r>
            <a:br>
              <a:rPr sz="2000"/>
            </a:br>
            <a:r>
              <a:rPr b="1" lang="en-C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imate change, Desertification and Biodiversity Loss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30956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211" name="Rectangle 7"/>
          <p:cNvSpPr/>
          <p:nvPr/>
        </p:nvSpPr>
        <p:spPr>
          <a:xfrm>
            <a:off x="755640" y="4365720"/>
            <a:ext cx="80643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C, LDD (including water quantity and quality problems) and BD Lo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x Interlinkag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greatest challenges to Sustainable Development;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huge threat to Life on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y Impact each other Directly or Indirectly  &amp; through their Inte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mportant Linkages between BD Loss, CC, LD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nsustainable use of resour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n BD, CC, L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imate chan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erbates Current Situations of LDD and BD Loss </a:t>
            </a:r>
            <a:r>
              <a:rPr b="1" lang="en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d vulnerabil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rbon and Water Cycl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wo large-scale processes crucial for life on Earth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 on biodivers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iodiversity can help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resilience to the effects of climate change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at land degradation and desertification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viate poverty to which it is strongly linke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e opportunity for Proactive, Coherent, Holistic and Integrated Strategies and Measures: Joint Projects on the ground and Policy fora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ndividual/Isolated Activities and Response Measur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39640" y="3716280"/>
            <a:ext cx="82090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ny Global Environment Treaties &amp; Goals Developed in a Fragmented w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olated Activities and Responses unless necessary, tend to lea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cost-effectiven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den for Parties in terms of fulfilling obligations and reportin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 of unintended negative indirect impacts and externalit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account for changing population size and dynam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ntribution/impact to global environmental goods and servic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ed for Synergy and Integrated Projects wher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48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Vision of Coherent, Holistic and Integrated Projec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ision: Efficiently enhance multiple benefits b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nergistically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bining activities and efforts of the Conventions; a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eting the Conventions’ overall objectiv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thout wastage of resources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 a way that produces synergistic value-added benefits at local, national and global level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th appropriate institutional arrangement and communication protocols with respect to NAP, NAPA, NBSAP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verse the Vicious Circle of Cross-effects and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et  the Objectives and Strategic Plans, and fulfil the mandat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UN recogniz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interdependence</a:t>
            </a:r>
            <a:r>
              <a:rPr b="0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f the Conventions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strong synergies between their efforts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complementary nature of their activities that underpins the need for a holistic, coordinated and integrated approach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ationale for Integrated Projects and Challen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9280" y="119700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ationale for Synergy and Integrated Projects: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well known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d Management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Tools (M&amp;E, indicators, tracking) and Information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uplication of effort and unintended negative impact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Efficiently and Cost and Risk Sharing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ion of indigenous and local communities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undue burde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provision of support, capacity building, and enabling activitie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benefits at local, national and global levels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sign and implementation</a:t>
            </a:r>
            <a:r>
              <a:rPr b="0" i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f Integrated Projects/Activitie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alize the principles laid out in Rio+20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eet the Strategic Goals, Targets  and Plans of the Convention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line with GEF’s Strategic Goals and its Guidance to COP...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inking</a:t>
            </a:r>
            <a:r>
              <a:rPr b="0" i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o local actor’s activitie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counting for best practices and gender focussed traditional knowledge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volving  relevant stakeholders without undue burden and fatigue,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ing institutional arrangements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</a:t>
            </a:r>
            <a:r>
              <a:rPr b="0" lang="en-C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riad of Benefits but Little Clear Guidance Available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Oval 19"/>
          <p:cNvGrpSpPr/>
          <p:nvPr/>
        </p:nvGrpSpPr>
        <p:grpSpPr>
          <a:xfrm>
            <a:off x="4614840" y="755640"/>
            <a:ext cx="3340080" cy="3335400"/>
            <a:chOff x="4614840" y="755640"/>
            <a:chExt cx="3340080" cy="3335400"/>
          </a:xfrm>
        </p:grpSpPr>
        <p:pic>
          <p:nvPicPr>
            <p:cNvPr id="222" name="Oval 19" descr=""/>
            <p:cNvPicPr/>
            <p:nvPr/>
          </p:nvPicPr>
          <p:blipFill>
            <a:blip r:embed="rId1"/>
            <a:stretch/>
          </p:blipFill>
          <p:spPr>
            <a:xfrm>
              <a:off x="4614840" y="755640"/>
              <a:ext cx="334008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13501800">
              <a:off x="5353560" y="1116720"/>
              <a:ext cx="1854000" cy="25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7"/>
          <p:cNvSpPr/>
          <p:nvPr/>
        </p:nvSpPr>
        <p:spPr>
          <a:xfrm>
            <a:off x="755640" y="26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Coordinated, Holistic and Integrated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Oval 4"/>
          <p:cNvGrpSpPr/>
          <p:nvPr/>
        </p:nvGrpSpPr>
        <p:grpSpPr>
          <a:xfrm>
            <a:off x="4041720" y="1427040"/>
            <a:ext cx="2835360" cy="3151440"/>
            <a:chOff x="4041720" y="1427040"/>
            <a:chExt cx="2835360" cy="3151440"/>
          </a:xfrm>
        </p:grpSpPr>
        <p:pic>
          <p:nvPicPr>
            <p:cNvPr id="226" name="Oval 4" descr=""/>
            <p:cNvPicPr/>
            <p:nvPr/>
          </p:nvPicPr>
          <p:blipFill>
            <a:blip r:embed="rId2"/>
            <a:stretch/>
          </p:blipFill>
          <p:spPr>
            <a:xfrm>
              <a:off x="4041720" y="1427040"/>
              <a:ext cx="283536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 rot="5400000">
              <a:off x="4412520" y="2029680"/>
              <a:ext cx="208728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Oval 9"/>
          <p:cNvGrpSpPr/>
          <p:nvPr/>
        </p:nvGrpSpPr>
        <p:grpSpPr>
          <a:xfrm>
            <a:off x="4614840" y="1182600"/>
            <a:ext cx="3340080" cy="2809800"/>
            <a:chOff x="4614840" y="1182600"/>
            <a:chExt cx="3340080" cy="2809800"/>
          </a:xfrm>
        </p:grpSpPr>
        <p:pic>
          <p:nvPicPr>
            <p:cNvPr id="229" name="Oval 9" descr=""/>
            <p:cNvPicPr/>
            <p:nvPr/>
          </p:nvPicPr>
          <p:blipFill>
            <a:blip r:embed="rId3"/>
            <a:stretch/>
          </p:blipFill>
          <p:spPr>
            <a:xfrm>
              <a:off x="4614840" y="1182600"/>
              <a:ext cx="33400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1132200">
              <a:off x="5149440" y="1655640"/>
              <a:ext cx="22701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Oval 10"/>
          <p:cNvGrpSpPr/>
          <p:nvPr/>
        </p:nvGrpSpPr>
        <p:grpSpPr>
          <a:xfrm>
            <a:off x="3200400" y="762120"/>
            <a:ext cx="3303720" cy="2987640"/>
            <a:chOff x="3200400" y="762120"/>
            <a:chExt cx="3303720" cy="2987640"/>
          </a:xfrm>
        </p:grpSpPr>
        <p:pic>
          <p:nvPicPr>
            <p:cNvPr id="232" name="Oval 10" descr=""/>
            <p:cNvPicPr/>
            <p:nvPr/>
          </p:nvPicPr>
          <p:blipFill>
            <a:blip r:embed="rId4"/>
            <a:stretch/>
          </p:blipFill>
          <p:spPr>
            <a:xfrm>
              <a:off x="3200400" y="762120"/>
              <a:ext cx="33037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20457000">
              <a:off x="3738240" y="1244160"/>
              <a:ext cx="222408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8"/>
          <p:cNvGrpSpPr/>
          <p:nvPr/>
        </p:nvGrpSpPr>
        <p:grpSpPr>
          <a:xfrm>
            <a:off x="250920" y="1844640"/>
            <a:ext cx="2736720" cy="762840"/>
            <a:chOff x="250920" y="1844640"/>
            <a:chExt cx="2736720" cy="762840"/>
          </a:xfrm>
        </p:grpSpPr>
        <p:grpSp>
          <p:nvGrpSpPr>
            <p:cNvPr id="235" name="Rektangel 128"/>
            <p:cNvGrpSpPr/>
            <p:nvPr/>
          </p:nvGrpSpPr>
          <p:grpSpPr>
            <a:xfrm>
              <a:off x="250920" y="1844640"/>
              <a:ext cx="2549880" cy="738360"/>
              <a:chOff x="250920" y="1844640"/>
              <a:chExt cx="2549880" cy="738360"/>
            </a:xfrm>
          </p:grpSpPr>
          <p:pic>
            <p:nvPicPr>
              <p:cNvPr id="236" name="Rektangel 1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844640"/>
                <a:ext cx="254988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287640" y="1874160"/>
                <a:ext cx="242316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Rektangel 63"/>
            <p:cNvSpPr/>
            <p:nvPr/>
          </p:nvSpPr>
          <p:spPr>
            <a:xfrm>
              <a:off x="356760" y="1874160"/>
              <a:ext cx="2630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UNFCCC Projects : CC Strategic Objectives, NAPs, NAPAs, NAMA’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8"/>
          <p:cNvGrpSpPr/>
          <p:nvPr/>
        </p:nvGrpSpPr>
        <p:grpSpPr>
          <a:xfrm>
            <a:off x="250920" y="2781360"/>
            <a:ext cx="2520720" cy="738000"/>
            <a:chOff x="250920" y="2781360"/>
            <a:chExt cx="2520720" cy="738000"/>
          </a:xfrm>
        </p:grpSpPr>
        <p:grpSp>
          <p:nvGrpSpPr>
            <p:cNvPr id="240" name="Rektangel 128"/>
            <p:cNvGrpSpPr/>
            <p:nvPr/>
          </p:nvGrpSpPr>
          <p:grpSpPr>
            <a:xfrm>
              <a:off x="250920" y="2785320"/>
              <a:ext cx="2520720" cy="734040"/>
              <a:chOff x="250920" y="2785320"/>
              <a:chExt cx="2520720" cy="734040"/>
            </a:xfrm>
          </p:grpSpPr>
          <p:pic>
            <p:nvPicPr>
              <p:cNvPr id="241" name="Rektangel 128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2785320"/>
                <a:ext cx="252072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286200" y="2816640"/>
                <a:ext cx="23965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Rektangel 63"/>
            <p:cNvSpPr/>
            <p:nvPr/>
          </p:nvSpPr>
          <p:spPr>
            <a:xfrm>
              <a:off x="385920" y="2781360"/>
              <a:ext cx="209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CBD Projects: BD Aichi Targets &amp; Strategic Plan &amp; ABS and Biosafe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8"/>
          <p:cNvGrpSpPr/>
          <p:nvPr/>
        </p:nvGrpSpPr>
        <p:grpSpPr>
          <a:xfrm>
            <a:off x="324000" y="3645000"/>
            <a:ext cx="2519280" cy="828000"/>
            <a:chOff x="324000" y="3645000"/>
            <a:chExt cx="2519280" cy="828000"/>
          </a:xfrm>
        </p:grpSpPr>
        <p:grpSp>
          <p:nvGrpSpPr>
            <p:cNvPr id="245" name="Rektangel 128"/>
            <p:cNvGrpSpPr/>
            <p:nvPr/>
          </p:nvGrpSpPr>
          <p:grpSpPr>
            <a:xfrm>
              <a:off x="324000" y="3645000"/>
              <a:ext cx="2519280" cy="811080"/>
              <a:chOff x="324000" y="3645000"/>
              <a:chExt cx="2519280" cy="811080"/>
            </a:xfrm>
          </p:grpSpPr>
          <p:pic>
            <p:nvPicPr>
              <p:cNvPr id="246" name="Rektangel 128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00" y="3645000"/>
                <a:ext cx="251928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360360" y="3676680"/>
                <a:ext cx="2395440" cy="69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ktangel 63"/>
            <p:cNvSpPr/>
            <p:nvPr/>
          </p:nvSpPr>
          <p:spPr>
            <a:xfrm>
              <a:off x="430200" y="3739680"/>
              <a:ext cx="239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Other MEA, National... Projects: variou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Strategic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8"/>
          <p:cNvGrpSpPr/>
          <p:nvPr/>
        </p:nvGrpSpPr>
        <p:grpSpPr>
          <a:xfrm>
            <a:off x="250920" y="880920"/>
            <a:ext cx="2736720" cy="1012680"/>
            <a:chOff x="250920" y="880920"/>
            <a:chExt cx="2736720" cy="1012680"/>
          </a:xfrm>
        </p:grpSpPr>
        <p:grpSp>
          <p:nvGrpSpPr>
            <p:cNvPr id="250" name="Rektangel 128"/>
            <p:cNvGrpSpPr/>
            <p:nvPr/>
          </p:nvGrpSpPr>
          <p:grpSpPr>
            <a:xfrm>
              <a:off x="250920" y="880920"/>
              <a:ext cx="2610000" cy="801720"/>
              <a:chOff x="250920" y="880920"/>
              <a:chExt cx="2610000" cy="801720"/>
            </a:xfrm>
          </p:grpSpPr>
          <p:pic>
            <p:nvPicPr>
              <p:cNvPr id="251" name="Rektangel 128" descr=""/>
              <p:cNvPicPr/>
              <p:nvPr/>
            </p:nvPicPr>
            <p:blipFill>
              <a:blip r:embed="rId8"/>
              <a:stretch/>
            </p:blipFill>
            <p:spPr>
              <a:xfrm>
                <a:off x="250920" y="880920"/>
                <a:ext cx="261000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287640" y="913320"/>
                <a:ext cx="2484360" cy="68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Rektangel 63"/>
            <p:cNvSpPr/>
            <p:nvPr/>
          </p:nvSpPr>
          <p:spPr>
            <a:xfrm>
              <a:off x="358200" y="939600"/>
              <a:ext cx="26294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UNCCD Projects : LDD Strategic Objectives &amp; Plan 2008-2018; Rio approved plan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22"/>
          <p:cNvSpPr/>
          <p:nvPr/>
        </p:nvSpPr>
        <p:spPr>
          <a:xfrm>
            <a:off x="684360" y="4508640"/>
            <a:ext cx="72007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A synergistically 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Integrated Projec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lps achieve selected objectives of the Conventions simultaneously (</a:t>
            </a:r>
            <a:r>
              <a:rPr b="1" lang="en-US" sz="1600" spc="-1" strike="noStrike">
                <a:solidFill>
                  <a:srgbClr val="00b0f0"/>
                </a:solidFill>
                <a:latin typeface="Times New Roman"/>
                <a:ea typeface="ＭＳ Ｐゴシック"/>
              </a:rPr>
              <a:t>Intersection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 – </a:t>
            </a:r>
            <a:r>
              <a:rPr b="1" lang="en-C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ages between the Conventions become substantial where the need for enhanced cooperation is crucial to maximize the potential implementation of the Convention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Individual/Isolated project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quir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measur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avoid unintended negative impacts on each other’s objectives and facilitate co-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dentification of Area and Integrated Projects</a:t>
            </a: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for Implement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tegrated Project Selec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ere &amp; which CC, LD or BD loss impacts are most critical to address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 </a:t>
            </a: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ority to areas of high vulnerability and critical for environmental integrity for the  provision of ecosystem goods and services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Projects of high potential multiple benefits/co-benefits &amp;</a:t>
            </a:r>
            <a:r>
              <a:rPr b="1" i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eviation of Povert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uman potential response, participatio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Gender, Traditional Knowledge, Best Practices…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dentify goals and possible benefits and expected outcome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Short, medium and long-term results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dress current data/knowledge gaps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for baseline, indicators, M&amp;E tools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stimate resource requirements: Feasibility, cost and source of fund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vailability of resources accounting for all sources..</a:t>
            </a:r>
            <a:r>
              <a:rPr b="0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unding sources (ex. GEF and co-financing) and Partnerships possibilities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omestic sources of funding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 Risk Condition</a:t>
            </a:r>
            <a:r>
              <a:rPr b="0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efficient management and life cycle project reviews, clear objectives,  and M&amp;E tools and outcome indicators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 criteria</a:t>
            </a:r>
            <a:r>
              <a:rPr b="0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ty consideratio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ional compatibility of policy combination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cost and long-term environmental effectivenes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dentification of Area and Integrated Projects (Cont.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836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1. Drylands (Global issu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1.3% of land surface of the Earth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 of 25 global hotspots</a:t>
            </a:r>
            <a:r>
              <a:rPr b="0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6% of Global Population (2.1 billion people) –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0% in Developing Countries, 84 % in Grasslands and Rangelands and 50% below poverty line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4% of the World’s cultivated System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Content Placeholder 3" descr=""/>
          <p:cNvPicPr/>
          <p:nvPr/>
        </p:nvPicPr>
        <p:blipFill>
          <a:blip r:embed="rId1"/>
          <a:stretch/>
        </p:blipFill>
        <p:spPr>
          <a:xfrm>
            <a:off x="542880" y="2481120"/>
            <a:ext cx="82771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9:57:25Z</dcterms:created>
  <dc:creator>Edji-CAD</dc:creator>
  <dc:description/>
  <dc:language>en-US</dc:language>
  <cp:lastModifiedBy>Robert T. Schreiber</cp:lastModifiedBy>
  <dcterms:modified xsi:type="dcterms:W3CDTF">2013-07-09T15:34:06Z</dcterms:modified>
  <cp:revision>630</cp:revision>
  <dc:subject/>
  <dc:title>GEF Expanded Constituency Workshop (ECW) Honduras – February 19-21, 2013</dc:title>
</cp:coreProperties>
</file>