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29DB-2EAB-4784-A23E-C0FA961EA9F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8D4F-1133-4AF9-AE50-5D05C5D3BDB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F48-4566-4D65-A9CA-E989F579B48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355-5818-4B6B-BF33-74827D9917F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626-1C24-42DB-A792-0A876DD6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A7-031E-4D6D-8789-0FC551B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F2C-E815-4331-9B64-92ECA0A2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561-A102-48E7-A786-A4DC99B9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35C-B6CE-4FF0-B308-60AEB68E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4E26-C0F0-41ED-80EE-9248A91B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D243-6058-40D9-8393-BE70844D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CB1-D84C-4C88-A26D-0EEE850C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1439-5667-489A-8C48-7749CF7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1F85-4839-4039-9BBA-BF7D4BF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F5A2-DD37-4CC5-A183-C8AADA1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A41-D288-44F2-A667-17F5F6BC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636-D027-4EE7-AA85-2C66C14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E42-7C88-47BD-9657-BA00081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991-4CEF-4D26-B5EF-2EBA1E0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CA0-E95F-4E24-B2ED-DEA7153F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F0D0-2A0C-4F91-B405-BA34F158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1D8B-9C1D-4D33-A3FB-8A7A1A34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A780-19B1-4D3E-BE53-6C649CE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BE66-049A-4876-BF0A-0736218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BBF6-F448-4AE9-B23D-481A65E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91EB-675E-461F-B2E1-F43E42F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747-8B01-4750-BAA4-2C37393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73AB-5985-41D6-9778-5F59B0E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7544-E192-43EA-8A57-3D960C8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18BA-D05B-4012-BBEC-21E0858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66AA-E8DB-41CB-8231-A029063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2D3E-43FC-4D28-8796-57FE2EA4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64D6-4731-42B6-A690-C0E681CE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3466-7856-4A12-8FF7-2F4BBF73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036D-04CB-4948-9DAF-194A75D2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920C-D70A-43D7-A24C-A3A913B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8C20-7979-44A4-B3B8-BAF7AEC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74C-9B48-423D-B573-B6D9974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12AC-F9EE-4C60-9D7C-3DFDC66C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1B79-4CC8-4F4B-944D-0D1DB785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F471-DE1F-484A-8CAE-68EAB59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291C-87CE-476E-B0B7-1EA0517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92DD-AC81-4259-A574-48442D9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11EC-DA7B-4A3B-AE1A-886F8FD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4486-6CC3-425E-A3B7-B49B3357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F0C5-F33A-4133-B75C-9472083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C223-5052-4936-A0A2-83B1EF6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AD2-3F69-4B05-A710-2A997A5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C24-3C02-4F05-9F9A-DFBEF1D9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BA4-0308-4D3E-A8D3-43C5142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00F-85BE-46C5-AF58-F6F40B4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392-82BC-43B9-91A8-57CF82D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0B6-70B4-40C0-A7E9-0ED06FED56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5F1-4CF1-496D-9E8A-A57BA716B46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47F9-0BA2-4F77-A766-5457C22270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FA4-5E8F-4AD3-ADFD-DB79A0B69B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6360" y="1584360"/>
            <a:ext cx="8285400" cy="2421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/>
          <p:cNvPicPr/>
          <p:nvPr/>
        </p:nvPicPr>
        <p:blipFill>
          <a:blip r:embed="rId6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در: مصادر متنو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ثاني: أراضي الخث (قضايا عالمية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سطح الأرض –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من الخث (الفحم العضوي) بارتفاع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يقل ارتفاعها عن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صادر المياه العذبة بالعا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اضي الخث/الأراضي الرطبة الصحية توفر منافع لا تُعد ولا تُحص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تصاص المغذيات الدقيقة والمواد السامة وتخزين الكر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فيف الفيضانات، والحد من التآكل، وحبس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سيبات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ياه،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رد القابلة للحصاد، وزراعة الأغذي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يف مع تغير المناخ – عازل في وجه الكوارث الطبيع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ar-EG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هود تعزيز التنسيق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تضافر الجهود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توقع اتفاقيات ريو دي جانيرو الثلاث وتشجع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يما بينها من أجل التناغم في تنفيذها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اتصال مشتركة بين اتفاقية الأمم المتحدة الإطاربة لمكافحة تغير المناخ، والاتفاقية المعنية ب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تفاقية مكافحة التصحر،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من الخبراء الفنيين في مجالي تغير المناخ و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..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هود التي يبذلها مرفق البيئة العالمي أثناء نهوضه بالتفويض الموكل إليه وإرشادات مؤتمر الأطراف: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شروعات متعددة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ثير من ورش العمل، وقرارات مؤتمر الأطراف، ومجموعات الخبراء الفنيين، والعروض التقديمية، 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لكن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نتائج تظل قليلة جداً على أرض الواق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ين الاتفاقيات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دعوة أصحاب المصلحة إلى عرض الحقائق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ض الواقع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يف يجري تنفيذ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أعمال التي يتم القيام بها للتشجيع على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واء على المستوى المؤسسي (بين الوزارات الضالعة في تنفيذ الاتفاقيات) ومستوى العمليات (المشروعات والبرامج الملموسة)؛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معوقات التي تحول دون تحقق مثل هذا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ضافر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فعال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أفضل الممارسات التي يمكن تحديدها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عمل الموسعة ل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بلدان الأعضاء في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مرفق البيئة العالمي تتيح فرصة فريدة لمناقشة أوجه التوافق فيما بين اتفاقيات ريو دي جانيرو عند انعقادها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تفاقيات ريو دي جانيرو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يات لدي مرفق البيئة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مثلو المجتمع المد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مناقشة القضايا المتداخلة بالنسبة لكاف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اتفاق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دف 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نتيجتها المتوقعة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هدف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خروج بتوصيات ملموسة من جانب الأطراف الرئيسية الفاعلة في عملية تنفيذ اتفاقيات ريو دي جانيرو والمشاركة في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 هذه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بلدان الأعضاء في مرفق البيئة العالمي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بشأن كيفية التوفيق بشكل ملموس بين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تيجة المتوقعة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وصيات التي سيرفعها ممثلو البلدان إلى وزاراتهم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سجيل التوصيات في محضر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 لاستخدامها في غيرها من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تقوم السكرتارية بتجميع كافة ما خرجت به جميع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مل الموسعة من توصيات بشأن كيفية تحقيق التوافق وجعلها متاحة لكافة أصحاب المصلح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يفية انعقاد جلسة التمرين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أول: مجموعات العمل، حيث يتم تقسيم المشاركين حسب البلدان، وتحديد أوجه التشابه، والازدواجية، وفرص التماثل في خطة التكيف الوطنية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خطة عمل التكيف الوطنية، وخطة العمل والاستراتيجية الوطنية ل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ق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اكز التنسيق والاتصال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تلفة الأولويات الخاصة لخططها واستراتيجياتها وكيف تتوقع تنفيذ العمليات المنشودة وتمويلها 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دقائق لكل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جهة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جراء نقاش لتحديد أهم وأبرز أوجه التشابه، والازدواجية، وتداخل الأنشطة، وما يمكن تنفيذه بشكل مشترك، وما هي العراقيل التي تواجه مثل هذا التنفيذ المشتر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خيص النقاش وتحديد خلاصته كتابة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ني: تلخيص القضايا وت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قسيمها في مجموع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لث: العرض التقديمي والموافقة على التوصي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تبع ذلك التمرين العملي على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ضافر الجهو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كراً لك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بسيط للحلقة المفرغة للآثار المتشعبة لتغير المناخ، والتصحر، وفقدان التنوع </a:t>
            </a:r>
            <a:r>
              <a:rPr b="1" lang="ar-SA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بيولوجي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، وتدهور التربة والتصحر (بما في ذلك مشكلات كمية المياه ونوعيتها) وفقدان التنوع </a:t>
            </a:r>
            <a:r>
              <a:rPr b="1" lang="ar-SA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وجه الترابط المعقدة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كبر التحديات للتنمية المستدامة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هديد كبير للحياة على الأ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ؤثر في بعضها البعض بشكل مباشر أو غير مباشر، ومن خلال التفاعلات فيما ب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أوجه الارتباط الهامة بين فقدان التنوع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تغير المناخ، وتدهور التربة والتصح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استخدام غير المستدام للموار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ثاره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تغير المناخ، وتدهور الترب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اقم الأوضاع الحالية لتدهور التربة والتصحر، وفقدان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ـ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ؤدي إلى زيادة التعرض للخط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دورتان الكربونية والمائ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 عمليتان هائلتان لهما أهمية بالغة بالنسبة للحياة على الأرض؛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مدان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نوع </a:t>
            </a:r>
            <a:r>
              <a:rPr b="1" lang="ar-SA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استطاعته المساعدة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زيز المرونة في وجه آثار تغير المناخ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افحة تدهور التربة والتصحر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فيف من حدة الفقر الذي ترتبط به بشدة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تطبيق الاستراتيجيات والإجراءات الاستباقي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تسق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، والمتكاملة: مشروعات مشتركة على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ض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واقع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وفي المنتديات السياسية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أنشطة المنفردة/المنعزلة وإجراءات الاستجاب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ضع الكثير من المعاهدات البيئية العالمية والأهداف بطريقة تتسم بالتفتت والتشرذ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نعزالية الأنشطة والاستجابات مالم تكن هناك ضرورة، وهو ما يؤدي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ة فعالية التكلف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قاء أعباء على عاتق الأطراف المعنية فيما يتعلق بالوفاء بالالتزامات والإبلاغ؛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كانية حدوث آثار سلبية غير مباشرة دون عمد وتدخل عوامل خارجي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أخذ تغير أعداد السكان وعوامله في الحسبان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عف المساهمة/التأثير في تحقيق الصالح العام والخدمات البيئية العالمية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ضرورة النهوض بمشروعات متوافقة ومتكاملة ما أ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رؤية الخاصة بالمشروعات المتسقة،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رؤية: التعزيز الفعال للمنافع المتعددة من خلال الاتساق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ط بين الأنشطة والجهود الخاصة بالاتفاقيات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وغ الأهداف العامة للاتفاق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دون إضاعة للموارد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طريقة تحقق منافع قيمة مضافة متسقة على المستويات المحلية، والوطنية، والعالمية؛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ن خلال الترتيبات المؤسسية المناسبة وبروتوكولات الاتصالات المتعلقة ببرنامج التكيف الوطني، وبرنامج عمل التكيف الوطني، واستراتيجية وخطة العمل الوطن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سر الحلقة المفرغة من الآثار المتداخلة وتحقيق الأهداف والخطط الاستراتيجية، و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وفاء بالمتطلبات الوارد بشأنها تكليفات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درك الأمم المتحدة جيداً ما يل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عتماد الاتفاقيات على بعضها البعض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ضرورة التوفيق الشديد بين جهود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طبيعة التكاملية لأنشطتها التي تؤكد على الحاجة إلى اتباع نهج </a:t>
            </a:r>
            <a:r>
              <a:rPr b="1" i="1" lang="ar-SA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شامل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، متناسق، ومتكام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EG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بررات المشروعات المتكاملة والتحديات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ar-SA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بررات الداعية لتضافر الجهود </a:t>
            </a:r>
            <a:r>
              <a:rPr b="0" lang="ar-EG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مشروعات المتكاملة: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روفة جيدا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دار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سق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اركة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أدوات (كمؤشرات الإدارة والتقييم،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ابع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في المعلوم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من ازدواجية الجهود والآثار السلبية غير المقصودة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التكلفة وتقاسم التكلفة والمخاطر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اركة المجتمعات المحلية والسكان الأصليين دون تحميلها أعباء لا داعي ل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تقديم المساندة، وبناء القدرات، وأنشطة التمكين؛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منافع متعددة على المستويات المحلية، والوطنية، والعالم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حد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صميم وتنفيذ مشروعات/أنشطة متكامل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رساء المبادئ المنصوص عليها في اتفاقية ريو +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أهداف الاستراتيجية للاتفاقيات، والنتائج المستهدفة والخط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افق مع الأهداف الاستراتيجية لمرفق البيئة وإرشاداته لمؤتمر الأطراف...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ربطها بأنشطة الأطراف المحلية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أخذ أفضل الممارسات والمعرفة التقليدية ذات التركيز على المساواة بين الجنسين في الحسبان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إشراك أصحاب المصلحة المعنيين دون تحميلهم أعباء لا داعي لها أو إرهاقهم،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رساء الترتيبات المؤسسية...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افع لا تُعد ولا تُحصى ولكن لا يوجد سوى القليل من الإرشادات الواضحة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شروعات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نسق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520720" cy="1404360"/>
            <a:chOff x="250920" y="1844640"/>
            <a:chExt cx="2520720" cy="140436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20720" cy="819720"/>
              <a:chOff x="250920" y="1844640"/>
              <a:chExt cx="2520720" cy="81972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2072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280" y="187740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5320" y="1877400"/>
              <a:ext cx="2390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إطارية بشأن تغير المناخ: الأهداف الاستراتيجية المتعلقة بتغير المناخ، وخطط التكيف الوطنية ، وخطط عمل التكيف الوطنية، وأعمال التخفيف الملائمة وطنيا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3960" cy="1189080"/>
            <a:chOff x="250920" y="2781360"/>
            <a:chExt cx="2523960" cy="118908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680"/>
              <a:ext cx="2523960" cy="804600"/>
              <a:chOff x="250920" y="2785680"/>
              <a:chExt cx="2523960" cy="80460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680"/>
                <a:ext cx="25239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560" y="2820240"/>
                <a:ext cx="239904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6280" y="2781360"/>
              <a:ext cx="230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معنية بالتنوع البيولوجي: أهداف آيتشي والخطة الاستراتيجية للتنوع البيولوجي، وتبادل المعلومات والمنافع، والسلامة الحيو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1040760"/>
            <a:chOff x="324000" y="3645000"/>
            <a:chExt cx="2519280" cy="104076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09640"/>
              <a:chOff x="324000" y="3645000"/>
              <a:chExt cx="2519280" cy="80964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320"/>
              <a:ext cx="2391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المشروعات الأخرى للاتفاقيات البيئية متعددة الأطراف والوطنية: أهداف استراتيجة متنو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523960" cy="1429920"/>
            <a:chOff x="250920" y="880920"/>
            <a:chExt cx="2523960" cy="142992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523960" cy="798120"/>
              <a:chOff x="250920" y="880920"/>
              <a:chExt cx="2523960" cy="7981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52396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6560" y="913320"/>
                <a:ext cx="2401920" cy="67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4600" y="939240"/>
              <a:ext cx="234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تفاقية مكافحة التصحر: الأهداف والخطة الاستراتيجية لمكافحة تدهور التربة والتصحر، 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0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-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1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؛ الخطة التي تمت الموافقة عليها في مؤتمر ريو دي جانيرو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Constantia"/>
                <a:cs typeface="ＭＳ Ｐゴシック"/>
              </a:rPr>
              <a:t>المشروع التوافقي المتكامل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في تحقيق أهداف الاتفاقيات المختارة بشكل متزامن (</a:t>
            </a:r>
            <a:r>
              <a:rPr b="1" lang="ar-EG" sz="16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فيما بين الأقسام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ar-EG" sz="1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صبح أوجه الترابط بين الاتفاقيات ملموسة أينما كانت للحاجة إلى تعزيز التعاون أهمية بالغة لتعظيم إمكانيات تنفيذ الاتفاقيات؛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</a:rPr>
              <a:t>المشروعات المنفردة/المنعزلة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تتطلب 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</a:rPr>
              <a:t>إجراءات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لتفادي الآثار السلبية غير المقصودة على أهداف بعضها البعض الآخر وتسهل المنفعة المشترك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لشروع في التنفي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ختيار المشروعات المتكا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ين تشتد أهمية معالجة آثار تغير المناخ، أو تدهور التربة، أو فقدان 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ولوية للمناطق شديدة التعرض للخطر وذات الأهمية البالغة للتكامل البيئي بالنسبة لتحقيق صالح النظام البيئي وخدماته؛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شروعات التي تنطوي على إمكانيات كبرى لتحقيق منافع متعددة ومشتركة وتخفيف حدة الفق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مكانية الاستجابة البشرية والمشاركة...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مساواة بين الجنسين، والمعرفة التقليدية، وأفضل الممارسات..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حديد الأهداف والمنافع المحتملة والنتائج المتوقع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نتائج على الأمد القصير، والمتوسط، والطويل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سد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جوات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انات/المعرفة القائم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من أجل تحديد خط الأساس، والمؤشرات، وأدوات الإدارة والتقيي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دير المتطلبات من الموارد: الجدوى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كلفة، ومصدر التموي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وافر محاسبة الموارد بالنسبة لكافة المصادر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(مثل مرفق البيئة والتمويل المشترك) وإمكانية إنشاء الشراك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المحلية؟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برز أوضاع المخاطر: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فتقار إلى كفاءة الإدارة واستعراضات دورة حياة المشروعات، وإلى وضوح الأهداف، وأدوات الإدارة والتقييم، ومؤشرات النتائج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المعايير: 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حقوق رأس المال في الاعتبار؛ والتوافق المؤسسي مع مزيج السياسات؛ وفعالية التكلفة، والفعالية البيئية طويلة الأم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أول: الأراضي الجافة (قضايا عالم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المساحة البرية لسطح الأرض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بين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طقة شديدة الأهمية عالمياً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سكان العالم (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1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ليار شخص)</a:t>
            </a: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بلدان النامية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مناطق العشبية والمراعي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دون خط الفقر)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أنظمة المحاصيل بالعال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Abeer Mohammed Abdul Kad Al Dagestani</cp:lastModifiedBy>
  <dcterms:modified xsi:type="dcterms:W3CDTF">2013-12-09T21:49:15Z</dcterms:modified>
  <cp:revision>667</cp:revision>
  <dc:subject/>
  <dc:title>GEF Expanded Constituency Workshop (ECW) Honduras – February 19-21, 2013</dc:title>
</cp:coreProperties>
</file>