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B3A-56E0-43A8-91A4-86CB40A9436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38C-75AF-4B14-B024-437AC4F7F80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5D56-BF47-4D43-B9D5-BC85153067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F82-C14E-424C-A4D0-37CBC791E8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B6F-2140-4CCC-ADDE-A194C07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729-6B87-488D-8989-32BD6A3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8C3-26BB-4BA8-9089-FC26BFE8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96E-93BF-4ADE-B841-F347BBF0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9712-FA0E-4944-9DDA-3C209897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8F6A-62BB-4E8A-973D-2EE5785A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AB26-EC47-4606-B7A7-D1E3B702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B2EF-5C72-40A4-85DC-1728B300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A80-687D-4055-A8C6-8F92483C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53BE-DCCF-4AA6-B6B0-32245B5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F36-C41C-4FB6-8721-2D68AA8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850-BDF4-4E75-BCAE-7689962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4E1-4CF7-4A06-909F-1EAA23C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CE63-C7F1-453D-B33C-1C03093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C0C-32FE-40BA-86C2-79C4B9DC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F44B-9041-4083-B25A-9F7B3EFC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34F-9788-4B22-8F3A-06AFEEB2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E7CA-32D4-4797-BF83-5A50169A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FD2A-E93A-47D2-B7B5-5271DAF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2BCE-8497-44A0-B5E3-52AD9C90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2CE4-4E57-41D9-B7BB-83F6AACD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386F-23A8-4761-AA3D-8FA60EA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240-4EBB-46AE-B845-4EBE103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A609-31E2-4F4D-8F3B-E2FB387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3272-E13F-4238-B32B-64B3388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1121-A6D3-4B63-8229-7C1A927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534F-8AE1-4E3C-916D-3B5959F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0457-DF06-4D96-A9EC-276B137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6D8B-742C-4243-8EE6-9EB85CEC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24AE-E782-41DE-B2FE-BB646ED4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7280-6747-402F-8ECA-74F2BCCC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BB1C-DE4B-4CF6-957D-C959F30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DEA3-6D86-4DD0-838A-69EB0E1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5C5-F455-4CCE-A993-E70DBD0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DE4E-2F17-445F-82E6-243476E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76EB-D60F-445B-9A75-E9DC6FB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32E7-E150-4E7D-82A8-281AEB2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F75B-B889-4543-880C-DE30057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F74C-980B-4DEA-B4B1-983DCCC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A962-12FF-47E5-A5E4-67DE779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12C8-1BB7-4AB2-A587-E70B701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C911-C5F0-4306-85FA-D54DCC2C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468B-D380-452A-BB1D-255203F3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2D3-B941-4535-A68C-A6DC7B75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9EA-A30A-4BD0-A891-AA367AD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B8E-DA4F-4970-86EE-AB78862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67A-7220-4593-B624-05B384E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138-A841-472D-9552-D159D17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6EBC-EA6D-43ED-8680-ECFE3BD6F2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F79-4D9B-49AF-AAA1-6B38EA9F3A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DB9-436C-45EE-B16C-5296857E1D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AF38-72AE-431D-B9C8-3E6A5E3A02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6360" y="1584360"/>
            <a:ext cx="8285400" cy="2421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/>
          <p:cNvPicPr/>
          <p:nvPr/>
        </p:nvPicPr>
        <p:blipFill>
          <a:blip r:embed="rId6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در: مصادر متنو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ثاني: أراضي الخث (قضايا عالمية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سطح الأرض –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من الخث (الفحم العضوي) بارتفاع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يقل ارتفاعها عن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صادر المياه العذبة بالعا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اضي الخث/الأراضي الرطبة الصحية توفر منافع لا تُعد ولا تُحص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تصاص المغذيات الدقيقة والمواد السامة وتخزين الكر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فيف الفيضانات، والحد من التآكل، وحبس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سيبات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ياه،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رد القابلة للحصاد، وزراعة الأغذي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يف مع تغير المناخ – عازل في وجه الكوارث الطبيع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ar-EG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هود تعزيز التنسيق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تضافر الجهود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توقع اتفاقيات ريو دي جانيرو الثلاث وتشجع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يما بينها من أجل التناغم في تنفيذها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اتصال مشتركة بين اتفاقية الأمم المتحدة الإطاربة لمكافحة تغير المناخ، والاتفاقية المعنية ب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تفاقية مكافحة التصحر،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من الخبراء الفنيين في مجالي تغير المناخ و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..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هود التي يبذلها مرفق البيئة العالمي أثناء نهوضه بالتفويض الموكل إليه وإرشادات مؤتمر الأطراف: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شروعات متعددة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ثير من ورش العمل، وقرارات مؤتمر الأطراف، ومجموعات الخبراء الفنيين، والعروض التقديمية، 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لكن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نتائج تظل قليلة جداً على أرض الواق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ين الاتفاقيات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دعوة أصحاب المصلحة إلى عرض الحقائق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ض الواقع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يف يجري تنفيذ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أعمال التي يتم القيام بها للتشجيع على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واء على المستوى المؤسسي (بين الوزارات الضالعة في تنفيذ الاتفاقيات) ومستوى العمليات (المشروعات والبرامج الملموسة)؛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معوقات التي تحول دون تحقق مثل هذا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ضافر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فعال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أفضل الممارسات التي يمكن تحديدها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عمل الموسعة ل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بلدان الأعضاء في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مرفق البيئة العالمي تتيح فرصة فريدة لمناقشة أوجه التوافق فيما بين اتفاقيات ريو دي جانيرو عند انعقادها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تفاقيات ريو دي جانيرو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يات لدي مرفق البيئة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مثلو المجتمع المد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مناقشة القضايا المتداخلة بالنسبة لكاف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اتفاق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دف 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نتيجتها المتوقعة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هدف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خروج بتوصيات ملموسة من جانب الأطراف الرئيسية الفاعلة في عملية تنفيذ اتفاقيات ريو دي جانيرو والمشاركة في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 هذه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بلدان الأعضاء في مرفق البيئة العالمي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بشأن كيفية التوفيق بشكل ملموس بين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تيجة المتوقعة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وصيات التي سيرفعها ممثلو البلدان إلى وزاراتهم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سجيل التوصيات في محضر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 لاستخدامها في غيرها من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تقوم السكرتارية بتجميع كافة ما خرجت به جميع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مل الموسعة من توصيات بشأن كيفية تحقيق التوافق وجعلها متاحة لكافة أصحاب المصلح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يفية انعقاد جلسة التمرين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أول: مجموعات العمل، حيث يتم تقسيم المشاركين حسب البلدان، وتحديد أوجه التشابه، والازدواجية، وفرص التماثل في خطة التكيف الوطنية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خطة عمل التكيف الوطنية، وخطة العمل والاستراتيجية الوطنية ل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ق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اكز التنسيق والاتصال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تلفة الأولويات الخاصة لخططها واستراتيجياتها وكيف تتوقع تنفيذ العمليات المنشودة وتمويلها 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دقائق لكل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جهة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جراء نقاش لتحديد أهم وأبرز أوجه التشابه، والازدواجية، وتداخل الأنشطة، وما يمكن تنفيذه بشكل مشترك، وما هي العراقيل التي تواجه مثل هذا التنفيذ المشتر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خيص النقاش وتحديد خلاصته كتابة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ني: تلخيص القضايا وت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قسيمها في مجموع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لث: العرض التقديمي والموافقة على التوصي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تبع ذلك التمرين العملي على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ضافر الجهو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كراً لك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بسيط للحلقة المفرغة للآثار المتشعبة لتغير المناخ، والتصحر، وفقدان التنوع </a:t>
            </a:r>
            <a:r>
              <a:rPr b="1" lang="ar-SA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بيولوجي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، وتدهور التربة والتصحر (بما في ذلك مشكلات كمية المياه ونوعيتها) وفقدان التنوع </a:t>
            </a:r>
            <a:r>
              <a:rPr b="1" lang="ar-SA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وجه الترابط المعقدة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كبر التحديات للتنمية المستدامة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هديد كبير للحياة على الأ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ؤثر في بعضها البعض بشكل مباشر أو غير مباشر، ومن خلال التفاعلات فيما ب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أوجه الارتباط الهامة بين فقدان التنوع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تغير المناخ، وتدهور التربة والتصح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استخدام غير المستدام للموار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ثاره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تغير المناخ، وتدهور الترب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اقم الأوضاع الحالية لتدهور التربة والتصحر، وفقدان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ـ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ؤدي إلى زيادة التعرض للخط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دورتان الكربونية والمائ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 عمليتان هائلتان لهما أهمية بالغة بالنسبة للحياة على الأرض؛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مدان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نوع </a:t>
            </a:r>
            <a:r>
              <a:rPr b="1" lang="ar-SA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استطاعته المساعدة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زيز المرونة في وجه آثار تغير المناخ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افحة تدهور التربة والتصحر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فيف من حدة الفقر الذي ترتبط به بشدة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تطبيق الاستراتيجيات والإجراءات الاستباقي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تسق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، والمتكاملة: مشروعات مشتركة على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ض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واقع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وفي المنتديات السياسية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أنشطة المنفردة/المنعزلة وإجراءات الاستجاب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ضع الكثير من المعاهدات البيئية العالمية والأهداف بطريقة تتسم بالتفتت والتشرذ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نعزالية الأنشطة والاستجابات مالم تكن هناك ضرورة، وهو ما يؤدي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ة فعالية التكلف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قاء أعباء على عاتق الأطراف المعنية فيما يتعلق بالوفاء بالالتزامات والإبلاغ؛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كانية حدوث آثار سلبية غير مباشرة دون عمد وتدخل عوامل خارجي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أخذ تغير أعداد السكان وعوامله في الحسبان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عف المساهمة/التأثير في تحقيق الصالح العام والخدمات البيئية العالمية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ضرورة النهوض بمشروعات متوافقة ومتكاملة ما أ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رؤية الخاصة بالمشروعات المتسقة،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رؤية: التعزيز الفعال للمنافع المتعددة من خلال الاتساق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ط بين الأنشطة والجهود الخاصة بالاتفاقيات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وغ الأهداف العامة للاتفاق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دون إضاعة للموارد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طريقة تحقق منافع قيمة مضافة متسقة على المستويات المحلية، والوطنية، والعالمية؛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ن خلال الترتيبات المؤسسية المناسبة وبروتوكولات الاتصالات المتعلقة ببرنامج التكيف الوطني، وبرنامج عمل التكيف الوطني، واستراتيجية وخطة العمل الوطن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سر الحلقة المفرغة من الآثار المتداخلة وتحقيق الأهداف والخطط الاستراتيجية، و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وفاء بالمتطلبات الوارد بشأنها تكليفات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درك الأمم المتحدة جيداً ما يل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عتماد الاتفاقيات على بعضها البعض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ضرورة التوفيق الشديد بين جهود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طبيعة التكاملية لأنشطتها التي تؤكد على الحاجة إلى اتباع نهج </a:t>
            </a:r>
            <a:r>
              <a:rPr b="1" i="1" lang="ar-SA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شامل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، متناسق، ومتكام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EG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بررات المشروعات المتكاملة والتحديات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ar-SA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بررات الداعية لتضافر الجهود </a:t>
            </a:r>
            <a:r>
              <a:rPr b="0" lang="ar-EG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مشروعات المتكاملة: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روفة جيدا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دار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سق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اركة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أدوات (كمؤشرات الإدارة والتقييم،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ابع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في المعلوم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من ازدواجية الجهود والآثار السلبية غير المقصودة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التكلفة وتقاسم التكلفة والمخاطر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اركة المجتمعات المحلية والسكان الأصليين دون تحميلها أعباء لا داعي ل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تقديم المساندة، وبناء القدرات، وأنشطة التمكين؛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منافع متعددة على المستويات المحلية، والوطنية، والعالم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حد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صميم وتنفيذ مشروعات/أنشطة متكامل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رساء المبادئ المنصوص عليها في اتفاقية ريو +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أهداف الاستراتيجية للاتفاقيات، والنتائج المستهدفة والخط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افق مع الأهداف الاستراتيجية لمرفق البيئة وإرشاداته لمؤتمر الأطراف...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ربطها بأنشطة الأطراف المحلية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أخذ أفضل الممارسات والمعرفة التقليدية ذات التركيز على المساواة بين الجنسين في الحسبان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إشراك أصحاب المصلحة المعنيين دون تحميلهم أعباء لا داعي لها أو إرهاقهم،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رساء الترتيبات المؤسسية...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افع لا تُعد ولا تُحصى ولكن لا يوجد سوى القليل من الإرشادات الواضحة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شروعات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نسق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520720" cy="1404360"/>
            <a:chOff x="250920" y="1844640"/>
            <a:chExt cx="2520720" cy="140436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20720" cy="819720"/>
              <a:chOff x="250920" y="1844640"/>
              <a:chExt cx="2520720" cy="81972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2072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280" y="187740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5320" y="1877400"/>
              <a:ext cx="2390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إطارية بشأن تغير المناخ: الأهداف الاستراتيجية المتعلقة بتغير المناخ، وخطط التكيف الوطنية ، وخطط عمل التكيف الوطنية، وأعمال التخفيف الملائمة وطنيا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3960" cy="1189080"/>
            <a:chOff x="250920" y="2781360"/>
            <a:chExt cx="2523960" cy="118908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680"/>
              <a:ext cx="2523960" cy="804600"/>
              <a:chOff x="250920" y="2785680"/>
              <a:chExt cx="2523960" cy="80460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680"/>
                <a:ext cx="25239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560" y="2820240"/>
                <a:ext cx="239904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6280" y="2781360"/>
              <a:ext cx="230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معنية بالتنوع البيولوجي: أهداف آيتشي والخطة الاستراتيجية للتنوع البيولوجي، وتبادل المعلومات والمنافع، والسلامة الحيو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1040760"/>
            <a:chOff x="324000" y="3645000"/>
            <a:chExt cx="2519280" cy="104076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09640"/>
              <a:chOff x="324000" y="3645000"/>
              <a:chExt cx="2519280" cy="80964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320"/>
              <a:ext cx="2391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المشروعات الأخرى للاتفاقيات البيئية متعددة الأطراف والوطنية: أهداف استراتيجة متنو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523960" cy="1429920"/>
            <a:chOff x="250920" y="880920"/>
            <a:chExt cx="2523960" cy="142992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523960" cy="798120"/>
              <a:chOff x="250920" y="880920"/>
              <a:chExt cx="2523960" cy="7981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52396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6560" y="913320"/>
                <a:ext cx="2401920" cy="67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4600" y="939240"/>
              <a:ext cx="234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تفاقية مكافحة التصحر: الأهداف والخطة الاستراتيجية لمكافحة تدهور التربة والتصحر، 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0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-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1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؛ الخطة التي تمت الموافقة عليها في مؤتمر ريو دي جانيرو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Constantia"/>
                <a:cs typeface="ＭＳ Ｐゴシック"/>
              </a:rPr>
              <a:t>المشروع التوافقي المتكامل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في تحقيق أهداف الاتفاقيات المختارة بشكل متزامن (</a:t>
            </a:r>
            <a:r>
              <a:rPr b="1" lang="ar-EG" sz="16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فيما بين الأقسام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ar-EG" sz="1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صبح أوجه الترابط بين الاتفاقيات ملموسة أينما كانت للحاجة إلى تعزيز التعاون أهمية بالغة لتعظيم إمكانيات تنفيذ الاتفاقيات؛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</a:rPr>
              <a:t>المشروعات المنفردة/المنعزلة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تتطلب 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</a:rPr>
              <a:t>إجراءات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لتفادي الآثار السلبية غير المقصودة على أهداف بعضها البعض الآخر وتسهل المنفعة المشترك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لشروع في التنفي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ختيار المشروعات المتكا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ين تشتد أهمية معالجة آثار تغير المناخ، أو تدهور التربة، أو فقدان 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ولوية للمناطق شديدة التعرض للخطر وذات الأهمية البالغة للتكامل البيئي بالنسبة لتحقيق صالح النظام البيئي وخدماته؛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شروعات التي تنطوي على إمكانيات كبرى لتحقيق منافع متعددة ومشتركة وتخفيف حدة الفق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مكانية الاستجابة البشرية والمشاركة...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مساواة بين الجنسين، والمعرفة التقليدية، وأفضل الممارسات..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حديد الأهداف والمنافع المحتملة والنتائج المتوقع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نتائج على الأمد القصير، والمتوسط، والطويل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سد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جوات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انات/المعرفة القائم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من أجل تحديد خط الأساس، والمؤشرات، وأدوات الإدارة والتقيي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دير المتطلبات من الموارد: الجدوى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كلفة، ومصدر التموي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وافر محاسبة الموارد بالنسبة لكافة المصادر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(مثل مرفق البيئة والتمويل المشترك) وإمكانية إنشاء الشراك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المحلية؟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برز أوضاع المخاطر: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فتقار إلى كفاءة الإدارة واستعراضات دورة حياة المشروعات، وإلى وضوح الأهداف، وأدوات الإدارة والتقييم، ومؤشرات النتائج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المعايير: 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حقوق رأس المال في الاعتبار؛ والتوافق المؤسسي مع مزيج السياسات؛ وفعالية التكلفة، والفعالية البيئية طويلة الأم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أول: الأراضي الجافة (قضايا عالم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المساحة البرية لسطح الأرض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بين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طقة شديدة الأهمية عالمياً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سكان العالم (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1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ليار شخص)</a:t>
            </a: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بلدان النامية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مناطق العشبية والمراعي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دون خط الفقر)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أنظمة المحاصيل بالعال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Abeer Mohammed Abdul Kad Al Dagestani</cp:lastModifiedBy>
  <dcterms:modified xsi:type="dcterms:W3CDTF">2013-12-09T21:49:15Z</dcterms:modified>
  <cp:revision>667</cp:revision>
  <dc:subject/>
  <dc:title>GEF Expanded Constituency Workshop (ECW) Honduras – February 19-21, 2013</dc:title>
</cp:coreProperties>
</file>