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05C-BA83-4243-B258-D0C6BE7E5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4F2B-D8E4-4E8A-B770-32A3205791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4D1-92A4-4D56-934F-780DCACC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24D-9E92-4A5B-B387-D8D5564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05F-5E48-4E63-8B10-EAA71C45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699-ABF0-43B8-A24B-CD620BD6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50AC-412F-4E43-A505-BC9EAB51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3149-E049-447B-BD8B-61C3B6B9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C9D-54AD-4AAB-AFD1-ABFCAC51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C638-DD0E-4D85-94D6-EC7439B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C1C7-4591-4B6B-9D95-0C139AC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950-6B43-4CE6-BC64-22BAC3D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A777-EDD6-4EA8-A42F-AF9928E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ED0-BF1F-4CB4-A1C6-0E424961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BDE3-651D-454A-851B-73E6CCB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4C19-28E7-4556-BDEF-6296EE0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DB12-45EF-4E70-81C0-20BED18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DD8-6454-4184-932A-47996947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B74A-5B8E-4F44-9FBB-96238907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AFA-4961-4B97-97FF-75539E47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F3D-0C29-45BD-9ABF-30898B8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28B-6161-4A40-B69F-8E255198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915-EBF0-4897-B62A-2F0B0F6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FD8-E1A5-4846-909E-E334141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4A5-7B94-4664-9B86-F28EABEF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DBC-0CE7-48FD-B593-A7E95079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24CA-9476-4719-936D-C33D125CBFF0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9D7-4FAE-4683-BC93-5F8E615E709A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005000"/>
            <a:ext cx="84247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أصحاب المصلحة على الصعيد القطري المشارك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جماع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D:\KsenSite\0001\GEF_EO_logo.jpg"/>
          <p:cNvPicPr/>
          <p:nvPr/>
        </p:nvPicPr>
        <p:blipFill>
          <a:blip r:embed="rId1"/>
          <a:stretch/>
        </p:blipFill>
        <p:spPr>
          <a:xfrm>
            <a:off x="611280" y="5245200"/>
            <a:ext cx="2952720" cy="90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مل المجموعات على كل طاولة كفري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ستعراض المواد المرجعية ودراسات الحالات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يشتمل الهدف على إطلاع مركز لتنسيق العمليات تمّ تعيينه حديثاً في بلدكم، على المسائل المتعلقة ب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ي نهاية التمرين، سنناقش النتائج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رصد حافظة عمليات مرفق البيئة العاملية والإتجاهات البيئية على الصعيد القطري </a:t>
            </a:r>
            <a:r>
              <a:rPr b="1" lang="en-US" sz="3200" spc="-1" strike="noStrike">
                <a:solidFill>
                  <a:srgbClr val="4f6228"/>
                </a:solidFill>
                <a:latin typeface="Verdana"/>
              </a:rPr>
              <a:t>	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نبغي تنظيم رصد حافظة عمليات مرفق البيئة العالمي والاتجاهات البيئية على الصعيد القطري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ن الذي ينبغي أن ينسّق رصد حافظة مرفق البيئة العالمي - وزارة البيئة أو وزارة المالية أو مركز تنسيق العمليات ومكتبه أو وكالات مرفق البيئة العالمي أو أي هيئة آخر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هم أنواع البيانات التي سينبغي رصدها ؟ هل هناك أي مصادر حالية للمعلومات أو نظم بيانات يمكن استخدامها ؟ كيف يمكن إدراج البيانات من المشاريع في نظم البيانات الوطني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ع من ينبغي تشاطر هذه المعلومات ؟ ما هي آليات تشاطر المعلومات التي سيتم استخدام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المشاركة في أنشطة الرصد والتقييم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نشطة تقييم مرفق البيئة العالمي التي ينبغي إطلاع مركز تنسيق العمليات علي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التقييم المنتصفة المدة والنهائية لمرفق البيئة العالم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تقييم ودراسات مرفق البيئة العالمي على المستوى القطر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نبغي استخدام النتائج من أنشطة التقييم هذه من قبل مركز تنسيق العمليات ؟ مع من ينبغي تبادل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توفير المعلومات المرتجعة لاختصاصات التقييم ؟ ما هي أهم المعايير لتوفير المعلومات المرتجعة بشأنها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آلية التنسيق الوطنية للرصد و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ل يجب أن يكون هناك آلية تنسيق وطنية للرصد والتقييم ؟ كيف ينبغي وضعها ؟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67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أفكار بشأن التعلم</a:t>
            </a:r>
            <a:br>
              <a:rPr sz="3600"/>
            </a:b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أمر واحد تعلمته في هذه الدور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كرة أو نصيحة رئيسية من شأنها توجيه مشاركتك المستقبلية في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سؤال ينبغي التفكير في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4f6228"/>
                </a:solidFill>
                <a:latin typeface="Verdana"/>
                <a:cs typeface="Tahoma"/>
              </a:rPr>
              <a:t>شكراً</a:t>
            </a:r>
            <a:endParaRPr b="1" lang="en-US" sz="40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21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gefevaluation@thegef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لمحة عامة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أدوار والمسؤوليات الرئي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مكتب تقييم مرفق البيئة العالم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عمل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دفان رئيسيان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موجب التبليغ عن تحقيق أهداف مرفق البيئة العالمي من خلال تقييم النتائج والفعالية والعمليات وأداء الشركاء المشاركين في أنشطة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تعلم والمعلومات المرتجعة وتبادل المعرفة بشأن النتائج والدروس المستفادة بين مرفق البيئة العالمي وشركائه بمثابة أساس لصنع القرارات في ما يتعلق بالسياسات والإستراتيجيات وإدارة البرامج والبرامج والمشاريع ؛ وتحسين المعرفة والأدا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112500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0"/>
          <a:ext cx="8136000" cy="6635880"/>
        </p:xfrm>
        <a:graphic>
          <a:graphicData uri="http://schemas.openxmlformats.org/drawingml/2006/table">
            <a:tbl>
              <a:tblPr/>
              <a:tblGrid>
                <a:gridCol w="5614920"/>
                <a:gridCol w="2521080"/>
              </a:tblGrid>
              <a:tr h="622080">
                <a:tc>
                  <a:txBody>
                    <a:bodyPr lIns="144000" rIns="14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دوار والمسؤوليات الرئيسية على صعيد الرصد و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ري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9228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نع السياس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يئة التسهيلية ل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جلس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مستقل من قبل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 على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حديد المتطلبات الدنيا ل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كتب تقييم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922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دارة القائمة على النتائج (الرصد والإبلا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ستعراض متطلبات الرصد والتقييم الخاصة بمرفق البيئة العالمي في مقترحات 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مانة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30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رصد حافظة عماليات مرفق البيئة العالمي الخاصة ب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ضمان الرصد والتقييم على مستوى المشر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عمليات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المشروع و / أو المؤسسات من قبل 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ذ مرفق البيئة العالمي بعين الاعتبار في تقييمات الوكالة ذات الص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تقييم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المشورة بشأن المسائل العلمية / الفنية على صعيد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دعم المؤشرات العلمية والف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ريق الاستشاري العلمي والتق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عاون بشأن الرصد والتقييم على مستوى المحافظ و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لدان المشارك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572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شاركة في أنشطة وآليات الرص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وجهات النظر والآراء في ما يتعلق بالتقيي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صحاب المصل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مهم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ar-LB" sz="26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منافع البيئية العالمية من خلال الإمتياز والاستقلال والشراكة على صعيد الرصد والتقيي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نفيذ سياسة الرصد والتقييم الخاصة بمرفق البيئة العالمي لعام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رفع التقارير السنوية إلى المجلس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قييمات على مستوى البلد 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سائل المتعلقة بالأداء والعمليات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أثير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 مجال التركيز / المسائل المشتركة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بادل المعرف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نشر الدروس المستفاد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في برنامج دعم البل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دراسة الخامسة للأداء الإجمالي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S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النشاطة في المجموعات المعنيّة بالتقييم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5440" y="1557360"/>
            <a:ext cx="793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أربعة محاور للتقي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lnSpc>
                <a:spcPct val="150000"/>
              </a:lnSpc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حافظات على الصعيد الوطني : حتى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1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 بلد خلال العملية الخامسة لتحديد موارد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ثر : المياه الدولية، تغير المناخ، التنوع البيولوج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داء : تقرير الأداء السنوي، الاستعراض المستقل للعمليات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مجالات التركيز: استراتيجيات مجالات التركيز، التكييف، الأنشطة التسهيل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م إقرارها من قبل مجلس مرفق البيئة العالمي في تشرين الثاني / نوفمبر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حدد مبادئ ومعايير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تضمن المتطلبات الدنيا لرصد وتقييم أنشطة مرفق البيئة العالمي، وأدوار ومسؤوليات أصحاب المصلحة المعنية ب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ركز أكثر على شعور البلدان بالالتزام الذاتب وعلى دور مراكز التنسيق القطر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f6228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غرض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هم بشكل أفضل أنشطة مرفق البيئة العالمي المتعلقة بالرصد والتقييم على المستوى الوطن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 rtl="1">
              <a:spcBef>
                <a:spcPts val="119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بشكل خاص، دور مراكز تنسيق العمليات وغيرها من أصحاب المصلحة على الصعيد الوطن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مناقشة المسائل العملية المتعلقة بتصميم واستخدام نظم الرصد والتقييم في بلدك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1:46:11Z</dcterms:created>
  <dc:creator>Dima</dc:creator>
  <dc:description/>
  <dc:language>en-US</dc:language>
  <cp:lastModifiedBy>Abeer Mohammed Abdul Kad Al Dagestani</cp:lastModifiedBy>
  <dcterms:modified xsi:type="dcterms:W3CDTF">2013-12-11T16:56:24Z</dcterms:modified>
  <cp:revision>139</cp:revision>
  <dc:subject/>
  <dc:title>Презентация PowerPoint</dc:title>
</cp:coreProperties>
</file>