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90D1-A2E4-4F22-B763-5D1A5EA66A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9E2-6BB4-4D5F-95AF-2B5BDDE34B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926-E20B-4EC5-98D3-8D9E6205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52C-A4F0-4837-999E-DFC017A6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DD5-1041-4F4F-A47E-FA81B5AA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958-C4F8-4731-9789-1AE4E65B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D952-36D1-4455-905D-7D0DAE3C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F86F-47B0-429C-9A92-BB52C61A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BF15-F441-48C1-9323-4D678C37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565B-77C2-4E28-93FB-DE5E6606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9BD6-FC52-417E-A810-961DBE38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705C-AC72-4F21-ABA1-769EE80A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2EA7-4146-4863-B79D-0FA3E3B2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AD9-72DD-41D8-B3DC-E360A608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8EA1-ADC0-4F54-B8F4-29DCAFC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19F2-87D5-4D61-8016-497CFEB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CBB5-04A1-4D4A-8C3C-C2A8CC9F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EACA-1B84-4067-958A-219CC51E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DCFA-97B4-4A87-88D8-FA67D3CF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28B-CF77-48C9-BAFF-14201202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2B8-D6D3-48E2-AD0C-3F504CF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F93-8179-4D5A-82F9-3E2DFCBE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593-7518-4213-A336-0B446BDB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77A-5895-4A26-ABB5-A81C50C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8B8-B7F2-4E30-8248-76DEA17E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610-D7A1-4ABC-A1D9-C8CF33B3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9881-23D8-40BD-8031-1B76D739396A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29C7-3F56-4CBE-9287-19CCBD83A3BA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005000"/>
            <a:ext cx="84247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أصحاب المصلحة على الصعيد القطري المشارك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جماع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" descr="D:\KsenSite\0001\GEF_EO_logo.jpg"/>
          <p:cNvPicPr/>
          <p:nvPr/>
        </p:nvPicPr>
        <p:blipFill>
          <a:blip r:embed="rId1"/>
          <a:stretch/>
        </p:blipFill>
        <p:spPr>
          <a:xfrm>
            <a:off x="611280" y="5245200"/>
            <a:ext cx="2952720" cy="90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989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92" name="Рисунок 7" descr=""/>
          <p:cNvPicPr/>
          <p:nvPr/>
        </p:nvPicPr>
        <p:blipFill>
          <a:blip r:embed="rId2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مل المجموعات على كل طاولة كفري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ستعراض المواد المرجعية ودراسات الحالات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يشتمل الهدف على إطلاع مركز لتنسيق العمليات تمّ تعيينه حديثاً في بلدكم، على المسائل المتعلقة ب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ي نهاية التمرين، سنناقش النتائج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رصد حافظة عمليات مرفق البيئة العاملية والإتجاهات البيئية على الصعيد القطري </a:t>
            </a:r>
            <a:r>
              <a:rPr b="1" lang="en-US" sz="3200" spc="-1" strike="noStrike">
                <a:solidFill>
                  <a:srgbClr val="4f6228"/>
                </a:solidFill>
                <a:latin typeface="Verdana"/>
              </a:rPr>
              <a:t>	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نبغي تنظيم رصد حافظة عمليات مرفق البيئة العالمي والاتجاهات البيئية على الصعيد القطري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ن الذي ينبغي أن ينسّق رصد حافظة مرفق البيئة العالمي - وزارة البيئة أو وزارة المالية أو مركز تنسيق العمليات ومكتبه أو وكالات مرفق البيئة العالمي أو أي هيئة آخرى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هم أنواع البيانات التي سينبغي رصدها ؟ هل هناك أي مصادر حالية للمعلومات أو نظم بيانات يمكن استخدامها ؟ كيف يمكن إدراج البيانات من المشاريع في نظم البيانات الوطنية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ع من ينبغي تشاطر هذه المعلومات ؟ ما هي آليات تشاطر المعلومات التي سيتم استخدام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المشاركة في أنشطة الرصد والتقييم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نشطة تقييم مرفق البيئة العالمي التي ينبغي إطلاع مركز تنسيق العمليات علي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التقييم المنتصفة المدة والنهائية لمرفق البيئة العالم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تقييم ودراسات مرفق البيئة العالمي على المستوى القطر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نبغي استخدام النتائج من أنشطة التقييم هذه من قبل مركز تنسيق العمليات ؟ مع من ينبغي تبادل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توفير المعلومات المرتجعة لاختصاصات التقييم ؟ ما هي أهم المعايير لتوفير المعلومات المرتجعة بشأنها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آلية التنسيق الوطنية للرصد و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ل يجب أن يكون هناك آلية تنسيق وطنية للرصد والتقييم ؟ كيف ينبغي وضعها ؟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9678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أفكار بشأن التعلم</a:t>
            </a:r>
            <a:br>
              <a:rPr sz="3600"/>
            </a:b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أمر واحد تعلمته في هذه الدور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كرة أو نصيحة رئيسية من شأنها توجيه مشاركتك المستقبلية في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سؤال ينبغي التفكير في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4f6228"/>
                </a:solidFill>
                <a:latin typeface="Verdana"/>
                <a:cs typeface="Tahoma"/>
              </a:rPr>
              <a:t>شكراً</a:t>
            </a:r>
            <a:endParaRPr b="1" lang="en-US" sz="40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2216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gefevaluation@thegef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Рисунок 7" descr=""/>
          <p:cNvPicPr/>
          <p:nvPr/>
        </p:nvPicPr>
        <p:blipFill>
          <a:blip r:embed="rId1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لمحة عامة 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أدوار والمسؤوليات الرئيس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مكتب تقييم مرفق البيئة العالم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عمل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دفان رئيسيان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موجب التبليغ عن تحقيق أهداف مرفق البيئة العالمي من خلال تقييم النتائج والفعالية والعمليات وأداء الشركاء المشاركين في أنشطة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تعلم والمعلومات المرتجعة وتبادل المعرفة بشأن النتائج والدروس المستفادة بين مرفق البيئة العالمي وشركائه بمثابة أساس لصنع القرارات في ما يتعلق بالسياسات والإستراتيجيات وإدارة البرامج والبرامج والمشاريع ؛ وتحسين المعرفة والأدا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360" y="1125000"/>
            <a:ext cx="7921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0"/>
          <a:ext cx="8136000" cy="6635880"/>
        </p:xfrm>
        <a:graphic>
          <a:graphicData uri="http://schemas.openxmlformats.org/drawingml/2006/table">
            <a:tbl>
              <a:tblPr/>
              <a:tblGrid>
                <a:gridCol w="5614920"/>
                <a:gridCol w="2521080"/>
              </a:tblGrid>
              <a:tr h="622080">
                <a:tc>
                  <a:txBody>
                    <a:bodyPr lIns="144000" rIns="14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دوار والمسؤوليات الرئيسية على صعيد الرصد و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شري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9228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نع السياس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يئة التسهيلية ل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جلس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مستقل من قبل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 على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حديد المتطلبات الدنيا ل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كتب تقييم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4922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دارة القائمة على النتائج (الرصد والإبلا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ستعراض متطلبات الرصد والتقييم الخاصة بمرفق البيئة العالمي في مقترحات 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مانة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30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رصد حافظة عماليات مرفق البيئة العالمي الخاصة ب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ضمان الرصد والتقييم على مستوى المشر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عمليات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المشروع و / أو المؤسسات من قبل 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خذ مرفق البيئة العالمي بعين الاعتبار في تقييمات الوكالة ذات الص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تقييم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المشورة بشأن المسائل العلمية / الفنية على صعيد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دعم المؤشرات العلمية والف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ريق الاستشاري العلمي والتق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تعاون بشأن الرصد والتقييم على مستوى المحافظ و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لدان المشارك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8572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شاركة في أنشطة وآليات الرص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وجهات النظر والآراء في ما يتعلق بالتقيي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صحاب المصل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55700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مهم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ar-LB" sz="26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منافع البيئية العالمية من خلال الإمتياز والاستقلال والشراكة على صعيد الرصد والتقييم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نفيذ سياسة الرصد والتقييم الخاصة بمرفق البيئة العالمي لعام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رفع التقارير السنوية إلى المجلس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قييمات على مستوى البلد 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سائل المتعلقة بالأداء والعمليات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أثير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 مجال التركيز / المسائل المشتركة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بادل المعرف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نشر الدروس المستفاد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في برنامج دعم البل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دراسة الخامسة للأداء الإجمالي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S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النشاطة في المجموعات المعنيّة بالتقييم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95440" y="1557360"/>
            <a:ext cx="79372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أربعة محاور للتقيي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lnSpc>
                <a:spcPct val="150000"/>
              </a:lnSpc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حافظات على الصعيد الوطني : حتى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1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 بلد خلال العملية الخامسة لتحديد موارد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ثر : المياه الدولية، تغير المناخ، التنوع البيولوج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داء : تقرير الأداء السنوي، الاستعراض المستقل للعمليات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مجالات التركيز: استراتيجيات مجالات التركيز، التكييف، الأنشطة التسهيل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557360"/>
            <a:ext cx="79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م إقرارها من قبل مجلس مرفق البيئة العالمي في تشرين الثاني / نوفمبر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حدد مبادئ ومعايير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تضمن المتطلبات الدنيا لرصد وتقييم أنشطة مرفق البيئة العالمي، وأدوار ومسؤوليات أصحاب المصلحة المعنية ب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ركز أكثر على شعور البلدان بالالتزام الذاتب وعلى دور مراكز التنسيق القطر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f6228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غرض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هم بشكل أفضل أنشطة مرفق البيئة العالمي المتعلقة بالرصد والتقييم على المستوى الوطن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just" rtl="1">
              <a:spcBef>
                <a:spcPts val="119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بشكل خاص، دور مراكز تنسيق العمليات وغيرها من أصحاب المصلحة على الصعيد الوطن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مناقشة المسائل العملية المتعلقة بتصميم واستخدام نظم الرصد والتقييم في بلدك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1:46:11Z</dcterms:created>
  <dc:creator>Dima</dc:creator>
  <dc:description/>
  <dc:language>en-US</dc:language>
  <cp:lastModifiedBy>Abeer Mohammed Abdul Kad Al Dagestani</cp:lastModifiedBy>
  <dcterms:modified xsi:type="dcterms:W3CDTF">2013-12-11T16:56:24Z</dcterms:modified>
  <cp:revision>139</cp:revision>
  <dc:subject/>
  <dc:title>Презентация PowerPoint</dc:title>
</cp:coreProperties>
</file>