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CAA6-3A99-4211-87F3-8AD456DC3B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CAC4-068E-4781-B1CC-4F0AA3FCC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FBF-F281-40C9-8B1A-9D634E14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4B1-26CC-4DD5-935A-A18050C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7DC-57A3-45ED-A705-C44661C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16D-9B64-4E2F-B73D-202CDD4A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82F6-E0FE-4DBE-8E72-624705CB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343A-1E36-484D-8F43-3260E53B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A891-33A1-4015-99EC-4879E528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6D89-2B3F-4A66-B4A0-6E3EAC4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47B-BF27-4DDD-A813-504C6B72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A44A-75D6-4FB5-AC55-2CE8685C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503A-19D1-43B3-A2E5-3BE2301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B47-462E-40B6-A205-C314CEAC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E6D6-F955-455B-AD4B-2B5D06D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AFBE-95D7-4D2E-8E9A-8F56FF2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4669-31C8-4EDB-BE45-9E33CF47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9EF2-E0E5-4503-8492-66FB05F6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A35E-D013-4FF5-968F-27D6189A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36D-30F1-4705-A414-6BDB1DCB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C81-88D4-4B56-AEF7-0D23377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B9C-5D4C-47D3-9F19-51E7B301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C6B-39D5-4B25-95F6-28A1B8AD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31D-85EB-4A1C-800C-9560DD1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8E6-89D2-4910-845B-BFF383D3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123-FD28-4E9A-BF04-B5C22DA2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EED-973B-4ADE-81C8-B7CBA9DDDB9A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CBE-4BEF-4E08-8971-200EDBA763A6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005000"/>
            <a:ext cx="84247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أصحاب المصلحة على الصعيد القطري المشارك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جماع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D:\KsenSite\0001\GEF_EO_logo.jpg"/>
          <p:cNvPicPr/>
          <p:nvPr/>
        </p:nvPicPr>
        <p:blipFill>
          <a:blip r:embed="rId1"/>
          <a:stretch/>
        </p:blipFill>
        <p:spPr>
          <a:xfrm>
            <a:off x="611280" y="5245200"/>
            <a:ext cx="2952720" cy="90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مل المجموعات على كل طاولة كفري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ستعراض المواد المرجعية ودراسات الحالات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يشتمل الهدف على إطلاع مركز لتنسيق العمليات تمّ تعيينه حديثاً في بلدكم، على المسائل المتعلقة ب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ي نهاية التمرين، سنناقش النتائج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رصد حافظة عمليات مرفق البيئة العاملية والإتجاهات البيئية على الصعيد القطري </a:t>
            </a:r>
            <a:r>
              <a:rPr b="1" lang="en-US" sz="3200" spc="-1" strike="noStrike">
                <a:solidFill>
                  <a:srgbClr val="4f6228"/>
                </a:solidFill>
                <a:latin typeface="Verdana"/>
              </a:rPr>
              <a:t>	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نبغي تنظيم رصد حافظة عمليات مرفق البيئة العالمي والاتجاهات البيئية على الصعيد القطري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ن الذي ينبغي أن ينسّق رصد حافظة مرفق البيئة العالمي - وزارة البيئة أو وزارة المالية أو مركز تنسيق العمليات ومكتبه أو وكالات مرفق البيئة العالمي أو أي هيئة آخرى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هم أنواع البيانات التي سينبغي رصدها ؟ هل هناك أي مصادر حالية للمعلومات أو نظم بيانات يمكن استخدامها ؟ كيف يمكن إدراج البيانات من المشاريع في نظم البيانات الوطني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ع من ينبغي تشاطر هذه المعلومات ؟ ما هي آليات تشاطر المعلومات التي سيتم استخدام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المشاركة في أنشطة الرصد والتقييم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نشطة تقييم مرفق البيئة العالمي التي ينبغي إطلاع مركز تنسيق العمليات علي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التقييم المنتصفة المدة والنهائية لمرفق البيئة العالم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تقييم ودراسات مرفق البيئة العالمي على المستوى القطر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نبغي استخدام النتائج من أنشطة التقييم هذه من قبل مركز تنسيق العمليات ؟ مع من ينبغي تبادل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توفير المعلومات المرتجعة لاختصاصات التقييم ؟ ما هي أهم المعايير لتوفير المعلومات المرتجعة بشأنها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آلية التنسيق الوطنية للرصد و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ل يجب أن يكون هناك آلية تنسيق وطنية للرصد والتقييم ؟ كيف ينبغي وضعها ؟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67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أفكار بشأن التعلم</a:t>
            </a:r>
            <a:br>
              <a:rPr sz="3600"/>
            </a:b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أمر واحد تعلمته في هذه الدور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كرة أو نصيحة رئيسية من شأنها توجيه مشاركتك المستقبلية في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سؤال ينبغي التفكير في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4f6228"/>
                </a:solidFill>
                <a:latin typeface="Verdana"/>
                <a:cs typeface="Tahoma"/>
              </a:rPr>
              <a:t>شكراً</a:t>
            </a:r>
            <a:endParaRPr b="1" lang="en-US" sz="40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21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gefevaluation@thegef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Рисунок 7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لمحة عامة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أدوار والمسؤوليات الرئي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مكتب تقييم مرفق البيئة العالم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عمل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دفان رئيسيان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موجب التبليغ عن تحقيق أهداف مرفق البيئة العالمي من خلال تقييم النتائج والفعالية والعمليات وأداء الشركاء المشاركين في أنشطة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تعلم والمعلومات المرتجعة وتبادل المعرفة بشأن النتائج والدروس المستفادة بين مرفق البيئة العالمي وشركائه بمثابة أساس لصنع القرارات في ما يتعلق بالسياسات والإستراتيجيات وإدارة البرامج والبرامج والمشاريع ؛ وتحسين المعرفة والأدا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1125000"/>
            <a:ext cx="79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0"/>
          <a:ext cx="8136000" cy="6635880"/>
        </p:xfrm>
        <a:graphic>
          <a:graphicData uri="http://schemas.openxmlformats.org/drawingml/2006/table">
            <a:tbl>
              <a:tblPr/>
              <a:tblGrid>
                <a:gridCol w="5614920"/>
                <a:gridCol w="2521080"/>
              </a:tblGrid>
              <a:tr h="622080">
                <a:tc>
                  <a:txBody>
                    <a:bodyPr lIns="144000" rIns="14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دوار والمسؤوليات الرئيسية على صعيد الرصد و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ري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9228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نع السياس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يئة التسهيلية ل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جلس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مستقل من قبل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 على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حديد المتطلبات الدنيا ل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كتب تقييم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4922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دارة القائمة على النتائج (الرصد والإبلا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ستعراض متطلبات الرصد والتقييم الخاصة بمرفق البيئة العالمي في مقترحات 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مانة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30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رصد حافظة عماليات مرفق البيئة العالمي الخاصة ب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ضمان الرصد والتقييم على مستوى المشر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عمليات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المشروع و / أو المؤسسات من قبل 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ذ مرفق البيئة العالمي بعين الاعتبار في تقييمات الوكالة ذات الص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تقييم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المشورة بشأن المسائل العلمية / الفنية على صعيد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دعم المؤشرات العلمية والف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ريق الاستشاري العلمي والتق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عاون بشأن الرصد والتقييم على مستوى المحافظ و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لدان المشارك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8572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شاركة في أنشطة وآليات الرص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وجهات النظر والآراء في ما يتعلق بالتقيي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صحاب المصل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55700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مهم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ar-LB" sz="26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منافع البيئية العالمية من خلال الإمتياز والاستقلال والشراكة على صعيد الرصد والتقيي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نفيذ سياسة الرصد والتقييم الخاصة بمرفق البيئة العالمي لعام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رفع التقارير السنوية إلى المجلس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قييمات على مستوى البلد 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سائل المتعلقة بالأداء والعمليات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أثير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 مجال التركيز / المسائل المشتركة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بادل المعرف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نشر الدروس المستفاد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في برنامج دعم البل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دراسة الخامسة للأداء الإجمالي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S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النشاطة في المجموعات المعنيّة بالتقييم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5440" y="1557360"/>
            <a:ext cx="7937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أربعة محاور للتقيي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lnSpc>
                <a:spcPct val="150000"/>
              </a:lnSpc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حافظات على الصعيد الوطني : حتى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1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 بلد خلال العملية الخامسة لتحديد موارد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ثر : المياه الدولية، تغير المناخ، التنوع البيولوج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داء : تقرير الأداء السنوي، الاستعراض المستقل للعمليات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مجالات التركيز: استراتيجيات مجالات التركيز، التكييف، الأنشطة التسهيل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م إقرارها من قبل مجلس مرفق البيئة العالمي في تشرين الثاني / نوفمبر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حدد مبادئ ومعايير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تضمن المتطلبات الدنيا لرصد وتقييم أنشطة مرفق البيئة العالمي، وأدوار ومسؤوليات أصحاب المصلحة المعنية ب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ركز أكثر على شعور البلدان بالالتزام الذاتب وعلى دور مراكز التنسيق القطر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f6228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غرض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هم بشكل أفضل أنشطة مرفق البيئة العالمي المتعلقة بالرصد والتقييم على المستوى الوطن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 rtl="1">
              <a:spcBef>
                <a:spcPts val="119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بشكل خاص، دور مراكز تنسيق العمليات وغيرها من أصحاب المصلحة على الصعيد الوطن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مناقشة المسائل العملية المتعلقة بتصميم واستخدام نظم الرصد والتقييم في بلدك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1:46:11Z</dcterms:created>
  <dc:creator>Dima</dc:creator>
  <dc:description/>
  <dc:language>en-US</dc:language>
  <cp:lastModifiedBy>Abeer Mohammed Abdul Kad Al Dagestani</cp:lastModifiedBy>
  <dcterms:modified xsi:type="dcterms:W3CDTF">2013-12-11T16:56:24Z</dcterms:modified>
  <cp:revision>139</cp:revision>
  <dc:subject/>
  <dc:title>Презентация PowerPoint</dc:title>
</cp:coreProperties>
</file>