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7D5F-1EBC-4ACA-80BC-5DD83C2179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0AE8-160A-4F10-A10C-2CAC5513B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4288-C7FA-4413-BC37-20C437602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010D-472A-4D6C-BAC1-C4EDF6ECF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0513-E8AD-47EC-954F-1A9273AD8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016F-6116-487E-B80C-7DD770A0B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E910-31FC-47F2-B8B7-5E182829E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6834-2F2A-4582-8237-A2620249E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now conduct a practical exerc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read the instructions from the word doc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5329-3FD1-4BCF-BF58-56F3C8A06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960E-9C67-4F8B-9A29-4D532FC8C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8C98-6917-4816-B90C-3A3AF3EE9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7F2D-8F5F-4EC0-8ABA-5BBE90AC4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ional Capacity Self-Assessments, a process which we will talk about in a few mo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development at the individual focal area pro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-Cutting Capacity Development, across focal areas (cross-cutting) as "a cost-effective means of addressing capacity building needs at a systemic or institutional level that are not unique to any one focal area, but will assist countries to manage global environmental issues in a more general way". Particularly by strengthening institutions and organizations and the enabling enviro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ritical capacity development programs targeted towards LDCs and SIDs, many of which have chronically-low capacities for the governance and management of environmental management progra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lso in response to guidance from the COPs of CBD and UNFCCC which have both requested the GEF to provide funding for country-driven capacity development activities, in particular LDCs and SIDSs.  It was part of the strategy for GEF3 and GEF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233B-D115-4391-9D64-20AB7FBD9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E91B-611B-446D-B1BD-94BC4A4A4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3C0D-A41D-4C9C-93EE-29E39CE25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CA5A-F56D-42AC-A50E-BCAA09DC3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F7EB-2CA1-4782-8819-E9AAEE3E8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0600-F6F0-4421-A9F0-F8DCEE53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4C5A-FA7F-4C39-9C0A-C706811B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FBB8-9040-4BEE-9F34-A411BA30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C141-9340-4C27-B70E-16A788CC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5439-32BE-445A-9F8E-E0C0F40D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183B-C871-4FCB-813A-D8F92CAA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2BA9-5634-4049-8A4F-CCD09D03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9B86-98D1-4B95-A6ED-29A9F718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B625-A965-43E5-960D-780CE3B2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09D6-E03B-4E5D-ABE9-74D0FB2E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BB07-4D60-4ECB-875C-72032FE0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4688-1583-4FC2-8311-AF5D33E3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6"/>
          <p:cNvGrpSpPr/>
          <p:nvPr/>
        </p:nvGrpSpPr>
        <p:grpSpPr>
          <a:xfrm>
            <a:off x="0" y="0"/>
            <a:ext cx="9144000" cy="1247760"/>
            <a:chOff x="0" y="0"/>
            <a:chExt cx="9144000" cy="124776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D632-39C8-40DC-9186-FC6636C8E463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02E7-14DF-4F3E-8A04-C9B5400706CF}" type="slidenum"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hegef.org/gef/GEF5_Capacity_Development_Strategy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16-17 December,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Marrakech, Moroc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Cross-Cutting Capacity Development Strategy – GEF 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914400" y="1447920"/>
            <a:ext cx="7467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 creation of synergies to meet the priorities of the Rio Convent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and replicate innovative tools and “best practices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 the global environmental dimension into national policies and legislative and regulatory framework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3"/>
          <p:cNvSpPr/>
          <p:nvPr/>
        </p:nvSpPr>
        <p:spPr>
          <a:xfrm>
            <a:off x="914400" y="1447920"/>
            <a:ext cx="746748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 an adaptive and collaborative management approach in the design and execution of projec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capacity development in the light of limitations of absorption capac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environmental sustainability through monitoring guidelines and strong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trategic objectives of capacity development - GE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ontent Placeholder 2"/>
          <p:cNvSpPr/>
          <p:nvPr/>
        </p:nvSpPr>
        <p:spPr>
          <a:xfrm>
            <a:off x="304920" y="914400"/>
            <a:ext cx="82296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the capacities of stakeholders to engage throughout the consultative process </a:t>
            </a:r>
            <a:r>
              <a:rPr b="0" lang="en-US" sz="2400" spc="-1" strike="noStrike">
                <a:solidFill>
                  <a:srgbClr val="595959"/>
                </a:solidFill>
                <a:latin typeface="Times New Roman"/>
                <a:ea typeface="ＭＳ Ｐゴシック"/>
              </a:rPr>
              <a:t>(National Dialogue Initiative, Program Coordination Agency, Small Grants Program and focal area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generate, access and use information a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3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strengthen capacities to develop policy and legislative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strengthen capacities to implement and manage global convention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capacities to monitor and evaluate environmental impacts and tr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nsistency with GEF strategic objectives of cross-cutting capacity development 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GEF5_Capacity_Development_Strategy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ulti-focal (benefit at least three focal are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Priorities were identified in NCSA exerci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Indicators are included for measuring progress and attainment of objectives agreed in beneficiary count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asures are specified to ensure sustain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-financing (at least 1: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dium-Sized or Full-Siz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General requirements for CCCD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Ukrain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tegrating Rio Convention Provisions into Ukraine's National Environmental Policy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amew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Kazakhstan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Improvement of the Decision-Making process in Kazakhstan through introduction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f Mechanisms of Economic Assessment of fulfilling National Obligations under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lobal Environmental Agreements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sta Ric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pacity Building for Mainstreaming MEA Objectives into Inter-ministeri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ructures and Mechanis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liz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pacity building for the strategic planning and management of natural resources in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liz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. Luci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crease St. Lucia's capacity to monitor MEA implementation and sustainable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ment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ôte d’Ivoir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rengthened Environmental Management Information System for Coast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ment to meet Rio Convention Objecti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urkina Faso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ting Global Environmental Benefits from Improved Local Planning and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cision-making Systems in Burkina Fas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xamples of GEF 5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266400" y="4876920"/>
            <a:ext cx="887724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trengthening key capacities to implement the MEA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stream the global commons into 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0" y="7632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-Cutting Capacity 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countries meet and sustain global environmental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-152280" y="44197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2895480" y="1042920"/>
            <a:ext cx="321624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Draft Strategy– GEF6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global environmental needs into management information syste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trengthen consultative and management structures and mechanisms. Th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Multilateral Environmental Agreements’ provisions within national policy, legislative, and regulatory framework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ilot innovative economic and financial tools for Convention implement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ing of NCS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tle 3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3"/>
          <p:cNvSpPr/>
          <p:nvPr/>
        </p:nvSpPr>
        <p:spPr>
          <a:xfrm>
            <a:off x="0" y="2286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d4d4d"/>
                </a:solidFill>
                <a:latin typeface="Calibri"/>
              </a:rPr>
              <a:t>Any ques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3"/>
          <p:cNvSpPr/>
          <p:nvPr/>
        </p:nvSpPr>
        <p:spPr>
          <a:xfrm>
            <a:off x="1447920" y="4572000"/>
            <a:ext cx="6629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42d"/>
                </a:solidFill>
                <a:latin typeface="Calibri"/>
              </a:rPr>
              <a:t>The Global Environment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1818 H Street, NW, Mail Stop P4-400 - Washington, DC 20433 USA</a:t>
            </a:r>
            <a:br>
              <a:rPr sz="1400"/>
            </a:b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Tel: (202) 473-0508  Fax: (202) 522-3240/32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642d"/>
                </a:solidFill>
                <a:latin typeface="Calibri"/>
              </a:rPr>
              <a:t>www.thegef.org  / secretariat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alibri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untry’s priority capacity needs as identified in the Needs Self-Assessment exercise? Are those capacity needs still vali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hoose two or three priorities to be addressed in a Hypothetical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To what objectives of the Cross-Cutting Capacity Development Strategy would the project rel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mponents of the project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ractical exercise – Capacity development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cess by which individuals, organizations and societies strengthen their ability to address environmental issues, manage natural resource issues, and mainstream environmental sustainability into development policies, plans and decision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hat is meant by capacity development (CD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individual level: the process by which a change in attitudes and behaviors occu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organizational level: the focus is on functional capacities allowing for organizational chan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system level: the focus is on the enabling environment (i.e. policy, regulation, etc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Dimensions of CC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5"/>
          <p:cNvSpPr/>
          <p:nvPr/>
        </p:nvSpPr>
        <p:spPr>
          <a:xfrm>
            <a:off x="420840" y="1371600"/>
            <a:ext cx="830088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apac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evelopment Initiative (GEF/UNDP, 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Capacity Self-Assessments – NCSA (2002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rategic Approach for Capacity Development (GEF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upport from the corporate program for NCSAs (GEF/UNDP/UNEP, 2005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ime line of CD in the G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65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GEF STRATEGIC APPROACH TO CAPACITY BUILDING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Four pathways to develop countries’ capacity to implement the Rio Conventions (Council Decision C/22.8)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77" name="Group 13"/>
          <p:cNvGrpSpPr/>
          <p:nvPr/>
        </p:nvGrpSpPr>
        <p:grpSpPr>
          <a:xfrm>
            <a:off x="609480" y="1676520"/>
            <a:ext cx="8001000" cy="3272760"/>
            <a:chOff x="609480" y="1676520"/>
            <a:chExt cx="8001000" cy="3272760"/>
          </a:xfrm>
        </p:grpSpPr>
        <p:sp>
          <p:nvSpPr>
            <p:cNvPr id="178" name="Text Box 3"/>
            <p:cNvSpPr/>
            <p:nvPr/>
          </p:nvSpPr>
          <p:spPr>
            <a:xfrm>
              <a:off x="993960" y="1676520"/>
              <a:ext cx="738576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542"/>
                  </a:solidFill>
                  <a:latin typeface="Calibri"/>
                </a:rPr>
                <a:t>Capacity Development (CD) through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609480" y="2722680"/>
              <a:ext cx="1785960" cy="1769760"/>
            </a:xfrm>
            <a:prstGeom prst="rect">
              <a:avLst/>
            </a:prstGeom>
            <a:solidFill>
              <a:srgbClr val="007542">
                <a:alpha val="22000"/>
              </a:srgbClr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1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National Capacity Self-Assessments (NCSA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2808000" y="2722680"/>
              <a:ext cx="1673280" cy="210492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2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Greater attention to CD in individual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917960" y="2722680"/>
              <a:ext cx="1711080" cy="176976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3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Cross-cutting CD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6977160" y="2690640"/>
              <a:ext cx="1633320" cy="225864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4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95959"/>
                  </a:solidFill>
                  <a:latin typeface="Calibri"/>
                </a:rPr>
                <a:t>Critical Programs for CD in LDCs &amp; SI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112860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2011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52783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73555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trategic focus for CD (GE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7600" y="2971800"/>
            <a:ext cx="5486400" cy="31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onal Capacity Self-Assessments: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, Lessons Learned, Opportuniti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AEA5-6F95-490E-B54A-0AC5CD40F2A1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NCSA SR cover.jpg"/>
          <p:cNvPicPr/>
          <p:nvPr/>
        </p:nvPicPr>
        <p:blipFill>
          <a:blip r:embed="rId1"/>
          <a:stretch/>
        </p:blipFill>
        <p:spPr>
          <a:xfrm>
            <a:off x="4648320" y="1108080"/>
            <a:ext cx="3357360" cy="4343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609480" y="2722680"/>
            <a:ext cx="1785960" cy="2104920"/>
          </a:xfrm>
          <a:prstGeom prst="rect">
            <a:avLst/>
          </a:prstGeom>
          <a:solidFill>
            <a:srgbClr val="007542">
              <a:alpha val="22000"/>
            </a:srgbClr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National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Self-Assess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(NCS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1128600" y="2187720"/>
            <a:ext cx="720720" cy="476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7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304920" y="914400"/>
            <a:ext cx="78483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vant to the decisions i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into the country’s development prio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rheaded by the country, with a high-level political commi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extensive consultation of the various players for decision-m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304920" y="914400"/>
            <a:ext cx="7848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xisting structures and mechanisms in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development of existing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strengthen system, organization and individual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cting synergies betwee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4"/>
          <p:cNvSpPr/>
          <p:nvPr/>
        </p:nvSpPr>
        <p:spPr>
          <a:xfrm>
            <a:off x="990720" y="1676520"/>
            <a:ext cx="73911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and international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governance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of the environmental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creation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awareness and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 and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9 countries out of a total of 1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apacity development needs identified in the NC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22:28:47Z</dcterms:created>
  <dc:creator>wb350798</dc:creator>
  <dc:description/>
  <dc:language>en-US</dc:language>
  <cp:lastModifiedBy>Maria Camila Perez Gabilondo</cp:lastModifiedBy>
  <cp:lastPrinted>2013-01-30T21:17:22Z</cp:lastPrinted>
  <dcterms:modified xsi:type="dcterms:W3CDTF">2013-11-11T19:43:04Z</dcterms:modified>
  <cp:revision>294</cp:revision>
  <dc:subject/>
  <dc:title>Slide 1</dc:title>
</cp:coreProperties>
</file>