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9ACB-EC55-4958-AD6A-38E0073B64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41B4-E1B3-4C5E-99D9-2A83B2633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D859-8312-47B0-B26C-5CCE32AE5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8F6D-366A-4539-9020-C3047F164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E3B8-98C2-4C95-8B8B-91F8DB1E8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0B2B-6523-49B7-BF58-83CE84A93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EA57-D972-4B34-9AAB-5B4C79A59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CC8E-DCE8-4FA1-BBFE-1CFB40C57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now conduct a practical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read the instructions from the word doc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DC89-E8C4-4660-8295-0C46828C5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2EC5-DBB3-4788-BF1E-CF4E61DDB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D579-CEED-4C54-B4FD-DC4563DD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F9C7-2B55-477C-B24C-8474598F6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Capacity Self-Assessments, a process which we will talk about in a few mo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development at the individual focal area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-Cutting Capacity Development, across focal areas (cross-cutting) as "a cost-effective means of addressing capacity building needs at a systemic or institutional level that are not unique to any one focal area, but will assist countries to manage global environmental issues in a more general way". Particularly by strengthening institutions and organizations and the enabling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ritical capacity development programs targeted towards LDCs and SIDs, many of which have chronically-low capacities for the governance and management of environmental management progra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in response to guidance from the COPs of CBD and UNFCCC which have both requested the GEF to provide funding for country-driven capacity development activities, in particular LDCs and SIDSs.  It was part of the strategy for GEF3 and GEF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1A84-518F-4E1D-945E-A2536FF48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553B-10EA-4789-83E5-22D15A142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A301-A356-4DDE-8DDB-E01449C82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2840-0251-41EB-9013-43CD13A5D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462D-30CE-4A76-9486-A8A6053B0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E3C-0DA5-499E-8026-E63209D4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A48-A948-4EF4-967B-F377D260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1B3-2AD1-4D7A-88DE-982CA782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C3F-CC1A-4169-9F4D-19ED844B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D54-733E-484B-A1A5-28CCAD40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0C9-34B4-4B43-906D-962C4812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BC0-B85D-41C1-8A8B-004B4047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5B7-A5AC-4882-B114-11528D73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004-A6F0-4B1A-933E-42FB3946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90D-3248-4A6E-9F8E-413433EA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BE8-FD59-4BDE-9FAE-08BAF48D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E30-91CC-4477-977D-0EB5DAF5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013C-3D82-41E6-BE70-51E4D1A6C26B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3A0D-E32D-4BE4-91AF-DA80200C4D4D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16-17 December,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Marrakech, Moroc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krain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grating Rio Convention Provisions into Ukraine's National Environmental Policy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Kazakhsta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Improvement of the Decision-Making process in Kazakhstan through introducti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f Mechanisms of Economic Assessment of fulfilling National Obligations under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lobal Environmental Agreements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ministeri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uctures and Mechanis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the strategic planning and management of natural resources i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liz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Luci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crease St. Lucia's capacity to monitor MEA implementation and sustainabl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for Coas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to meet Rio Convention Objecti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Planning and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cision-making Systems in Burkina Fa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Th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ment Initiative (GEF/UNDP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58DE-56D8-4B3E-BF98-2F15F0CBA9E0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4648320" y="1108080"/>
            <a:ext cx="335736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4"/>
          <p:cNvSpPr/>
          <p:nvPr/>
        </p:nvSpPr>
        <p:spPr>
          <a:xfrm>
            <a:off x="990720" y="1676520"/>
            <a:ext cx="7391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internation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governanc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of the environmental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cre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awareness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nd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 countries out of a total of 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apacity development needs identified in the NC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Camila Perez Gabilondo</cp:lastModifiedBy>
  <cp:lastPrinted>2013-01-30T21:17:22Z</cp:lastPrinted>
  <dcterms:modified xsi:type="dcterms:W3CDTF">2013-11-11T19:43:04Z</dcterms:modified>
  <cp:revision>294</cp:revision>
  <dc:subject/>
  <dc:title>Slide 1</dc:title>
</cp:coreProperties>
</file>