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668-CA2D-497E-9829-47917F4C9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EE5-C86A-4816-A8A9-60A795A30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6098-A1E8-420D-B548-B53436B0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E472-CB59-4E86-A530-D7299227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5134-6FBE-440B-B7B9-2A1861C7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CBA-1B3F-4EC3-BBF8-E50F3B25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07A-8D96-4E17-9FF1-4831F075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125-A57D-4341-8D5B-D27A2A72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F129-071E-40CB-94D7-B57E5C19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9A8F-D799-435F-937C-DE924C34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228-B2E4-4DA0-9964-7B95917D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DF3-D976-4860-8B65-5C0416F1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2C4A-D278-4D7A-A8E2-3440F1A8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B05-A816-459A-9A07-D0A2A428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8070-2862-47A9-97C0-59606D94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8669-C6EB-490F-AD93-56DBA03D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96D-D9BE-46A3-8FAE-9B74406E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4A7-FD71-4BFC-A9C3-BF972C60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B8-8407-4C20-A1A2-A985F25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112-CD2C-4C09-8B14-92160C39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7BE-B92E-4F6F-A576-DEB8EC4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B94-900F-4A26-8C74-8852954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D79-B4CB-455E-A6AF-39F1CE8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261-B673-4901-9EEE-8B84196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EAC-5194-4BEE-8D03-ECF96B9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4E0-5265-40BF-8A57-314A90D8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275-CBF3-4E66-AA67-6344456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3A9-DED9-496D-87E8-46646F9E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5CC-41D3-4BCC-A8A2-6D1668F9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C1C-AF13-47DB-B432-A0230702BB79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188-8A94-4F3C-A34A-DAFCE7490631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16-17 December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271-57AF-4672-A530-98CA934FDF0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11-11T19:43:04Z</dcterms:modified>
  <cp:revision>294</cp:revision>
  <dc:subject/>
  <dc:title>Slide 1</dc:title>
</cp:coreProperties>
</file>