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0306-0415-47CE-9CED-C71130B25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31F7-446C-47AA-8E99-3051B04CE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6D33-9FD4-4240-9E80-4A9BF0A5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F292-C723-4950-802A-E476568C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1609-C9E5-4A5F-9CA3-018BE5B6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FDE3-23F6-4F9B-A6C6-DBA63221B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B63F-E285-4EC7-A4CB-1673D01AD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27A3-770E-48C7-A9ED-634B9FBF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516F-E349-4E01-9620-3294533DB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1F65-38C5-422E-8A72-7A9D0F19D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B04D-6D4C-4F62-9566-399EB850F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18A7-7EBE-473E-BA3D-0F6DC747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4090-32B3-43C7-B3F6-14714CE82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23CC-3280-4218-9B67-B76AF6F3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1E09-66A1-4E0C-9F4B-89CA31FEF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2D20-5B75-48AD-A52F-BC5A09D4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93FD-839D-4726-B676-8E1B1B81F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9343-1DD8-48C5-A838-156694B10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F790-0311-487A-9F93-C4E6AEBE3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531-B8C2-4770-8F21-7C9E563D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421-841E-433B-A1C0-56D56049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7BE-C1B1-45B4-9335-FF6BDF65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A28-7148-4D93-9B31-F02414D1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B26-386B-4858-9683-4D844559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BE8-8E8F-46A1-9AD5-15AAC2DC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A18-1E56-4372-A540-BB85C4B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EE4-8901-4332-9C3F-70C98A1A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AC2-1461-4CD6-B2D2-88B99B2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4C8-D231-4072-B7D2-2FB1BCB1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F9A-42D4-4DB8-8942-F6B79531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293-AC64-45EC-A6E9-FE69C7B6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81B0-759E-4063-B0C3-1236086CBB46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2BD-B232-46F1-8436-FDF85433DF28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ilar Barr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perations officer Civil Society/Capacity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buja, Nigeria October 2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uin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Decentralized Management of the Environment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et 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 Coastal  Development to meet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 and Decision-making Systems in Burkina Fa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nisterial Structures and Mechanis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 in Bel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C330-1AE3-400C-99E0-BAB98B511776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8-15T21:04:24Z</cp:lastPrinted>
  <dcterms:modified xsi:type="dcterms:W3CDTF">2013-09-25T19:11:44Z</dcterms:modified>
  <cp:revision>298</cp:revision>
  <dc:subject/>
  <dc:title>Slide 1</dc:title>
</cp:coreProperties>
</file>