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07F-44E6-47F3-9B52-F07B18780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26B-EAD2-4E6B-AFB3-61A36FD8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33B0-80A1-4938-AA13-6B477315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722F-8248-4479-98B6-F8725CB7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0965-1C94-4641-A5C0-3042AECB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0D9E-36FF-4AA3-B34E-FFD6FBBA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070-1E55-45E1-924E-200A0850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1B8-48DA-449A-87AE-CB91C79A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9A1F-6B24-499B-8A89-A3F96DC7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9BB3-D1B6-4CAE-B93B-9A9F0052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289-76FC-4723-83E7-4B367EAC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EE1-29D6-410A-B94B-3BE34320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FE4D-81B6-4630-89F4-7C87219D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3A1-E56E-4487-AE12-ADEAB47B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568A-1188-4480-A565-149B15B37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1A3-4637-4B04-8264-AE0BAE76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8C4-B951-40D4-8E52-1E6A1188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9B8-E564-4F84-8295-176B7EC1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6E6-CFDB-450C-B150-C3B163E11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7B4-7C23-46E4-892C-5AE6272F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C8D-2E63-4A31-9762-7120ECF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4DB-21D1-4F32-A4BC-B1D80CCC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AB4-D91F-4F41-BBB7-1A07762F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11B-0814-4850-B29D-48B15816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960-427C-4422-B8A4-21D9A160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003-04FE-4572-A137-B9135C0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BED-F939-49A7-A13D-3579CD4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0C2-7791-40C3-965A-1BC2745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9B9-A6F1-4CAB-B806-920E299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86C-8673-4B14-8DD0-CA6217C9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462-05A6-4A4D-893A-77F118D1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ABB-7B60-4D50-92F1-06D1896D5745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4357-B3E5-4128-A0D0-9BF1381B7972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buja, Nigeria October 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u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Decentralized Management of the Environme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et 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 Coastal  Development to meet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and Decision-making Systems in 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sterial Structures and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 in Bel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849-1855-4959-B75D-2A636480C6D3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8-15T21:04:24Z</cp:lastPrinted>
  <dcterms:modified xsi:type="dcterms:W3CDTF">2013-09-25T19:11:44Z</dcterms:modified>
  <cp:revision>298</cp:revision>
  <dc:subject/>
  <dc:title>Slide 1</dc:title>
</cp:coreProperties>
</file>