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960-E87C-402E-9DA4-7C6FF04DB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58B-01BA-4099-9C7F-8BB00AFC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C339-26F2-46F7-8564-9BD87C92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46AD-40A4-4B04-A1EA-364B2A2D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2D7-1867-4C53-ACF2-74410158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7FC-E491-466E-8B0D-E120A0D1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394-3A1A-4AC2-9E2D-98CA813A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AD2-434F-450A-920F-238A020E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F16-D219-4DCC-B01C-76A4EF26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56E-FBF3-49E6-A797-5CB5B8F2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D2B-D107-4C6F-A11F-ADAB6676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2BB4-FAB8-4EC7-B67A-CDF78CA9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EE3-5EC2-4F7C-820F-F43C38115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06E-A702-4642-AF19-BAEDBC7E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A2D-714F-4289-9175-07CDC4CE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BC0-82F3-46FD-BC6E-F4CC5427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038-DAF3-45EB-ADA1-0B052C82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57A-9EC3-44A6-82CB-E827AAE37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3793-01FC-41CA-867F-22E55CD5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533-0BAD-44C6-961D-4B0E030A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498-BA64-400D-A089-1714C009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F59-3B7B-4A37-B511-31A23E58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6DC-27C2-4E5D-9761-A898370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C54-7BA1-4619-9226-AA069C1C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B2F-563B-43CA-92D2-1D400DC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912-715F-4908-833E-717506D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1F5-DFDF-4BF7-90EB-0B5610F8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C3E-00BE-4893-9A3D-305A293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6AE-16FD-4F71-8C4E-5B5F689D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B52-B331-4AC9-B867-BDBECC4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DE6-FA0F-47E6-BA3D-F04C832D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1E34-D069-4DFA-9A71-E86670E0221C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650-E0A5-4911-A686-81675981754E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buja, Nigeria October 2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u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Decentralized Management of the Environme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et 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 Coastal  Development to meet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and Decision-making Systems in 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nisterial Structures and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 in Bel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C87-4B24-4B83-908D-15708407FFEE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8-15T21:04:24Z</cp:lastPrinted>
  <dcterms:modified xsi:type="dcterms:W3CDTF">2013-09-25T19:11:44Z</dcterms:modified>
  <cp:revision>298</cp:revision>
  <dc:subject/>
  <dc:title>Slide 1</dc:title>
</cp:coreProperties>
</file>