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A5EB-22C1-4AFD-A2D5-20FCDE9B4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6CA4-0947-4170-8695-5744F466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954C-BF38-4609-ABFF-5F944A26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A6C8-09E5-4F1B-9B2E-CD0403059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6C84-1DDA-40A6-89AF-2EE322F8B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97EF-C4EC-4167-AB80-226FE0566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EA34-6E9F-4800-9163-8F4F2E963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A88-9280-4709-9CC6-5FDE59DEE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0306-8774-4214-BA75-7BCB2B280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D3ED-6BCE-40AC-AB43-84F59FE2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D9E4-EF12-445F-B97E-E44B25F9D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B29-6CD5-4645-A6F6-973724BA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6AB8-6EF3-49EB-AF0B-8C0FEACB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3B87-07B3-4AFB-9C76-EA5899763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2919-3E06-4989-83E8-54DE933A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00F8-7F55-4949-9AFB-36028BCE6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53C8-6360-4A61-9847-095D9C354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B767-0F9A-4ACD-A612-D5B3599B9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3D77-930F-4C55-887D-914C9CF2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5B5-04BA-4342-A428-31239E55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FF0-7B23-46DB-AA4A-B7F37190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8C6-D92C-469C-B832-B8D682C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3CF-4A31-4085-9FCD-D098F724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382-16EE-4674-B03D-DB7C0491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744-B537-401A-A28B-214E55C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D1A-15B1-4E00-9DA4-0CCB6BB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DE1-D11F-4CD3-9D77-D7D3A45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938-8C60-4D07-B0B9-6A9EA75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AB6-C01A-47D7-ACE0-DEE4638F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E19-CA4D-43F0-BA4F-D572E176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FE3-60BB-45BA-9FB0-29ACE068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B3D2-76C8-403E-BB95-7F869CB4A60E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4E0-2FAC-43B8-BBC3-1D2A636D1F99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41907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pia, Samoa 15 to 17 October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571680" y="12193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ies must be enhanc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eng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ensure 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nd inform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re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environmental sustainability dim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policy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and evalu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 an ongoing exercise in order to ensure the validity and relevance of policy an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-28440"/>
            <a:ext cx="9144000" cy="109512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lessons learned from NCSA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og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trengthening National and Decentralized Management for Global Environmen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ghani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ing Core Capacity for Decentralized MEA Implementation and Natur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ources Management in Afghan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ri Lan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suring global environmental concerns and best practices mainstreamed in th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st-conflict rapid development process of Sri Lanka through improved informa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s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Initiative (GEF/UNDP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512A-55B4-4B0E-A380-96E48F2FC2CC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management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al capa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ypes of Capacities identified in NC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Robert T. Schreiber</cp:lastModifiedBy>
  <cp:lastPrinted>2013-01-30T21:17:22Z</cp:lastPrinted>
  <dcterms:modified xsi:type="dcterms:W3CDTF">2013-09-30T22:48:56Z</dcterms:modified>
  <cp:revision>287</cp:revision>
  <dc:subject/>
  <dc:title>Slide 1</dc:title>
</cp:coreProperties>
</file>