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A23-6014-4D58-8C1A-17008FD0C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1743-460A-41DB-8C74-358E4D1C7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691-D1D6-458C-8F6A-B9BC0F92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AFF8-F182-434E-874D-864F6164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5CFD-8A9D-4B31-99FF-24160F468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1A29-DA08-42D8-9842-054F57DA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059-E555-4B81-9759-82389E21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2BEE-ED70-4813-81B7-671B6EC1B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D12-14F4-4EA1-A401-E1E1C65A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CF7-72D8-4979-8DDA-83CAFC42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8B6-2C30-482D-B34B-EBBBF6E5D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5CE8-D39F-4659-A5F6-2F8B3078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D30-C6E0-48EB-9137-EC1AE1C0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C434-789C-43E6-BBD6-1C2B58DE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591C-ECA1-493F-B250-3E391ABD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B9C-6640-45CD-980C-4E9C9811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F20-0009-450B-ACE5-4F9C974F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3C54-A2AA-4454-964A-07D2080C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E7E4-FA9F-4504-BE05-3EF3B4175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9A9-5403-4ECA-8476-81615F79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5D4-0855-4D35-80E2-9761BD3F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9EB-6555-49C9-A5ED-7DC1C21E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3B5-ED85-47CA-A30F-BB9CCFF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346-9221-473E-96F8-D96E49FE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D6E-D06A-4B8D-8242-0DF8FCF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259-D5E7-4EE8-9B57-7F8C0C9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48E-973C-4A7D-92FE-D363B3B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B24-A88D-4AC9-ACE7-5FDAA30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6B2-94D6-414C-904D-8EB2338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14B-67D0-4521-8D19-6C975BBE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A41-65A3-40E0-84AA-4847D8BD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610B-A8EB-4F2D-9E10-A764B8BC6CD4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0C7-36BF-4468-97EB-596B6C6F889E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41907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pia, Samoa 15 to 17 October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571680" y="12193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ies must be enhanc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eng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ensure 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nd inform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re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environmental sustainability dim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policy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and evalu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 an ongoing exercise in order to ensure the validity and relevance of policy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-28440"/>
            <a:ext cx="9144000" cy="109512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lessons learned from NCSA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trengthening National and Decentralized Management for Global Environmen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ghani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ing Core Capacity for Decentralized MEA Implementation and Natur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ources Management in Afghan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ri Lan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suring global environmental concerns and best practices mainstreamed in th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-conflict rapid development process of Sri Lanka through improved informa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s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Initiative (GEF/UNDP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2459-318C-40BE-8EEB-8BBBAA92C866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management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capa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ypes of Capacities identified in NC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Robert T. Schreiber</cp:lastModifiedBy>
  <cp:lastPrinted>2013-01-30T21:17:22Z</cp:lastPrinted>
  <dcterms:modified xsi:type="dcterms:W3CDTF">2013-09-30T22:48:56Z</dcterms:modified>
  <cp:revision>287</cp:revision>
  <dc:subject/>
  <dc:title>Slide 1</dc:title>
</cp:coreProperties>
</file>