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6CC-19E0-43B5-AD5D-3F0029C0A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B9E-3017-431B-B87A-A7F45A9F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E89-C5AD-4041-849A-1E95B860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3712-7542-46D5-951A-ECE8D671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1AB-D282-4E48-A7BE-8E7D5AD4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3D8-CE3C-4C8F-8E0C-A6C7EDBD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4A2-2D99-492B-8240-321E7BBA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A1E-AA98-4181-8FB0-2A4B159D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3F42-BA52-466C-8C9D-F0D3BB37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E4FA-D8FD-4EC1-BDC0-4325B6EA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797F-56C2-4D85-8BE0-738879B4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754-164B-464C-BB3F-AC1C41B3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A9D-BDB6-4963-8CB2-B2020022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FECB-61CC-449D-8BFD-3F06D6E8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AC3-21C4-438B-9532-96495D40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42F-3963-4922-8D84-D471BF74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CD7E-7E2B-44C6-97DC-80E7E9B0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092-EC33-4485-B4EF-D12A42FF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53D2-B2E6-4E55-B1F7-93437A361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E83-F221-49F1-9E5F-1E9A1782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1E2-4ECC-4E92-99BA-6F389B38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298-06CF-4E11-938B-90E53D6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E41-D70E-4D25-B482-2CA88A7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0DA-8B24-490E-A7E6-2A3D3FC0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FEA-85AF-47FC-856C-63229A5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7AD-2015-4E52-AA09-06EFF81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9C0-30E5-4097-AB3B-12F92D1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CE7-C861-4BF8-9250-E6E163FB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0D1-80CB-45A4-A2D1-12A8CF9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2B3-A5AD-4269-B377-2292CD29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82C-3BE3-49CF-92AC-F73EAD2A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80F-A58A-4588-8F99-08AC41FDFCA9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0C0D-0E47-4475-B140-7FFB54A3E071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pia, Samoa 15 to 17 October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57168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ies must be enhanc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eng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ensure 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infor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e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environmental sustainability dim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policy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and evalu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 an ongoing exercise in order to ensure the validity and relevance of policy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-28440"/>
            <a:ext cx="9144000" cy="109512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lessons learned from NCSA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trengthening National and Decentralized Management for Global Environmen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ghani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ing Core Capacity for Decentralized MEA Implementation and Natur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ources Management in Afghan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ri Lan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suring global environmental concerns and best practices mainstreamed in th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-conflict rapid development process of Sri Lanka through improved informa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s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Initiative (GEF/UNDP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E9A8-0D51-42EF-ADD9-9F345C95EE02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management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capa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ypes of Capacities identified in NC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Robert T. Schreiber</cp:lastModifiedBy>
  <cp:lastPrinted>2013-01-30T21:17:22Z</cp:lastPrinted>
  <dcterms:modified xsi:type="dcterms:W3CDTF">2013-09-30T22:48:56Z</dcterms:modified>
  <cp:revision>287</cp:revision>
  <dc:subject/>
  <dc:title>Slide 1</dc:title>
</cp:coreProperties>
</file>