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C9D3-193E-45CF-9DBE-DA225DB6D2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9002-4B23-447B-AEFE-3D028922A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59F1-FE75-4EF8-B386-D05450613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D5F2-DFF2-47CA-860C-BFD420EB2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8AEA-1D02-4A9C-9A28-B6CED41CA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ur la suite, nous ferons un exercice pratique basé sur les processus d'ACNR menés dans chacun de vos pays. Lire les instructions dans le document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DA9C-0C65-4949-A5DB-44A45417B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C131-61BA-4443-BFD9-7F21461FD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13D0-08AD-45FC-B62B-8B4C267E7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BCC1-B18F-49D1-80D0-CE34B5E5C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9CBB-F66D-4571-A134-65A0D55D6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urs aux structures et mécanismes en place dans les p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ées sur le renforcement des capacités existan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ées à renforcer les capacités du système, de l'organisation et des individ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ées sur les synergies entre les Conventions de R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AD90-46AB-494E-85FB-AFF9E84AB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résultats et les enseignements tirés des processus d'ACNR ont été pris en compte dans l'élaboration de la Stratégie de renforcement des capacités transversales. Voici quelques-uns de ces résult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F640-9DCD-4330-80A1-801B98817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5297-C5A0-4A68-8931-E213A3FB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351A-BC14-4FA3-B2A6-1350D6FF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100B-E1C3-4CB0-A656-2450F131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FE5-87DA-4B59-B30F-10415CAA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FC42-C597-4621-AD96-36E960D1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CDD1-F229-4995-A5ED-1E8BD98C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0693-FBF5-4D70-B257-A78E2733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5613-840B-4E02-BD01-6E5ED9E7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060F-B9DB-46F5-852C-B19CB4F6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2DE3-85E2-4358-9401-5221AE5B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3462-E22C-46FE-8F48-81A007BC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C74-A4FD-441C-9D8F-2E385DA5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9D94-6E7B-408D-8049-C6F11DC62C7F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B90E-4339-48E7-A923-5EFCB9CFC5F1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hegef.org/gef/GEF5_Capacity_Development_Strategy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HT" sz="28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lang="fr-HT" sz="2800" spc="-1" strike="noStrike">
                <a:solidFill>
                  <a:srgbClr val="898989"/>
                </a:solidFill>
                <a:latin typeface="Calibri"/>
              </a:rPr>
              <a:t>Atelier élargi pour la circonscription du F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HT" sz="2800" spc="-1" strike="noStrike">
                <a:solidFill>
                  <a:srgbClr val="898989"/>
                </a:solidFill>
                <a:latin typeface="Calibri"/>
              </a:rPr>
              <a:t>1-3 octobre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HT" sz="2800" spc="-1" strike="noStrike">
                <a:solidFill>
                  <a:srgbClr val="898989"/>
                </a:solidFill>
                <a:latin typeface="Calibri"/>
              </a:rPr>
              <a:t>Abuja, Nig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ratégie de renforcement des capacités transversales – FEM-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914400" y="1447920"/>
            <a:ext cx="746748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er une approche de gestion adaptative et concertée de la conception et de l'exécution des projet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rer le renforcement des capacités en tenant compte des limites de la capacité d'absorption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éliorer la viabilité environnementale grâce à des lignes directrices et à de solides indicateurs de suiv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Résultats des ANCR - Le fondement de la Stratégie pour FEM-5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Objectifs stratégiques du renforcement des capacités - FEM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ontent Placeholder 2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542"/>
                </a:solidFill>
                <a:latin typeface="Calibri"/>
                <a:ea typeface="ＭＳ Ｐゴシック"/>
              </a:rPr>
              <a:t>RC 1 :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fr-FR" sz="20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Renforcer la capacité des différents acteurs à participer au processus de consultation (Initiative pour l’organisation d’ateliers de dialogue national, Agence de coordination des programmes, Programme de microfinancements, et projets dans les domaines d'interven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542"/>
                </a:solidFill>
                <a:latin typeface="Calibri"/>
                <a:ea typeface="ＭＳ Ｐゴシック"/>
              </a:rPr>
              <a:t>RC 2 :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Développer les connaissances et l'information, y accéder et les utili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542"/>
                </a:solidFill>
                <a:latin typeface="Calibri"/>
                <a:ea typeface="ＭＳ Ｐゴシック"/>
              </a:rPr>
              <a:t>RC 3 : </a:t>
            </a:r>
            <a:r>
              <a:rPr b="0" lang="fr-FR" sz="20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Renforcer la capacité à élaborer les politiques publiques et les cadres législatifs voulus pour contribuer à améliorer l’état environnemental de la planè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542"/>
                </a:solidFill>
                <a:latin typeface="Calibri"/>
                <a:ea typeface="ＭＳ Ｐゴシック"/>
              </a:rPr>
              <a:t>RC 4 :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Renforcer la capacité à gérer et à appliquer les directives reçues au titre des Conv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542"/>
                </a:solidFill>
                <a:latin typeface="Calibri"/>
                <a:ea typeface="ＭＳ Ｐゴシック"/>
              </a:rPr>
              <a:t>RC 5 :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fr-FR" sz="20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Renforcer la capacité à surveiller et évaluer les impacts sur l'environnement et l'évolution de la situation en la matièr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Cohérence avec les objectifs stratégiques du renforcement des capacités transsectorielles </a:t>
            </a:r>
            <a:r>
              <a:rPr b="0" i="1" lang="fr-FR" sz="1900" spc="-1" strike="noStrike" u="sng">
                <a:solidFill>
                  <a:srgbClr val="595959"/>
                </a:solidFill>
                <a:uFillTx/>
                <a:latin typeface="Calibri"/>
              </a:rPr>
              <a:t>(</a:t>
            </a:r>
            <a:r>
              <a:rPr b="0" lang="fr-FR" sz="1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GEF5_Capacity_Development_Strategy</a:t>
            </a:r>
            <a:r>
              <a:rPr b="0" i="1" lang="fr-FR" sz="1900" spc="-1" strike="noStrike" u="sng">
                <a:solidFill>
                  <a:srgbClr val="595959"/>
                </a:solidFill>
                <a:uFillTx/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Caractère multisectoriel (être bénéfiques dans au moins trois domaines d’interven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Identification des priorités dans le cadre des processus d'ANC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Inclusion des indicateurs pour mesurer les progrès et la réalisation des objectifs convenus dans les pays bénéfici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Indication des mesures pour assurer la viabili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Cofinancement (ratio de 1:1 au minimu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Projets de grande ou moyenne enverg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it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Critères généraux de recevabilité des projets 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de renforcement des capac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Guinée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enforcement de la gestion décentralisée de l'environnement pour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épondre aux objectifs des conventions de 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ôte d’Ivoire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mélioration de la gestion des données écologiques pour l'aménagemen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des zones côtières dans le droit fil des objectifs des Conventions de 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Burkina Faso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mélioration de la planification et de la prise de décision au niveau local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n contribuant à l'amélioration de l’état environnemental de la planè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osta Rica 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enforcement des capacités pour la prise en compte systématique des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objectifs des instruments multilatéraux sur l'environnement dans les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structures et mécanismes interministéri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Belize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e renforcement des capacités pour la planification stratégique et la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gestion des ressources naturelles au Beliz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Exemples de projets de FEM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76320" y="487692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 renforçant les capacités-clés pour mettre en œuvre les accords multilatéraux sur l'environnement et intégrer le patrimoine mondial dans la prise de déc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0" y="763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enforcement des capacités transversales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les pays à atteindre et à maintenir les résultats environnementaux mondi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-152280" y="44197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3200400" y="1539720"/>
            <a:ext cx="27432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Preparation de la stratégie – FEM6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our intégrer les besoins environnementaux mondiaux dans les systèmes de gestion d'inform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our renforcer les structures et mécanismes de consultation et de ges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our intégrer les dispositions accords multilatéraux sur l'environnement dans les cadres politiques, législatives et réglementaires nationaux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our mettre en place des pilotes sur les outils économiques et financiers pour la mise en œuvre des Conven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Mise à jour des ANC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3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Merci de votre att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3"/>
          <p:cNvSpPr/>
          <p:nvPr/>
        </p:nvSpPr>
        <p:spPr>
          <a:xfrm>
            <a:off x="0" y="2286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Calibri"/>
              </a:rPr>
              <a:t>Des questions 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3"/>
          <p:cNvSpPr/>
          <p:nvPr/>
        </p:nvSpPr>
        <p:spPr>
          <a:xfrm>
            <a:off x="1447920" y="457200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42d"/>
                </a:solidFill>
                <a:latin typeface="Calibri"/>
              </a:rPr>
              <a:t>Fonds pour l’environnement mond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alibri"/>
              </a:rPr>
              <a:t>1818 H Street, NW, Mail Stop P4-400 - Washington, DC 20433 États-Unis</a:t>
            </a:r>
            <a:br>
              <a:rPr sz="1600"/>
            </a:br>
            <a:r>
              <a:rPr b="0" lang="en-US" sz="1400" spc="-1" strike="noStrike">
                <a:solidFill>
                  <a:srgbClr val="4d4d4d"/>
                </a:solidFill>
                <a:latin typeface="Calibri"/>
              </a:rPr>
              <a:t>Tél. : (202) 473-0508  Télécopie : (202) 522-3240/32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42d"/>
                </a:solidFill>
                <a:latin typeface="Calibri"/>
              </a:rPr>
              <a:t>www.thegef.org  / secretariat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6858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Questions 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Quels sont les besoins prioritaires du pays identifiés dans l'autoévaluation des capacités à renforcer ? Sont ces besoins toujours valid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hoisir deux ou trois priorités à prendre en compte par le proj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À quels objectifs de la Stratégie de renforcement des capacités transversales le projet se rapportera-t-il 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Quelles sont les composantes du projet 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Quels sont les effets positifs du projet pour l'environnement mondial 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Exercice pratique – renforcement des capacités</a:t>
            </a: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« Processus par lequel les individus, les organisations et les sociétés renforcent leur aptitude à s'attaquer aux problèmes environnementaux, aux questions de la gestion des ressources naturelles et à l'intégration  de la préservation de l'environnement dans les politiques, plans et décisions de développement.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Qu'entend-on par renforcement des capacités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niveau de l'individu : le processus par lequel le changement s'opère dans les attitudes et les comporte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niveau de l'organisation : l'accent est mis sur les capacités fonctionnelles qui favorisent un changement au sein de l'organis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niveau du système : l'accent est mis sur les conditions propices du cadre (politiques, réglementation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Aspects du renforcement des capacités (R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5"/>
          <p:cNvSpPr/>
          <p:nvPr/>
        </p:nvSpPr>
        <p:spPr>
          <a:xfrm>
            <a:off x="420840" y="1371600"/>
            <a:ext cx="830088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renforcement des capacités (FEM/PNUD,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che stratégique du renforcement des capacités (FEM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évaluations nationales des capacités à renforcer – ANCR (2002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ui du programme institutionnel aux ANCR (FEM/PNUD/PNUE, 2005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Évolution chronologique du RC au F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5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APPROCHE STRATÉGIQUE DU RENFORCEMENT DES CAPACITÉS</a:t>
            </a:r>
            <a:br>
              <a:rPr sz="2400"/>
            </a:b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Quatre moyens de renforcer les capacités des pays à mettre en œuvre les Conventions de Rio (Décision C/22.8)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77" name="Group 13"/>
          <p:cNvGrpSpPr/>
          <p:nvPr/>
        </p:nvGrpSpPr>
        <p:grpSpPr>
          <a:xfrm>
            <a:off x="609480" y="1676520"/>
            <a:ext cx="8001000" cy="3760920"/>
            <a:chOff x="609480" y="1676520"/>
            <a:chExt cx="8001000" cy="3760920"/>
          </a:xfrm>
        </p:grpSpPr>
        <p:sp>
          <p:nvSpPr>
            <p:cNvPr id="178" name="Text Box 3"/>
            <p:cNvSpPr/>
            <p:nvPr/>
          </p:nvSpPr>
          <p:spPr>
            <a:xfrm>
              <a:off x="993960" y="1676520"/>
              <a:ext cx="7385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7542"/>
                  </a:solidFill>
                  <a:latin typeface="Calibri"/>
                </a:rPr>
                <a:t>Renforcement des capacités (RC) par 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609480" y="2997360"/>
              <a:ext cx="1981080" cy="1769760"/>
            </a:xfrm>
            <a:prstGeom prst="rect">
              <a:avLst/>
            </a:prstGeom>
            <a:solidFill>
              <a:srgbClr val="007542">
                <a:alpha val="22000"/>
              </a:srgbClr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Autoévaluation nationale des capacités à renforc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2808000" y="2997360"/>
              <a:ext cx="1673280" cy="244008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Plus grande attention accordée au RC dans chaque proje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800600" y="2997360"/>
              <a:ext cx="1904760" cy="176976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Projets transsectoriels de R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6977160" y="2957400"/>
              <a:ext cx="1633320" cy="225864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595959"/>
                  </a:solidFill>
                  <a:latin typeface="Calibri"/>
                </a:rPr>
                <a:t>Programmes cruciaux de RC dans les PMA et les PE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1128600" y="2321280"/>
              <a:ext cx="721080" cy="600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201120" y="2321280"/>
              <a:ext cx="721080" cy="600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5278320" y="2321280"/>
              <a:ext cx="721080" cy="600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7355520" y="2321280"/>
              <a:ext cx="721080" cy="600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Cadrage stratégique du renforcement des capacités (F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7600" y="2971800"/>
            <a:ext cx="5486400" cy="31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évaluation des capacités nationales à renforcer : </a:t>
            </a:r>
            <a:r>
              <a:rPr b="1" lang="fr-F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ésultats, enseignements tirés, opportunité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4F5A-8F43-47FE-B766-B0837E10DE14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NCSA SR cover.jpg"/>
          <p:cNvPicPr/>
          <p:nvPr/>
        </p:nvPicPr>
        <p:blipFill>
          <a:blip r:embed="rId1"/>
          <a:stretch/>
        </p:blipFill>
        <p:spPr>
          <a:xfrm>
            <a:off x="2666880" y="1143000"/>
            <a:ext cx="3357720" cy="434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457200" y="2722680"/>
            <a:ext cx="1938240" cy="2228400"/>
          </a:xfrm>
          <a:prstGeom prst="rect">
            <a:avLst/>
          </a:prstGeom>
          <a:solidFill>
            <a:srgbClr val="007542">
              <a:alpha val="22000"/>
            </a:srgbClr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95959"/>
                </a:solidFill>
                <a:latin typeface="Calibri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95959"/>
                </a:solidFill>
                <a:latin typeface="Calibri"/>
              </a:rPr>
              <a:t>Autoévaluations des capacités nationales à renfor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95959"/>
                </a:solidFill>
                <a:latin typeface="Calibri"/>
              </a:rPr>
              <a:t>(AN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128600" y="2187720"/>
            <a:ext cx="720720" cy="47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2200" spc="-1" strike="noStrike">
              <a:solidFill>
                <a:srgbClr val="595959"/>
              </a:solidFill>
              <a:latin typeface="Calibri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tinentes par rapport aux décisions des Conventions de 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ématiquement prises en compte dans les priorités de développement des p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otées par le pays, avec un engagement politique à haut nive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dées sur une vaste consultation avec divers acteurs pour la prise de déc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Modalités opérationnelles concernant les ANCR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urs aux structures et mécanismes en place dans les p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ées sur le renforcement des capacités exis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ées à renforcer les capacités du système, de l'organisation et des individ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ées sur les synergies entre les Conventions de 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Modalités opérationnelles concernant les ANCR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3"/>
          <p:cNvSpPr/>
          <p:nvPr/>
        </p:nvSpPr>
        <p:spPr>
          <a:xfrm>
            <a:off x="914400" y="144792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montrer la création de synergies pour donner suite aux priorités des Conventions de Rio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prouver et reproduire les outils innovants et les « meilleures pratiques »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égrer systématiquement la dimension de la protection de l'environnement mondial dans les politiques, législations et réglementation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Résultats des ANCR - Le fondement de la Stratégie pour FEM-5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22:28:47Z</dcterms:created>
  <dc:creator>wb350798</dc:creator>
  <dc:description/>
  <dc:language>en-US</dc:language>
  <cp:lastModifiedBy>Maria Camila Perez Gabilondo</cp:lastModifiedBy>
  <cp:lastPrinted>2013-01-30T21:17:22Z</cp:lastPrinted>
  <dcterms:modified xsi:type="dcterms:W3CDTF">2013-09-25T19:11:42Z</dcterms:modified>
  <cp:revision>238</cp:revision>
  <dc:subject/>
  <dc:title>Slide 1</dc:title>
</cp:coreProperties>
</file>