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B915-389C-4EF7-BFCE-A7FBF1848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0D78-F8BA-46FE-BEA6-D91B93453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DEB-F231-4146-893E-E61ED60A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4B61-4C63-4C18-9DB9-964541F5B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EDB9-6998-49DA-85BE-E50D54074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a suite, nous ferons un exercice pratique basé sur les processus d'ACNR menés dans chacun de vos pays. Lire les instructions dans le document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FD7-B797-47B4-80EA-8E5CB8BF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BCCB-1117-4065-971C-0ADBCE49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A6D-6083-443F-80E2-B1B622EC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0D72-F0EC-4CA8-ACA2-D21BE1ED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9C47-C3B7-4D8B-B8AD-60AB95A4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35EC-7E9C-436E-95B6-DF941E46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résultats et les enseignements tirés des processus d'ACNR ont été pris en compte dans l'élaboration de la Stratégie de renforcement des capacités transversales. Voici quelques-uns de ces résult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553C-F89A-40CE-8EA1-395B4C75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CDB-D516-4DEA-B92C-F1DC618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357-B427-41DA-9608-914DE523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463-3726-4F55-9F2C-56D6862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C5B-5340-405E-89F5-7A790DB8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B2D-23C5-40CD-B5AF-94D437C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602-3098-4090-A203-C219C848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E6C-E606-4C6B-9A40-ECE7AE0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96C-5C73-46B1-AD32-9438258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BB1-598A-4B80-9B05-7C48A74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48B-DF20-4BDA-9EB6-5948F10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77A-329D-480D-A979-84BE2F6B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CD1-073D-42C3-A955-1E391752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E2D-70A9-4C99-8CA1-9E2E66392E10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CB2-CA3B-4D98-A7BC-186A6A727709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telier élargi pour la circonscription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1-3 octobr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buja, Nig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ratégie de renforcement des capacités transversales –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914400" y="1447920"/>
            <a:ext cx="74674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er une approche de gestion adaptative et concertée de la conception et de l'exécution des proje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rer le renforcement des capacités en tenant compte des limites de la capacité d'absorption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liorer la viabilité environnementale grâce à des lignes directrices et à de solides indicateurs de su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Objectifs stratégiques du renforcement des capacités - FEM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1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des différents acteurs à participer au processus de consultation (Initiative pour l’organisation d’ateliers de dialogue national, Agence de coordination des programmes, Programme de microfinancements, et projets dans les domaines d'interv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2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Développer les connaissances et l'information, y accéder et les util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3 :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élaborer les politiques publiques et les cadres législatifs voulus pour contribuer à améliorer l’état environnemental de la plan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4 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gérer et à appliquer les directives reçues au titre des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5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surveiller et évaluer les impacts sur l'environnement et l'évolution de la situation en la matièr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hérence avec les objectifs stratégiques du renforcement des capacités transsectorielles 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fr-FR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aractère multisectoriel (être bénéfiques dans au moins trois domaines d’interven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dentification des priorités dans le cadre des processus d'AN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clusion des indicateurs pour mesurer les progrès et la réalisation des objectifs convenus dans les pays bénéfici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dication des mesures pour assurer la viabil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financement (ratio de 1:1 au minim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Projets de grande ou moyenne enver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it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ritères généraux de recevabilité des projet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de renforcement des capac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uiné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 la gestion décentralisée de l'environnement pour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pondre aux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gestion des données écologiques pour l'aménagem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es zones côtières dans le droit fil des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planification et de la prise de décision au niveau local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n contribuant à l'amélioration de l’état environnemental de la planè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sta Rica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s capacités pour la prise en compte systématique d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des instruments multilatéraux sur l'environnement dan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tructures et mécanismes interministéri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e renforcement des capacités pour la planification stratégique et la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estion des ressources naturelles au Bel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mples de projets de FEM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6320" y="48769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renforçant les capacités-clés pour mettre en œuvre les accords multilatéraux sur l'environnement et intégrer le patrimoine mondial dans la prise de dé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76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forcement des capacités transversal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les pays à atteindre et à maintenir les résultats environnementaux mond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3200400" y="1539720"/>
            <a:ext cx="2743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Preparation de la stratégie – FEM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besoins environnementaux mondiaux dans les systèmes de gestion d'infor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renforcer les structures et mécanismes de consultation et de ges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dispositions accords multilatéraux sur l'environnement dans les cadres politiques, législatives et réglementaires nationau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mettre en place des pilotes sur les outils économiques et financiers pour la mise en œuvre des Conven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ise à jour des ANC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Merci de votre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Des questions 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Fonds po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États-Unis</a:t>
            </a:r>
            <a:br>
              <a:rPr sz="1600"/>
            </a:b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Tél. : (202) 473-0508  Télécopie 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Questions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besoins prioritaires du pays identifiés dans l'autoévaluation des capacités à renforcer ? Sont ces besoins toujours vali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oisir deux ou trois priorités à prendre en compte par le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quels objectifs de la Stratégie de renforcement des capacités transversales le projet se rapportera-t-i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les sont les composantes du projet 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effets positifs du projet pour l'environnement mondia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Exercice pratique – renforcement des capacités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cessus par lequel les individus, les organisations et les sociétés renforcent leur aptitude à s'attaquer aux problèmes environnementaux, aux questions de la gestion des ressources naturelles et à l'intégration  de la préservation de l'environnement dans les politiques, plans et décisions de développement.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Qu'entend-on par renforcement des capacité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individu : le processus par lequel le changement s'opère dans les attitudes et les compor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organisation : l'accent est mis sur les capacités fonctionnelles qui favorisent un changement au sein de l'organis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u système : l'accent est mis sur les conditions propices du cadre (politiques, réglement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Aspects du renforcement des capacités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enforcement des capacités (FEM/PNU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stratégique du renforcement des capacités (FEM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évaluations nationales des capacités à renforcer – ANCR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ui du programme institutionnel aux ANCR (FEM/PNUD/PNUE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Évolution chronologique du RC au F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PPROCHE STRATÉGIQUE DU RENFORCEMENT DES CAPACITÉS</a:t>
            </a:r>
            <a:br>
              <a:rPr sz="24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Quatre moyens de renforcer les capacités des pays à mettre en œuvre les Conventions de Rio (Dé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760920"/>
            <a:chOff x="609480" y="1676520"/>
            <a:chExt cx="8001000" cy="376092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7542"/>
                  </a:solidFill>
                  <a:latin typeface="Calibri"/>
                </a:rPr>
                <a:t>Renforcement des capacités (RC) par 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997360"/>
              <a:ext cx="198108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Autoévaluation nationale des capacités à renfor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997360"/>
              <a:ext cx="1673280" cy="244008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lus grande attention accordée au RC dans chaque pro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0600" y="2997360"/>
              <a:ext cx="190476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rojets transsectoriels de R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95740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595959"/>
                  </a:solidFill>
                  <a:latin typeface="Calibri"/>
                </a:rPr>
                <a:t>Programmes cruciaux de RC dans les PMA et les PE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adrage stratégique du renforcement des capacités (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évaluation des capacités nationales à renforcer : 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ultats, enseignements tirés, opportunité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4D5D-2534-4A43-B326-5EB93EE780F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57200" y="2722680"/>
            <a:ext cx="1938240" cy="222840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Autoévaluations des capacités nationales à renfor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(A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inentes par rapport aux décisions d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atiquement prises en compte dans les priorités de développement des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ées par le pays, avec un engagement politique à haut niv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ées sur une vaste consultation avec divers acteurs pour la prise de dé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montrer la création de synergies pour donner suite aux priorités des Conventions de Rio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ouver et reproduire les outils innovants et les « meilleures pratiques »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grer systématiquement la dimension de la protection de l'environnement mondial dans les politiques, législations et réglementation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09-25T19:11:42Z</dcterms:modified>
  <cp:revision>238</cp:revision>
  <dc:subject/>
  <dc:title>Slide 1</dc:title>
</cp:coreProperties>
</file>