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9D772-4BE8-4D4C-8C6C-9E7A3E7CF1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6A1B7-F687-41E3-8123-C34EECD29C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19462-940F-42ED-ACCD-06F3A4043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E745A-E8EA-46C7-B57B-D7A4C242E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2728B-FB34-4DD0-9BC2-E86E7A37B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ur la suite, nous ferons un exercice pratique basé sur les processus d'ACNR menés dans chacun de vos pays. Lire les instructions dans le document Wo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FDA93-E7F8-47FE-ACF8-E34CE57AD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06330-0BC3-41A1-B03C-735D55116D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EA63E-BAA0-4689-B62A-58CB0BDA3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0D616-3842-4037-85B5-B00E4FBD7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B6716-D7CE-4C32-8C3D-B8C88C339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urs aux structures et mécanismes en place dans les p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ées sur le renforcement des capacités existan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tinées à renforcer les capacités du système, de l'organisation et des individ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xées sur les synergies entre les Conventions de Ri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2C4B8-BCE1-4022-80E8-E6826AABC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 résultats et les enseignements tirés des processus d'ACNR ont été pris en compte dans l'élaboration de la Stratégie de renforcement des capacités transversales. Voici quelques-uns de ces résulta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F2621-1E3F-4C3F-9580-F2DC13C942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3A20-30C7-4AE7-B347-F9811BC36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529F-2AC8-4E7D-99D1-41DEDCC7F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FA33-4678-407F-9989-41BB6EF07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755C-78F7-429A-906D-DBED73C1E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A481-E91D-4008-A188-239C0913F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9C05-330C-4532-B187-5260EE830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4288-05C3-4A0E-AE1D-4058C3DA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CCFA-F2A7-4B76-8FAF-C04DAAC8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660A-3B56-4AB8-B9E8-18710492C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CF8E-2038-46BD-A612-07031314A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0CD2-31DE-4AE2-8E35-E3771D4B0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8924-BB4C-49F7-82F6-F90D44E85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4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Group 6"/>
          <p:cNvGrpSpPr/>
          <p:nvPr/>
        </p:nvGrpSpPr>
        <p:grpSpPr>
          <a:xfrm>
            <a:off x="0" y="0"/>
            <a:ext cx="9144000" cy="1247760"/>
            <a:chOff x="0" y="0"/>
            <a:chExt cx="9144000" cy="1247760"/>
          </a:xfrm>
        </p:grpSpPr>
        <p:pic>
          <p:nvPicPr>
            <p:cNvPr id="40" name="Picture 5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7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0"/>
              <a:ext cx="9119880" cy="610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7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5048B-B6C2-44AF-8BA0-CA40A10F0BDE}" type="datetime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FEA5E-656A-4E4B-BD14-7933B19A2E30}" type="slidenum"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thegef.org/gef/GEF5_Capacity_Development_Strategy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91440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HT" sz="2800" spc="-1" strike="noStrike">
                <a:solidFill>
                  <a:srgbClr val="898989"/>
                </a:solidFill>
                <a:latin typeface="Calibri"/>
              </a:rPr>
              <a:t> </a:t>
            </a:r>
            <a:r>
              <a:rPr b="0" lang="fr-HT" sz="2800" spc="-1" strike="noStrike">
                <a:solidFill>
                  <a:srgbClr val="898989"/>
                </a:solidFill>
                <a:latin typeface="Calibri"/>
              </a:rPr>
              <a:t>Atelier élargi pour la circonscription du F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HT" sz="2800" spc="-1" strike="noStrike">
                <a:solidFill>
                  <a:srgbClr val="898989"/>
                </a:solidFill>
                <a:latin typeface="Calibri"/>
              </a:rPr>
              <a:t>1-3 octobre 20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HT" sz="2800" spc="-1" strike="noStrike">
                <a:solidFill>
                  <a:srgbClr val="898989"/>
                </a:solidFill>
                <a:latin typeface="Calibri"/>
              </a:rPr>
              <a:t>Abuja, Niger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251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Stratégie de renforcement des capacités transversales – FEM-5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Box 3"/>
          <p:cNvSpPr/>
          <p:nvPr/>
        </p:nvSpPr>
        <p:spPr>
          <a:xfrm>
            <a:off x="914400" y="1447920"/>
            <a:ext cx="7467480" cy="36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opter une approche de gestion adaptative et concertée de la conception et de l'exécution des projets 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drer le renforcement des capacités en tenant compte des limites de la capacité d'absorption 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éliorer la viabilité environnementale grâce à des lignes directrices et à de solides indicateurs de suiv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Résultats des ANCR - Le fondement de la Stratégie pour FEM-5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Objectifs stratégiques du renforcement des capacités - FEM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Content Placeholder 2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7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7542"/>
                </a:solidFill>
                <a:latin typeface="Calibri"/>
                <a:ea typeface="ＭＳ Ｐゴシック"/>
              </a:rPr>
              <a:t>RC 1 :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r>
              <a:rPr b="0" lang="fr-FR" sz="2000" spc="-1" strike="noStrike">
                <a:solidFill>
                  <a:srgbClr val="595959"/>
                </a:solidFill>
                <a:latin typeface="Calibri"/>
                <a:ea typeface="ＭＳ Ｐゴシック"/>
              </a:rPr>
              <a:t>Renforcer la capacité des différents acteurs à participer au processus de consultation (Initiative pour l’organisation d’ateliers de dialogue national, Agence de coordination des programmes, Programme de microfinancements, et projets dans les domaines d'interven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7542"/>
                </a:solidFill>
                <a:latin typeface="Calibri"/>
                <a:ea typeface="ＭＳ Ｐゴシック"/>
              </a:rPr>
              <a:t>RC 2 :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fr-FR" sz="2000" spc="-1" strike="noStrike">
                <a:solidFill>
                  <a:srgbClr val="595959"/>
                </a:solidFill>
                <a:latin typeface="Calibri"/>
                <a:ea typeface="ＭＳ Ｐゴシック"/>
              </a:rPr>
              <a:t>Développer les connaissances et l'information, y accéder et les utili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7542"/>
                </a:solidFill>
                <a:latin typeface="Calibri"/>
                <a:ea typeface="ＭＳ Ｐゴシック"/>
              </a:rPr>
              <a:t>RC 3 : </a:t>
            </a:r>
            <a:r>
              <a:rPr b="0" lang="fr-FR" sz="2000" spc="-1" strike="noStrike">
                <a:solidFill>
                  <a:srgbClr val="595959"/>
                </a:solidFill>
                <a:latin typeface="Calibri"/>
                <a:ea typeface="ＭＳ Ｐゴシック"/>
              </a:rPr>
              <a:t>Renforcer la capacité à élaborer les politiques publiques et les cadres législatifs voulus pour contribuer à améliorer l’état environnemental de la planè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7542"/>
                </a:solidFill>
                <a:latin typeface="Calibri"/>
                <a:ea typeface="ＭＳ Ｐゴシック"/>
              </a:rPr>
              <a:t>RC 4 :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fr-FR" sz="2000" spc="-1" strike="noStrike">
                <a:solidFill>
                  <a:srgbClr val="595959"/>
                </a:solidFill>
                <a:latin typeface="Calibri"/>
                <a:ea typeface="ＭＳ Ｐゴシック"/>
              </a:rPr>
              <a:t>Renforcer la capacité à gérer et à appliquer les directives reçues au titre des Conven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7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7542"/>
                </a:solidFill>
                <a:latin typeface="Calibri"/>
                <a:ea typeface="ＭＳ Ｐゴシック"/>
              </a:rPr>
              <a:t>RC 5 :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r>
              <a:rPr b="0" lang="fr-FR" sz="2000" spc="-1" strike="noStrike">
                <a:solidFill>
                  <a:srgbClr val="595959"/>
                </a:solidFill>
                <a:latin typeface="Calibri"/>
                <a:ea typeface="ＭＳ Ｐゴシック"/>
              </a:rPr>
              <a:t>Renforcer la capacité à surveiller et évaluer les impacts sur l'environnement et l'évolution de la situation en la matière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95959"/>
                </a:solidFill>
                <a:latin typeface="Calibri"/>
              </a:rPr>
              <a:t>Cohérence avec les objectifs stratégiques du renforcement des capacités transsectorielles </a:t>
            </a:r>
            <a:r>
              <a:rPr b="0" i="1" lang="fr-FR" sz="1900" spc="-1" strike="noStrike" u="sng">
                <a:solidFill>
                  <a:srgbClr val="595959"/>
                </a:solidFill>
                <a:uFillTx/>
                <a:latin typeface="Calibri"/>
              </a:rPr>
              <a:t>(</a:t>
            </a:r>
            <a:r>
              <a:rPr b="0" lang="fr-FR" sz="19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thegef.org/gef/GEF5_Capacity_Development_Strategy</a:t>
            </a:r>
            <a:r>
              <a:rPr b="0" i="1" lang="fr-FR" sz="1900" spc="-1" strike="noStrike" u="sng">
                <a:solidFill>
                  <a:srgbClr val="595959"/>
                </a:solidFill>
                <a:uFillTx/>
                <a:latin typeface="Calibri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95959"/>
                </a:solidFill>
                <a:latin typeface="Calibri"/>
              </a:rPr>
              <a:t>Caractère multisectoriel (être bénéfiques dans au moins trois domaines d’interven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95959"/>
                </a:solidFill>
                <a:latin typeface="Calibri"/>
              </a:rPr>
              <a:t>Identification des priorités dans le cadre des processus d'ANC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95959"/>
                </a:solidFill>
                <a:latin typeface="Calibri"/>
              </a:rPr>
              <a:t>Inclusion des indicateurs pour mesurer les progrès et la réalisation des objectifs convenus dans les pays bénéficiai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95959"/>
                </a:solidFill>
                <a:latin typeface="Calibri"/>
              </a:rPr>
              <a:t>Indication des mesures pour assurer la viabilit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95959"/>
                </a:solidFill>
                <a:latin typeface="Calibri"/>
              </a:rPr>
              <a:t>Cofinancement (ratio de 1:1 au minimu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95959"/>
                </a:solidFill>
                <a:latin typeface="Calibri"/>
              </a:rPr>
              <a:t>Projets de grande ou moyenne enverg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itle 3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Critères généraux de recevabilité des projets </a:t>
            </a:r>
            <a:br>
              <a:rPr sz="2800"/>
            </a:b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de renforcement des capaci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457200" y="6854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Guinée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Renforcement de la gestion décentralisée de l'environnement pour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répondre aux objectifs des conventions de Ri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Côte d’Ivoire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Amélioration de la gestion des données écologiques pour l'aménagement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des zones côtières dans le droit fil des objectifs des Conventions de Ri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Burkina Faso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Amélioration de la planification et de la prise de décision au niveau local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en contribuant à l'amélioration de l’état environnemental de la planè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Costa Rica 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Renforcement des capacités pour la prise en compte systématique des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objectifs des instruments multilatéraux sur l'environnement dans les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structures et mécanismes interministéri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Belize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e renforcement des capacités pour la planification stratégique et la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gestion des ressources naturelles au Beliz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Exemples de projets de FEM-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76320" y="4876920"/>
            <a:ext cx="90676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en renforçant les capacités-clés pour mettre en œuvre les accords multilatéraux sur l'environnement et intégrer le patrimoine mondial dans la prise de déci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Box 3"/>
          <p:cNvSpPr/>
          <p:nvPr/>
        </p:nvSpPr>
        <p:spPr>
          <a:xfrm>
            <a:off x="0" y="763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renforcement des capacités transversales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ide les pays à atteindre et à maintenir les résultats environnementaux mondia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-152280" y="4419720"/>
            <a:ext cx="899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1"/>
          <a:stretch/>
        </p:blipFill>
        <p:spPr>
          <a:xfrm>
            <a:off x="3200400" y="1539720"/>
            <a:ext cx="274320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1f497d"/>
                </a:solidFill>
                <a:latin typeface="Calibri"/>
              </a:rPr>
              <a:t>Preparation de la stratégie – FEM6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Pour intégrer les besoins environnementaux mondiaux dans les systèmes de gestion d'informa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Pour renforcer les structures et mécanismes de consultation et de gestion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Pour intégrer les dispositions accords multilatéraux sur l'environnement dans les cadres politiques, législatives et réglementaires nationaux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Pour mettre en place des pilotes sur les outils économiques et financiers pour la mise en œuvre des Convention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Mise à jour des ANC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itle 3"/>
          <p:cNvSpPr/>
          <p:nvPr/>
        </p:nvSpPr>
        <p:spPr>
          <a:xfrm>
            <a:off x="0" y="1295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42d"/>
                </a:solidFill>
                <a:latin typeface="Calibri"/>
              </a:rPr>
              <a:t>Merci de votre atten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itle 3"/>
          <p:cNvSpPr/>
          <p:nvPr/>
        </p:nvSpPr>
        <p:spPr>
          <a:xfrm>
            <a:off x="0" y="22860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4d4d4d"/>
                </a:solidFill>
                <a:latin typeface="Calibri"/>
              </a:rPr>
              <a:t>Des questions 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itle 3"/>
          <p:cNvSpPr/>
          <p:nvPr/>
        </p:nvSpPr>
        <p:spPr>
          <a:xfrm>
            <a:off x="1447920" y="4572000"/>
            <a:ext cx="6629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42d"/>
                </a:solidFill>
                <a:latin typeface="Calibri"/>
              </a:rPr>
              <a:t>Fonds pour l’environnement mond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alibri"/>
              </a:rPr>
              <a:t>1818 H Street, NW, Mail Stop P4-400 - Washington, DC 20433 États-Unis</a:t>
            </a:r>
            <a:br>
              <a:rPr sz="1600"/>
            </a:br>
            <a:r>
              <a:rPr b="0" lang="en-US" sz="1400" spc="-1" strike="noStrike">
                <a:solidFill>
                  <a:srgbClr val="4d4d4d"/>
                </a:solidFill>
                <a:latin typeface="Calibri"/>
              </a:rPr>
              <a:t>Tél. : (202) 473-0508  Télécopie : (202) 522-3240/32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42d"/>
                </a:solidFill>
                <a:latin typeface="Calibri"/>
              </a:rPr>
              <a:t>www.thegef.org  / secretariat@thegef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457200" y="6858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Calibri"/>
              </a:rPr>
              <a:t>Questions 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Quels sont les besoins prioritaires du pays identifiés dans l'autoévaluation des capacités à renforcer ? Sont ces besoins toujours valid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hoisir deux ou trois priorités à prendre en compte par le proj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À quels objectifs de la Stratégie de renforcement des capacités transversales le projet se rapportera-t-il 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Quelles sont les composantes du projet 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Quels sont les effets positifs du projet pour l'environnement mondial 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Calibri"/>
              </a:rPr>
              <a:t>Exercice pratique – renforcement des capacités</a:t>
            </a: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« Processus par lequel les individus, les organisations et les sociétés renforcent leur aptitude à s'attaquer aux problèmes environnementaux, aux questions de la gestion des ressources naturelles et à l'intégration  de la préservation de l'environnement dans les politiques, plans et décisions de développement. 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Qu'entend-on par renforcement des capacités 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Au niveau de l'individu : le processus par lequel le changement s'opère dans les attitudes et les comporteme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Au niveau de l'organisation : l'accent est mis sur les capacités fonctionnelles qui favorisent un changement au sein de l'organis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Au niveau du système : l'accent est mis sur les conditions propices du cadre (politiques, réglementation, etc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Calibri"/>
              </a:rPr>
              <a:t>Aspects du renforcement des capacités (RC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Box 5"/>
          <p:cNvSpPr/>
          <p:nvPr/>
        </p:nvSpPr>
        <p:spPr>
          <a:xfrm>
            <a:off x="420840" y="1371600"/>
            <a:ext cx="8300880" cy="35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renforcement des capacités (FEM/PNUD, 20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roche stratégique du renforcement des capacités (FEM, 200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évaluations nationales des capacités à renforcer – ANCR (2002-20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ui du programme institutionnel aux ANCR (FEM/PNUD/PNUE, 2005-20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Évolution chronologique du RC au F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65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APPROCHE STRATÉGIQUE DU RENFORCEMENT DES CAPACITÉS</a:t>
            </a:r>
            <a:br>
              <a:rPr sz="2400"/>
            </a:b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Quatre moyens de renforcer les capacités des pays à mettre en œuvre les Conventions de Rio (Décision C/22.8)</a:t>
            </a:r>
            <a:endParaRPr b="1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grpSp>
        <p:nvGrpSpPr>
          <p:cNvPr id="177" name="Group 13"/>
          <p:cNvGrpSpPr/>
          <p:nvPr/>
        </p:nvGrpSpPr>
        <p:grpSpPr>
          <a:xfrm>
            <a:off x="609480" y="1676520"/>
            <a:ext cx="8001000" cy="3760920"/>
            <a:chOff x="609480" y="1676520"/>
            <a:chExt cx="8001000" cy="3760920"/>
          </a:xfrm>
        </p:grpSpPr>
        <p:sp>
          <p:nvSpPr>
            <p:cNvPr id="178" name="Text Box 3"/>
            <p:cNvSpPr/>
            <p:nvPr/>
          </p:nvSpPr>
          <p:spPr>
            <a:xfrm>
              <a:off x="993960" y="1676520"/>
              <a:ext cx="7385760" cy="3682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7542"/>
                  </a:solidFill>
                  <a:latin typeface="Calibri"/>
                </a:rPr>
                <a:t>Renforcement des capacités (RC) par 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4"/>
            <p:cNvSpPr/>
            <p:nvPr/>
          </p:nvSpPr>
          <p:spPr>
            <a:xfrm>
              <a:off x="609480" y="2997360"/>
              <a:ext cx="1981080" cy="1769760"/>
            </a:xfrm>
            <a:prstGeom prst="rect">
              <a:avLst/>
            </a:prstGeom>
            <a:solidFill>
              <a:srgbClr val="007542">
                <a:alpha val="22000"/>
              </a:srgbClr>
            </a:solidFill>
            <a:ln w="1908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200" spc="-1" strike="noStrike">
                  <a:solidFill>
                    <a:srgbClr val="595959"/>
                  </a:solidFill>
                  <a:latin typeface="Calibri"/>
                </a:rPr>
                <a:t>1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200" spc="-1" strike="noStrike">
                  <a:solidFill>
                    <a:srgbClr val="595959"/>
                  </a:solidFill>
                  <a:latin typeface="Calibri"/>
                </a:rPr>
                <a:t>Autoévaluation nationale des capacités à renforc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"/>
            <p:cNvSpPr/>
            <p:nvPr/>
          </p:nvSpPr>
          <p:spPr>
            <a:xfrm>
              <a:off x="2808000" y="2997360"/>
              <a:ext cx="1673280" cy="2440080"/>
            </a:xfrm>
            <a:prstGeom prst="rect">
              <a:avLst/>
            </a:prstGeom>
            <a:solidFill>
              <a:srgbClr val="f2f2f2"/>
            </a:solidFill>
            <a:ln w="1908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200" spc="-1" strike="noStrike">
                  <a:solidFill>
                    <a:srgbClr val="595959"/>
                  </a:solidFill>
                  <a:latin typeface="Calibri"/>
                </a:rPr>
                <a:t>2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200" spc="-1" strike="noStrike">
                  <a:solidFill>
                    <a:srgbClr val="595959"/>
                  </a:solidFill>
                  <a:latin typeface="Calibri"/>
                </a:rPr>
                <a:t>Plus grande attention accordée au RC dans chaque proje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6"/>
            <p:cNvSpPr/>
            <p:nvPr/>
          </p:nvSpPr>
          <p:spPr>
            <a:xfrm>
              <a:off x="4800600" y="2997360"/>
              <a:ext cx="1904760" cy="1769760"/>
            </a:xfrm>
            <a:prstGeom prst="rect">
              <a:avLst/>
            </a:prstGeom>
            <a:solidFill>
              <a:srgbClr val="f2f2f2"/>
            </a:solidFill>
            <a:ln w="1908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200" spc="-1" strike="noStrike">
                  <a:solidFill>
                    <a:srgbClr val="595959"/>
                  </a:solidFill>
                  <a:latin typeface="Calibri"/>
                </a:rPr>
                <a:t>3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200" spc="-1" strike="noStrike">
                  <a:solidFill>
                    <a:srgbClr val="595959"/>
                  </a:solidFill>
                  <a:latin typeface="Calibri"/>
                </a:rPr>
                <a:t>Projets transsectoriels de RC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7"/>
            <p:cNvSpPr/>
            <p:nvPr/>
          </p:nvSpPr>
          <p:spPr>
            <a:xfrm>
              <a:off x="6977160" y="2957400"/>
              <a:ext cx="1633320" cy="2258640"/>
            </a:xfrm>
            <a:prstGeom prst="rect">
              <a:avLst/>
            </a:prstGeom>
            <a:solidFill>
              <a:srgbClr val="f2f2f2"/>
            </a:solidFill>
            <a:ln w="1908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200" spc="-1" strike="noStrike">
                  <a:solidFill>
                    <a:srgbClr val="595959"/>
                  </a:solidFill>
                  <a:latin typeface="Calibri"/>
                </a:rPr>
                <a:t>4.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595959"/>
                  </a:solidFill>
                  <a:latin typeface="Calibri"/>
                </a:rPr>
                <a:t>Programmes cruciaux de RC dans les PMA et les PEI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8"/>
            <p:cNvSpPr/>
            <p:nvPr/>
          </p:nvSpPr>
          <p:spPr>
            <a:xfrm>
              <a:off x="1128600" y="2321280"/>
              <a:ext cx="721080" cy="6008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75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9"/>
            <p:cNvSpPr/>
            <p:nvPr/>
          </p:nvSpPr>
          <p:spPr>
            <a:xfrm>
              <a:off x="3201120" y="2321280"/>
              <a:ext cx="721080" cy="6008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75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10"/>
            <p:cNvSpPr/>
            <p:nvPr/>
          </p:nvSpPr>
          <p:spPr>
            <a:xfrm>
              <a:off x="5278320" y="2321280"/>
              <a:ext cx="721080" cy="6008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75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11"/>
            <p:cNvSpPr/>
            <p:nvPr/>
          </p:nvSpPr>
          <p:spPr>
            <a:xfrm>
              <a:off x="7355520" y="2321280"/>
              <a:ext cx="721080" cy="6008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75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Cadrage stratégique du renforcement des capacités (FE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657600" y="2971800"/>
            <a:ext cx="5486400" cy="317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évaluation des capacités nationales à renforcer : </a:t>
            </a:r>
            <a:r>
              <a:rPr b="1" lang="fr-FR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ésultats, enseignements tirés, opportunités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9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95C43-940C-4FCA-97AC-5451C51F3CF5}" type="slidenum">
              <a:rPr b="0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NCSA SR cover.jpg"/>
          <p:cNvPicPr/>
          <p:nvPr/>
        </p:nvPicPr>
        <p:blipFill>
          <a:blip r:embed="rId1"/>
          <a:stretch/>
        </p:blipFill>
        <p:spPr>
          <a:xfrm>
            <a:off x="2666880" y="1143000"/>
            <a:ext cx="3357720" cy="43434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4"/>
          <p:cNvSpPr/>
          <p:nvPr/>
        </p:nvSpPr>
        <p:spPr>
          <a:xfrm>
            <a:off x="457200" y="2722680"/>
            <a:ext cx="1938240" cy="2228400"/>
          </a:xfrm>
          <a:prstGeom prst="rect">
            <a:avLst/>
          </a:prstGeom>
          <a:solidFill>
            <a:srgbClr val="007542">
              <a:alpha val="22000"/>
            </a:srgbClr>
          </a:solidFill>
          <a:ln w="19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95959"/>
                </a:solidFill>
                <a:latin typeface="Calibri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95959"/>
                </a:solidFill>
                <a:latin typeface="Calibri"/>
              </a:rPr>
              <a:t>Autoévaluations des capacités nationales à renfor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95959"/>
                </a:solidFill>
                <a:latin typeface="Calibri"/>
              </a:rPr>
              <a:t>(ANC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8"/>
          <p:cNvSpPr/>
          <p:nvPr/>
        </p:nvSpPr>
        <p:spPr>
          <a:xfrm>
            <a:off x="1128600" y="2187720"/>
            <a:ext cx="720720" cy="476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75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2200" spc="-1" strike="noStrike">
              <a:solidFill>
                <a:srgbClr val="595959"/>
              </a:solidFill>
              <a:latin typeface="Calibri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Box 3"/>
          <p:cNvSpPr/>
          <p:nvPr/>
        </p:nvSpPr>
        <p:spPr>
          <a:xfrm>
            <a:off x="304920" y="914400"/>
            <a:ext cx="7848360" cy="39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spAutoFit/>
          </a:bodyPr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tinentes par rapport aux décisions des Conventions de R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ématiquement prises en compte dans les priorités de développement des p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lotées par le pays, avec un engagement politique à haut nivea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ndées sur une vaste consultation avec divers acteurs pour la prise de décis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Calibri"/>
              </a:rPr>
              <a:t>Modalités opérationnelles concernant les ANCR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Box 3"/>
          <p:cNvSpPr/>
          <p:nvPr/>
        </p:nvSpPr>
        <p:spPr>
          <a:xfrm>
            <a:off x="304920" y="914400"/>
            <a:ext cx="7848360" cy="39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spAutoFit/>
          </a:bodyPr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urs aux structures et mécanismes en place dans les p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ées sur le renforcement des capacités existan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tinées à renforcer les capacités du système, de l'organisation et des individ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xées sur les synergies entre les Conventions de R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Calibri"/>
              </a:rPr>
              <a:t>Modalités opérationnelles concernant les ANCR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Box 3"/>
          <p:cNvSpPr/>
          <p:nvPr/>
        </p:nvSpPr>
        <p:spPr>
          <a:xfrm>
            <a:off x="914400" y="1447920"/>
            <a:ext cx="7467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émontrer la création de synergies pour donner suite aux priorités des Conventions de Rio 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prouver et reproduire les outils innovants et les « meilleures pratiques » 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égrer systématiquement la dimension de la protection de l'environnement mondial dans les politiques, législations et réglementations 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Résultats des ANCR - Le fondement de la Stratégie pour FEM-5 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0T22:28:47Z</dcterms:created>
  <dc:creator>wb350798</dc:creator>
  <dc:description/>
  <dc:language>en-US</dc:language>
  <cp:lastModifiedBy>Maria Camila Perez Gabilondo</cp:lastModifiedBy>
  <cp:lastPrinted>2013-01-30T21:17:22Z</cp:lastPrinted>
  <dcterms:modified xsi:type="dcterms:W3CDTF">2013-09-25T19:11:42Z</dcterms:modified>
  <cp:revision>238</cp:revision>
  <dc:subject/>
  <dc:title>Slide 1</dc:title>
</cp:coreProperties>
</file>