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4092E-BC99-44DE-8449-ECD5424F2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52990-A679-46AA-B4AD-9E2927140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938BC-5D8A-4F4E-AF4B-39A5F4A40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1FE81-2B17-4FD1-8948-49A2157FE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D3EB4-F9AB-40C3-97AF-526EF9183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06756-C56D-41D8-9397-6BB3C819C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E60F4-878A-40A0-AA85-E80D660B6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31854-92FB-4802-8BF6-718EF920E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22D8C-BB2B-46EE-B16F-C7FEAB75F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2B1B9-F2C7-47FB-9265-4F8AC2956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D3ADC-DB10-42BD-9BC9-9D1D919E3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B32BC-BDF2-4261-9E4F-E9AD0D15E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D68D-2B94-4C20-AF82-BE7ABBBC5F45}"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68"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4"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7"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5000"/>
          </a:bodyPr>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SS, engagement with IPs etc</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oposed Process to develop Guidelines on public involvement</a:t>
            </a:r>
            <a:endParaRPr b="0" lang="en-US" sz="4000" spc="-1" strike="noStrike">
              <a:solidFill>
                <a:srgbClr val="e5ffff"/>
              </a:solidFill>
              <a:latin typeface="Tahoma"/>
            </a:endParaRPr>
          </a:p>
        </p:txBody>
      </p:sp>
      <p:sp>
        <p:nvSpPr>
          <p:cNvPr id="83" name=""/>
          <p:cNvSpPr txBox="1"/>
          <p:nvPr/>
        </p:nvSpPr>
        <p:spPr>
          <a:xfrm>
            <a:off x="457200" y="1295280"/>
            <a:ext cx="8229600" cy="4114800"/>
          </a:xfrm>
          <a:prstGeom prst="rect">
            <a:avLst/>
          </a:prstGeom>
          <a:noFill/>
          <a:ln w="0">
            <a:noFill/>
          </a:ln>
        </p:spPr>
        <p:txBody>
          <a:bodyPr anchor="t">
            <a:normAutofit fontScale="87000"/>
          </a:bodyPr>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has been agreed that a review of the Public involvement Policy will take place through a participatory process in 2013-2014 to enable for consideration by the GEF Council in June 2014 It will involv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Seek feedback from key stakeholders through ECW and other meeting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397440" indent="-397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89"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2"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2"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ed by GEF in 2012</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gnition of indigenous peoples as stakeholders, partners and rights-holder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knowledgement of UNDRIP and support for realization of its provision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d in more detail in separate presentation]</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Oreste Pedro Maia Andrade Junior</cp:lastModifiedBy>
  <dcterms:modified xsi:type="dcterms:W3CDTF">2013-05-21T13:42:51Z</dcterms:modified>
  <cp:revision>8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