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695F1-ACE0-409B-A27F-5F91CD7F8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FEB7-15C6-4A64-966B-457EF653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6A883-823F-405F-B47C-7BE95D2D1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93921-F284-40C2-B7DF-070A4B9F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8615E-D99C-4451-9929-2BB70FCF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2356B-2AC4-4364-9C05-D4794A48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EE5F-77EC-4148-BC9D-4E3BCD54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4CD1-E997-4458-B476-9F04872C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BEB9-F858-46BE-BF2B-60289A8DE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5552-4AF2-493F-AA4D-1B2EE1589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9596-57E4-40DD-B080-FCA7DD18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314D-D673-4219-AEE9-DF4E8C449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77B0-890C-40E7-8E00-5C129E0FCA5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dopted by GEF in 2012</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Recognition of indigenous peoples as stakeholders, partners and rights-holder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cknowledgement of UNDRIP and support for realization of its provision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more proactive engagement of Indigenous peoples in GEF projects and programme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effective consultations and engagement with Indigenous peoples for any projects in areas inhabited by indigenous and tribal  peoples</a:t>
            </a:r>
            <a:endParaRPr b="0" lang="en-US" sz="2700" spc="-1" strike="noStrike">
              <a:solidFill>
                <a:srgbClr val="ffffff"/>
              </a:solidFill>
              <a:latin typeface="Tahoma"/>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77000"/>
          </a:bodyPr>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nvironmental and social safeguards, engagement with IPs etc</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Ongoing</a:t>
            </a:r>
            <a:r>
              <a:rPr b="0" lang="en-US" sz="3200" spc="-1" strike="noStrike">
                <a:solidFill>
                  <a:srgbClr val="e5ffff"/>
                </a:solidFill>
                <a:latin typeface="Tahoma"/>
              </a:rPr>
              <a:t> Process to </a:t>
            </a:r>
            <a:r>
              <a:rPr b="0" lang="en-US" sz="3200" spc="-1" strike="noStrike">
                <a:solidFill>
                  <a:srgbClr val="ff0000"/>
                </a:solidFill>
                <a:latin typeface="Tahoma"/>
              </a:rPr>
              <a:t>update policy and</a:t>
            </a:r>
            <a:r>
              <a:rPr b="0" lang="en-US" sz="3200" spc="-1" strike="noStrike">
                <a:solidFill>
                  <a:srgbClr val="e5ffff"/>
                </a:solidFill>
                <a:latin typeface="Tahoma"/>
              </a:rPr>
              <a:t> develop Guidelines on public involvement</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0000"/>
          </a:bodyPr>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review of the Public involvement Policy is ongoing  </a:t>
            </a:r>
            <a:r>
              <a:rPr b="0" lang="en-US" sz="2400" spc="-1" strike="noStrike">
                <a:solidFill>
                  <a:srgbClr val="ffffff"/>
                </a:solidFill>
                <a:latin typeface="Tahoma"/>
              </a:rPr>
              <a:t>through a participatory process in 2013-2014 to enable for consideration by the GEF Council in June 2014 It involv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a:t>
            </a:r>
            <a:r>
              <a:rPr b="0" lang="en-GB" sz="2400" spc="-1" strike="noStrike">
                <a:solidFill>
                  <a:srgbClr val="ff0000"/>
                </a:solidFill>
                <a:latin typeface="Tahoma"/>
              </a:rPr>
              <a:t>Seek feedback from CSOs and OFPs therough questionnaires </a:t>
            </a:r>
            <a:r>
              <a:rPr b="0" lang="en-GB" sz="2400" spc="-1" strike="noStrike">
                <a:solidFill>
                  <a:srgbClr val="ffffff"/>
                </a:solidFill>
                <a:latin typeface="Tahoma"/>
              </a:rPr>
              <a:t>and  through ECW and other meeting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411480" indent="-411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rocess</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84000"/>
          </a:bodyPr>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Countries divided to two groups to examine the questions</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table should discuss the relevant questions and complete the hard copy of the questionnaire related to their topic.</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highlight selected key points from their table to the full meeting</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pass a copy of the completed questionnaire to the facilit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SO consultation prior to the 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one day Consultation was undertaken among CSOs prior to the ECW  mee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main issues and recommendations will be shared with the EC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FParish</cp:lastModifiedBy>
  <dcterms:modified xsi:type="dcterms:W3CDTF">2013-11-28T05:10:18Z</dcterms:modified>
  <cp:revision>83</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