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5FD39-0417-4A38-805E-3A8A92EBE9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7EF64-D940-4080-8414-44E94871D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97E83-2D73-499E-8BE2-E80191C2C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8F240-0EA6-417B-AA90-BF605B24B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A2D-1B7F-4EFF-9E08-1AD8AEBF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38D-0443-4419-9844-61ECBA3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2DD-ED99-41C1-9D4E-74D4A261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6A9-FFD9-4C3F-937F-0567D2B7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5AD-CF62-4D1D-A1D9-00A1DDF1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84B-EFC6-4A52-8A09-8DB3D4D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FBD-D085-42C7-B3AF-0FBC918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CFB-CA71-4755-86A8-021D3DEF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D59-F3A1-4B7C-9ADE-B6A71764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BB7-12B3-43A5-BFBE-51DAF3E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13F-E096-4633-B007-5858408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0BB-4952-4AC9-9144-8F2AECE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998B5-5D8F-47CB-9539-13CF3DFA61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BD_PowerPointTemplate_LogoFull.jpg"/>
          <p:cNvPicPr/>
          <p:nvPr/>
        </p:nvPicPr>
        <p:blipFill>
          <a:blip r:embed="rId1"/>
          <a:stretch/>
        </p:blipFill>
        <p:spPr>
          <a:xfrm>
            <a:off x="568440" y="349200"/>
            <a:ext cx="3066840" cy="116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09800" y="2590920"/>
            <a:ext cx="67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MetaOT-Medi"/>
              </a:rPr>
              <a:t>Expanded Constituency Workshop (ECW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136520" y="3544920"/>
            <a:ext cx="639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ctober 30 - November 1,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usha, Tanz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BD_PowerPointTemplate_UN.jpg"/>
          <p:cNvPicPr/>
          <p:nvPr/>
        </p:nvPicPr>
        <p:blipFill>
          <a:blip r:embed="rId2"/>
          <a:stretch/>
        </p:blipFill>
        <p:spPr>
          <a:xfrm>
            <a:off x="5048280" y="5684760"/>
            <a:ext cx="7999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BD_PowerPointTemplate_UNEP.jpg"/>
          <p:cNvPicPr/>
          <p:nvPr/>
        </p:nvPicPr>
        <p:blipFill>
          <a:blip r:embed="rId3"/>
          <a:stretch/>
        </p:blipFill>
        <p:spPr>
          <a:xfrm>
            <a:off x="6167520" y="5826240"/>
            <a:ext cx="5508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67000" y="43750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Ravi Sh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CBD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:\Users\edjigayehu.seyoum\Desktop\undb-logo-220.jpg"/>
          <p:cNvPicPr/>
          <p:nvPr/>
        </p:nvPicPr>
        <p:blipFill>
          <a:blip r:embed="rId4"/>
          <a:stretch/>
        </p:blipFill>
        <p:spPr>
          <a:xfrm>
            <a:off x="7007400" y="5981760"/>
            <a:ext cx="1822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Innovative Financial Mechanisms (IFM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34880" y="1352520"/>
            <a:ext cx="852804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Recalling  IX/11 and  X/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COP-11, main topics among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Review the Implementation of the Strategy for Resource Mobilization at WGRI-5 including Goals 2, 5, 6, 7 and 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include consideration of resource mobilization for the Nagoya Protoc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terated that any new Innovative financial mechanisms (IFM) are supplementary to existing ones (not a replace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es are encouraged to submit their views and lessons on possible risks and benefits of country-specific IF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ve Secretary will develop the discussion paper for WGRI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GRI-5 will prepare a recommendation for consideration by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5800" y="57132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Roadma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34880" y="1467000"/>
            <a:ext cx="852804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dec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view the Progress of Achievement of Aichi Targets at COP 12 and adopt 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nal Target for Resource Mobilization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eep under review the Achievement of the Targets at COPs until 2020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requested WGRI-5 to 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seline information</a:t>
            </a:r>
            <a:r>
              <a:rPr b="0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ole of Collective Actions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genous, local communities and non-market based appro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d the ES to prepare based on information from Pa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n its application, funding needs, gaps and prior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Guidance for Parties and An assessment of indicator framew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, sub-regional workshops on the establishment of robust Baseline, Reporting Framework and Preparation of National Financial Plans for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ed the HLP to provide a more bottom-up approach... and report at CO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914480" y="209880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Thank you -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914480" y="2687760"/>
            <a:ext cx="60422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000" spc="-1" strike="noStrike">
                <a:solidFill>
                  <a:srgbClr val="147b33"/>
                </a:solidFill>
                <a:latin typeface="MetaOT-Medi"/>
                <a:ea typeface="MetaOT-Medi"/>
              </a:rPr>
              <a:t>Secretariat of the Convention on Biological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413 Saint Jacques Street, Suite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Montreal, QC, H2Y 1N9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Tel: +1 514 288 2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Fax: + 1 514 288 6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Email: secretariat@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www.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54280" y="325908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3080" y="671400"/>
            <a:ext cx="680076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arget by Target Result 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rcRect l="0" t="0" r="0" b="12315"/>
          <a:stretch/>
        </p:blipFill>
        <p:spPr>
          <a:xfrm>
            <a:off x="257040" y="1119240"/>
            <a:ext cx="84963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3080" y="671040"/>
            <a:ext cx="68007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he Stepwise Methodology for the Target by Target Cos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434880" y="1119240"/>
            <a:ext cx="8010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647280"/>
            <a:ext cx="8448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</a:t>
            </a:r>
            <a:br>
              <a:rPr sz="2200"/>
            </a:b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5092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34880" y="1695600"/>
            <a:ext cx="83185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Financial Mechanism (COP-11 Decision XI/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-Year Outcome-Oriented Framework of Programme Priorities and Review of the Effectiveness of the Financial Mechanis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Needs Assessment for the GEF-6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to the Financial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view of Implementation of the Strategy for Resource Mobilization (COP-11 Decision XI/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line and Targe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related to the Review and Innovative Financial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p to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1" descr=""/>
          <p:cNvPicPr/>
          <p:nvPr/>
        </p:nvPicPr>
        <p:blipFill>
          <a:blip r:embed="rId1"/>
          <a:stretch/>
        </p:blipFill>
        <p:spPr>
          <a:xfrm>
            <a:off x="762120" y="1755720"/>
            <a:ext cx="7858080" cy="3840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124000" y="152280"/>
            <a:ext cx="42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BD_PowerPointTemplate_LogoSpine.jpg"/>
          <p:cNvPicPr/>
          <p:nvPr/>
        </p:nvPicPr>
        <p:blipFill>
          <a:blip r:embed="rId2"/>
          <a:stretch/>
        </p:blipFill>
        <p:spPr>
          <a:xfrm>
            <a:off x="15552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76440" y="490680"/>
            <a:ext cx="82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76440" y="5772240"/>
            <a:ext cx="775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26676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90720" y="1322280"/>
            <a:ext cx="49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5440" y="647280"/>
            <a:ext cx="72644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Results – Amounts for GEF Trust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14"/>
          <p:cNvGrpSpPr/>
          <p:nvPr/>
        </p:nvGrpSpPr>
        <p:grpSpPr>
          <a:xfrm>
            <a:off x="378000" y="4383000"/>
            <a:ext cx="8400960" cy="2048040"/>
            <a:chOff x="378000" y="4383000"/>
            <a:chExt cx="8400960" cy="2048040"/>
          </a:xfrm>
        </p:grpSpPr>
        <p:pic>
          <p:nvPicPr>
            <p:cNvPr id="65" name="Rectangle 14" descr=""/>
            <p:cNvPicPr/>
            <p:nvPr/>
          </p:nvPicPr>
          <p:blipFill>
            <a:blip r:embed="rId2"/>
            <a:stretch/>
          </p:blipFill>
          <p:spPr>
            <a:xfrm>
              <a:off x="378000" y="4383000"/>
              <a:ext cx="840096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4880" y="4419720"/>
              <a:ext cx="8290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Required from GEF Trust Fund: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$7- $17 billion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1:4 average TF to co-financing ratio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Higher (at 1:2)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 Lower (at 1:6):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ends  on co-financing level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ed for </a:t>
              </a:r>
              <a:r>
                <a:rPr b="1" lang="en-CA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 to 18 fold increase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current level of GEF Trust F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Object 46"/>
          <p:cNvGraphicFramePr/>
          <p:nvPr/>
        </p:nvGraphicFramePr>
        <p:xfrm>
          <a:off x="800280" y="1362240"/>
          <a:ext cx="7611840" cy="28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280" y="1362240"/>
                    <a:ext cx="7611840" cy="2847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72" name="Rectangle 4"/>
          <p:cNvGrpSpPr/>
          <p:nvPr/>
        </p:nvGrpSpPr>
        <p:grpSpPr>
          <a:xfrm>
            <a:off x="792000" y="1030320"/>
            <a:ext cx="8004240" cy="5546520"/>
            <a:chOff x="792000" y="1030320"/>
            <a:chExt cx="8004240" cy="5546520"/>
          </a:xfrm>
        </p:grpSpPr>
        <p:pic>
          <p:nvPicPr>
            <p:cNvPr id="73" name="Rectangle 4" descr=""/>
            <p:cNvPicPr/>
            <p:nvPr/>
          </p:nvPicPr>
          <p:blipFill>
            <a:blip r:embed="rId2"/>
            <a:stretch/>
          </p:blipFill>
          <p:spPr>
            <a:xfrm>
              <a:off x="792000" y="1030320"/>
              <a:ext cx="800424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28720" y="1123920"/>
              <a:ext cx="787716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42880" indent="-361800"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COP 11-XI-5 on FNA for GEF-6 Replenish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ged the GEF to give due consideration to all aspects of the Expert Team’s GEF-6 FNA repor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ed the ES and GEF to identify the Aichi Targets benefiting from Synerg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hasized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trategic Plan is a very ambitious framework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itical Role of the use of Resources from all sourc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oritization of Activities based 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)  Consultation with the Convention through its C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B)  Four Year Framework of programme prioriti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ted the GEF-6 FNA Report to the G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0" y="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520560" y="857160"/>
            <a:ext cx="835668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-Year Framework of Programme Priorities Review of the Effectiveness of the Financial Mechanism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uidance to GEF as Financia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lement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Plan and Aichi Targets; Cartagena and Nagoya Protoco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ets of Output, Outcome and Indicators..., Monitoring/Tracking tools of the G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itional Strategic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exibility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ar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herence, Synergies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Programmes, Priorities, ... and GEF Focal Ar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gagement of key Stakeholder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SCBD in the process of formulating the GEF-6 Strategy for BD focal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called upon G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edite financial support based on flexible and national demand drive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se existing NBSAPs as basis for needs and priorities for GEF-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larify the concept of Co-financing for BD projec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invited Parties and others to increase their financial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th Review of Effectiveness of the Financial Mechanism (X/27) to be ready for WGRI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7880" y="274680"/>
            <a:ext cx="749628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828720" y="1123920"/>
            <a:ext cx="7877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ther Guidance to the Financi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rther support of all sorts, encouragement or funding to these areas of work are encouraged and recommended by COP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rategy for Plan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 and Coastal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Alien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with International Organizations, Conventions and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oya Protocol on ABS and Cartagena Protocol on Bio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progress in implementation of the Strategic Plan and Aichi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of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-building support to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3120" y="483840"/>
            <a:ext cx="7372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86" name="Rectangle 4"/>
          <p:cNvGrpSpPr/>
          <p:nvPr/>
        </p:nvGrpSpPr>
        <p:grpSpPr>
          <a:xfrm>
            <a:off x="669960" y="1122480"/>
            <a:ext cx="8040600" cy="5638680"/>
            <a:chOff x="669960" y="1122480"/>
            <a:chExt cx="8040600" cy="5638680"/>
          </a:xfrm>
        </p:grpSpPr>
        <p:pic>
          <p:nvPicPr>
            <p:cNvPr id="87" name="Rectangle 4" descr=""/>
            <p:cNvPicPr/>
            <p:nvPr/>
          </p:nvPicPr>
          <p:blipFill>
            <a:blip r:embed="rId2"/>
            <a:stretch/>
          </p:blipFill>
          <p:spPr>
            <a:xfrm>
              <a:off x="669960" y="1122480"/>
              <a:ext cx="804060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6440" y="1123920"/>
              <a:ext cx="8029440" cy="56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Programme Priorities to support the Nagoya Protoc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invited the GEF to support numerous activities during GEF-6 perio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ing capacities of Part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ing capacity needs and priorities of indigenous and local communiti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ing Parties to actively participate in the ABS Clearing House and communication tools for AB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ort Parties in raising-awareness on importance of genetic resourc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encouraged GEF to facilitate access to Nagoya Protocol Implementation Fund (NPIF) to facilitate entry into force of the Nagoya Protocol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4"/>
          <p:cNvGrpSpPr/>
          <p:nvPr/>
        </p:nvGrpSpPr>
        <p:grpSpPr>
          <a:xfrm>
            <a:off x="628560" y="865080"/>
            <a:ext cx="8259840" cy="5943600"/>
            <a:chOff x="628560" y="865080"/>
            <a:chExt cx="8259840" cy="5943600"/>
          </a:xfrm>
        </p:grpSpPr>
        <p:pic>
          <p:nvPicPr>
            <p:cNvPr id="93" name="Rectangle 4" descr=""/>
            <p:cNvPicPr/>
            <p:nvPr/>
          </p:nvPicPr>
          <p:blipFill>
            <a:blip r:embed="rId2"/>
            <a:stretch/>
          </p:blipFill>
          <p:spPr>
            <a:xfrm>
              <a:off x="628560" y="865080"/>
              <a:ext cx="82598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6440" y="895320"/>
              <a:ext cx="8162640" cy="58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Guidance to the Financial Mechanism regarding the Cartagena Protocol on Biosaf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CA" sz="24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mong many oth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Support regional and multi-countr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matic capacity building projects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 for </a:t>
              </a: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re flexibilit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use of fund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Programme priorities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within the Four Year outcome-oriented Framework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biosafety framework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sk assessment and managemen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ing, transport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ability and redress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Awareness... And information sharing...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o-economic considerations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bilization of  Additional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ek funding from diverse sources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efficient use of available resources and adopt cost-effective approaches to capacity-building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and the Establishment of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01680" y="1333440"/>
            <a:ext cx="852804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ing X-3 and Aichi Target 20,  COP-11 decided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lated Guid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Annual Biodiversity Funding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006-2010 as Preliminary Baselin</a:t>
            </a:r>
            <a:r>
              <a:rPr b="0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 11 also resolved to achieve preliminary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uble total biodiversity-related international financial resource flows by 2015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t least maintain this level until 2020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 2015,  endeavour 100% or at least 75% of Parties</a:t>
            </a:r>
            <a:r>
              <a:rPr b="0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BD in their national priorities/development plans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ed BD domestic expendi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national financial plan for BD and 30% have assessed the various values of B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 11 decided  to consider at COP 12 modalities and milestones for full operationalization of  Target 3 (incentives/subsid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-12 to establish a transparent process that would encourage and facilitate the efforts of reporting by Developing Countri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04:44Z</dcterms:created>
  <dc:creator>Natalie Fletcher</dc:creator>
  <dc:description/>
  <dc:language>en-US</dc:language>
  <cp:lastModifiedBy>Ravi Sharma</cp:lastModifiedBy>
  <dcterms:modified xsi:type="dcterms:W3CDTF">2012-10-30T06:11:41Z</dcterms:modified>
  <cp:revision>440</cp:revision>
  <dc:subject/>
  <dc:title>PowerPoint Presentation</dc:title>
</cp:coreProperties>
</file>