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58A4-4B96-44F5-B039-71AFD493D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9DE-75CC-4129-930C-C1FBFD83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3339-1BAD-4D3D-9E4F-EF88A916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2784-95F3-46CE-99ED-5AE4BF64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7DE-5DB0-4D66-A460-2C4951C42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8A7B-89D1-4035-A24E-9EB057CAF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D82B-0CF9-43C2-97ED-E2E8CB4C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92BC-4F91-4CA5-ABBE-838308BC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now conduct a practical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read the instructions from the word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5D7F-E36F-4A3F-B29F-5C6F52451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692E-804A-4509-AE87-182F7B18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F5E3-A591-4090-A359-912DA6796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6E53-A23B-4891-BADA-3D063484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 Particularly by strengthening institutions and organizations and the enabling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in response to guidance from the COPs of CBD and UNFCCC which have both requested the GEF to provide funding for country-driven capacity development activities, in particular LDCs and SIDSs.  It was part of the strategy for GEF3 and GEF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2955-273C-49DF-81E1-2350C180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7CEA-EC7D-4632-9EB4-98B77FCBA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6E4C-BBE7-43CC-B174-FE4E854A3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B24-04B5-41D5-9536-6F15901EB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1DA1-A6FE-40CD-AA35-590598EFB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25E-511E-48BD-B1D9-B04530D6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E66-9278-4330-B4E1-19C8F7B1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BC4-CAC0-4F2E-9522-8B56D2D0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B8F-7FD4-4DD5-B98E-31A24206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1B6-2315-4947-980C-A2D7B9F7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590-0C5F-411C-A7FF-84190C1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00B-08FA-49A6-B628-BDE1C1E3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A13-F834-4CA0-B393-CDDCBDEA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554-07AE-4D16-81BA-F56B3DA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E39-1714-4B4E-96C6-9F0E37EF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DF0-0892-438B-9B60-1A219FB4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66B-4152-4E04-9269-38B74CE6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79E0-38F2-4746-A74A-B4E3456B5C70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EAD9-6D85-421A-8151-92DEA2AA2C88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ilar Bar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perations officer Civil Society/Capacity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Sarajevo, September 6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azakh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mprovement of the Decision-Making process in Kazakhstan through introdu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f Mechanisms of Economic Assessment of fulfilling National Obligations unde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lobal Environmental Agreement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natural resources i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Luci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 St. Lucia's capacity to monitor MEA implementation and sustain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2F86-4552-4397-B834-57DFCCE7831B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Del Pilar Barrera Rey</cp:lastModifiedBy>
  <cp:lastPrinted>2013-01-30T21:17:22Z</cp:lastPrinted>
  <dcterms:modified xsi:type="dcterms:W3CDTF">2013-08-09T19:57:28Z</dcterms:modified>
  <cp:revision>290</cp:revision>
  <dc:subject/>
  <dc:title>Slide 1</dc:title>
</cp:coreProperties>
</file>