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8F2-C730-432C-9CAA-5FA4754D0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7FD0-2D53-41E0-A83C-8C87BCEF0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898A-0489-4639-9DB8-A65EADBF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723F-7C0B-41A2-BA81-96A41ED3D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C083-48FA-44EC-A414-D8F8A08A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4DB5-860A-4C55-964D-163E07DA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F4E-99A3-467C-8600-3FA7DD397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522-9694-4CB5-9D0E-D63934030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CE42-A2F4-408A-A916-81C2C7F18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83AC-7EB7-4368-8F05-9A6150B3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DEB4-0F0C-4007-B0B3-DB640AA4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2EDA-9F41-4072-9A0A-061F9430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335-A1A1-44CE-A306-54852453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FF57-B3A4-4725-AC68-5B229A5D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04FF-A700-4E92-9C43-F1425DCF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711A-89A6-4D89-B7A9-86867599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325-4C2D-4AB4-92E6-FEB738F4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474-E0AA-4358-A1B3-98AD3B40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15A-1DA5-4862-86C7-7D427C59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8DE-4C9F-473E-B3A5-47B22761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12E-4043-4071-A6EC-EDEA4B95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C37-7A47-4B46-AA04-9A1963DF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6CA-B017-4D74-AB0E-BAC7940A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439-418A-478D-B795-C48116F1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672-1792-426F-9E9B-931F408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BFD-C364-4310-8B55-6655DD9C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A17-EB68-4B05-94E1-B70A80E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8BC-BE27-4903-837E-CD8F5C0A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73B-07F5-43B7-B3BB-2C5E4443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6F87-BEB8-4CFD-90C9-3C5E60B99853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6E9E-0C61-4C69-9D69-36FFABA87700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Sarajevo, September 6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06C-B9B5-476E-B646-7DB852556AC9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Del Pilar Barrera Rey</cp:lastModifiedBy>
  <cp:lastPrinted>2013-01-30T21:17:22Z</cp:lastPrinted>
  <dcterms:modified xsi:type="dcterms:W3CDTF">2013-08-09T19:57:28Z</dcterms:modified>
  <cp:revision>290</cp:revision>
  <dc:subject/>
  <dc:title>Slide 1</dc:title>
</cp:coreProperties>
</file>