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EB6-95EE-44C2-828F-862CF47D1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2F9-987A-4314-874F-647BA4C6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A90-BDFF-454A-A65E-8DB10608A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B61E-5831-4C23-BFA3-DD8E1B20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19DE-F2A5-4B4A-864E-F5CA3574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0361-CA44-4877-9F0A-3E6E00B4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C9C7-DB8E-49BA-8C91-29AC1BBF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90D-91E8-46C1-A7B6-BBCB0D31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A2C-9C18-4C9C-BE33-64B7A766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385-52F5-4971-8DC3-06FBDAB0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FCF-6B37-4F11-9DB6-9DF1F8F9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E99B-6A00-4B41-BC4A-B20584D5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A6D6-DE4B-4976-9330-96975C27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589-962D-49CA-A428-BFFE3F26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5FF-8A12-465C-84BF-DE83901E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5B6-D9B1-488E-BFF1-B526495D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3AE8-0088-495A-8435-6F91C756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45A-351B-4386-9983-5D071621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0A2-626A-41EF-841E-715DE4B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6BC-9EBD-47DE-A410-B6B02AB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53C-296D-4A31-931F-3960F7F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703-5706-4501-981B-FF9DB8F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8FA-F904-4845-801C-EEC3BB13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D52-5014-4EE6-AE54-5F806F4D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AEC-CC14-4A96-B691-0520DAE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A82-C18C-4F90-9686-544C4BE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7C4-E91F-4F8C-982B-01CA90E6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7B1-3A93-4C7A-A062-7AEC60C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72A-EED0-45D1-A45C-9CAA85E9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D0B-8BC5-4853-92B5-07CA347FF629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6EF6-AC14-4559-8D99-B8DF0834AD7C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arajevo, September 6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230-E7CF-4DC7-85DE-59E9842C8035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Del Pilar Barrera Rey</cp:lastModifiedBy>
  <cp:lastPrinted>2013-01-30T21:17:22Z</cp:lastPrinted>
  <dcterms:modified xsi:type="dcterms:W3CDTF">2013-08-09T19:57:28Z</dcterms:modified>
  <cp:revision>290</cp:revision>
  <dc:subject/>
  <dc:title>Slide 1</dc:title>
</cp:coreProperties>
</file>